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jpeg" ContentType="image/jpeg"/>
  <Override PartName="/ppt/media/image9.jpeg" ContentType="image/jpeg"/>
  <Override PartName="/ppt/media/image23.wmf" ContentType="image/x-wmf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4.wmf" ContentType="image/x-wmf"/>
  <Override PartName="/ppt/media/image27.wmf" ContentType="image/x-wmf"/>
  <Override PartName="/ppt/media/image14.png" ContentType="image/png"/>
  <Override PartName="/ppt/media/image25.wmf" ContentType="image/x-wmf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738C-3DE3-4D33-BA49-547C9B1522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85E4-C77B-4CF5-9D62-287B315D41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86F0-DA06-48D0-ACDE-EAB55FB388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5023-B8B0-49FB-A62A-AB83FF19C6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E6B-3AB6-4D08-B312-C9E9CB1A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F64-9D80-4EE8-B3DD-1E69203F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1768F-266C-42E5-8059-08F0DACD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3286B-7F69-499C-A779-D6F1B8F1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7DDC7-0243-46D9-8EC7-D422228D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F4CA5-0BEA-44D2-883F-48D5C850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0E916-56A0-47CE-AD56-D44CAA0E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4F1EE-1901-47A1-B981-721E6F80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30773-768F-4F2B-A333-13F94435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EA483-006D-421C-BCD4-F52CC4EC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700A7-9A43-4B87-A9EF-C9DA9152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70E1A-8A8F-4BAC-9AE9-BCB653C9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701-6E70-4E02-AEDB-BD81311F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2C02E-A3C9-4860-B688-7AFE2604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73AFC-2650-49FB-9451-4C955F32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617A1-C73A-4FAC-9CA7-32EBB7AF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5A94A-EC83-4F69-B894-0E9831C7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6E43E-A8BF-4550-BC28-8FE611DC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71494-7D79-4C82-A4A6-EB0A2DA9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F1626-001A-4A1A-97B9-F527DB42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98B6E-E222-4AFE-85B8-69CF424A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842B2-4A9A-4892-8DFA-C059B33F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9DC4F-C19B-4556-915F-48E256F1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C7E-A627-4F46-A8D6-5636B7BD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FC629-587B-4265-88D7-508727DD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98B85-0BF1-4EF2-98E3-91DA3C0F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18906-44BC-4419-88C4-5AE64C27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46558-F9E4-4E92-A590-365E8F8C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5EF8A-365E-43D3-8DBF-E100CF19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0C2AC-0D6E-4449-BD3F-DE1A3B9F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7EAFE-BD97-4698-AE69-9419D444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648DE-273D-4862-B6FD-F55006E9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32D84-0BAD-4792-ACC7-CEEC9892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2C441-3D67-4DFA-BDEA-74D8C3CB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CE65-4E8B-4604-88A5-8AEE041D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6F82C-FAAF-4A57-8C9D-5BE167F7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86E84-5E09-49AA-93A8-62485F39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42960-D852-4268-9C9A-E816A490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7D198-E840-461A-BFFD-45DBC6EE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D18E7-6E72-4AD1-8E56-B5CD710C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E4B96-B4A4-4B7F-AFB8-479E8588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B94FF-0C94-4303-AF8E-AA71ED8C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7AF0F-7378-4453-AA70-62FEB6FE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4FF79-3AB1-4CB3-9D2A-071644C8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3E58B-BFBD-4F5F-BCA3-239E449B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4612-2DD6-4CFD-80F3-E73659ED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EE9E8-BC02-495A-80BF-B6AD9A9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CE048-62C7-44DE-A0A2-536B14C2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61FC1-538B-467E-9EFA-389D93B0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F07EC-0245-447E-98CC-A589A109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4864E-6E91-4B46-BB7E-B56E1A00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49724-92F0-4068-94FC-9E2E96D2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E009F-3C81-4D60-9973-14573FF8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16FBD-244B-45D3-A96B-8A5B3B15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63A51-E0F6-44F1-842D-85425600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CD436-2CFB-4AA8-9AFB-8396740A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4296-49E7-4546-A5F4-126B034F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3F99E-33EA-4D0C-8BB2-93F66725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CAF0B-98B5-46A0-9A18-CE60D12F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80526-97D1-41B8-917B-D2A89FA1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70699-BE55-47ED-8387-DBAD6FF7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04A38-2872-4CC0-95B1-B7210F47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90072-A8C3-45C8-8109-88F60C9B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8E059-5191-4DE1-B275-F2EB5B6C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C3665-8E13-4D34-B3FD-194C49D7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A0D30-2F44-4020-B719-0AE5FCC9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A11A9-7F0B-47AF-9A10-DE87047B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3F6C-9907-456A-A32E-A3E18BA1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803F9-5186-46E3-997A-61EBE343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AFECE-0C0A-4990-8798-0F3D80B4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4E069-1D5C-4B7C-84C8-5E8B08C5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12467-80B9-40A0-BC2F-315F452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2DACC-A366-416B-9962-8B65AAE5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496D9-6C73-492F-837D-3711D87F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7C96A-273F-4712-8E6E-D70E48D5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23897-FD78-425C-ACB9-9FE00A1C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12B6B-23D8-4A27-9CB0-86FD73F0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CDE1E-099D-47BC-B18D-CC755BBA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E38C-0F10-4014-914A-95330B87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85CE0-3EE3-4506-B7AD-B8237774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32897-C084-4012-8FA3-9AA52624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02195-AB91-4370-8CBE-33ABD3BD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D901B8-A3D4-4BC5-9FCA-635C2B9A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44906-F2B3-4DA0-94F4-5BA16E60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C0D8A-1BFE-45BD-A855-407C9D97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82BA1-17CC-4C13-985E-ABD608F6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B0EEA-A187-4FC6-8483-9761BB7C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63D3A-C3A7-40DF-8BBF-6B4FFCFC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1240C-EA10-4EBA-BF4B-8A416BF2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05BE-84D2-4C69-8ED3-D4E12352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E0BDF-3751-4268-8D16-0F318F4B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2FD43-D5F6-4C1B-AF12-19659D3C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CCA16-AB93-431B-BBFE-34D355DE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FBBE2-36FD-4760-8DEB-D19B8868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77AD54-AFAE-4BE7-8E33-F471271A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A3057-09EF-40B5-9912-21ADC316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A6FC5-78D3-41EE-BDB5-D921B235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950F2-BA3D-432B-9708-CAE7E6A8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0FF2E-1298-41F1-BFDB-F0B143F3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16801-4385-48CF-ACDA-15F395A9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535F-EC40-468E-A7C9-34AE4A3C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2F0FE-6DC9-44C6-881D-0D420498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57982-E4D5-4CF6-BD14-0B736BF6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A08D8-BB97-4935-B539-CE24CBC4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5412D-9B2E-49CC-BAB2-08F1D783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1D958-EA8E-4568-AECF-D6A80A06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47B5D-3008-445E-B9E6-6DD72D00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E54F0-711C-42FB-BFBB-3A8357A1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9B659-B955-4ABE-A508-A7426ACF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C421B-173D-4853-8D2E-B3974FF3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71F6F-1142-44C3-9FE2-FD9FE37E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01E-9F88-4A84-B846-8F4BBBC2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670F-F5A5-4616-9429-3267404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4216E-35CF-4D79-B760-4613CDE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CB9FF-A9B6-4D61-A24F-F51C56B8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BB635A-928C-41F9-BFB7-FEA0AF5D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E9554-56F1-4DC6-BB1B-2E714EEE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4D7E2C-11CC-4CD1-A9E7-1315A307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94D7-88AC-41DF-90E9-B21D8B05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C587-A449-4193-A7BB-74C79323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A4AF-204F-4606-9B6A-59C73FEA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887B-D2DB-48E3-8FD3-13FF6B13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2B8D-FD13-4152-A5C0-3D14FCBA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5A42-CE6D-49C8-96E6-C26CEC8D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B0ED-FDB2-49F0-86A4-BFE20483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190F1-335A-4656-A5DA-3AEE0B13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3CC7-5D6D-44E7-8571-4A29CD39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D7E-ADEB-4007-AC76-E1CF2516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2F14-5EAC-44FA-A2A1-2EEFAF16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E09D-5FA4-4898-9E41-F3DCA4C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AAE6-E08F-4255-9AC6-C493EC6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7681-6385-4866-A6FA-4D023E5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688A-790B-4B57-8B7C-C0C03BAE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02D9-7F00-434C-9E0C-B3F78BCA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CFE8-C1CE-4040-8B79-36CD5FC8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84BB5-574E-4979-92C9-49471B2A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58A0D-E26C-4810-A328-5FFD9A40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525DE-9209-47BD-B753-AE1ADCB5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9F5-9A0E-4E32-B894-8D221676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9B4E0-F5A3-4F78-945F-9F15A3AF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90D06-DCF9-4C35-A1B5-7D962CD8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455D-219F-4E0B-BD0C-B8094B7B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DAAA-CF5E-46F8-992F-717BFCF8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42439-C411-4BB7-B345-19601B73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F6FE-FCE4-45A4-A970-320E91F3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CDE94-D818-4ABF-8E29-CC878231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C98C-BC7E-4A42-AF37-B7F1CC65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DFAB9-B682-44FD-A881-92399E09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794CF-96C6-4651-B5BA-C2698F29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F9B-2944-43B6-B6BB-7D5FAB5D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A86B8-0A21-4533-AE97-BC920B21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929E9-F2F9-43ED-82EC-DEFCF73B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1356-7EA2-4527-9EE8-BAC21B29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DC5F-9564-4822-8307-34113154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FAF21-782B-4A6B-BD84-2609681B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6405A-16C0-41A1-B251-29222D7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FCD36-1C24-4F5D-BE1D-6C32B9F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43C0E-A35B-499A-845F-B8BEECDC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3B618-045F-4527-B657-29696BEF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83F0-A591-4A1F-9E32-899E23E0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FF8-CB22-4035-8A8C-04804AFA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EAF4A-96E2-40D1-B0D4-643786DC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F6CB-9C7C-44C6-9FFB-D3FB78F5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D5521-425B-4DF5-85DF-08F90EEC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E5802-C5AE-4331-9B9B-7C9EB3EA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89F60-6D18-4981-83EE-A4555658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223DA-0276-49C8-B7C0-1CAEAC14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15AE8-E449-49CB-A421-5780EA00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A3679-2644-4725-AF7C-D3554BE8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F7159-6B80-48D2-8F7E-D88D98F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DC633-429C-4618-9AFF-51203EFD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228-5A13-47FA-B39E-37ACC867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CF192-87F7-4D41-A4FA-3D6C1906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63A9D-88B0-46A6-8BE1-0ED22DA6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0F44B-5E61-404B-AB7F-48D1ED17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DBCD7-659F-4BA8-B1E6-B926C956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2A49F-700A-421F-9668-593BCF53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195C9-77FA-4EA7-A0C9-1EE0E7A4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0A59E-A81D-49AF-8E5A-E0177F8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C595E-6683-4004-B8EB-A8444081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210B9-4807-4B10-B602-2F531170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FEB44-2A66-453D-9401-4A0166D0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08D-BC1E-45B2-9DAF-D856DD6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ED70E-2AD4-4466-98E0-512D2B0B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6CF1E-E54C-4327-8EB9-DACA7277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576DE-255B-45DA-8B57-B4A9F98C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AF0F3-329A-4B1D-8488-ED9C41AB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6A500-CC6C-4CF0-A638-C2D3D92D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2EB1C-EDCB-4DA8-B9E9-39714389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0E83-DB35-4567-A9D5-BAFEDC3B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78257-CF06-404B-BD47-AB0BE857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5C39C-18AB-44E3-B991-7D95C624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55DF0-45A6-4127-8C61-86D26CA6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F75-0BA5-4BB3-B2B0-25F3DDB3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23937-B4AF-4A97-8E70-06978878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9E8EB-A645-4536-9111-E9ED1279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0D406-113C-4886-A456-0852C4E4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490EE-7A9D-4657-B5DC-22A65DFC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A5B4B-91FF-43A8-B90A-2B1A3B28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916E8-54BA-4380-8E50-9E01DB59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935D3-F212-4F8A-8979-A52AD101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CBD73-CBBD-4832-B2C4-7C921DC5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5D41F-DE58-4BF7-9BEF-76EAEEC1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8246D-B76D-4FD5-927D-87BC899E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6D56-27C8-48C5-B822-9EC2DBB5CB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5E1D-FE37-4FC7-B531-905B7D55DAD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F2FD-F31A-4F05-A825-FD7ED37D498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19F-EE27-4613-9D54-C64998A839B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D9DF-327C-4BEB-A2D3-7E365426588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A1CC-317D-4653-93F2-DF71DA4A428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8F37-4239-43D8-B0CD-F8B28C87BB9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9056-C809-418C-AB2B-0CFF131C50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67F9-F66F-4D8E-8FE8-B9EE55917D1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06B1-5549-41BC-A3BA-39D2C45BF49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20D4-7C16-49C5-B8AA-49211B22671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3988-D420-4106-94C6-1F213340CC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CB15-4D7B-4B52-9D48-6FF2C03698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9A8C-7C9B-452F-9E47-E3546468AFB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5621-5F7A-4A5F-B914-E3146C72B5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8779-4E6E-47F1-A0A0-7D3F925B17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0BDF-EB09-4DB0-9D13-2115AE8F4E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87;&#1086;&#1084;&#1080;&#1085;&#1072;&#1085;&#1080;&#1077;" TargetMode="External"/><Relationship Id="rId2" Type="http://schemas.openxmlformats.org/officeDocument/2006/relationships/hyperlink" Target="http://ru.wikipedia.org/wiki/&#1055;&#1072;&#1084;&#1103;&#1090;&#1100;" TargetMode="External"/><Relationship Id="rId3" Type="http://schemas.openxmlformats.org/officeDocument/2006/relationships/hyperlink" Target="http://ru.wikipedia.org/wiki/&#1040;&#1089;&#1089;&#1086;&#1094;&#1080;&#1072;&#1094;&#1080;&#1103;_(&#1087;&#1089;&#1080;&#1093;&#1086;&#1083;&#1086;&#1075;&#1080;&#1103;)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3520" y="404280"/>
            <a:ext cx="7851600" cy="619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262626"/>
                </a:solidFill>
                <a:latin typeface="Century Gothic"/>
              </a:rPr>
              <a:t>Мнемонические правила на уроках математики </a:t>
            </a:r>
            <a:br>
              <a:rPr sz="4900"/>
            </a:br>
            <a:r>
              <a:rPr b="0" lang="ru-RU" sz="4900" spc="-1" strike="noStrike">
                <a:solidFill>
                  <a:srgbClr val="262626"/>
                </a:solidFill>
                <a:latin typeface="Century Gothic"/>
              </a:rPr>
              <a:t>(</a:t>
            </a: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Мастер-класс «Техники запоминания: готовимся к ЕГЭ»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(из моего опыта работы и других учителей))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533160" y="5084280"/>
            <a:ext cx="78548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Учитель математики МОУ «Гимназия №7»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Рубан Т.Д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 txBox="1"/>
          <p:nvPr/>
        </p:nvSpPr>
        <p:spPr>
          <a:xfrm>
            <a:off x="457200" y="11426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тобы нам не ошибаться,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Надо правильно прочесть: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Три, четырнадцать, пятнадцать,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Девяносто два и шесть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Надо только постараться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И запомнить всё как есть: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Три, четырнадцать, пятнадцать,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Девяносто два и шесть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Три, четырнадцать, пятнадцать,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Девять, два, шесть, пять, три, пять.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тоб наукой заниматься,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Это каждый должен знать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Можно просто постараться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И почаще повторять: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«Три, четырнадцать, пятнадцать,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Девять, двадцать шесть и пять»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одсчитайте количество букв в каждом слове в нижеприведенных фразах (без учёта знаков препинания) и запишите эти цифры подряд — не забывая про десятичную запятую после первой цифры «3», разумеется. Получится приближенное число Пи: 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          </a:t>
            </a: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Это я знаю и помню прекрасно: Пи многие знаки мне лишни, напрасны.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 Кто и шутя, и скоро пожелаетъ Пи узнать  число — ужъ знаетъ!</a:t>
            </a:r>
            <a:br>
              <a:rPr sz="1200"/>
            </a:b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   Вот и Миша и Анюта прибежали Пи узнать         число они желали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6" name="Picture 2" descr=""/>
          <p:cNvPicPr/>
          <p:nvPr/>
        </p:nvPicPr>
        <p:blipFill>
          <a:blip r:embed="rId1"/>
          <a:stretch/>
        </p:blipFill>
        <p:spPr>
          <a:xfrm>
            <a:off x="5219640" y="1357200"/>
            <a:ext cx="26542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Прямоугольник 2"/>
          <p:cNvSpPr/>
          <p:nvPr/>
        </p:nvSpPr>
        <p:spPr>
          <a:xfrm>
            <a:off x="874800" y="836640"/>
            <a:ext cx="74167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исло Эйл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исло Эйлера или Непера, не столь знаменитое как число пи, но также очень важное в математике. Число обозначается латинской буквой e и приблизительно равно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,7182818284590452353602874713527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ы порхали и блистали, но застряли в перевале; не признали наши крали авторал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ва и семь, восемнадц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вадцать восемь, восемнадц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вадцать восемь, сорок пя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евяносто, сорок п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Экспоненту помнить способ есть простой: две и семь десятых, дважды Лев Толс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«Метод связки»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 яркие, необычные образы, картинки, которые соединяют с запоминаемой информацией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пример, чтобы запомнить последовательность слов: «слон, домик, телевизор»,  придумываем: «Слон шёл к себе в домик смотреть телевизор». Такой придуманный мультик забыть или перепутать невозможно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тех, кто путает числитель и знаменатель, можно воспользоваться такой ассоциацией: Числитель – Чердак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начит находится вверх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9" name="Picture 3" descr="C:\Users\Учитель\AppData\Local\Microsoft\Windows\Temporary Internet Files\Content.IE5\NTVE8A2E\numbers_2[1].gif"/>
          <p:cNvPicPr/>
          <p:nvPr/>
        </p:nvPicPr>
        <p:blipFill>
          <a:blip r:embed="rId1"/>
          <a:stretch/>
        </p:blipFill>
        <p:spPr>
          <a:xfrm>
            <a:off x="5435640" y="4761000"/>
            <a:ext cx="324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множение и деление чисел с разными знаками: представляем положительное число - «друг», а отрицательное - «враг», тогда: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руг(+) моего врага(-)= мой враг(-)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раг(-) моего друга(+)= мой враг(-)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раг(-) моего врага(-)= мой друг(+)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руг(+) моего друга(+)= мой друг(+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1" name="Picture 3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21304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«Метод Цицерона»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едставьте, что обходите свою комнату, где вам все хорошо знакомо. Информацию, которую вам надо запомнить, расставьте мысленно по ходу вашей комнаты. Знакомый предмет обстановки нужно связывать с тем объектом, который нужно запомнить. Вспомнить информацию вы сможете опять, представив свою комнату, - все будет на тех местах, где вы их оставили. Однако, такой метод нужно использовать при запоминании одного блока информации, чтобы не получалось наслоения одних запоминаемых объектов на други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262626"/>
                </a:solidFill>
                <a:uFillTx/>
                <a:latin typeface="Century Gothic"/>
              </a:rPr>
              <a:t>Значения тригонометрических функций некоторых углов</a:t>
            </a:r>
            <a:r>
              <a:rPr b="0" lang="ru-RU" sz="3200" spc="-1" strike="noStrike" u="sng">
                <a:solidFill>
                  <a:srgbClr val="262626"/>
                </a:solidFill>
                <a:uFillTx/>
                <a:latin typeface="Century Gothic"/>
              </a:rPr>
              <a:t> 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Прямоугольник 4"/>
          <p:cNvSpPr/>
          <p:nvPr/>
        </p:nvSpPr>
        <p:spPr>
          <a:xfrm>
            <a:off x="468360" y="2060640"/>
            <a:ext cx="77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Часто возникает путаница при использовании значений тригонометрических функций для углов 30°, 45° и 6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то происходит из-за существования некоторой симметрии в значениях функций данных уг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начения тригонометрических функций для углов 30°, 45° и 60° следует запоминать следующим обра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2" descr="D:\разное\мнемонические\Тригонометрия_на_ладони.jpg"/>
          <p:cNvPicPr/>
          <p:nvPr/>
        </p:nvPicPr>
        <p:blipFill>
          <a:blip r:embed="rId1"/>
          <a:stretch/>
        </p:blipFill>
        <p:spPr>
          <a:xfrm>
            <a:off x="1820880" y="1058760"/>
            <a:ext cx="550224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Рисунок 2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7345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Значения косинус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18" name=""/>
          <p:cNvGraphicFramePr/>
          <p:nvPr/>
        </p:nvGraphicFramePr>
        <p:xfrm>
          <a:off x="1943280" y="2136600"/>
          <a:ext cx="3197160" cy="3027600"/>
        </p:xfrm>
        <a:graphic>
          <a:graphicData uri="http://schemas.openxmlformats.org/drawingml/2006/table">
            <a:tbl>
              <a:tblPr/>
              <a:tblGrid>
                <a:gridCol w="463320"/>
                <a:gridCol w="1425600"/>
                <a:gridCol w="1308240"/>
              </a:tblGrid>
              <a:tr h="640440"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ал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ра угла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366120"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ш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40440"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каза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69720"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640440"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зымя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370440"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изи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72360" rIns="72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360" marR="72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  <p:pic>
        <p:nvPicPr>
          <p:cNvPr id="1219" name="Объект 3" descr=""/>
          <p:cNvPicPr/>
          <p:nvPr/>
        </p:nvPicPr>
        <p:blipFill>
          <a:blip r:embed="rId1"/>
          <a:stretch/>
        </p:blipFill>
        <p:spPr>
          <a:xfrm>
            <a:off x="5297400" y="2127240"/>
            <a:ext cx="323712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Прямоугольник 3"/>
          <p:cNvSpPr/>
          <p:nvPr/>
        </p:nvSpPr>
        <p:spPr>
          <a:xfrm flipV="1" rot="10800000">
            <a:off x="899640" y="3578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тча о трех да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4"/>
          <p:cNvSpPr/>
          <p:nvPr/>
        </p:nvSpPr>
        <p:spPr>
          <a:xfrm>
            <a:off x="684360" y="981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шли три дамы гулять. Первая дама, вторая дама  и третья д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468360" y="1349280"/>
          <a:ext cx="8007480" cy="857520"/>
        </p:xfrm>
        <a:graphic>
          <a:graphicData uri="http://schemas.openxmlformats.org/drawingml/2006/table">
            <a:tbl>
              <a:tblPr/>
              <a:tblGrid>
                <a:gridCol w="2001960"/>
                <a:gridCol w="2001600"/>
                <a:gridCol w="2001960"/>
                <a:gridCol w="2001960"/>
              </a:tblGrid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0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1223" name="Прямоугольник 6"/>
          <p:cNvSpPr/>
          <p:nvPr/>
        </p:nvSpPr>
        <p:spPr>
          <a:xfrm>
            <a:off x="826920" y="2421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еожиданно пошел дождь. Все дамы открыли зонтики, и одели по паре калош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4" name=""/>
          <p:cNvGraphicFramePr/>
          <p:nvPr/>
        </p:nvGraphicFramePr>
        <p:xfrm>
          <a:off x="539640" y="3068640"/>
          <a:ext cx="8064720" cy="1006560"/>
        </p:xfrm>
        <a:graphic>
          <a:graphicData uri="http://schemas.openxmlformats.org/drawingml/2006/table">
            <a:tbl>
              <a:tblPr/>
              <a:tblGrid>
                <a:gridCol w="1947960"/>
                <a:gridCol w="2038320"/>
                <a:gridCol w="2097000"/>
                <a:gridCol w="1981440"/>
              </a:tblGrid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0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5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  <a:tr h="39852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√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√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√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  <a:tr h="320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1225" name="Прямоугольник 10"/>
          <p:cNvSpPr/>
          <p:nvPr/>
        </p:nvSpPr>
        <p:spPr>
          <a:xfrm>
            <a:off x="539640" y="4581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улка была закончена. Третья дама, вторая дама и первая дама пошли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684360" y="5445000"/>
          <a:ext cx="7775280" cy="576360"/>
        </p:xfrm>
        <a:graphic>
          <a:graphicData uri="http://schemas.openxmlformats.org/drawingml/2006/table">
            <a:tbl>
              <a:tblPr/>
              <a:tblGrid>
                <a:gridCol w="1942920"/>
                <a:gridCol w="1944720"/>
                <a:gridCol w="1943280"/>
                <a:gridCol w="1944360"/>
              </a:tblGrid>
              <a:tr h="57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√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√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√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Мнемонические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приемы в математик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56840" y="1920960"/>
            <a:ext cx="82580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немоника с греческого переводится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28960" indent="-228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как искусство запоминания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28960" indent="-228960"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Это специальные приёмы и способы,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28960" indent="-228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блегчающие запоминание нужной информации путём ассоциаций, связей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28960" indent="-228960"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мнемоте́хника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 — совокупность специальных приёмов и способов, облегчающих </a:t>
            </a:r>
            <a:r>
              <a:rPr b="0" lang="ru-RU" sz="20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запоминание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нужной информации и увеличивающих объём </a:t>
            </a:r>
            <a:r>
              <a:rPr b="0" lang="ru-RU" sz="20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памяти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путём образования </a:t>
            </a:r>
            <a:r>
              <a:rPr b="0" lang="ru-RU" sz="2000" spc="-1" strike="noStrike" u="sng">
                <a:solidFill>
                  <a:srgbClr val="fb4a18"/>
                </a:solidFill>
                <a:uFillTx/>
                <a:latin typeface="Century Gothic"/>
                <a:hlinkClick r:id="rId3"/>
              </a:rPr>
              <a:t>ассоциаций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(связей)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28960" indent="-228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Замена абстрактных объектов и фактов на понятия и представления, имеющие </a:t>
            </a:r>
            <a:r>
              <a:rPr b="0" lang="ru-RU" sz="2000" spc="-1" strike="noStrike">
                <a:solidFill>
                  <a:srgbClr val="a53010"/>
                </a:solidFill>
                <a:latin typeface="Century Gothic"/>
              </a:rPr>
              <a:t>визуальные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, аудиальные или кинестетические ассоциации, связывание объектов с уже имеющейся информацией в памяти для упрощения запоминания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28960" indent="-228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Прямоугольник 4"/>
          <p:cNvSpPr/>
          <p:nvPr/>
        </p:nvSpPr>
        <p:spPr>
          <a:xfrm>
            <a:off x="4643280" y="6211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Рисунок 7" descr="Мнемонические приемы в математике"/>
          <p:cNvPicPr/>
          <p:nvPr/>
        </p:nvPicPr>
        <p:blipFill>
          <a:blip r:embed="rId4"/>
          <a:stretch/>
        </p:blipFill>
        <p:spPr>
          <a:xfrm>
            <a:off x="7016760" y="83664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Метод Айвазовского </a:t>
            </a:r>
            <a:br>
              <a:rPr sz="32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основан на тренировке зрительной памяти -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Прямоугольник 2"/>
          <p:cNvSpPr/>
          <p:nvPr/>
        </p:nvSpPr>
        <p:spPr>
          <a:xfrm>
            <a:off x="390600" y="4149720"/>
            <a:ext cx="8075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К примеру, возьмем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формулы при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Формул приведения много, а точнее 3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И все формулы надо знать. К счастью существует простое мнемоническое правило, позволяющее быстро воспроизвести любую формулу приведения. Правда для этого надо хорошо знать основы тригонометрии – единичную окружность и способы работы с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Прямоугольник 3"/>
          <p:cNvSpPr/>
          <p:nvPr/>
        </p:nvSpPr>
        <p:spPr>
          <a:xfrm>
            <a:off x="324000" y="2916360"/>
            <a:ext cx="82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Мнемоническое запоминание состоит из четырёх этапов: кодирование в образы, запоминание (соединение двух образов), запоминание последовательности, закрепление в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Прямоугольник 4"/>
          <p:cNvSpPr/>
          <p:nvPr/>
        </p:nvSpPr>
        <p:spPr>
          <a:xfrm>
            <a:off x="324000" y="177336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непосредственной записи в мозг связей между зрительными образами, обозначающими значимые элементы запоминаем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10"/>
          <p:cNvSpPr/>
          <p:nvPr/>
        </p:nvSpPr>
        <p:spPr>
          <a:xfrm>
            <a:off x="250920" y="97200"/>
            <a:ext cx="867708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начала внимательно просматриваем формулы приведения и замечаем сходство и различия в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аждая формула связывает между собой либо синус с косинусом, либо тангенс с котангенсом. Причём,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первая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функция либо меняется на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втору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либо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левой части формулы аргумент представляет собой сумму или разность одного из «основных координатных углов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Рисунок 11" descr="http://festival.1september.ru/articles/521633/img10.gif"/>
          <p:cNvPicPr/>
          <p:nvPr/>
        </p:nvPicPr>
        <p:blipFill>
          <a:blip r:embed="rId1"/>
          <a:stretch/>
        </p:blipFill>
        <p:spPr>
          <a:xfrm>
            <a:off x="3780000" y="2801880"/>
            <a:ext cx="1982520" cy="808200"/>
          </a:xfrm>
          <a:prstGeom prst="rect">
            <a:avLst/>
          </a:prstGeom>
          <a:ln w="0">
            <a:noFill/>
          </a:ln>
        </p:spPr>
      </p:pic>
      <p:sp>
        <p:nvSpPr>
          <p:cNvPr id="1233" name="Rectangle 11"/>
          <p:cNvSpPr/>
          <p:nvPr/>
        </p:nvSpPr>
        <p:spPr>
          <a:xfrm flipV="1" rot="10800000">
            <a:off x="394920" y="3134880"/>
            <a:ext cx="7921800" cy="18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 острого угла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а в правой части аргумент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правой части знак перед функцией либо «плюс», либо «мину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Рисунок 2" descr=""/>
          <p:cNvPicPr/>
          <p:nvPr/>
        </p:nvPicPr>
        <p:blipFill>
          <a:blip r:embed="rId2"/>
          <a:stretch/>
        </p:blipFill>
        <p:spPr>
          <a:xfrm>
            <a:off x="3381480" y="4437000"/>
            <a:ext cx="23810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9280" y="704520"/>
            <a:ext cx="878544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          </a:t>
            </a: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Притча о рассеянном математике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36" name="Рисунок 1" descr="Иллюстрация_Лошадиного_правила"/>
          <p:cNvPicPr/>
          <p:nvPr/>
        </p:nvPicPr>
        <p:blipFill>
          <a:blip r:embed="rId1"/>
          <a:stretch/>
        </p:blipFill>
        <p:spPr>
          <a:xfrm>
            <a:off x="250920" y="1143000"/>
            <a:ext cx="1473120" cy="300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7" name="Объект 2"/>
              <p:cNvSpPr txBox="1"/>
              <p:nvPr/>
            </p:nvSpPr>
            <p:spPr>
              <a:xfrm>
                <a:off x="1641600" y="3029040"/>
                <a:ext cx="14176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Объект 3"/>
              <p:cNvSpPr txBox="1"/>
              <p:nvPr/>
            </p:nvSpPr>
            <p:spPr>
              <a:xfrm>
                <a:off x="2987640" y="3159000"/>
                <a:ext cx="185904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Объект 4"/>
              <p:cNvSpPr txBox="1"/>
              <p:nvPr/>
            </p:nvSpPr>
            <p:spPr>
              <a:xfrm>
                <a:off x="6087960" y="3111480"/>
                <a:ext cx="1292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Объект 5"/>
              <p:cNvSpPr txBox="1"/>
              <p:nvPr/>
            </p:nvSpPr>
            <p:spPr>
              <a:xfrm>
                <a:off x="4932360" y="3446640"/>
                <a:ext cx="10555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Объект 6"/>
              <p:cNvSpPr txBox="1"/>
              <p:nvPr/>
            </p:nvSpPr>
            <p:spPr>
              <a:xfrm>
                <a:off x="655560" y="4767120"/>
                <a:ext cx="2304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Объект 7"/>
              <p:cNvSpPr txBox="1"/>
              <p:nvPr/>
            </p:nvSpPr>
            <p:spPr>
              <a:xfrm>
                <a:off x="922320" y="4788000"/>
                <a:ext cx="3398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Объект 8"/>
              <p:cNvSpPr txBox="1"/>
              <p:nvPr/>
            </p:nvSpPr>
            <p:spPr>
              <a:xfrm>
                <a:off x="1692360" y="4889520"/>
                <a:ext cx="347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Объект 9"/>
              <p:cNvSpPr txBox="1"/>
              <p:nvPr/>
            </p:nvSpPr>
            <p:spPr>
              <a:xfrm>
                <a:off x="2081160" y="4834080"/>
                <a:ext cx="538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Rectangle 10"/>
          <p:cNvSpPr/>
          <p:nvPr/>
        </p:nvSpPr>
        <p:spPr>
          <a:xfrm>
            <a:off x="0" y="22428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Формулы при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11"/>
          <p:cNvSpPr/>
          <p:nvPr/>
        </p:nvSpPr>
        <p:spPr>
          <a:xfrm>
            <a:off x="0" y="2467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12"/>
          <p:cNvSpPr/>
          <p:nvPr/>
        </p:nvSpPr>
        <p:spPr>
          <a:xfrm>
            <a:off x="2209680" y="1559160"/>
            <a:ext cx="639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Жил рассеянный математик, и каждый раз преобразовывая тригонометрические функции уг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ида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3"/>
          <p:cNvSpPr/>
          <p:nvPr/>
        </p:nvSpPr>
        <p:spPr>
          <a:xfrm>
            <a:off x="108000" y="338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4"/>
          <p:cNvSpPr/>
          <p:nvPr/>
        </p:nvSpPr>
        <p:spPr>
          <a:xfrm>
            <a:off x="755640" y="3921120"/>
            <a:ext cx="741672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он спрашивал у своей лошади, жующей за окном сено, надо менять функцию на «кофункцию» или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А лошадь кивала головой по той оси, которой принадлежала  точка           ,        или        ,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  <a:ea typeface="Calibri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  , соответствующая первому слагаемому аргумента.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  <a:ea typeface="Calibri"/>
              </a:rPr>
              <a:t>Математику оставалось лишь записывать ответ, указывая знак данной функции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оугольник 2"/>
          <p:cNvSpPr/>
          <p:nvPr/>
        </p:nvSpPr>
        <p:spPr>
          <a:xfrm>
            <a:off x="2340000" y="566100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Знак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ределяем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по левой части формул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Смотрим, в какую четверть попадает угол, и вспоминаем, какой знак в этой четверти имеет функция, стоящая в лево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179280" y="404280"/>
            <a:ext cx="8229600" cy="575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Знаки тригонометрических функци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ажно помнить, что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се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тригонометрические функции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в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I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четверти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принимают положительные значения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(знак «+»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синус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знаки расположены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горизонтальн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косинус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ертикальн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 тангенса и котангенса –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крест-накрест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2" name="Рисунок 4" descr="4"/>
          <p:cNvPicPr/>
          <p:nvPr/>
        </p:nvPicPr>
        <p:blipFill>
          <a:blip r:embed="rId1"/>
          <a:stretch/>
        </p:blipFill>
        <p:spPr>
          <a:xfrm>
            <a:off x="2305080" y="907920"/>
            <a:ext cx="3286080" cy="1362240"/>
          </a:xfrm>
          <a:prstGeom prst="rect">
            <a:avLst/>
          </a:prstGeom>
          <a:ln w="0">
            <a:noFill/>
          </a:ln>
        </p:spPr>
      </p:pic>
      <p:sp>
        <p:nvSpPr>
          <p:cNvPr id="1253" name="Прямая соединительная линия 5"/>
          <p:cNvSpPr/>
          <p:nvPr/>
        </p:nvSpPr>
        <p:spPr>
          <a:xfrm>
            <a:off x="1835280" y="2435400"/>
            <a:ext cx="136836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ая соединительная линия 7"/>
          <p:cNvSpPr/>
          <p:nvPr/>
        </p:nvSpPr>
        <p:spPr>
          <a:xfrm>
            <a:off x="1879560" y="2924280"/>
            <a:ext cx="136836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Прямая соединительная линия 11"/>
          <p:cNvSpPr/>
          <p:nvPr/>
        </p:nvSpPr>
        <p:spPr>
          <a:xfrm>
            <a:off x="3708360" y="2421000"/>
            <a:ext cx="0" cy="7920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ая соединительная линия 13"/>
          <p:cNvSpPr/>
          <p:nvPr/>
        </p:nvSpPr>
        <p:spPr>
          <a:xfrm>
            <a:off x="4067280" y="2421000"/>
            <a:ext cx="0" cy="7920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ая соединительная линия 15"/>
          <p:cNvSpPr/>
          <p:nvPr/>
        </p:nvSpPr>
        <p:spPr>
          <a:xfrm>
            <a:off x="4859280" y="2421000"/>
            <a:ext cx="731880" cy="7920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ая соединительная линия 17"/>
          <p:cNvSpPr/>
          <p:nvPr/>
        </p:nvSpPr>
        <p:spPr>
          <a:xfrm flipH="1">
            <a:off x="4858920" y="2421000"/>
            <a:ext cx="731880" cy="79200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 txBox="1"/>
          <p:nvPr/>
        </p:nvSpPr>
        <p:spPr>
          <a:xfrm>
            <a:off x="428760" y="836280"/>
            <a:ext cx="8229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чащиеся прекрасно запоминают, что у тангенса и котангенса знаки располагаются крест-накрест, но забывают, у какой функции (синуса или косинуса), знаки расположены горизонтально, а у какой – вертикально. В этом случае поможет следующее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правило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: произносить слова «синус» и «косинус» нужно нараспев, выделяя ударную гласную и фиксируя при этом, в каком направлении вытягивается рот. При произнесении слова «синус» ударная гласная «и» вытягивает рот в направлении «↔», значит, у синуса знаки расположены горизонтально. Аналогично, при произнесении слова «косинус», ударная гласная «о» вытягивает рот в направлении «↕», значит, у косинуса знаки расположены вертикальн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Формулы понижения степен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ажно понять структуру этих формул, в частности, такой момент – «степень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понижаетс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а угол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становится в два раза больш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». Эти формулы очень похожи друг на друга, поэтому для лучшего их запоминания следует применять правило: «Единица минус – дает синус, а единица плюс – дает косину́с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1" name="Рисунок 3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456000" cy="547920"/>
          </a:xfrm>
          <a:prstGeom prst="rect">
            <a:avLst/>
          </a:prstGeom>
          <a:ln w="0">
            <a:noFill/>
          </a:ln>
        </p:spPr>
      </p:pic>
      <p:pic>
        <p:nvPicPr>
          <p:cNvPr id="1262" name="Рисунок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302436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Picture 3" descr=""/>
          <p:cNvPicPr/>
          <p:nvPr/>
        </p:nvPicPr>
        <p:blipFill>
          <a:blip r:embed="rId1"/>
          <a:stretch/>
        </p:blipFill>
        <p:spPr>
          <a:xfrm>
            <a:off x="6357960" y="6095880"/>
            <a:ext cx="2286000" cy="762120"/>
          </a:xfrm>
          <a:prstGeom prst="rect">
            <a:avLst/>
          </a:prstGeom>
          <a:ln w="0">
            <a:noFill/>
          </a:ln>
        </p:spPr>
      </p:pic>
      <p:sp>
        <p:nvSpPr>
          <p:cNvPr id="1264" name=""/>
          <p:cNvSpPr txBox="1"/>
          <p:nvPr/>
        </p:nvSpPr>
        <p:spPr>
          <a:xfrm>
            <a:off x="178920" y="691920"/>
            <a:ext cx="45435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Стишок про основное тригонометрическое тождество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синус квадрат очень рад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 нему едет брат - синус квадра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гда встретятся они,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кружность удивится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йдет целая семья, то есть единиц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5" name="Picture 4" descr="C:\Users\Учитель\AppData\Local\Microsoft\Windows\Temporary Internet Files\Content.IE5\QXAFY4IV\math_properties[1].gif"/>
          <p:cNvPicPr/>
          <p:nvPr/>
        </p:nvPicPr>
        <p:blipFill>
          <a:blip r:embed="rId2"/>
          <a:stretch/>
        </p:blipFill>
        <p:spPr>
          <a:xfrm>
            <a:off x="4932360" y="1268280"/>
            <a:ext cx="4038480" cy="2175120"/>
          </a:xfrm>
          <a:prstGeom prst="rect">
            <a:avLst/>
          </a:prstGeom>
          <a:ln w="0">
            <a:noFill/>
          </a:ln>
        </p:spPr>
      </p:pic>
      <p:pic>
        <p:nvPicPr>
          <p:cNvPr id="1266" name="Рисунок 11" descr=""/>
          <p:cNvPicPr/>
          <p:nvPr/>
        </p:nvPicPr>
        <p:blipFill>
          <a:blip r:embed="rId3"/>
          <a:stretch/>
        </p:blipFill>
        <p:spPr>
          <a:xfrm>
            <a:off x="755640" y="5084640"/>
            <a:ext cx="3095640" cy="72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 txBox="1"/>
          <p:nvPr/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404040"/>
                </a:solidFill>
                <a:uFillTx/>
                <a:latin typeface="Century Gothic"/>
              </a:rPr>
              <a:t>Функция косинус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о функцию косинус следует помнить, что она «четная, семейственная и отличная (от других)». Эти эпитеты позволяют запомнить многие тригонометрические формулы: четность/нечетность тригонометрических функций, формулы сложения, формулы преобразования суммы в произведение, а также формулы преобразования произведения в сумм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ействительно, функция косинус – четная, в отличие от других тригонометрических функц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екоторую «семейственность», свойственную косинусу, можно проследить на примере формул сложения, формул преобразования суммы в произведение, а также формул преобразования произведения в сумму. И в каждом блоке этих формул можно уловить некую «отличительность», свойственную косинус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5"/>
          <p:cNvSpPr/>
          <p:nvPr/>
        </p:nvSpPr>
        <p:spPr>
          <a:xfrm>
            <a:off x="444600" y="279360"/>
            <a:ext cx="98028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9" name="Объект 3"/>
          <p:cNvGraphicFramePr/>
          <p:nvPr/>
        </p:nvGraphicFramePr>
        <p:xfrm>
          <a:off x="444600" y="512640"/>
          <a:ext cx="7512120" cy="10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0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12640"/>
                    <a:ext cx="751212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1" name="Rectangle 6"/>
          <p:cNvSpPr/>
          <p:nvPr/>
        </p:nvSpPr>
        <p:spPr>
          <a:xfrm>
            <a:off x="531720" y="111600"/>
            <a:ext cx="980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косинус сум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8"/>
          <p:cNvSpPr/>
          <p:nvPr/>
        </p:nvSpPr>
        <p:spPr>
          <a:xfrm>
            <a:off x="0" y="0"/>
            <a:ext cx="10666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3" name="Объект 6"/>
          <p:cNvGraphicFramePr/>
          <p:nvPr/>
        </p:nvGraphicFramePr>
        <p:xfrm>
          <a:off x="1042920" y="2824200"/>
          <a:ext cx="741672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824200"/>
                    <a:ext cx="74167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5" name="Rectangle 9"/>
          <p:cNvSpPr/>
          <p:nvPr/>
        </p:nvSpPr>
        <p:spPr>
          <a:xfrm>
            <a:off x="531720" y="1613520"/>
            <a:ext cx="38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косинус раз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13"/>
          <p:cNvSpPr/>
          <p:nvPr/>
        </p:nvSpPr>
        <p:spPr>
          <a:xfrm>
            <a:off x="1781280" y="0"/>
            <a:ext cx="30908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Прямоугольник 10"/>
          <p:cNvSpPr/>
          <p:nvPr/>
        </p:nvSpPr>
        <p:spPr>
          <a:xfrm flipV="1" rot="10800000">
            <a:off x="3492000" y="3809520"/>
            <a:ext cx="19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сумма косин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15"/>
          <p:cNvSpPr/>
          <p:nvPr/>
        </p:nvSpPr>
        <p:spPr>
          <a:xfrm flipV="1">
            <a:off x="6948360" y="-892800"/>
            <a:ext cx="2171880" cy="64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9" name="Объект 12"/>
          <p:cNvGraphicFramePr/>
          <p:nvPr/>
        </p:nvGraphicFramePr>
        <p:xfrm>
          <a:off x="2333520" y="5778360"/>
          <a:ext cx="6159600" cy="9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0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33520" y="5778360"/>
                    <a:ext cx="61596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1" name="Rectangle 17"/>
          <p:cNvSpPr/>
          <p:nvPr/>
        </p:nvSpPr>
        <p:spPr>
          <a:xfrm>
            <a:off x="2333520" y="464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2" name="Объект 14"/>
          <p:cNvGraphicFramePr/>
          <p:nvPr/>
        </p:nvGraphicFramePr>
        <p:xfrm>
          <a:off x="2324160" y="4432320"/>
          <a:ext cx="5981760" cy="73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3" name="Объект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24160" y="4432320"/>
                    <a:ext cx="59817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4" name="Прямоугольник 15"/>
          <p:cNvSpPr/>
          <p:nvPr/>
        </p:nvSpPr>
        <p:spPr>
          <a:xfrm>
            <a:off x="3276720" y="51624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разность косин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Формулы преобразования произведения в сумм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Rectangle 9"/>
          <p:cNvSpPr/>
          <p:nvPr/>
        </p:nvSpPr>
        <p:spPr>
          <a:xfrm>
            <a:off x="-181080" y="-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1"/>
          <p:cNvSpPr/>
          <p:nvPr/>
        </p:nvSpPr>
        <p:spPr>
          <a:xfrm>
            <a:off x="463680" y="186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8" name="Объект 10"/>
          <p:cNvGraphicFramePr/>
          <p:nvPr/>
        </p:nvGraphicFramePr>
        <p:xfrm>
          <a:off x="108000" y="2565360"/>
          <a:ext cx="903600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9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565360"/>
                    <a:ext cx="90360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Основные приёмы запоминания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бразование смысловых фраз из начальных букв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запоминаемой информации (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К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аждый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о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хотник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ж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елает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з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нать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, г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де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с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идит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ф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азан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Цифры римской системы нумерации можно связать со следующим мнемоническим правилом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ы (1000)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D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ем(500)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С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веты (100)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L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шь(50)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Х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рошо(10)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V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питаным(5)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I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дивидам (1). 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0" name="Picture 3" descr="C:\Users\Учитель\AppData\Local\Microsoft\Windows\Temporary Internet Files\Content.IE5\PZOG81K4\matematika0231-129x120[1].jpg"/>
          <p:cNvPicPr/>
          <p:nvPr/>
        </p:nvPicPr>
        <p:blipFill>
          <a:blip r:embed="rId1"/>
          <a:stretch/>
        </p:blipFill>
        <p:spPr>
          <a:xfrm>
            <a:off x="395280" y="4403880"/>
            <a:ext cx="25480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А вам слабо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17 июня 2009 года украинский нейрохирург, доктор медицинских наук, профессор Андрей Слюсарчук установил мировой рекорд, запомнив 30 миллионов знаков </a:t>
            </a:r>
            <a:r>
              <a:rPr b="1" lang="ru-RU" sz="1500" spc="-1" strike="noStrike">
                <a:solidFill>
                  <a:srgbClr val="404040"/>
                </a:solidFill>
                <a:latin typeface="Century Gothic"/>
              </a:rPr>
              <a:t>числа Пи</a:t>
            </a: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, которые были напечатаны в 20 томах текста. С установлением нового рекорда Андрея Слюсарчука официально поздравил президент Украины Виктор Андреевич Ющенко. Поскольку устное перечисление 30 млн цифр π со скоростью одна цифра в секунду заняло бы почти год (347 дней) при непрерывном перечислении 24 часа в сутки, 7 дней в неделю, то был применён следующий подход для проверки рекорда: во время демонстраций Слюсарчука просят назвать произвольно выбранные проверяющими последовательности цифр числа Пи, расположенные на произвольно выбранных местах произвольных страниц 20-томной распечатки, группированной в упорядоченные таблицы. Он многократно успешно проходит этот тест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Интересные факт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IPO компании Google в 2024 году было объявлено о намерении компании увеличить свою прибыль на 2 718 281 828 долларов. Заявленное число представляет собой первые 10 цифр известной математической констант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Ритмизац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 перевод информации в стихи, песенки, в строки связанные ритмо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пример, запоминание числового выражения числа пи (~3,14159265358…) происходит легче, если использовать его стихотворные формы, когда рифмуются сами цифры: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«Чтобы ПИ запомнить, братцы,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до чаще повторять: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ри, четырнадцать, пятнадцать,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евять, двадцать шесть и пять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457200" y="907920"/>
            <a:ext cx="8362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мый простые примеры, которые знают все, это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тишок про биссектрису: Биссектриса – это крыса, что шныряет по углам, делит угол попола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Медиана – обезьяна, она идет по сторонам и делит стороны попола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 algn="r">
              <a:spcBef>
                <a:spcPts val="1001"/>
              </a:spcBef>
              <a:buClr>
                <a:srgbClr val="9f8351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Медиана это дама, которая сидит посреди  дивана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3" name="Picture 3" descr=""/>
          <p:cNvPicPr/>
          <p:nvPr/>
        </p:nvPicPr>
        <p:blipFill>
          <a:blip r:embed="rId1"/>
          <a:stretch/>
        </p:blipFill>
        <p:spPr>
          <a:xfrm>
            <a:off x="1116000" y="3565440"/>
            <a:ext cx="51735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еселенькая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запоминалка -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о неравенстве треугольника: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нает даже каждый школьник,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то такое треугольник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о совсем не каждый знает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мечательный закон: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торона его любая,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аже самая большая,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ньше суммы двух сторон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5" name="Picture 3" descr="C:\Users\Учитель\AppData\Local\Microsoft\Windows\Temporary Internet Files\Content.IE5\NTVE8A2E\300px-Cea_lemma_illust.svg[1].png"/>
          <p:cNvPicPr/>
          <p:nvPr/>
        </p:nvPicPr>
        <p:blipFill>
          <a:blip r:embed="rId1"/>
          <a:stretch/>
        </p:blipFill>
        <p:spPr>
          <a:xfrm>
            <a:off x="5796000" y="2421000"/>
            <a:ext cx="28573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53964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a53010"/>
                </a:solidFill>
                <a:latin typeface="Century Gothic"/>
              </a:rPr>
              <a:t>           </a:t>
            </a:r>
            <a:r>
              <a:rPr b="1" lang="ru-RU" sz="1800" spc="-1" strike="noStrike">
                <a:solidFill>
                  <a:srgbClr val="a53010"/>
                </a:solidFill>
                <a:latin typeface="Century Gothic"/>
              </a:rPr>
              <a:t>Формула длины окружности</a:t>
            </a:r>
            <a:r>
              <a:rPr b="0" i="1" lang="ru-RU" sz="1800" spc="-1" strike="noStrike">
                <a:solidFill>
                  <a:srgbClr val="a53010"/>
                </a:solidFill>
                <a:latin typeface="Century Gothic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Знает  это пенсионер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длина окружности – 2 π 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a53010"/>
                </a:solidFill>
                <a:latin typeface="Century Gothic"/>
              </a:rPr>
              <a:t>Формула площади круга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Запомнит тот, кто мыслит туго: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π r (квадрат) – есть площадь круга.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Century Gothic"/>
              </a:rPr>
              <a:t>Почему у поезда колеса стучат? Потому что Пи *R едет ровно, а квадрат стучи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7" name="Picture 2" descr="72915_html_5c2323a5"/>
          <p:cNvPicPr/>
          <p:nvPr/>
        </p:nvPicPr>
        <p:blipFill>
          <a:blip r:embed="rId1"/>
          <a:stretch/>
        </p:blipFill>
        <p:spPr>
          <a:xfrm>
            <a:off x="2268360" y="4365720"/>
            <a:ext cx="3456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Число «пи»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«пи» — математическая константа, выражающая отношение длины окружности к длине её диаметра. Обозначается буквой греческого алфавита «пи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исло пи (3,1415926): 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т такой я умный очень, 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и число сумел прочесть: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ри, четырнадцать , пятнадцать,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евяносто два и шесть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0" name="Picture 2" descr=""/>
          <p:cNvPicPr/>
          <p:nvPr/>
        </p:nvPicPr>
        <p:blipFill>
          <a:blip r:embed="rId1"/>
          <a:stretch/>
        </p:blipFill>
        <p:spPr>
          <a:xfrm>
            <a:off x="5580000" y="2852640"/>
            <a:ext cx="30006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942920" y="2136240"/>
            <a:ext cx="319716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Хочешь понастоящему развить память? Запомни и расскажи хотя бы до второго кольца!!! Удачи!!! </a:t>
            </a:r>
            <a:r>
              <a:rPr b="0" lang="ru-RU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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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5337000" y="2136240"/>
            <a:ext cx="3197520" cy="37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3" name="Picture 2" descr=""/>
          <p:cNvPicPr/>
          <p:nvPr/>
        </p:nvPicPr>
        <p:blipFill>
          <a:blip r:embed="rId1"/>
          <a:stretch/>
        </p:blipFill>
        <p:spPr>
          <a:xfrm>
            <a:off x="5429160" y="1928880"/>
            <a:ext cx="3214800" cy="3828960"/>
          </a:xfrm>
          <a:prstGeom prst="rect">
            <a:avLst/>
          </a:prstGeom>
          <a:ln w="0">
            <a:noFill/>
          </a:ln>
        </p:spPr>
      </p:pic>
      <p:sp>
        <p:nvSpPr>
          <p:cNvPr id="1204" name="Прямоугольник 4"/>
          <p:cNvSpPr/>
          <p:nvPr/>
        </p:nvSpPr>
        <p:spPr>
          <a:xfrm>
            <a:off x="4643280" y="564372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s41.radikal.ru/i094/0811/7d/5ba48b5a68fc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0:34:35Z</dcterms:created>
  <dc:creator>User</dc:creator>
  <dc:description/>
  <dc:language>en-US</dc:language>
  <cp:lastModifiedBy>Acer</cp:lastModifiedBy>
  <dcterms:modified xsi:type="dcterms:W3CDTF">2025-06-09T06:06:38Z</dcterms:modified>
  <cp:revision>89</cp:revision>
  <dc:subject/>
  <dc:title>ИРРАЦИОНАЛЬНЫЕ ЧИСЛА</dc:title>
</cp:coreProperties>
</file>