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13.png" ContentType="image/png"/>
  <Override PartName="/ppt/media/image26.jpeg" ContentType="image/jpeg"/>
  <Override PartName="/ppt/media/image42.png" ContentType="image/png"/>
  <Override PartName="/ppt/media/image37.gif" ContentType="image/gif"/>
  <Override PartName="/ppt/media/image40.png" ContentType="image/png"/>
  <Override PartName="/ppt/media/image44.png" ContentType="image/png"/>
  <Override PartName="/ppt/media/image39.gif" ContentType="image/gif"/>
  <Override PartName="/ppt/media/image45.png" ContentType="image/png"/>
  <Override PartName="/ppt/media/image46.png" ContentType="image/png"/>
  <Override PartName="/ppt/media/image31.wmf" ContentType="image/x-wmf"/>
  <Override PartName="/ppt/media/image51.png" ContentType="image/png"/>
  <Override PartName="/ppt/media/image38.gif" ContentType="image/gif"/>
  <Override PartName="/ppt/media/image43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2.png" ContentType="image/png"/>
  <Override PartName="/ppt/media/image7.png" ContentType="image/png"/>
  <Override PartName="/ppt/media/image4.gif" ContentType="image/gif"/>
  <Override PartName="/ppt/media/image30.png" ContentType="image/png"/>
  <Override PartName="/ppt/media/image49.png" ContentType="image/png"/>
  <Override PartName="/ppt/media/image12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мероприя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7F64-B91E-4D7A-A551-BE2E1D6388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BBA9-2DB3-48BB-B593-F2D7657AF11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3" name="Дата 4"/>
          <p:cNvSpPr/>
          <p:nvPr/>
        </p:nvSpPr>
        <p:spPr>
          <a:xfrm>
            <a:off x="518004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мероприя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422-67D9-41AC-A261-3E1AC80E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2B7-5348-46EE-8743-9A0334A2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89B-F7BA-4C27-A4D1-A120E712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C3D-782A-4F44-A86B-BC6FC80E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DA79-16E6-4893-B9AC-D6F8AF0D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305F-362C-4CBD-9BC6-FA0A9D27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B840-B8F5-48F5-9EA0-2C3B84F0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90F1-3ED6-438E-BD09-BA1DBE62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3D33-ADD9-4312-8BC5-9D5C4EC8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D58F-8922-466F-9584-26F3775E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91BE-43B2-4685-993A-FC32D812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27F-9782-4929-AE4A-181980A0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9CC7-7BB2-446A-B241-3AC33899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EDBF-E782-48CB-B2EF-1E948846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B0F2-6F95-490E-8CD0-3DC3EFFA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9487-0E8E-419E-B5DA-FFB1B004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E719-7EE7-4E1D-97A8-F5C74C43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C41-1793-4D5C-9FC6-121D9D30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4BC-2F37-4BE5-89A6-38CFE814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D75-9C43-4E44-97F5-0B5BD90D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62E-76CB-4674-8075-0CB7C529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DBE-E54F-48F8-BC5E-EAD768CB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E2F-3698-4503-8E58-1CAA8A1D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F44-B687-4E46-B8B6-7323070F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62F6-A5F9-4CD1-BFE1-23E910B235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3906-9E9E-40C1-80B2-D2318BAEC9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211126102_noty_vector_500.jpg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hyperlink" Target="http://www.o-gifts.ru/getsmall.php?p=http://www.o-gifts.ru/img_tov/29733001.jpg&amp;x=480&amp;y=480" TargetMode="Externa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slide" Target="slide2.xml"/><Relationship Id="rId4" Type="http://schemas.openxmlformats.org/officeDocument/2006/relationships/image" Target="../media/image39.gif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41.png"/><Relationship Id="rId20" Type="http://schemas.openxmlformats.org/officeDocument/2006/relationships/image" Target="../media/image42.png"/><Relationship Id="rId21" Type="http://schemas.openxmlformats.org/officeDocument/2006/relationships/image" Target="../media/image41.png"/><Relationship Id="rId22" Type="http://schemas.openxmlformats.org/officeDocument/2006/relationships/image" Target="../media/image42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1.png"/><Relationship Id="rId26" Type="http://schemas.openxmlformats.org/officeDocument/2006/relationships/image" Target="../media/image42.png"/><Relationship Id="rId27" Type="http://schemas.openxmlformats.org/officeDocument/2006/relationships/image" Target="../media/image43.png"/><Relationship Id="rId28" Type="http://schemas.openxmlformats.org/officeDocument/2006/relationships/image" Target="../media/image44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1.png"/><Relationship Id="rId32" Type="http://schemas.openxmlformats.org/officeDocument/2006/relationships/image" Target="../media/image42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image" Target="../media/image13.png"/><Relationship Id="rId37" Type="http://schemas.openxmlformats.org/officeDocument/2006/relationships/image" Target="../media/image45.png"/><Relationship Id="rId38" Type="http://schemas.openxmlformats.org/officeDocument/2006/relationships/image" Target="../media/image46.png"/><Relationship Id="rId39" Type="http://schemas.openxmlformats.org/officeDocument/2006/relationships/image" Target="../media/image47.png"/><Relationship Id="rId40" Type="http://schemas.openxmlformats.org/officeDocument/2006/relationships/image" Target="../media/image13.png"/><Relationship Id="rId41" Type="http://schemas.openxmlformats.org/officeDocument/2006/relationships/image" Target="../media/image45.png"/><Relationship Id="rId42" Type="http://schemas.openxmlformats.org/officeDocument/2006/relationships/image" Target="../media/image46.png"/><Relationship Id="rId43" Type="http://schemas.openxmlformats.org/officeDocument/2006/relationships/image" Target="../media/image47.png"/><Relationship Id="rId44" Type="http://schemas.openxmlformats.org/officeDocument/2006/relationships/image" Target="../media/image13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13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13.png"/><Relationship Id="rId53" Type="http://schemas.openxmlformats.org/officeDocument/2006/relationships/image" Target="../media/image45.png"/><Relationship Id="rId54" Type="http://schemas.openxmlformats.org/officeDocument/2006/relationships/image" Target="../media/image46.png"/><Relationship Id="rId55" Type="http://schemas.openxmlformats.org/officeDocument/2006/relationships/image" Target="../media/image47.png"/><Relationship Id="rId56" Type="http://schemas.openxmlformats.org/officeDocument/2006/relationships/image" Target="../media/image13.png"/><Relationship Id="rId57" Type="http://schemas.openxmlformats.org/officeDocument/2006/relationships/image" Target="../media/image45.png"/><Relationship Id="rId58" Type="http://schemas.openxmlformats.org/officeDocument/2006/relationships/image" Target="../media/image46.png"/><Relationship Id="rId59" Type="http://schemas.openxmlformats.org/officeDocument/2006/relationships/image" Target="../media/image47.png"/><Relationship Id="rId60" Type="http://schemas.openxmlformats.org/officeDocument/2006/relationships/image" Target="../media/image13.png"/><Relationship Id="rId61" Type="http://schemas.openxmlformats.org/officeDocument/2006/relationships/image" Target="../media/image45.png"/><Relationship Id="rId62" Type="http://schemas.openxmlformats.org/officeDocument/2006/relationships/image" Target="../media/image46.png"/><Relationship Id="rId63" Type="http://schemas.openxmlformats.org/officeDocument/2006/relationships/image" Target="../media/image47.png"/><Relationship Id="rId64" Type="http://schemas.openxmlformats.org/officeDocument/2006/relationships/image" Target="../media/image13.png"/><Relationship Id="rId65" Type="http://schemas.openxmlformats.org/officeDocument/2006/relationships/image" Target="../media/image45.png"/><Relationship Id="rId66" Type="http://schemas.openxmlformats.org/officeDocument/2006/relationships/image" Target="../media/image46.png"/><Relationship Id="rId67" Type="http://schemas.openxmlformats.org/officeDocument/2006/relationships/image" Target="../media/image47.png"/><Relationship Id="rId68" Type="http://schemas.openxmlformats.org/officeDocument/2006/relationships/image" Target="../media/image13.png"/><Relationship Id="rId69" Type="http://schemas.openxmlformats.org/officeDocument/2006/relationships/image" Target="../media/image45.png"/><Relationship Id="rId70" Type="http://schemas.openxmlformats.org/officeDocument/2006/relationships/image" Target="../media/image46.png"/><Relationship Id="rId71" Type="http://schemas.openxmlformats.org/officeDocument/2006/relationships/image" Target="../media/image47.png"/><Relationship Id="rId72" Type="http://schemas.openxmlformats.org/officeDocument/2006/relationships/image" Target="../media/image13.png"/><Relationship Id="rId73" Type="http://schemas.openxmlformats.org/officeDocument/2006/relationships/image" Target="../media/image45.png"/><Relationship Id="rId74" Type="http://schemas.openxmlformats.org/officeDocument/2006/relationships/image" Target="../media/image46.png"/><Relationship Id="rId75" Type="http://schemas.openxmlformats.org/officeDocument/2006/relationships/image" Target="../media/image47.png"/><Relationship Id="rId76" Type="http://schemas.openxmlformats.org/officeDocument/2006/relationships/image" Target="../media/image13.png"/><Relationship Id="rId77" Type="http://schemas.openxmlformats.org/officeDocument/2006/relationships/image" Target="../media/image45.png"/><Relationship Id="rId78" Type="http://schemas.openxmlformats.org/officeDocument/2006/relationships/image" Target="../media/image46.png"/><Relationship Id="rId79" Type="http://schemas.openxmlformats.org/officeDocument/2006/relationships/image" Target="../media/image47.png"/><Relationship Id="rId80" Type="http://schemas.openxmlformats.org/officeDocument/2006/relationships/image" Target="../media/image13.png"/><Relationship Id="rId81" Type="http://schemas.openxmlformats.org/officeDocument/2006/relationships/image" Target="../media/image45.png"/><Relationship Id="rId82" Type="http://schemas.openxmlformats.org/officeDocument/2006/relationships/image" Target="../media/image46.png"/><Relationship Id="rId83" Type="http://schemas.openxmlformats.org/officeDocument/2006/relationships/image" Target="../media/image47.png"/><Relationship Id="rId84" Type="http://schemas.openxmlformats.org/officeDocument/2006/relationships/image" Target="../media/image13.png"/><Relationship Id="rId85" Type="http://schemas.openxmlformats.org/officeDocument/2006/relationships/image" Target="../media/image45.png"/><Relationship Id="rId86" Type="http://schemas.openxmlformats.org/officeDocument/2006/relationships/image" Target="../media/image46.png"/><Relationship Id="rId87" Type="http://schemas.openxmlformats.org/officeDocument/2006/relationships/image" Target="../media/image47.png"/><Relationship Id="rId88" Type="http://schemas.openxmlformats.org/officeDocument/2006/relationships/image" Target="../media/image13.png"/><Relationship Id="rId89" Type="http://schemas.openxmlformats.org/officeDocument/2006/relationships/image" Target="../media/image45.png"/><Relationship Id="rId90" Type="http://schemas.openxmlformats.org/officeDocument/2006/relationships/image" Target="../media/image46.png"/><Relationship Id="rId91" Type="http://schemas.openxmlformats.org/officeDocument/2006/relationships/image" Target="../media/image47.png"/><Relationship Id="rId92" Type="http://schemas.openxmlformats.org/officeDocument/2006/relationships/image" Target="../media/image13.png"/><Relationship Id="rId93" Type="http://schemas.openxmlformats.org/officeDocument/2006/relationships/image" Target="../media/image45.png"/><Relationship Id="rId94" Type="http://schemas.openxmlformats.org/officeDocument/2006/relationships/image" Target="../media/image46.png"/><Relationship Id="rId95" Type="http://schemas.openxmlformats.org/officeDocument/2006/relationships/image" Target="../media/image47.png"/><Relationship Id="rId96" Type="http://schemas.openxmlformats.org/officeDocument/2006/relationships/image" Target="../media/image13.png"/><Relationship Id="rId97" Type="http://schemas.openxmlformats.org/officeDocument/2006/relationships/image" Target="../media/image45.png"/><Relationship Id="rId98" Type="http://schemas.openxmlformats.org/officeDocument/2006/relationships/image" Target="../media/image46.png"/><Relationship Id="rId99" Type="http://schemas.openxmlformats.org/officeDocument/2006/relationships/image" Target="../media/image47.png"/><Relationship Id="rId100" Type="http://schemas.openxmlformats.org/officeDocument/2006/relationships/image" Target="../media/image13.png"/><Relationship Id="rId101" Type="http://schemas.openxmlformats.org/officeDocument/2006/relationships/image" Target="../media/image45.png"/><Relationship Id="rId102" Type="http://schemas.openxmlformats.org/officeDocument/2006/relationships/image" Target="../media/image46.png"/><Relationship Id="rId103" Type="http://schemas.openxmlformats.org/officeDocument/2006/relationships/image" Target="../media/image47.png"/><Relationship Id="rId104" Type="http://schemas.openxmlformats.org/officeDocument/2006/relationships/image" Target="../media/image13.png"/><Relationship Id="rId105" Type="http://schemas.openxmlformats.org/officeDocument/2006/relationships/image" Target="../media/image45.png"/><Relationship Id="rId106" Type="http://schemas.openxmlformats.org/officeDocument/2006/relationships/image" Target="../media/image46.png"/><Relationship Id="rId107" Type="http://schemas.openxmlformats.org/officeDocument/2006/relationships/image" Target="../media/image47.png"/><Relationship Id="rId108" Type="http://schemas.openxmlformats.org/officeDocument/2006/relationships/image" Target="../media/image13.png"/><Relationship Id="rId109" Type="http://schemas.openxmlformats.org/officeDocument/2006/relationships/image" Target="../media/image45.png"/><Relationship Id="rId110" Type="http://schemas.openxmlformats.org/officeDocument/2006/relationships/image" Target="../media/image46.png"/><Relationship Id="rId111" Type="http://schemas.openxmlformats.org/officeDocument/2006/relationships/image" Target="../media/image47.png"/><Relationship Id="rId112" Type="http://schemas.openxmlformats.org/officeDocument/2006/relationships/image" Target="../media/image13.png"/><Relationship Id="rId113" Type="http://schemas.openxmlformats.org/officeDocument/2006/relationships/image" Target="../media/image45.png"/><Relationship Id="rId114" Type="http://schemas.openxmlformats.org/officeDocument/2006/relationships/image" Target="../media/image46.png"/><Relationship Id="rId115" Type="http://schemas.openxmlformats.org/officeDocument/2006/relationships/image" Target="../media/image47.png"/><Relationship Id="rId116" Type="http://schemas.openxmlformats.org/officeDocument/2006/relationships/image" Target="../media/image13.png"/><Relationship Id="rId117" Type="http://schemas.openxmlformats.org/officeDocument/2006/relationships/image" Target="../media/image45.png"/><Relationship Id="rId118" Type="http://schemas.openxmlformats.org/officeDocument/2006/relationships/image" Target="../media/image46.png"/><Relationship Id="rId119" Type="http://schemas.openxmlformats.org/officeDocument/2006/relationships/image" Target="../media/image47.png"/><Relationship Id="rId120" Type="http://schemas.openxmlformats.org/officeDocument/2006/relationships/image" Target="../media/image13.png"/><Relationship Id="rId121" Type="http://schemas.openxmlformats.org/officeDocument/2006/relationships/image" Target="../media/image45.png"/><Relationship Id="rId122" Type="http://schemas.openxmlformats.org/officeDocument/2006/relationships/image" Target="../media/image46.png"/><Relationship Id="rId123" Type="http://schemas.openxmlformats.org/officeDocument/2006/relationships/image" Target="../media/image47.png"/><Relationship Id="rId124" Type="http://schemas.openxmlformats.org/officeDocument/2006/relationships/image" Target="../media/image13.png"/><Relationship Id="rId125" Type="http://schemas.openxmlformats.org/officeDocument/2006/relationships/image" Target="../media/image45.png"/><Relationship Id="rId126" Type="http://schemas.openxmlformats.org/officeDocument/2006/relationships/image" Target="../media/image46.png"/><Relationship Id="rId127" Type="http://schemas.openxmlformats.org/officeDocument/2006/relationships/image" Target="../media/image47.png"/><Relationship Id="rId128" Type="http://schemas.openxmlformats.org/officeDocument/2006/relationships/image" Target="../media/image13.png"/><Relationship Id="rId129" Type="http://schemas.openxmlformats.org/officeDocument/2006/relationships/image" Target="../media/image45.png"/><Relationship Id="rId130" Type="http://schemas.openxmlformats.org/officeDocument/2006/relationships/image" Target="../media/image46.png"/><Relationship Id="rId131" Type="http://schemas.openxmlformats.org/officeDocument/2006/relationships/image" Target="../media/image47.png"/><Relationship Id="rId132" Type="http://schemas.openxmlformats.org/officeDocument/2006/relationships/image" Target="../media/image13.png"/><Relationship Id="rId133" Type="http://schemas.openxmlformats.org/officeDocument/2006/relationships/image" Target="../media/image5.jpeg"/><Relationship Id="rId134" Type="http://schemas.openxmlformats.org/officeDocument/2006/relationships/image" Target="../media/image48.png"/><Relationship Id="rId135" Type="http://schemas.openxmlformats.org/officeDocument/2006/relationships/image" Target="../media/image49.png"/><Relationship Id="rId136" Type="http://schemas.openxmlformats.org/officeDocument/2006/relationships/image" Target="../media/image48.png"/><Relationship Id="rId137" Type="http://schemas.openxmlformats.org/officeDocument/2006/relationships/image" Target="../media/image49.png"/><Relationship Id="rId138" Type="http://schemas.openxmlformats.org/officeDocument/2006/relationships/image" Target="../media/image50.png"/><Relationship Id="rId139" Type="http://schemas.openxmlformats.org/officeDocument/2006/relationships/image" Target="../media/image51.png"/><Relationship Id="rId140" Type="http://schemas.openxmlformats.org/officeDocument/2006/relationships/image" Target="../media/image48.png"/><Relationship Id="rId141" Type="http://schemas.openxmlformats.org/officeDocument/2006/relationships/image" Target="../media/image49.png"/><Relationship Id="rId142" Type="http://schemas.openxmlformats.org/officeDocument/2006/relationships/image" Target="../media/image50.png"/><Relationship Id="rId143" Type="http://schemas.openxmlformats.org/officeDocument/2006/relationships/image" Target="../media/image51.png"/><Relationship Id="rId144" Type="http://schemas.openxmlformats.org/officeDocument/2006/relationships/image" Target="../media/image50.png"/><Relationship Id="rId145" Type="http://schemas.openxmlformats.org/officeDocument/2006/relationships/image" Target="../media/image51.png"/><Relationship Id="rId146" Type="http://schemas.openxmlformats.org/officeDocument/2006/relationships/image" Target="../media/image50.png"/><Relationship Id="rId147" Type="http://schemas.openxmlformats.org/officeDocument/2006/relationships/image" Target="../media/image51.png"/><Relationship Id="rId148" Type="http://schemas.openxmlformats.org/officeDocument/2006/relationships/image" Target="../media/image48.png"/><Relationship Id="rId149" Type="http://schemas.openxmlformats.org/officeDocument/2006/relationships/image" Target="../media/image49.png"/><Relationship Id="rId150" Type="http://schemas.openxmlformats.org/officeDocument/2006/relationships/image" Target="../media/image48.png"/><Relationship Id="rId151" Type="http://schemas.openxmlformats.org/officeDocument/2006/relationships/image" Target="../media/image49.png"/><Relationship Id="rId152" Type="http://schemas.openxmlformats.org/officeDocument/2006/relationships/image" Target="../media/image48.png"/><Relationship Id="rId153" Type="http://schemas.openxmlformats.org/officeDocument/2006/relationships/image" Target="../media/image49.png"/><Relationship Id="rId154" Type="http://schemas.openxmlformats.org/officeDocument/2006/relationships/image" Target="../media/image48.png"/><Relationship Id="rId155" Type="http://schemas.openxmlformats.org/officeDocument/2006/relationships/image" Target="../media/image49.png"/><Relationship Id="rId156" Type="http://schemas.openxmlformats.org/officeDocument/2006/relationships/image" Target="../media/image48.png"/><Relationship Id="rId157" Type="http://schemas.openxmlformats.org/officeDocument/2006/relationships/image" Target="../media/image49.png"/><Relationship Id="rId158" Type="http://schemas.openxmlformats.org/officeDocument/2006/relationships/image" Target="../media/image50.png"/><Relationship Id="rId159" Type="http://schemas.openxmlformats.org/officeDocument/2006/relationships/image" Target="../media/image51.png"/><Relationship Id="rId160" Type="http://schemas.openxmlformats.org/officeDocument/2006/relationships/image" Target="../media/image48.png"/><Relationship Id="rId161" Type="http://schemas.openxmlformats.org/officeDocument/2006/relationships/image" Target="../media/image49.png"/><Relationship Id="rId162" Type="http://schemas.openxmlformats.org/officeDocument/2006/relationships/image" Target="../media/image48.png"/><Relationship Id="rId163" Type="http://schemas.openxmlformats.org/officeDocument/2006/relationships/image" Target="../media/image49.png"/><Relationship Id="rId164" Type="http://schemas.openxmlformats.org/officeDocument/2006/relationships/image" Target="../media/image52.png"/><Relationship Id="rId165" Type="http://schemas.openxmlformats.org/officeDocument/2006/relationships/image" Target="../media/image46.png"/><Relationship Id="rId166" Type="http://schemas.openxmlformats.org/officeDocument/2006/relationships/image" Target="../media/image47.png"/><Relationship Id="rId167" Type="http://schemas.openxmlformats.org/officeDocument/2006/relationships/image" Target="../media/image13.png"/><Relationship Id="rId168" Type="http://schemas.openxmlformats.org/officeDocument/2006/relationships/image" Target="../media/image52.png"/><Relationship Id="rId169" Type="http://schemas.openxmlformats.org/officeDocument/2006/relationships/image" Target="../media/image46.png"/><Relationship Id="rId170" Type="http://schemas.openxmlformats.org/officeDocument/2006/relationships/image" Target="../media/image47.png"/><Relationship Id="rId171" Type="http://schemas.openxmlformats.org/officeDocument/2006/relationships/image" Target="../media/image13.png"/><Relationship Id="rId172" Type="http://schemas.openxmlformats.org/officeDocument/2006/relationships/image" Target="../media/image52.png"/><Relationship Id="rId173" Type="http://schemas.openxmlformats.org/officeDocument/2006/relationships/image" Target="../media/image46.png"/><Relationship Id="rId174" Type="http://schemas.openxmlformats.org/officeDocument/2006/relationships/image" Target="../media/image47.png"/><Relationship Id="rId175" Type="http://schemas.openxmlformats.org/officeDocument/2006/relationships/image" Target="../media/image13.png"/><Relationship Id="rId176" Type="http://schemas.openxmlformats.org/officeDocument/2006/relationships/image" Target="../media/image52.png"/><Relationship Id="rId177" Type="http://schemas.openxmlformats.org/officeDocument/2006/relationships/image" Target="../media/image46.png"/><Relationship Id="rId178" Type="http://schemas.openxmlformats.org/officeDocument/2006/relationships/image" Target="../media/image47.png"/><Relationship Id="rId179" Type="http://schemas.openxmlformats.org/officeDocument/2006/relationships/image" Target="../media/image13.png"/><Relationship Id="rId180" Type="http://schemas.openxmlformats.org/officeDocument/2006/relationships/image" Target="../media/image52.png"/><Relationship Id="rId181" Type="http://schemas.openxmlformats.org/officeDocument/2006/relationships/image" Target="../media/image46.png"/><Relationship Id="rId182" Type="http://schemas.openxmlformats.org/officeDocument/2006/relationships/image" Target="../media/image47.png"/><Relationship Id="rId183" Type="http://schemas.openxmlformats.org/officeDocument/2006/relationships/image" Target="../media/image13.png"/><Relationship Id="rId184" Type="http://schemas.openxmlformats.org/officeDocument/2006/relationships/image" Target="../media/image52.png"/><Relationship Id="rId185" Type="http://schemas.openxmlformats.org/officeDocument/2006/relationships/image" Target="../media/image46.png"/><Relationship Id="rId186" Type="http://schemas.openxmlformats.org/officeDocument/2006/relationships/image" Target="../media/image47.png"/><Relationship Id="rId187" Type="http://schemas.openxmlformats.org/officeDocument/2006/relationships/image" Target="../media/image13.png"/><Relationship Id="rId188" Type="http://schemas.openxmlformats.org/officeDocument/2006/relationships/image" Target="../media/image52.png"/><Relationship Id="rId189" Type="http://schemas.openxmlformats.org/officeDocument/2006/relationships/image" Target="../media/image46.png"/><Relationship Id="rId190" Type="http://schemas.openxmlformats.org/officeDocument/2006/relationships/image" Target="../media/image47.png"/><Relationship Id="rId191" Type="http://schemas.openxmlformats.org/officeDocument/2006/relationships/image" Target="../media/image13.png"/><Relationship Id="rId192" Type="http://schemas.openxmlformats.org/officeDocument/2006/relationships/image" Target="../media/image52.png"/><Relationship Id="rId193" Type="http://schemas.openxmlformats.org/officeDocument/2006/relationships/image" Target="../media/image46.png"/><Relationship Id="rId194" Type="http://schemas.openxmlformats.org/officeDocument/2006/relationships/image" Target="../media/image47.png"/><Relationship Id="rId195" Type="http://schemas.openxmlformats.org/officeDocument/2006/relationships/image" Target="../media/image13.png"/><Relationship Id="rId196" Type="http://schemas.openxmlformats.org/officeDocument/2006/relationships/image" Target="../media/image52.png"/><Relationship Id="rId197" Type="http://schemas.openxmlformats.org/officeDocument/2006/relationships/image" Target="../media/image46.png"/><Relationship Id="rId198" Type="http://schemas.openxmlformats.org/officeDocument/2006/relationships/image" Target="../media/image47.png"/><Relationship Id="rId199" Type="http://schemas.openxmlformats.org/officeDocument/2006/relationships/image" Target="../media/image13.png"/><Relationship Id="rId200" Type="http://schemas.openxmlformats.org/officeDocument/2006/relationships/image" Target="../media/image52.png"/><Relationship Id="rId201" Type="http://schemas.openxmlformats.org/officeDocument/2006/relationships/image" Target="../media/image46.png"/><Relationship Id="rId202" Type="http://schemas.openxmlformats.org/officeDocument/2006/relationships/image" Target="../media/image47.png"/><Relationship Id="rId203" Type="http://schemas.openxmlformats.org/officeDocument/2006/relationships/image" Target="../media/image13.png"/><Relationship Id="rId204" Type="http://schemas.openxmlformats.org/officeDocument/2006/relationships/image" Target="../media/image52.png"/><Relationship Id="rId205" Type="http://schemas.openxmlformats.org/officeDocument/2006/relationships/image" Target="../media/image46.png"/><Relationship Id="rId206" Type="http://schemas.openxmlformats.org/officeDocument/2006/relationships/image" Target="../media/image47.png"/><Relationship Id="rId207" Type="http://schemas.openxmlformats.org/officeDocument/2006/relationships/image" Target="../media/image13.png"/><Relationship Id="rId208" Type="http://schemas.openxmlformats.org/officeDocument/2006/relationships/image" Target="../media/image52.png"/><Relationship Id="rId209" Type="http://schemas.openxmlformats.org/officeDocument/2006/relationships/image" Target="../media/image46.png"/><Relationship Id="rId210" Type="http://schemas.openxmlformats.org/officeDocument/2006/relationships/image" Target="../media/image47.png"/><Relationship Id="rId211" Type="http://schemas.openxmlformats.org/officeDocument/2006/relationships/image" Target="../media/image13.png"/><Relationship Id="rId212" Type="http://schemas.openxmlformats.org/officeDocument/2006/relationships/image" Target="../media/image52.png"/><Relationship Id="rId213" Type="http://schemas.openxmlformats.org/officeDocument/2006/relationships/image" Target="../media/image46.png"/><Relationship Id="rId214" Type="http://schemas.openxmlformats.org/officeDocument/2006/relationships/image" Target="../media/image47.png"/><Relationship Id="rId215" Type="http://schemas.openxmlformats.org/officeDocument/2006/relationships/image" Target="../media/image13.png"/><Relationship Id="rId216" Type="http://schemas.openxmlformats.org/officeDocument/2006/relationships/image" Target="../media/image52.png"/><Relationship Id="rId217" Type="http://schemas.openxmlformats.org/officeDocument/2006/relationships/image" Target="../media/image46.png"/><Relationship Id="rId218" Type="http://schemas.openxmlformats.org/officeDocument/2006/relationships/image" Target="../media/image47.png"/><Relationship Id="rId219" Type="http://schemas.openxmlformats.org/officeDocument/2006/relationships/image" Target="../media/image13.png"/><Relationship Id="rId220" Type="http://schemas.openxmlformats.org/officeDocument/2006/relationships/image" Target="../media/image52.png"/><Relationship Id="rId221" Type="http://schemas.openxmlformats.org/officeDocument/2006/relationships/image" Target="../media/image46.png"/><Relationship Id="rId222" Type="http://schemas.openxmlformats.org/officeDocument/2006/relationships/image" Target="../media/image47.png"/><Relationship Id="rId223" Type="http://schemas.openxmlformats.org/officeDocument/2006/relationships/image" Target="../media/image13.png"/><Relationship Id="rId224" Type="http://schemas.openxmlformats.org/officeDocument/2006/relationships/image" Target="../media/image52.png"/><Relationship Id="rId225" Type="http://schemas.openxmlformats.org/officeDocument/2006/relationships/image" Target="../media/image46.png"/><Relationship Id="rId226" Type="http://schemas.openxmlformats.org/officeDocument/2006/relationships/image" Target="../media/image47.png"/><Relationship Id="rId227" Type="http://schemas.openxmlformats.org/officeDocument/2006/relationships/image" Target="../media/image13.png"/><Relationship Id="rId228" Type="http://schemas.openxmlformats.org/officeDocument/2006/relationships/image" Target="../media/image52.png"/><Relationship Id="rId229" Type="http://schemas.openxmlformats.org/officeDocument/2006/relationships/image" Target="../media/image46.png"/><Relationship Id="rId230" Type="http://schemas.openxmlformats.org/officeDocument/2006/relationships/image" Target="../media/image47.png"/><Relationship Id="rId231" Type="http://schemas.openxmlformats.org/officeDocument/2006/relationships/image" Target="../media/image13.png"/><Relationship Id="rId232" Type="http://schemas.openxmlformats.org/officeDocument/2006/relationships/image" Target="../media/image52.png"/><Relationship Id="rId233" Type="http://schemas.openxmlformats.org/officeDocument/2006/relationships/image" Target="../media/image46.png"/><Relationship Id="rId234" Type="http://schemas.openxmlformats.org/officeDocument/2006/relationships/image" Target="../media/image47.png"/><Relationship Id="rId235" Type="http://schemas.openxmlformats.org/officeDocument/2006/relationships/image" Target="../media/image13.png"/><Relationship Id="rId236" Type="http://schemas.openxmlformats.org/officeDocument/2006/relationships/image" Target="../media/image52.png"/><Relationship Id="rId237" Type="http://schemas.openxmlformats.org/officeDocument/2006/relationships/image" Target="../media/image46.png"/><Relationship Id="rId238" Type="http://schemas.openxmlformats.org/officeDocument/2006/relationships/image" Target="../media/image47.png"/><Relationship Id="rId239" Type="http://schemas.openxmlformats.org/officeDocument/2006/relationships/image" Target="../media/image13.png"/><Relationship Id="rId240" Type="http://schemas.openxmlformats.org/officeDocument/2006/relationships/image" Target="../media/image52.png"/><Relationship Id="rId241" Type="http://schemas.openxmlformats.org/officeDocument/2006/relationships/image" Target="../media/image46.png"/><Relationship Id="rId242" Type="http://schemas.openxmlformats.org/officeDocument/2006/relationships/image" Target="../media/image47.png"/><Relationship Id="rId243" Type="http://schemas.openxmlformats.org/officeDocument/2006/relationships/image" Target="../media/image13.png"/><Relationship Id="rId244" Type="http://schemas.openxmlformats.org/officeDocument/2006/relationships/image" Target="../media/image52.png"/><Relationship Id="rId245" Type="http://schemas.openxmlformats.org/officeDocument/2006/relationships/image" Target="../media/image46.png"/><Relationship Id="rId246" Type="http://schemas.openxmlformats.org/officeDocument/2006/relationships/image" Target="../media/image47.png"/><Relationship Id="rId247" Type="http://schemas.openxmlformats.org/officeDocument/2006/relationships/image" Target="../media/image13.png"/><Relationship Id="rId248" Type="http://schemas.openxmlformats.org/officeDocument/2006/relationships/image" Target="../media/image52.png"/><Relationship Id="rId249" Type="http://schemas.openxmlformats.org/officeDocument/2006/relationships/image" Target="../media/image46.png"/><Relationship Id="rId250" Type="http://schemas.openxmlformats.org/officeDocument/2006/relationships/image" Target="../media/image47.png"/><Relationship Id="rId251" Type="http://schemas.openxmlformats.org/officeDocument/2006/relationships/image" Target="../media/image13.png"/><Relationship Id="rId252" Type="http://schemas.openxmlformats.org/officeDocument/2006/relationships/image" Target="../media/image52.png"/><Relationship Id="rId253" Type="http://schemas.openxmlformats.org/officeDocument/2006/relationships/image" Target="../media/image46.png"/><Relationship Id="rId254" Type="http://schemas.openxmlformats.org/officeDocument/2006/relationships/image" Target="../media/image47.png"/><Relationship Id="rId255" Type="http://schemas.openxmlformats.org/officeDocument/2006/relationships/image" Target="../media/image13.png"/><Relationship Id="rId256" Type="http://schemas.openxmlformats.org/officeDocument/2006/relationships/image" Target="../media/image52.png"/><Relationship Id="rId257" Type="http://schemas.openxmlformats.org/officeDocument/2006/relationships/image" Target="../media/image46.png"/><Relationship Id="rId258" Type="http://schemas.openxmlformats.org/officeDocument/2006/relationships/image" Target="../media/image47.png"/><Relationship Id="rId259" Type="http://schemas.openxmlformats.org/officeDocument/2006/relationships/image" Target="../media/image13.png"/><Relationship Id="rId260" Type="http://schemas.openxmlformats.org/officeDocument/2006/relationships/image" Target="../media/image52.png"/><Relationship Id="rId261" Type="http://schemas.openxmlformats.org/officeDocument/2006/relationships/image" Target="../media/image46.png"/><Relationship Id="rId262" Type="http://schemas.openxmlformats.org/officeDocument/2006/relationships/image" Target="../media/image47.png"/><Relationship Id="rId263" Type="http://schemas.openxmlformats.org/officeDocument/2006/relationships/image" Target="../media/image13.png"/><Relationship Id="rId26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1.wm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o-gifts.ru/getsmall.php?p=http://www.o-gifts.ru/img_tov/29733001.jpg&amp;x=480&amp;y=480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uztest.ru/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g.sunhome.ru/UsersGallery/Cards/155/25232105.jpg" TargetMode="External"/><Relationship Id="rId2" Type="http://schemas.openxmlformats.org/officeDocument/2006/relationships/hyperlink" Target="http://briticat.ru/smail/butterflys/butterflys1.html" TargetMode="External"/><Relationship Id="rId3" Type="http://schemas.openxmlformats.org/officeDocument/2006/relationships/hyperlink" Target="http://briticat.ru/smail/raznie2.html" TargetMode="External"/><Relationship Id="rId4" Type="http://schemas.openxmlformats.org/officeDocument/2006/relationships/hyperlink" Target="http://animashky.ru/index/0-11?2-8" TargetMode="External"/><Relationship Id="rId5" Type="http://schemas.openxmlformats.org/officeDocument/2006/relationships/hyperlink" Target="http://le-savchen.ucoz.ru/load/0-0-0-88-20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image" Target="../media/image9.png"/><Relationship Id="rId29" Type="http://schemas.openxmlformats.org/officeDocument/2006/relationships/image" Target="../media/image6.png"/><Relationship Id="rId30" Type="http://schemas.openxmlformats.org/officeDocument/2006/relationships/image" Target="../media/image7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10.png"/><Relationship Id="rId34" Type="http://schemas.openxmlformats.org/officeDocument/2006/relationships/image" Target="../media/image11.png"/><Relationship Id="rId35" Type="http://schemas.openxmlformats.org/officeDocument/2006/relationships/image" Target="../media/image12.png"/><Relationship Id="rId36" Type="http://schemas.openxmlformats.org/officeDocument/2006/relationships/image" Target="../media/image13.png"/><Relationship Id="rId37" Type="http://schemas.openxmlformats.org/officeDocument/2006/relationships/image" Target="../media/image10.png"/><Relationship Id="rId38" Type="http://schemas.openxmlformats.org/officeDocument/2006/relationships/image" Target="../media/image11.png"/><Relationship Id="rId39" Type="http://schemas.openxmlformats.org/officeDocument/2006/relationships/image" Target="../media/image12.png"/><Relationship Id="rId40" Type="http://schemas.openxmlformats.org/officeDocument/2006/relationships/image" Target="../media/image13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12.png"/><Relationship Id="rId44" Type="http://schemas.openxmlformats.org/officeDocument/2006/relationships/image" Target="../media/image13.png"/><Relationship Id="rId45" Type="http://schemas.openxmlformats.org/officeDocument/2006/relationships/image" Target="../media/image10.png"/><Relationship Id="rId46" Type="http://schemas.openxmlformats.org/officeDocument/2006/relationships/image" Target="../media/image11.png"/><Relationship Id="rId47" Type="http://schemas.openxmlformats.org/officeDocument/2006/relationships/image" Target="../media/image12.png"/><Relationship Id="rId48" Type="http://schemas.openxmlformats.org/officeDocument/2006/relationships/image" Target="../media/image13.png"/><Relationship Id="rId49" Type="http://schemas.openxmlformats.org/officeDocument/2006/relationships/image" Target="../media/image10.png"/><Relationship Id="rId50" Type="http://schemas.openxmlformats.org/officeDocument/2006/relationships/image" Target="../media/image11.png"/><Relationship Id="rId51" Type="http://schemas.openxmlformats.org/officeDocument/2006/relationships/image" Target="../media/image12.png"/><Relationship Id="rId52" Type="http://schemas.openxmlformats.org/officeDocument/2006/relationships/image" Target="../media/image13.png"/><Relationship Id="rId53" Type="http://schemas.openxmlformats.org/officeDocument/2006/relationships/image" Target="../media/image10.png"/><Relationship Id="rId54" Type="http://schemas.openxmlformats.org/officeDocument/2006/relationships/image" Target="../media/image11.png"/><Relationship Id="rId55" Type="http://schemas.openxmlformats.org/officeDocument/2006/relationships/image" Target="../media/image12.png"/><Relationship Id="rId56" Type="http://schemas.openxmlformats.org/officeDocument/2006/relationships/image" Target="../media/image13.png"/><Relationship Id="rId57" Type="http://schemas.openxmlformats.org/officeDocument/2006/relationships/image" Target="../media/image10.png"/><Relationship Id="rId58" Type="http://schemas.openxmlformats.org/officeDocument/2006/relationships/image" Target="../media/image11.png"/><Relationship Id="rId59" Type="http://schemas.openxmlformats.org/officeDocument/2006/relationships/image" Target="../media/image12.png"/><Relationship Id="rId60" Type="http://schemas.openxmlformats.org/officeDocument/2006/relationships/image" Target="../media/image13.png"/><Relationship Id="rId61" Type="http://schemas.openxmlformats.org/officeDocument/2006/relationships/image" Target="../media/image10.png"/><Relationship Id="rId62" Type="http://schemas.openxmlformats.org/officeDocument/2006/relationships/image" Target="../media/image11.png"/><Relationship Id="rId63" Type="http://schemas.openxmlformats.org/officeDocument/2006/relationships/image" Target="../media/image12.png"/><Relationship Id="rId64" Type="http://schemas.openxmlformats.org/officeDocument/2006/relationships/image" Target="../media/image13.png"/><Relationship Id="rId65" Type="http://schemas.openxmlformats.org/officeDocument/2006/relationships/image" Target="../media/image10.png"/><Relationship Id="rId66" Type="http://schemas.openxmlformats.org/officeDocument/2006/relationships/image" Target="../media/image11.png"/><Relationship Id="rId67" Type="http://schemas.openxmlformats.org/officeDocument/2006/relationships/image" Target="../media/image12.png"/><Relationship Id="rId68" Type="http://schemas.openxmlformats.org/officeDocument/2006/relationships/image" Target="../media/image13.png"/><Relationship Id="rId69" Type="http://schemas.openxmlformats.org/officeDocument/2006/relationships/image" Target="../media/image10.png"/><Relationship Id="rId70" Type="http://schemas.openxmlformats.org/officeDocument/2006/relationships/image" Target="../media/image11.png"/><Relationship Id="rId71" Type="http://schemas.openxmlformats.org/officeDocument/2006/relationships/image" Target="../media/image12.png"/><Relationship Id="rId72" Type="http://schemas.openxmlformats.org/officeDocument/2006/relationships/image" Target="../media/image13.png"/><Relationship Id="rId73" Type="http://schemas.openxmlformats.org/officeDocument/2006/relationships/image" Target="../media/image10.png"/><Relationship Id="rId74" Type="http://schemas.openxmlformats.org/officeDocument/2006/relationships/image" Target="../media/image11.png"/><Relationship Id="rId75" Type="http://schemas.openxmlformats.org/officeDocument/2006/relationships/image" Target="../media/image12.png"/><Relationship Id="rId76" Type="http://schemas.openxmlformats.org/officeDocument/2006/relationships/image" Target="../media/image13.png"/><Relationship Id="rId77" Type="http://schemas.openxmlformats.org/officeDocument/2006/relationships/image" Target="../media/image10.png"/><Relationship Id="rId78" Type="http://schemas.openxmlformats.org/officeDocument/2006/relationships/image" Target="../media/image11.png"/><Relationship Id="rId79" Type="http://schemas.openxmlformats.org/officeDocument/2006/relationships/image" Target="../media/image12.png"/><Relationship Id="rId80" Type="http://schemas.openxmlformats.org/officeDocument/2006/relationships/image" Target="../media/image13.png"/><Relationship Id="rId81" Type="http://schemas.openxmlformats.org/officeDocument/2006/relationships/image" Target="../media/image10.png"/><Relationship Id="rId82" Type="http://schemas.openxmlformats.org/officeDocument/2006/relationships/image" Target="../media/image11.png"/><Relationship Id="rId83" Type="http://schemas.openxmlformats.org/officeDocument/2006/relationships/image" Target="../media/image12.png"/><Relationship Id="rId84" Type="http://schemas.openxmlformats.org/officeDocument/2006/relationships/image" Target="../media/image13.png"/><Relationship Id="rId85" Type="http://schemas.openxmlformats.org/officeDocument/2006/relationships/image" Target="../media/image10.png"/><Relationship Id="rId86" Type="http://schemas.openxmlformats.org/officeDocument/2006/relationships/image" Target="../media/image11.png"/><Relationship Id="rId87" Type="http://schemas.openxmlformats.org/officeDocument/2006/relationships/image" Target="../media/image12.png"/><Relationship Id="rId88" Type="http://schemas.openxmlformats.org/officeDocument/2006/relationships/image" Target="../media/image13.png"/><Relationship Id="rId89" Type="http://schemas.openxmlformats.org/officeDocument/2006/relationships/image" Target="../media/image10.png"/><Relationship Id="rId90" Type="http://schemas.openxmlformats.org/officeDocument/2006/relationships/image" Target="../media/image11.png"/><Relationship Id="rId91" Type="http://schemas.openxmlformats.org/officeDocument/2006/relationships/image" Target="../media/image12.png"/><Relationship Id="rId92" Type="http://schemas.openxmlformats.org/officeDocument/2006/relationships/image" Target="../media/image13.png"/><Relationship Id="rId93" Type="http://schemas.openxmlformats.org/officeDocument/2006/relationships/image" Target="../media/image10.png"/><Relationship Id="rId94" Type="http://schemas.openxmlformats.org/officeDocument/2006/relationships/image" Target="../media/image11.png"/><Relationship Id="rId95" Type="http://schemas.openxmlformats.org/officeDocument/2006/relationships/image" Target="../media/image12.png"/><Relationship Id="rId96" Type="http://schemas.openxmlformats.org/officeDocument/2006/relationships/image" Target="../media/image13.png"/><Relationship Id="rId97" Type="http://schemas.openxmlformats.org/officeDocument/2006/relationships/image" Target="../media/image10.png"/><Relationship Id="rId98" Type="http://schemas.openxmlformats.org/officeDocument/2006/relationships/image" Target="../media/image11.png"/><Relationship Id="rId99" Type="http://schemas.openxmlformats.org/officeDocument/2006/relationships/image" Target="../media/image12.png"/><Relationship Id="rId100" Type="http://schemas.openxmlformats.org/officeDocument/2006/relationships/image" Target="../media/image13.png"/><Relationship Id="rId101" Type="http://schemas.openxmlformats.org/officeDocument/2006/relationships/image" Target="../media/image10.png"/><Relationship Id="rId102" Type="http://schemas.openxmlformats.org/officeDocument/2006/relationships/image" Target="../media/image11.png"/><Relationship Id="rId103" Type="http://schemas.openxmlformats.org/officeDocument/2006/relationships/image" Target="../media/image12.png"/><Relationship Id="rId104" Type="http://schemas.openxmlformats.org/officeDocument/2006/relationships/image" Target="../media/image13.png"/><Relationship Id="rId105" Type="http://schemas.openxmlformats.org/officeDocument/2006/relationships/image" Target="../media/image10.png"/><Relationship Id="rId106" Type="http://schemas.openxmlformats.org/officeDocument/2006/relationships/image" Target="../media/image11.png"/><Relationship Id="rId107" Type="http://schemas.openxmlformats.org/officeDocument/2006/relationships/image" Target="../media/image12.png"/><Relationship Id="rId108" Type="http://schemas.openxmlformats.org/officeDocument/2006/relationships/image" Target="../media/image13.png"/><Relationship Id="rId109" Type="http://schemas.openxmlformats.org/officeDocument/2006/relationships/image" Target="../media/image10.png"/><Relationship Id="rId110" Type="http://schemas.openxmlformats.org/officeDocument/2006/relationships/image" Target="../media/image11.png"/><Relationship Id="rId111" Type="http://schemas.openxmlformats.org/officeDocument/2006/relationships/image" Target="../media/image12.png"/><Relationship Id="rId112" Type="http://schemas.openxmlformats.org/officeDocument/2006/relationships/image" Target="../media/image13.png"/><Relationship Id="rId113" Type="http://schemas.openxmlformats.org/officeDocument/2006/relationships/image" Target="../media/image10.png"/><Relationship Id="rId114" Type="http://schemas.openxmlformats.org/officeDocument/2006/relationships/image" Target="../media/image11.png"/><Relationship Id="rId115" Type="http://schemas.openxmlformats.org/officeDocument/2006/relationships/image" Target="../media/image12.png"/><Relationship Id="rId116" Type="http://schemas.openxmlformats.org/officeDocument/2006/relationships/image" Target="../media/image13.png"/><Relationship Id="rId117" Type="http://schemas.openxmlformats.org/officeDocument/2006/relationships/image" Target="../media/image10.png"/><Relationship Id="rId118" Type="http://schemas.openxmlformats.org/officeDocument/2006/relationships/image" Target="../media/image11.png"/><Relationship Id="rId119" Type="http://schemas.openxmlformats.org/officeDocument/2006/relationships/image" Target="../media/image12.png"/><Relationship Id="rId120" Type="http://schemas.openxmlformats.org/officeDocument/2006/relationships/image" Target="../media/image13.png"/><Relationship Id="rId121" Type="http://schemas.openxmlformats.org/officeDocument/2006/relationships/image" Target="../media/image10.png"/><Relationship Id="rId122" Type="http://schemas.openxmlformats.org/officeDocument/2006/relationships/image" Target="../media/image11.png"/><Relationship Id="rId123" Type="http://schemas.openxmlformats.org/officeDocument/2006/relationships/image" Target="../media/image12.png"/><Relationship Id="rId124" Type="http://schemas.openxmlformats.org/officeDocument/2006/relationships/image" Target="../media/image13.png"/><Relationship Id="rId125" Type="http://schemas.openxmlformats.org/officeDocument/2006/relationships/image" Target="../media/image10.png"/><Relationship Id="rId126" Type="http://schemas.openxmlformats.org/officeDocument/2006/relationships/image" Target="../media/image11.png"/><Relationship Id="rId127" Type="http://schemas.openxmlformats.org/officeDocument/2006/relationships/image" Target="../media/image12.png"/><Relationship Id="rId128" Type="http://schemas.openxmlformats.org/officeDocument/2006/relationships/image" Target="../media/image13.png"/><Relationship Id="rId129" Type="http://schemas.openxmlformats.org/officeDocument/2006/relationships/image" Target="../media/image10.png"/><Relationship Id="rId130" Type="http://schemas.openxmlformats.org/officeDocument/2006/relationships/image" Target="../media/image11.png"/><Relationship Id="rId131" Type="http://schemas.openxmlformats.org/officeDocument/2006/relationships/image" Target="../media/image12.png"/><Relationship Id="rId132" Type="http://schemas.openxmlformats.org/officeDocument/2006/relationships/image" Target="../media/image13.png"/><Relationship Id="rId133" Type="http://schemas.openxmlformats.org/officeDocument/2006/relationships/image" Target="../media/image5.jpeg"/><Relationship Id="rId134" Type="http://schemas.openxmlformats.org/officeDocument/2006/relationships/image" Target="../media/image14.png"/><Relationship Id="rId135" Type="http://schemas.openxmlformats.org/officeDocument/2006/relationships/image" Target="../media/image15.png"/><Relationship Id="rId136" Type="http://schemas.openxmlformats.org/officeDocument/2006/relationships/image" Target="../media/image14.png"/><Relationship Id="rId137" Type="http://schemas.openxmlformats.org/officeDocument/2006/relationships/image" Target="../media/image15.png"/><Relationship Id="rId138" Type="http://schemas.openxmlformats.org/officeDocument/2006/relationships/image" Target="../media/image16.png"/><Relationship Id="rId139" Type="http://schemas.openxmlformats.org/officeDocument/2006/relationships/image" Target="../media/image17.png"/><Relationship Id="rId140" Type="http://schemas.openxmlformats.org/officeDocument/2006/relationships/image" Target="../media/image14.png"/><Relationship Id="rId141" Type="http://schemas.openxmlformats.org/officeDocument/2006/relationships/image" Target="../media/image15.png"/><Relationship Id="rId142" Type="http://schemas.openxmlformats.org/officeDocument/2006/relationships/image" Target="../media/image16.png"/><Relationship Id="rId143" Type="http://schemas.openxmlformats.org/officeDocument/2006/relationships/image" Target="../media/image17.png"/><Relationship Id="rId144" Type="http://schemas.openxmlformats.org/officeDocument/2006/relationships/image" Target="../media/image16.png"/><Relationship Id="rId145" Type="http://schemas.openxmlformats.org/officeDocument/2006/relationships/image" Target="../media/image17.png"/><Relationship Id="rId146" Type="http://schemas.openxmlformats.org/officeDocument/2006/relationships/image" Target="../media/image16.png"/><Relationship Id="rId147" Type="http://schemas.openxmlformats.org/officeDocument/2006/relationships/image" Target="../media/image17.png"/><Relationship Id="rId148" Type="http://schemas.openxmlformats.org/officeDocument/2006/relationships/image" Target="../media/image14.png"/><Relationship Id="rId149" Type="http://schemas.openxmlformats.org/officeDocument/2006/relationships/image" Target="../media/image15.png"/><Relationship Id="rId150" Type="http://schemas.openxmlformats.org/officeDocument/2006/relationships/image" Target="../media/image14.png"/><Relationship Id="rId151" Type="http://schemas.openxmlformats.org/officeDocument/2006/relationships/image" Target="../media/image15.png"/><Relationship Id="rId152" Type="http://schemas.openxmlformats.org/officeDocument/2006/relationships/image" Target="../media/image14.png"/><Relationship Id="rId153" Type="http://schemas.openxmlformats.org/officeDocument/2006/relationships/image" Target="../media/image15.png"/><Relationship Id="rId154" Type="http://schemas.openxmlformats.org/officeDocument/2006/relationships/image" Target="../media/image14.png"/><Relationship Id="rId155" Type="http://schemas.openxmlformats.org/officeDocument/2006/relationships/image" Target="../media/image15.png"/><Relationship Id="rId156" Type="http://schemas.openxmlformats.org/officeDocument/2006/relationships/image" Target="../media/image14.png"/><Relationship Id="rId157" Type="http://schemas.openxmlformats.org/officeDocument/2006/relationships/image" Target="../media/image15.png"/><Relationship Id="rId158" Type="http://schemas.openxmlformats.org/officeDocument/2006/relationships/image" Target="../media/image16.png"/><Relationship Id="rId159" Type="http://schemas.openxmlformats.org/officeDocument/2006/relationships/image" Target="../media/image17.png"/><Relationship Id="rId160" Type="http://schemas.openxmlformats.org/officeDocument/2006/relationships/image" Target="../media/image14.png"/><Relationship Id="rId161" Type="http://schemas.openxmlformats.org/officeDocument/2006/relationships/image" Target="../media/image15.png"/><Relationship Id="rId162" Type="http://schemas.openxmlformats.org/officeDocument/2006/relationships/image" Target="../media/image14.png"/><Relationship Id="rId163" Type="http://schemas.openxmlformats.org/officeDocument/2006/relationships/image" Target="../media/image15.png"/><Relationship Id="rId164" Type="http://schemas.openxmlformats.org/officeDocument/2006/relationships/image" Target="../media/image18.png"/><Relationship Id="rId165" Type="http://schemas.openxmlformats.org/officeDocument/2006/relationships/image" Target="../media/image19.png"/><Relationship Id="rId166" Type="http://schemas.openxmlformats.org/officeDocument/2006/relationships/image" Target="../media/image20.png"/><Relationship Id="rId167" Type="http://schemas.openxmlformats.org/officeDocument/2006/relationships/image" Target="../media/image21.png"/><Relationship Id="rId168" Type="http://schemas.openxmlformats.org/officeDocument/2006/relationships/image" Target="../media/image18.png"/><Relationship Id="rId169" Type="http://schemas.openxmlformats.org/officeDocument/2006/relationships/image" Target="../media/image19.png"/><Relationship Id="rId170" Type="http://schemas.openxmlformats.org/officeDocument/2006/relationships/image" Target="../media/image20.png"/><Relationship Id="rId171" Type="http://schemas.openxmlformats.org/officeDocument/2006/relationships/image" Target="../media/image21.png"/><Relationship Id="rId172" Type="http://schemas.openxmlformats.org/officeDocument/2006/relationships/image" Target="../media/image18.png"/><Relationship Id="rId173" Type="http://schemas.openxmlformats.org/officeDocument/2006/relationships/image" Target="../media/image19.png"/><Relationship Id="rId174" Type="http://schemas.openxmlformats.org/officeDocument/2006/relationships/image" Target="../media/image20.png"/><Relationship Id="rId175" Type="http://schemas.openxmlformats.org/officeDocument/2006/relationships/image" Target="../media/image21.png"/><Relationship Id="rId176" Type="http://schemas.openxmlformats.org/officeDocument/2006/relationships/image" Target="../media/image18.png"/><Relationship Id="rId177" Type="http://schemas.openxmlformats.org/officeDocument/2006/relationships/image" Target="../media/image19.png"/><Relationship Id="rId178" Type="http://schemas.openxmlformats.org/officeDocument/2006/relationships/image" Target="../media/image20.png"/><Relationship Id="rId179" Type="http://schemas.openxmlformats.org/officeDocument/2006/relationships/image" Target="../media/image21.png"/><Relationship Id="rId180" Type="http://schemas.openxmlformats.org/officeDocument/2006/relationships/image" Target="../media/image18.png"/><Relationship Id="rId181" Type="http://schemas.openxmlformats.org/officeDocument/2006/relationships/image" Target="../media/image19.png"/><Relationship Id="rId182" Type="http://schemas.openxmlformats.org/officeDocument/2006/relationships/image" Target="../media/image20.png"/><Relationship Id="rId183" Type="http://schemas.openxmlformats.org/officeDocument/2006/relationships/image" Target="../media/image21.png"/><Relationship Id="rId184" Type="http://schemas.openxmlformats.org/officeDocument/2006/relationships/image" Target="../media/image18.png"/><Relationship Id="rId185" Type="http://schemas.openxmlformats.org/officeDocument/2006/relationships/image" Target="../media/image19.png"/><Relationship Id="rId186" Type="http://schemas.openxmlformats.org/officeDocument/2006/relationships/image" Target="../media/image20.png"/><Relationship Id="rId187" Type="http://schemas.openxmlformats.org/officeDocument/2006/relationships/image" Target="../media/image21.png"/><Relationship Id="rId188" Type="http://schemas.openxmlformats.org/officeDocument/2006/relationships/image" Target="../media/image18.png"/><Relationship Id="rId189" Type="http://schemas.openxmlformats.org/officeDocument/2006/relationships/image" Target="../media/image19.png"/><Relationship Id="rId190" Type="http://schemas.openxmlformats.org/officeDocument/2006/relationships/image" Target="../media/image20.png"/><Relationship Id="rId191" Type="http://schemas.openxmlformats.org/officeDocument/2006/relationships/image" Target="../media/image21.png"/><Relationship Id="rId192" Type="http://schemas.openxmlformats.org/officeDocument/2006/relationships/image" Target="../media/image18.png"/><Relationship Id="rId193" Type="http://schemas.openxmlformats.org/officeDocument/2006/relationships/image" Target="../media/image19.png"/><Relationship Id="rId194" Type="http://schemas.openxmlformats.org/officeDocument/2006/relationships/image" Target="../media/image20.png"/><Relationship Id="rId195" Type="http://schemas.openxmlformats.org/officeDocument/2006/relationships/image" Target="../media/image21.png"/><Relationship Id="rId196" Type="http://schemas.openxmlformats.org/officeDocument/2006/relationships/image" Target="../media/image18.png"/><Relationship Id="rId197" Type="http://schemas.openxmlformats.org/officeDocument/2006/relationships/image" Target="../media/image19.png"/><Relationship Id="rId198" Type="http://schemas.openxmlformats.org/officeDocument/2006/relationships/image" Target="../media/image20.png"/><Relationship Id="rId199" Type="http://schemas.openxmlformats.org/officeDocument/2006/relationships/image" Target="../media/image21.png"/><Relationship Id="rId200" Type="http://schemas.openxmlformats.org/officeDocument/2006/relationships/image" Target="../media/image18.png"/><Relationship Id="rId201" Type="http://schemas.openxmlformats.org/officeDocument/2006/relationships/image" Target="../media/image19.png"/><Relationship Id="rId202" Type="http://schemas.openxmlformats.org/officeDocument/2006/relationships/image" Target="../media/image20.png"/><Relationship Id="rId203" Type="http://schemas.openxmlformats.org/officeDocument/2006/relationships/image" Target="../media/image21.png"/><Relationship Id="rId204" Type="http://schemas.openxmlformats.org/officeDocument/2006/relationships/image" Target="../media/image18.png"/><Relationship Id="rId205" Type="http://schemas.openxmlformats.org/officeDocument/2006/relationships/image" Target="../media/image19.png"/><Relationship Id="rId206" Type="http://schemas.openxmlformats.org/officeDocument/2006/relationships/image" Target="../media/image20.png"/><Relationship Id="rId207" Type="http://schemas.openxmlformats.org/officeDocument/2006/relationships/image" Target="../media/image21.png"/><Relationship Id="rId208" Type="http://schemas.openxmlformats.org/officeDocument/2006/relationships/image" Target="../media/image18.png"/><Relationship Id="rId209" Type="http://schemas.openxmlformats.org/officeDocument/2006/relationships/image" Target="../media/image19.png"/><Relationship Id="rId210" Type="http://schemas.openxmlformats.org/officeDocument/2006/relationships/image" Target="../media/image20.png"/><Relationship Id="rId211" Type="http://schemas.openxmlformats.org/officeDocument/2006/relationships/image" Target="../media/image21.png"/><Relationship Id="rId212" Type="http://schemas.openxmlformats.org/officeDocument/2006/relationships/image" Target="../media/image18.png"/><Relationship Id="rId213" Type="http://schemas.openxmlformats.org/officeDocument/2006/relationships/image" Target="../media/image19.png"/><Relationship Id="rId214" Type="http://schemas.openxmlformats.org/officeDocument/2006/relationships/image" Target="../media/image20.png"/><Relationship Id="rId215" Type="http://schemas.openxmlformats.org/officeDocument/2006/relationships/image" Target="../media/image21.png"/><Relationship Id="rId216" Type="http://schemas.openxmlformats.org/officeDocument/2006/relationships/image" Target="../media/image18.png"/><Relationship Id="rId217" Type="http://schemas.openxmlformats.org/officeDocument/2006/relationships/image" Target="../media/image19.png"/><Relationship Id="rId218" Type="http://schemas.openxmlformats.org/officeDocument/2006/relationships/image" Target="../media/image20.png"/><Relationship Id="rId219" Type="http://schemas.openxmlformats.org/officeDocument/2006/relationships/image" Target="../media/image21.png"/><Relationship Id="rId220" Type="http://schemas.openxmlformats.org/officeDocument/2006/relationships/image" Target="../media/image18.png"/><Relationship Id="rId221" Type="http://schemas.openxmlformats.org/officeDocument/2006/relationships/image" Target="../media/image19.png"/><Relationship Id="rId222" Type="http://schemas.openxmlformats.org/officeDocument/2006/relationships/image" Target="../media/image20.png"/><Relationship Id="rId223" Type="http://schemas.openxmlformats.org/officeDocument/2006/relationships/image" Target="../media/image21.png"/><Relationship Id="rId224" Type="http://schemas.openxmlformats.org/officeDocument/2006/relationships/image" Target="../media/image18.png"/><Relationship Id="rId225" Type="http://schemas.openxmlformats.org/officeDocument/2006/relationships/image" Target="../media/image19.png"/><Relationship Id="rId226" Type="http://schemas.openxmlformats.org/officeDocument/2006/relationships/image" Target="../media/image20.png"/><Relationship Id="rId227" Type="http://schemas.openxmlformats.org/officeDocument/2006/relationships/image" Target="../media/image21.png"/><Relationship Id="rId228" Type="http://schemas.openxmlformats.org/officeDocument/2006/relationships/image" Target="../media/image18.png"/><Relationship Id="rId229" Type="http://schemas.openxmlformats.org/officeDocument/2006/relationships/image" Target="../media/image19.png"/><Relationship Id="rId230" Type="http://schemas.openxmlformats.org/officeDocument/2006/relationships/image" Target="../media/image20.png"/><Relationship Id="rId231" Type="http://schemas.openxmlformats.org/officeDocument/2006/relationships/image" Target="../media/image21.png"/><Relationship Id="rId232" Type="http://schemas.openxmlformats.org/officeDocument/2006/relationships/image" Target="../media/image18.png"/><Relationship Id="rId233" Type="http://schemas.openxmlformats.org/officeDocument/2006/relationships/image" Target="../media/image19.png"/><Relationship Id="rId234" Type="http://schemas.openxmlformats.org/officeDocument/2006/relationships/image" Target="../media/image20.png"/><Relationship Id="rId235" Type="http://schemas.openxmlformats.org/officeDocument/2006/relationships/image" Target="../media/image21.png"/><Relationship Id="rId236" Type="http://schemas.openxmlformats.org/officeDocument/2006/relationships/image" Target="../media/image18.png"/><Relationship Id="rId237" Type="http://schemas.openxmlformats.org/officeDocument/2006/relationships/image" Target="../media/image19.png"/><Relationship Id="rId238" Type="http://schemas.openxmlformats.org/officeDocument/2006/relationships/image" Target="../media/image20.png"/><Relationship Id="rId239" Type="http://schemas.openxmlformats.org/officeDocument/2006/relationships/image" Target="../media/image21.png"/><Relationship Id="rId240" Type="http://schemas.openxmlformats.org/officeDocument/2006/relationships/image" Target="../media/image18.png"/><Relationship Id="rId241" Type="http://schemas.openxmlformats.org/officeDocument/2006/relationships/image" Target="../media/image19.png"/><Relationship Id="rId242" Type="http://schemas.openxmlformats.org/officeDocument/2006/relationships/image" Target="../media/image20.png"/><Relationship Id="rId243" Type="http://schemas.openxmlformats.org/officeDocument/2006/relationships/image" Target="../media/image21.png"/><Relationship Id="rId244" Type="http://schemas.openxmlformats.org/officeDocument/2006/relationships/image" Target="../media/image18.png"/><Relationship Id="rId245" Type="http://schemas.openxmlformats.org/officeDocument/2006/relationships/image" Target="../media/image19.png"/><Relationship Id="rId246" Type="http://schemas.openxmlformats.org/officeDocument/2006/relationships/image" Target="../media/image20.png"/><Relationship Id="rId247" Type="http://schemas.openxmlformats.org/officeDocument/2006/relationships/image" Target="../media/image21.png"/><Relationship Id="rId248" Type="http://schemas.openxmlformats.org/officeDocument/2006/relationships/image" Target="../media/image18.png"/><Relationship Id="rId249" Type="http://schemas.openxmlformats.org/officeDocument/2006/relationships/image" Target="../media/image19.png"/><Relationship Id="rId250" Type="http://schemas.openxmlformats.org/officeDocument/2006/relationships/image" Target="../media/image20.png"/><Relationship Id="rId251" Type="http://schemas.openxmlformats.org/officeDocument/2006/relationships/image" Target="../media/image21.png"/><Relationship Id="rId252" Type="http://schemas.openxmlformats.org/officeDocument/2006/relationships/image" Target="../media/image18.png"/><Relationship Id="rId253" Type="http://schemas.openxmlformats.org/officeDocument/2006/relationships/image" Target="../media/image19.png"/><Relationship Id="rId254" Type="http://schemas.openxmlformats.org/officeDocument/2006/relationships/image" Target="../media/image20.png"/><Relationship Id="rId255" Type="http://schemas.openxmlformats.org/officeDocument/2006/relationships/image" Target="../media/image21.png"/><Relationship Id="rId256" Type="http://schemas.openxmlformats.org/officeDocument/2006/relationships/image" Target="../media/image18.png"/><Relationship Id="rId257" Type="http://schemas.openxmlformats.org/officeDocument/2006/relationships/image" Target="../media/image19.png"/><Relationship Id="rId258" Type="http://schemas.openxmlformats.org/officeDocument/2006/relationships/image" Target="../media/image20.png"/><Relationship Id="rId259" Type="http://schemas.openxmlformats.org/officeDocument/2006/relationships/image" Target="../media/image21.png"/><Relationship Id="rId260" Type="http://schemas.openxmlformats.org/officeDocument/2006/relationships/image" Target="../media/image18.png"/><Relationship Id="rId261" Type="http://schemas.openxmlformats.org/officeDocument/2006/relationships/image" Target="../media/image19.png"/><Relationship Id="rId262" Type="http://schemas.openxmlformats.org/officeDocument/2006/relationships/image" Target="../media/image20.png"/><Relationship Id="rId263" Type="http://schemas.openxmlformats.org/officeDocument/2006/relationships/image" Target="../media/image21.png"/><Relationship Id="rId26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slide" Target="slide2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5605200" cy="23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ТУРНИР</a:t>
            </a:r>
            <a:r>
              <a:rPr b="0" lang="ru-RU" sz="5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Bookman Old Style"/>
              </a:rPr>
              <a:t>юных</a:t>
            </a: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 математ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40320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Панченко Ирина Александровна 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МБОУ СОШ №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2771640" y="2917800"/>
            <a:ext cx="4176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Calibri"/>
                <a:ea typeface="Arial"/>
              </a:rPr>
              <a:t>4</a:t>
            </a:r>
            <a:r>
              <a:rPr b="1" lang="en-US" sz="35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ru-RU" sz="3500" spc="-1" strike="noStrike">
                <a:solidFill>
                  <a:srgbClr val="1f497d"/>
                </a:solidFill>
                <a:latin typeface="Calibri"/>
                <a:ea typeface="Arial"/>
              </a:rPr>
              <a:t>класс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II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468360" y="1341000"/>
            <a:ext cx="781848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полненный доверху водой сосуд имеет массу 5 кг, а заполненный наполовину – 3 кг 500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илограмм воды вмещает сосуд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3" name="Group 956"/>
          <p:cNvGrpSpPr/>
          <p:nvPr/>
        </p:nvGrpSpPr>
        <p:grpSpPr>
          <a:xfrm>
            <a:off x="3276720" y="5141880"/>
            <a:ext cx="1389600" cy="1320840"/>
            <a:chOff x="3276720" y="5141880"/>
            <a:chExt cx="1389600" cy="1320840"/>
          </a:xfrm>
        </p:grpSpPr>
        <p:sp>
          <p:nvSpPr>
            <p:cNvPr id="1354" name="Freeform 957"/>
            <p:cNvSpPr/>
            <p:nvPr/>
          </p:nvSpPr>
          <p:spPr>
            <a:xfrm rot="20865000">
              <a:off x="4258800" y="5400360"/>
              <a:ext cx="342720" cy="644040"/>
            </a:xfrm>
            <a:custGeom>
              <a:avLst/>
              <a:gdLst/>
              <a:ahLst/>
              <a:rect l="l" t="t" r="r" b="b"/>
              <a:pathLst>
                <a:path w="377" h="623">
                  <a:moveTo>
                    <a:pt x="102" y="270"/>
                  </a:moveTo>
                  <a:cubicBezTo>
                    <a:pt x="102" y="262"/>
                    <a:pt x="101" y="259"/>
                    <a:pt x="103" y="248"/>
                  </a:cubicBezTo>
                  <a:cubicBezTo>
                    <a:pt x="105" y="237"/>
                    <a:pt x="105" y="219"/>
                    <a:pt x="112" y="203"/>
                  </a:cubicBezTo>
                  <a:cubicBezTo>
                    <a:pt x="119" y="187"/>
                    <a:pt x="132" y="167"/>
                    <a:pt x="145" y="149"/>
                  </a:cubicBezTo>
                  <a:cubicBezTo>
                    <a:pt x="158" y="131"/>
                    <a:pt x="169" y="103"/>
                    <a:pt x="190" y="92"/>
                  </a:cubicBezTo>
                  <a:cubicBezTo>
                    <a:pt x="211" y="81"/>
                    <a:pt x="253" y="72"/>
                    <a:pt x="271" y="83"/>
                  </a:cubicBezTo>
                  <a:cubicBezTo>
                    <a:pt x="289" y="94"/>
                    <a:pt x="295" y="131"/>
                    <a:pt x="298" y="158"/>
                  </a:cubicBezTo>
                  <a:cubicBezTo>
                    <a:pt x="301" y="185"/>
                    <a:pt x="299" y="216"/>
                    <a:pt x="289" y="245"/>
                  </a:cubicBezTo>
                  <a:cubicBezTo>
                    <a:pt x="279" y="274"/>
                    <a:pt x="259" y="308"/>
                    <a:pt x="235" y="332"/>
                  </a:cubicBezTo>
                  <a:cubicBezTo>
                    <a:pt x="211" y="356"/>
                    <a:pt x="171" y="374"/>
                    <a:pt x="145" y="389"/>
                  </a:cubicBezTo>
                  <a:cubicBezTo>
                    <a:pt x="119" y="404"/>
                    <a:pt x="96" y="410"/>
                    <a:pt x="76" y="425"/>
                  </a:cubicBezTo>
                  <a:cubicBezTo>
                    <a:pt x="56" y="440"/>
                    <a:pt x="33" y="458"/>
                    <a:pt x="22" y="479"/>
                  </a:cubicBezTo>
                  <a:cubicBezTo>
                    <a:pt x="11" y="500"/>
                    <a:pt x="9" y="531"/>
                    <a:pt x="7" y="554"/>
                  </a:cubicBezTo>
                  <a:cubicBezTo>
                    <a:pt x="5" y="577"/>
                    <a:pt x="0" y="615"/>
                    <a:pt x="7" y="619"/>
                  </a:cubicBezTo>
                  <a:cubicBezTo>
                    <a:pt x="13" y="623"/>
                    <a:pt x="36" y="601"/>
                    <a:pt x="46" y="581"/>
                  </a:cubicBezTo>
                  <a:cubicBezTo>
                    <a:pt x="56" y="560"/>
                    <a:pt x="47" y="520"/>
                    <a:pt x="71" y="497"/>
                  </a:cubicBezTo>
                  <a:cubicBezTo>
                    <a:pt x="95" y="474"/>
                    <a:pt x="151" y="468"/>
                    <a:pt x="192" y="444"/>
                  </a:cubicBezTo>
                  <a:cubicBezTo>
                    <a:pt x="233" y="420"/>
                    <a:pt x="287" y="401"/>
                    <a:pt x="318" y="354"/>
                  </a:cubicBezTo>
                  <a:cubicBezTo>
                    <a:pt x="349" y="307"/>
                    <a:pt x="373" y="220"/>
                    <a:pt x="375" y="167"/>
                  </a:cubicBezTo>
                  <a:cubicBezTo>
                    <a:pt x="377" y="113"/>
                    <a:pt x="352" y="59"/>
                    <a:pt x="329" y="31"/>
                  </a:cubicBezTo>
                  <a:cubicBezTo>
                    <a:pt x="307" y="3"/>
                    <a:pt x="272" y="0"/>
                    <a:pt x="242" y="0"/>
                  </a:cubicBezTo>
                  <a:cubicBezTo>
                    <a:pt x="212" y="0"/>
                    <a:pt x="173" y="18"/>
                    <a:pt x="147" y="34"/>
                  </a:cubicBezTo>
                  <a:cubicBezTo>
                    <a:pt x="121" y="51"/>
                    <a:pt x="100" y="69"/>
                    <a:pt x="85" y="102"/>
                  </a:cubicBezTo>
                  <a:cubicBezTo>
                    <a:pt x="70" y="136"/>
                    <a:pt x="55" y="198"/>
                    <a:pt x="54" y="230"/>
                  </a:cubicBezTo>
                  <a:cubicBezTo>
                    <a:pt x="53" y="262"/>
                    <a:pt x="74" y="285"/>
                    <a:pt x="82" y="295"/>
                  </a:cubicBezTo>
                  <a:cubicBezTo>
                    <a:pt x="91" y="305"/>
                    <a:pt x="102" y="299"/>
                    <a:pt x="105" y="295"/>
                  </a:cubicBezTo>
                  <a:cubicBezTo>
                    <a:pt x="108" y="291"/>
                    <a:pt x="104" y="278"/>
                    <a:pt x="102" y="27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ffff"/>
                </a:gs>
                <a:gs pos="100000">
                  <a:srgbClr val="ffffff"/>
                </a:gs>
              </a:gsLst>
              <a:lin ang="19638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958"/>
            <p:cNvSpPr/>
            <p:nvPr/>
          </p:nvSpPr>
          <p:spPr>
            <a:xfrm>
              <a:off x="3592440" y="5271840"/>
              <a:ext cx="846360" cy="1190880"/>
            </a:xfrm>
            <a:custGeom>
              <a:avLst/>
              <a:gdLst/>
              <a:ahLst/>
              <a:rect l="l" t="t" r="r" b="b"/>
              <a:pathLst>
                <a:path w="1732" h="2555">
                  <a:moveTo>
                    <a:pt x="396" y="280"/>
                  </a:moveTo>
                  <a:cubicBezTo>
                    <a:pt x="428" y="144"/>
                    <a:pt x="453" y="45"/>
                    <a:pt x="396" y="328"/>
                  </a:cubicBezTo>
                  <a:cubicBezTo>
                    <a:pt x="339" y="611"/>
                    <a:pt x="104" y="1627"/>
                    <a:pt x="52" y="1976"/>
                  </a:cubicBezTo>
                  <a:cubicBezTo>
                    <a:pt x="0" y="2325"/>
                    <a:pt x="19" y="2339"/>
                    <a:pt x="84" y="2424"/>
                  </a:cubicBezTo>
                  <a:cubicBezTo>
                    <a:pt x="149" y="2509"/>
                    <a:pt x="296" y="2477"/>
                    <a:pt x="444" y="2488"/>
                  </a:cubicBezTo>
                  <a:cubicBezTo>
                    <a:pt x="592" y="2499"/>
                    <a:pt x="780" y="2488"/>
                    <a:pt x="972" y="2488"/>
                  </a:cubicBezTo>
                  <a:cubicBezTo>
                    <a:pt x="1164" y="2488"/>
                    <a:pt x="1469" y="2555"/>
                    <a:pt x="1596" y="2488"/>
                  </a:cubicBezTo>
                  <a:cubicBezTo>
                    <a:pt x="1723" y="2421"/>
                    <a:pt x="1732" y="2272"/>
                    <a:pt x="1732" y="2088"/>
                  </a:cubicBezTo>
                  <a:cubicBezTo>
                    <a:pt x="1732" y="1904"/>
                    <a:pt x="1651" y="1669"/>
                    <a:pt x="1596" y="1384"/>
                  </a:cubicBezTo>
                  <a:cubicBezTo>
                    <a:pt x="1541" y="1099"/>
                    <a:pt x="1452" y="600"/>
                    <a:pt x="1404" y="376"/>
                  </a:cubicBezTo>
                  <a:cubicBezTo>
                    <a:pt x="1356" y="152"/>
                    <a:pt x="1332" y="80"/>
                    <a:pt x="1308" y="40"/>
                  </a:cubicBezTo>
                  <a:cubicBezTo>
                    <a:pt x="1284" y="0"/>
                    <a:pt x="1308" y="104"/>
                    <a:pt x="1260" y="136"/>
                  </a:cubicBezTo>
                  <a:cubicBezTo>
                    <a:pt x="1212" y="168"/>
                    <a:pt x="1108" y="216"/>
                    <a:pt x="1020" y="232"/>
                  </a:cubicBezTo>
                  <a:cubicBezTo>
                    <a:pt x="932" y="248"/>
                    <a:pt x="812" y="248"/>
                    <a:pt x="732" y="232"/>
                  </a:cubicBezTo>
                  <a:cubicBezTo>
                    <a:pt x="652" y="216"/>
                    <a:pt x="588" y="168"/>
                    <a:pt x="540" y="136"/>
                  </a:cubicBezTo>
                  <a:cubicBezTo>
                    <a:pt x="492" y="104"/>
                    <a:pt x="460" y="40"/>
                    <a:pt x="444" y="40"/>
                  </a:cubicBezTo>
                  <a:cubicBezTo>
                    <a:pt x="428" y="40"/>
                    <a:pt x="436" y="88"/>
                    <a:pt x="444" y="136"/>
                  </a:cubicBezTo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Oval 959"/>
            <p:cNvSpPr/>
            <p:nvPr/>
          </p:nvSpPr>
          <p:spPr>
            <a:xfrm>
              <a:off x="3772440" y="5238720"/>
              <a:ext cx="537480" cy="1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Oval 960"/>
            <p:cNvSpPr/>
            <p:nvPr/>
          </p:nvSpPr>
          <p:spPr>
            <a:xfrm>
              <a:off x="3798000" y="5206680"/>
              <a:ext cx="486360" cy="12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961"/>
            <p:cNvSpPr/>
            <p:nvPr/>
          </p:nvSpPr>
          <p:spPr>
            <a:xfrm>
              <a:off x="3951720" y="5141880"/>
              <a:ext cx="178920" cy="14004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88" h="349">
                  <a:moveTo>
                    <a:pt x="192" y="333"/>
                  </a:moveTo>
                  <a:cubicBezTo>
                    <a:pt x="160" y="333"/>
                    <a:pt x="106" y="342"/>
                    <a:pt x="96" y="333"/>
                  </a:cubicBezTo>
                  <a:cubicBezTo>
                    <a:pt x="86" y="324"/>
                    <a:pt x="129" y="303"/>
                    <a:pt x="129" y="279"/>
                  </a:cubicBezTo>
                  <a:cubicBezTo>
                    <a:pt x="129" y="255"/>
                    <a:pt x="118" y="220"/>
                    <a:pt x="96" y="189"/>
                  </a:cubicBezTo>
                  <a:cubicBezTo>
                    <a:pt x="74" y="158"/>
                    <a:pt x="0" y="122"/>
                    <a:pt x="0" y="93"/>
                  </a:cubicBezTo>
                  <a:cubicBezTo>
                    <a:pt x="0" y="64"/>
                    <a:pt x="47" y="28"/>
                    <a:pt x="93" y="15"/>
                  </a:cubicBezTo>
                  <a:cubicBezTo>
                    <a:pt x="139" y="2"/>
                    <a:pt x="230" y="0"/>
                    <a:pt x="279" y="15"/>
                  </a:cubicBezTo>
                  <a:cubicBezTo>
                    <a:pt x="328" y="30"/>
                    <a:pt x="388" y="76"/>
                    <a:pt x="387" y="105"/>
                  </a:cubicBezTo>
                  <a:cubicBezTo>
                    <a:pt x="386" y="134"/>
                    <a:pt x="297" y="167"/>
                    <a:pt x="273" y="189"/>
                  </a:cubicBezTo>
                  <a:cubicBezTo>
                    <a:pt x="249" y="211"/>
                    <a:pt x="238" y="213"/>
                    <a:pt x="240" y="237"/>
                  </a:cubicBezTo>
                  <a:cubicBezTo>
                    <a:pt x="242" y="261"/>
                    <a:pt x="296" y="317"/>
                    <a:pt x="288" y="333"/>
                  </a:cubicBezTo>
                  <a:cubicBezTo>
                    <a:pt x="280" y="349"/>
                    <a:pt x="224" y="333"/>
                    <a:pt x="192" y="333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9" name="Group 962"/>
            <p:cNvGrpSpPr/>
            <p:nvPr/>
          </p:nvGrpSpPr>
          <p:grpSpPr>
            <a:xfrm>
              <a:off x="3276720" y="5348160"/>
              <a:ext cx="505440" cy="756720"/>
              <a:chOff x="3276720" y="5348160"/>
              <a:chExt cx="505440" cy="756720"/>
            </a:xfrm>
          </p:grpSpPr>
          <p:sp>
            <p:nvSpPr>
              <p:cNvPr id="1360" name="Freeform 963"/>
              <p:cNvSpPr/>
              <p:nvPr/>
            </p:nvSpPr>
            <p:spPr>
              <a:xfrm rot="348600">
                <a:off x="3311640" y="5368320"/>
                <a:ext cx="435240" cy="716400"/>
              </a:xfrm>
              <a:custGeom>
                <a:avLst/>
                <a:gdLst/>
                <a:ahLst/>
                <a:rect l="l" t="t" r="r" b="b"/>
                <a:pathLst>
                  <a:path w="1106" h="1039">
                    <a:moveTo>
                      <a:pt x="874" y="1007"/>
                    </a:moveTo>
                    <a:cubicBezTo>
                      <a:pt x="866" y="1001"/>
                      <a:pt x="856" y="1038"/>
                      <a:pt x="824" y="967"/>
                    </a:cubicBezTo>
                    <a:cubicBezTo>
                      <a:pt x="792" y="896"/>
                      <a:pt x="760" y="703"/>
                      <a:pt x="680" y="583"/>
                    </a:cubicBezTo>
                    <a:cubicBezTo>
                      <a:pt x="600" y="463"/>
                      <a:pt x="448" y="319"/>
                      <a:pt x="344" y="247"/>
                    </a:cubicBezTo>
                    <a:cubicBezTo>
                      <a:pt x="240" y="175"/>
                      <a:pt x="112" y="180"/>
                      <a:pt x="56" y="151"/>
                    </a:cubicBezTo>
                    <a:cubicBezTo>
                      <a:pt x="0" y="122"/>
                      <a:pt x="12" y="98"/>
                      <a:pt x="10" y="75"/>
                    </a:cubicBezTo>
                    <a:cubicBezTo>
                      <a:pt x="8" y="52"/>
                      <a:pt x="22" y="22"/>
                      <a:pt x="46" y="11"/>
                    </a:cubicBezTo>
                    <a:cubicBezTo>
                      <a:pt x="70" y="0"/>
                      <a:pt x="94" y="0"/>
                      <a:pt x="152" y="7"/>
                    </a:cubicBezTo>
                    <a:cubicBezTo>
                      <a:pt x="210" y="14"/>
                      <a:pt x="304" y="31"/>
                      <a:pt x="392" y="55"/>
                    </a:cubicBezTo>
                    <a:cubicBezTo>
                      <a:pt x="480" y="79"/>
                      <a:pt x="604" y="116"/>
                      <a:pt x="680" y="151"/>
                    </a:cubicBezTo>
                    <a:cubicBezTo>
                      <a:pt x="756" y="186"/>
                      <a:pt x="792" y="207"/>
                      <a:pt x="848" y="263"/>
                    </a:cubicBezTo>
                    <a:cubicBezTo>
                      <a:pt x="904" y="319"/>
                      <a:pt x="974" y="421"/>
                      <a:pt x="1016" y="487"/>
                    </a:cubicBezTo>
                    <a:cubicBezTo>
                      <a:pt x="1058" y="553"/>
                      <a:pt x="1090" y="595"/>
                      <a:pt x="1098" y="659"/>
                    </a:cubicBezTo>
                    <a:cubicBezTo>
                      <a:pt x="1106" y="723"/>
                      <a:pt x="1086" y="812"/>
                      <a:pt x="1064" y="871"/>
                    </a:cubicBezTo>
                    <a:cubicBezTo>
                      <a:pt x="1042" y="930"/>
                      <a:pt x="1000" y="991"/>
                      <a:pt x="968" y="1015"/>
                    </a:cubicBezTo>
                    <a:cubicBezTo>
                      <a:pt x="936" y="1039"/>
                      <a:pt x="904" y="1027"/>
                      <a:pt x="872" y="1015"/>
                    </a:cubicBezTo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Oval 964"/>
              <p:cNvSpPr/>
              <p:nvPr/>
            </p:nvSpPr>
            <p:spPr>
              <a:xfrm rot="348600">
                <a:off x="3346200" y="5353920"/>
                <a:ext cx="37800" cy="993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62" name="Group 965"/>
            <p:cNvGrpSpPr/>
            <p:nvPr/>
          </p:nvGrpSpPr>
          <p:grpSpPr>
            <a:xfrm>
              <a:off x="3827520" y="5432040"/>
              <a:ext cx="541440" cy="557640"/>
              <a:chOff x="3827520" y="5432040"/>
              <a:chExt cx="541440" cy="557640"/>
            </a:xfrm>
          </p:grpSpPr>
          <p:sp>
            <p:nvSpPr>
              <p:cNvPr id="1363" name="Freeform 966"/>
              <p:cNvSpPr/>
              <p:nvPr/>
            </p:nvSpPr>
            <p:spPr>
              <a:xfrm flipH="1" rot="11166000">
                <a:off x="4100400" y="5638680"/>
                <a:ext cx="194760" cy="166320"/>
              </a:xfrm>
              <a:custGeom>
                <a:avLst/>
                <a:gdLst>
                  <a:gd name="textAreaLeft" fmla="*/ -360 w 194760"/>
                  <a:gd name="textAreaRight" fmla="*/ 194760 w 19476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2109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967"/>
              <p:cNvSpPr/>
              <p:nvPr/>
            </p:nvSpPr>
            <p:spPr>
              <a:xfrm flipH="1" rot="15181200">
                <a:off x="3976200" y="5761440"/>
                <a:ext cx="248760" cy="129960"/>
              </a:xfrm>
              <a:custGeom>
                <a:avLst/>
                <a:gdLst>
                  <a:gd name="textAreaLeft" fmla="*/ -360 w 248760"/>
                  <a:gd name="textAreaRight" fmla="*/ 248760 w 2487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351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Freeform 968"/>
              <p:cNvSpPr/>
              <p:nvPr/>
            </p:nvSpPr>
            <p:spPr>
              <a:xfrm flipV="1" rot="8970000">
                <a:off x="3953880" y="5540040"/>
                <a:ext cx="298800" cy="40104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360 h 401040"/>
                  <a:gd name="textAreaBottom" fmla="*/ 401760 h 401040"/>
                </a:gdLst>
                <a:ahLst/>
                <a:rect l="textAreaLeft" t="textAreaTop" r="textAreaRight" b="textAreaBottom"/>
                <a:pathLst>
                  <a:path w="1104" h="1160">
                    <a:moveTo>
                      <a:pt x="1104" y="0"/>
                    </a:moveTo>
                    <a:cubicBezTo>
                      <a:pt x="980" y="16"/>
                      <a:pt x="856" y="32"/>
                      <a:pt x="768" y="96"/>
                    </a:cubicBezTo>
                    <a:cubicBezTo>
                      <a:pt x="680" y="160"/>
                      <a:pt x="640" y="264"/>
                      <a:pt x="576" y="384"/>
                    </a:cubicBezTo>
                    <a:cubicBezTo>
                      <a:pt x="512" y="504"/>
                      <a:pt x="448" y="696"/>
                      <a:pt x="384" y="816"/>
                    </a:cubicBezTo>
                    <a:cubicBezTo>
                      <a:pt x="320" y="936"/>
                      <a:pt x="256" y="1048"/>
                      <a:pt x="192" y="1104"/>
                    </a:cubicBezTo>
                    <a:cubicBezTo>
                      <a:pt x="128" y="1160"/>
                      <a:pt x="64" y="1156"/>
                      <a:pt x="0" y="11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66" name="Group 969"/>
              <p:cNvGrpSpPr/>
              <p:nvPr/>
            </p:nvGrpSpPr>
            <p:grpSpPr>
              <a:xfrm>
                <a:off x="4063320" y="5646600"/>
                <a:ext cx="100440" cy="83520"/>
                <a:chOff x="4063320" y="5646600"/>
                <a:chExt cx="100440" cy="83520"/>
              </a:xfrm>
            </p:grpSpPr>
            <p:sp>
              <p:nvSpPr>
                <p:cNvPr id="1367" name="Oval 970"/>
                <p:cNvSpPr/>
                <p:nvPr/>
              </p:nvSpPr>
              <p:spPr>
                <a:xfrm flipV="1" rot="8970000">
                  <a:off x="4098600" y="5655240"/>
                  <a:ext cx="5184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8" name="Line 971"/>
                <p:cNvSpPr/>
                <p:nvPr/>
              </p:nvSpPr>
              <p:spPr>
                <a:xfrm flipH="1" flipV="1">
                  <a:off x="4063320" y="5686200"/>
                  <a:ext cx="3096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69" name="Group 972"/>
              <p:cNvGrpSpPr/>
              <p:nvPr/>
            </p:nvGrpSpPr>
            <p:grpSpPr>
              <a:xfrm>
                <a:off x="3992760" y="5548680"/>
                <a:ext cx="114120" cy="92520"/>
                <a:chOff x="3992760" y="5548680"/>
                <a:chExt cx="114120" cy="92520"/>
              </a:xfrm>
            </p:grpSpPr>
            <p:sp>
              <p:nvSpPr>
                <p:cNvPr id="1370" name="Oval 973"/>
                <p:cNvSpPr/>
                <p:nvPr/>
              </p:nvSpPr>
              <p:spPr>
                <a:xfrm flipV="1" rot="7455600">
                  <a:off x="4028760" y="5555160"/>
                  <a:ext cx="57960" cy="7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1" name="Line 974"/>
                <p:cNvSpPr/>
                <p:nvPr/>
              </p:nvSpPr>
              <p:spPr>
                <a:xfrm flipH="1">
                  <a:off x="3992760" y="5607360"/>
                  <a:ext cx="32400" cy="12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72" name="Group 975"/>
              <p:cNvGrpSpPr/>
              <p:nvPr/>
            </p:nvGrpSpPr>
            <p:grpSpPr>
              <a:xfrm>
                <a:off x="4261680" y="5791680"/>
                <a:ext cx="71640" cy="60120"/>
                <a:chOff x="4261680" y="5791680"/>
                <a:chExt cx="71640" cy="60120"/>
              </a:xfrm>
            </p:grpSpPr>
            <p:sp>
              <p:nvSpPr>
                <p:cNvPr id="1373" name="Oval 976"/>
                <p:cNvSpPr/>
                <p:nvPr/>
              </p:nvSpPr>
              <p:spPr>
                <a:xfrm flipV="1" rot="8326200">
                  <a:off x="4286520" y="5796360"/>
                  <a:ext cx="34560" cy="4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4" name="Line 977"/>
                <p:cNvSpPr/>
                <p:nvPr/>
              </p:nvSpPr>
              <p:spPr>
                <a:xfrm flipH="1">
                  <a:off x="4261680" y="5823720"/>
                  <a:ext cx="20880" cy="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75" name="Group 978"/>
              <p:cNvGrpSpPr/>
              <p:nvPr/>
            </p:nvGrpSpPr>
            <p:grpSpPr>
              <a:xfrm>
                <a:off x="4299120" y="5829480"/>
                <a:ext cx="69840" cy="60480"/>
                <a:chOff x="4299120" y="5829480"/>
                <a:chExt cx="69840" cy="60480"/>
              </a:xfrm>
            </p:grpSpPr>
            <p:sp>
              <p:nvSpPr>
                <p:cNvPr id="1376" name="Oval 979"/>
                <p:cNvSpPr/>
                <p:nvPr/>
              </p:nvSpPr>
              <p:spPr>
                <a:xfrm flipV="1" rot="8970000">
                  <a:off x="4323960" y="5834880"/>
                  <a:ext cx="34560" cy="4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7" name="Line 980"/>
                <p:cNvSpPr/>
                <p:nvPr/>
              </p:nvSpPr>
              <p:spPr>
                <a:xfrm flipH="1" flipV="1">
                  <a:off x="4299120" y="5855760"/>
                  <a:ext cx="2088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78" name="Group 981"/>
              <p:cNvGrpSpPr/>
              <p:nvPr/>
            </p:nvGrpSpPr>
            <p:grpSpPr>
              <a:xfrm>
                <a:off x="4060800" y="5744880"/>
                <a:ext cx="78120" cy="96480"/>
                <a:chOff x="4060800" y="5744880"/>
                <a:chExt cx="78120" cy="96480"/>
              </a:xfrm>
            </p:grpSpPr>
            <p:sp>
              <p:nvSpPr>
                <p:cNvPr id="1379" name="Oval 982"/>
                <p:cNvSpPr/>
                <p:nvPr/>
              </p:nvSpPr>
              <p:spPr>
                <a:xfrm flipH="1" flipV="1" rot="8970000">
                  <a:off x="4073400" y="5765760"/>
                  <a:ext cx="5184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0" name="Line 983"/>
                <p:cNvSpPr/>
                <p:nvPr/>
              </p:nvSpPr>
              <p:spPr>
                <a:xfrm flipV="1">
                  <a:off x="4114080" y="5744880"/>
                  <a:ext cx="14040" cy="27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81" name="Group 984"/>
              <p:cNvGrpSpPr/>
              <p:nvPr/>
            </p:nvGrpSpPr>
            <p:grpSpPr>
              <a:xfrm>
                <a:off x="4147560" y="5789880"/>
                <a:ext cx="78120" cy="96480"/>
                <a:chOff x="4147560" y="5789880"/>
                <a:chExt cx="78120" cy="96480"/>
              </a:xfrm>
            </p:grpSpPr>
            <p:sp>
              <p:nvSpPr>
                <p:cNvPr id="1382" name="Oval 985"/>
                <p:cNvSpPr/>
                <p:nvPr/>
              </p:nvSpPr>
              <p:spPr>
                <a:xfrm flipH="1" flipV="1" rot="8970000">
                  <a:off x="4160160" y="5810760"/>
                  <a:ext cx="5184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3" name="Line 986"/>
                <p:cNvSpPr/>
                <p:nvPr/>
              </p:nvSpPr>
              <p:spPr>
                <a:xfrm flipV="1">
                  <a:off x="4200840" y="5789880"/>
                  <a:ext cx="13680" cy="27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84" name="Group 987"/>
              <p:cNvGrpSpPr/>
              <p:nvPr/>
            </p:nvGrpSpPr>
            <p:grpSpPr>
              <a:xfrm>
                <a:off x="4219200" y="5810040"/>
                <a:ext cx="45720" cy="72720"/>
                <a:chOff x="4219200" y="5810040"/>
                <a:chExt cx="45720" cy="72720"/>
              </a:xfrm>
            </p:grpSpPr>
            <p:sp>
              <p:nvSpPr>
                <p:cNvPr id="1385" name="Oval 988"/>
                <p:cNvSpPr/>
                <p:nvPr/>
              </p:nvSpPr>
              <p:spPr>
                <a:xfrm flipH="1" flipV="1" rot="6017400">
                  <a:off x="4219200" y="5837760"/>
                  <a:ext cx="44640" cy="3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6" name="Line 989"/>
                <p:cNvSpPr/>
                <p:nvPr/>
              </p:nvSpPr>
              <p:spPr>
                <a:xfrm flipH="1" flipV="1">
                  <a:off x="4230720" y="5810040"/>
                  <a:ext cx="5760" cy="23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87" name="Group 990"/>
              <p:cNvGrpSpPr/>
              <p:nvPr/>
            </p:nvGrpSpPr>
            <p:grpSpPr>
              <a:xfrm>
                <a:off x="4299120" y="5852520"/>
                <a:ext cx="55080" cy="77040"/>
                <a:chOff x="4299120" y="5852520"/>
                <a:chExt cx="55080" cy="77040"/>
              </a:xfrm>
            </p:grpSpPr>
            <p:sp>
              <p:nvSpPr>
                <p:cNvPr id="1388" name="Oval 991"/>
                <p:cNvSpPr/>
                <p:nvPr/>
              </p:nvSpPr>
              <p:spPr>
                <a:xfrm flipH="1" flipV="1" rot="4876800">
                  <a:off x="4302360" y="5878440"/>
                  <a:ext cx="52200" cy="4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9" name="Line 992"/>
                <p:cNvSpPr/>
                <p:nvPr/>
              </p:nvSpPr>
              <p:spPr>
                <a:xfrm flipH="1" flipV="1">
                  <a:off x="4299120" y="5852520"/>
                  <a:ext cx="14400" cy="2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90" name="Group 993"/>
              <p:cNvGrpSpPr/>
              <p:nvPr/>
            </p:nvGrpSpPr>
            <p:grpSpPr>
              <a:xfrm>
                <a:off x="4194720" y="5740200"/>
                <a:ext cx="102240" cy="83880"/>
                <a:chOff x="4194720" y="5740200"/>
                <a:chExt cx="102240" cy="83880"/>
              </a:xfrm>
            </p:grpSpPr>
            <p:sp>
              <p:nvSpPr>
                <p:cNvPr id="1391" name="Oval 994"/>
                <p:cNvSpPr/>
                <p:nvPr/>
              </p:nvSpPr>
              <p:spPr>
                <a:xfrm flipV="1" rot="8326200">
                  <a:off x="4229280" y="5748480"/>
                  <a:ext cx="5184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2" name="Line 995"/>
                <p:cNvSpPr/>
                <p:nvPr/>
              </p:nvSpPr>
              <p:spPr>
                <a:xfrm flipH="1">
                  <a:off x="4194720" y="5786640"/>
                  <a:ext cx="30240" cy="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93" name="Group 996"/>
              <p:cNvGrpSpPr/>
              <p:nvPr/>
            </p:nvGrpSpPr>
            <p:grpSpPr>
              <a:xfrm>
                <a:off x="4256280" y="5852160"/>
                <a:ext cx="60120" cy="69120"/>
                <a:chOff x="4256280" y="5852160"/>
                <a:chExt cx="60120" cy="69120"/>
              </a:xfrm>
            </p:grpSpPr>
            <p:sp>
              <p:nvSpPr>
                <p:cNvPr id="1394" name="Oval 997"/>
                <p:cNvSpPr/>
                <p:nvPr/>
              </p:nvSpPr>
              <p:spPr>
                <a:xfrm flipH="1" flipV="1" rot="7105800">
                  <a:off x="4268520" y="5869440"/>
                  <a:ext cx="34920" cy="4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5" name="Line 998"/>
                <p:cNvSpPr/>
                <p:nvPr/>
              </p:nvSpPr>
              <p:spPr>
                <a:xfrm flipH="1" flipV="1">
                  <a:off x="4281120" y="5852160"/>
                  <a:ext cx="2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96" name="Group 999"/>
              <p:cNvGrpSpPr/>
              <p:nvPr/>
            </p:nvGrpSpPr>
            <p:grpSpPr>
              <a:xfrm>
                <a:off x="3957480" y="5657400"/>
                <a:ext cx="101160" cy="124200"/>
                <a:chOff x="3957480" y="5657400"/>
                <a:chExt cx="101160" cy="124200"/>
              </a:xfrm>
            </p:grpSpPr>
            <p:sp>
              <p:nvSpPr>
                <p:cNvPr id="1397" name="Oval 1000"/>
                <p:cNvSpPr/>
                <p:nvPr/>
              </p:nvSpPr>
              <p:spPr>
                <a:xfrm flipH="1" flipV="1" rot="8970000">
                  <a:off x="3972960" y="5686560"/>
                  <a:ext cx="68760" cy="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8" name="Line 1001"/>
                <p:cNvSpPr/>
                <p:nvPr/>
              </p:nvSpPr>
              <p:spPr>
                <a:xfrm flipV="1">
                  <a:off x="4026960" y="5657400"/>
                  <a:ext cx="19440" cy="3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99" name="Freeform 1002"/>
              <p:cNvSpPr/>
              <p:nvPr/>
            </p:nvSpPr>
            <p:spPr>
              <a:xfrm flipV="1" rot="19770000">
                <a:off x="3864960" y="5469840"/>
                <a:ext cx="194760" cy="16596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5960"/>
                  <a:gd name="textAreaBottom" fmla="*/ 165960 h 16596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00" name="Group 1003"/>
              <p:cNvGrpSpPr/>
              <p:nvPr/>
            </p:nvGrpSpPr>
            <p:grpSpPr>
              <a:xfrm>
                <a:off x="3827520" y="5641920"/>
                <a:ext cx="134640" cy="163440"/>
                <a:chOff x="3827520" y="5641920"/>
                <a:chExt cx="134640" cy="163440"/>
              </a:xfrm>
            </p:grpSpPr>
            <p:sp>
              <p:nvSpPr>
                <p:cNvPr id="1401" name="Oval 1004"/>
                <p:cNvSpPr/>
                <p:nvPr/>
              </p:nvSpPr>
              <p:spPr>
                <a:xfrm flipH="1" flipV="1" rot="7975800">
                  <a:off x="3853440" y="5684760"/>
                  <a:ext cx="82080" cy="10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2" name="Line 1005"/>
                <p:cNvSpPr/>
                <p:nvPr/>
              </p:nvSpPr>
              <p:spPr>
                <a:xfrm flipV="1">
                  <a:off x="3903120" y="5641920"/>
                  <a:ext cx="7920" cy="4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03" name="Group 1006"/>
            <p:cNvGrpSpPr/>
            <p:nvPr/>
          </p:nvGrpSpPr>
          <p:grpSpPr>
            <a:xfrm>
              <a:off x="3950280" y="5932800"/>
              <a:ext cx="436680" cy="388440"/>
              <a:chOff x="3950280" y="5932800"/>
              <a:chExt cx="436680" cy="388440"/>
            </a:xfrm>
          </p:grpSpPr>
          <p:sp>
            <p:nvSpPr>
              <p:cNvPr id="1404" name="Freeform 1007"/>
              <p:cNvSpPr/>
              <p:nvPr/>
            </p:nvSpPr>
            <p:spPr>
              <a:xfrm rot="11187600">
                <a:off x="4023360" y="6048000"/>
                <a:ext cx="145800" cy="1202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2109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1008"/>
              <p:cNvSpPr/>
              <p:nvPr/>
            </p:nvSpPr>
            <p:spPr>
              <a:xfrm rot="7173000">
                <a:off x="4059720" y="6151320"/>
                <a:ext cx="181080" cy="968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351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1009"/>
              <p:cNvSpPr/>
              <p:nvPr/>
            </p:nvSpPr>
            <p:spPr>
              <a:xfrm flipH="1" flipV="1" rot="13383600">
                <a:off x="4050000" y="5991480"/>
                <a:ext cx="223560" cy="292320"/>
              </a:xfrm>
              <a:custGeom>
                <a:avLst/>
                <a:gdLst>
                  <a:gd name="textAreaLeft" fmla="*/ -360 w 223560"/>
                  <a:gd name="textAreaRight" fmla="*/ 223560 w 223560"/>
                  <a:gd name="textAreaTop" fmla="*/ 360 h 292320"/>
                  <a:gd name="textAreaBottom" fmla="*/ 293040 h 292320"/>
                </a:gdLst>
                <a:ahLst/>
                <a:rect l="textAreaLeft" t="textAreaTop" r="textAreaRight" b="textAreaBottom"/>
                <a:pathLst>
                  <a:path w="1104" h="1160">
                    <a:moveTo>
                      <a:pt x="1104" y="0"/>
                    </a:moveTo>
                    <a:cubicBezTo>
                      <a:pt x="980" y="16"/>
                      <a:pt x="856" y="32"/>
                      <a:pt x="768" y="96"/>
                    </a:cubicBezTo>
                    <a:cubicBezTo>
                      <a:pt x="680" y="160"/>
                      <a:pt x="640" y="264"/>
                      <a:pt x="576" y="384"/>
                    </a:cubicBezTo>
                    <a:cubicBezTo>
                      <a:pt x="512" y="504"/>
                      <a:pt x="448" y="696"/>
                      <a:pt x="384" y="816"/>
                    </a:cubicBezTo>
                    <a:cubicBezTo>
                      <a:pt x="320" y="936"/>
                      <a:pt x="256" y="1048"/>
                      <a:pt x="192" y="1104"/>
                    </a:cubicBezTo>
                    <a:cubicBezTo>
                      <a:pt x="128" y="1160"/>
                      <a:pt x="64" y="1156"/>
                      <a:pt x="0" y="11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07" name="Group 1010"/>
              <p:cNvGrpSpPr/>
              <p:nvPr/>
            </p:nvGrpSpPr>
            <p:grpSpPr>
              <a:xfrm>
                <a:off x="4123800" y="6065280"/>
                <a:ext cx="75960" cy="61920"/>
                <a:chOff x="4123800" y="6065280"/>
                <a:chExt cx="75960" cy="61920"/>
              </a:xfrm>
            </p:grpSpPr>
            <p:sp>
              <p:nvSpPr>
                <p:cNvPr id="1408" name="Oval 1011"/>
                <p:cNvSpPr/>
                <p:nvPr/>
              </p:nvSpPr>
              <p:spPr>
                <a:xfrm flipH="1" flipV="1" rot="13383600">
                  <a:off x="4134600" y="6072120"/>
                  <a:ext cx="38880" cy="4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9" name="Line 1012"/>
                <p:cNvSpPr/>
                <p:nvPr/>
              </p:nvSpPr>
              <p:spPr>
                <a:xfrm>
                  <a:off x="4177440" y="6100560"/>
                  <a:ext cx="22320" cy="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10" name="Group 1013"/>
              <p:cNvGrpSpPr/>
              <p:nvPr/>
            </p:nvGrpSpPr>
            <p:grpSpPr>
              <a:xfrm>
                <a:off x="4182120" y="6009840"/>
                <a:ext cx="77760" cy="61200"/>
                <a:chOff x="4182120" y="6009840"/>
                <a:chExt cx="77760" cy="61200"/>
              </a:xfrm>
            </p:grpSpPr>
            <p:sp>
              <p:nvSpPr>
                <p:cNvPr id="1411" name="Oval 1014"/>
                <p:cNvSpPr/>
                <p:nvPr/>
              </p:nvSpPr>
              <p:spPr>
                <a:xfrm flipH="1" flipV="1" rot="14898000">
                  <a:off x="4194720" y="6011640"/>
                  <a:ext cx="42840" cy="5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2" name="Line 1015"/>
                <p:cNvSpPr/>
                <p:nvPr/>
              </p:nvSpPr>
              <p:spPr>
                <a:xfrm>
                  <a:off x="4238280" y="6055200"/>
                  <a:ext cx="21600" cy="14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13" name="Group 1016"/>
              <p:cNvGrpSpPr/>
              <p:nvPr/>
            </p:nvGrpSpPr>
            <p:grpSpPr>
              <a:xfrm>
                <a:off x="3983040" y="6140520"/>
                <a:ext cx="52200" cy="42120"/>
                <a:chOff x="3983040" y="6140520"/>
                <a:chExt cx="52200" cy="42120"/>
              </a:xfrm>
            </p:grpSpPr>
            <p:sp>
              <p:nvSpPr>
                <p:cNvPr id="1414" name="Oval 1017"/>
                <p:cNvSpPr/>
                <p:nvPr/>
              </p:nvSpPr>
              <p:spPr>
                <a:xfrm flipH="1" flipV="1" rot="14027400">
                  <a:off x="3991680" y="6143040"/>
                  <a:ext cx="2592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5" name="Line 1018"/>
                <p:cNvSpPr/>
                <p:nvPr/>
              </p:nvSpPr>
              <p:spPr>
                <a:xfrm>
                  <a:off x="4020120" y="6166440"/>
                  <a:ext cx="15120" cy="5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16" name="Group 1019"/>
              <p:cNvGrpSpPr/>
              <p:nvPr/>
            </p:nvGrpSpPr>
            <p:grpSpPr>
              <a:xfrm>
                <a:off x="3950280" y="6159960"/>
                <a:ext cx="53280" cy="43920"/>
                <a:chOff x="3950280" y="6159960"/>
                <a:chExt cx="53280" cy="43920"/>
              </a:xfrm>
            </p:grpSpPr>
            <p:sp>
              <p:nvSpPr>
                <p:cNvPr id="1417" name="Oval 1020"/>
                <p:cNvSpPr/>
                <p:nvPr/>
              </p:nvSpPr>
              <p:spPr>
                <a:xfrm flipH="1" flipV="1" rot="13383600">
                  <a:off x="3958560" y="6163560"/>
                  <a:ext cx="25920" cy="3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8" name="Line 1021"/>
                <p:cNvSpPr/>
                <p:nvPr/>
              </p:nvSpPr>
              <p:spPr>
                <a:xfrm>
                  <a:off x="3987720" y="6184080"/>
                  <a:ext cx="15840" cy="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19" name="Group 1022"/>
              <p:cNvGrpSpPr/>
              <p:nvPr/>
            </p:nvGrpSpPr>
            <p:grpSpPr>
              <a:xfrm>
                <a:off x="4124880" y="6135840"/>
                <a:ext cx="61560" cy="75600"/>
                <a:chOff x="4124880" y="6135840"/>
                <a:chExt cx="61560" cy="75600"/>
              </a:xfrm>
            </p:grpSpPr>
            <p:sp>
              <p:nvSpPr>
                <p:cNvPr id="1420" name="Oval 1023"/>
                <p:cNvSpPr/>
                <p:nvPr/>
              </p:nvSpPr>
              <p:spPr>
                <a:xfrm flipV="1" rot="13383600">
                  <a:off x="4136040" y="6156360"/>
                  <a:ext cx="38880" cy="4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1" name="Line 1024"/>
                <p:cNvSpPr/>
                <p:nvPr/>
              </p:nvSpPr>
              <p:spPr>
                <a:xfrm flipH="1" flipV="1">
                  <a:off x="4144320" y="6135840"/>
                  <a:ext cx="5760" cy="21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22" name="Group 1025"/>
              <p:cNvGrpSpPr/>
              <p:nvPr/>
            </p:nvGrpSpPr>
            <p:grpSpPr>
              <a:xfrm>
                <a:off x="4055400" y="6153480"/>
                <a:ext cx="61560" cy="75600"/>
                <a:chOff x="4055400" y="6153480"/>
                <a:chExt cx="61560" cy="75600"/>
              </a:xfrm>
            </p:grpSpPr>
            <p:sp>
              <p:nvSpPr>
                <p:cNvPr id="1423" name="Oval 1026"/>
                <p:cNvSpPr/>
                <p:nvPr/>
              </p:nvSpPr>
              <p:spPr>
                <a:xfrm flipV="1" rot="13383600">
                  <a:off x="4066560" y="6174000"/>
                  <a:ext cx="38880" cy="4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4" name="Line 1027"/>
                <p:cNvSpPr/>
                <p:nvPr/>
              </p:nvSpPr>
              <p:spPr>
                <a:xfrm flipH="1" flipV="1">
                  <a:off x="4074480" y="6153480"/>
                  <a:ext cx="6120" cy="21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25" name="Group 1028"/>
              <p:cNvGrpSpPr/>
              <p:nvPr/>
            </p:nvGrpSpPr>
            <p:grpSpPr>
              <a:xfrm>
                <a:off x="4029480" y="6165720"/>
                <a:ext cx="30600" cy="48600"/>
                <a:chOff x="4029480" y="6165720"/>
                <a:chExt cx="30600" cy="48600"/>
              </a:xfrm>
            </p:grpSpPr>
            <p:sp>
              <p:nvSpPr>
                <p:cNvPr id="1426" name="Oval 1029"/>
                <p:cNvSpPr/>
                <p:nvPr/>
              </p:nvSpPr>
              <p:spPr>
                <a:xfrm flipV="1" rot="16336200">
                  <a:off x="4028040" y="6183000"/>
                  <a:ext cx="32400" cy="2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7" name="Line 1030"/>
                <p:cNvSpPr/>
                <p:nvPr/>
              </p:nvSpPr>
              <p:spPr>
                <a:xfrm flipV="1">
                  <a:off x="4052520" y="6165720"/>
                  <a:ext cx="7560" cy="1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28" name="Group 1031"/>
              <p:cNvGrpSpPr/>
              <p:nvPr/>
            </p:nvGrpSpPr>
            <p:grpSpPr>
              <a:xfrm>
                <a:off x="3953160" y="6184080"/>
                <a:ext cx="51120" cy="53280"/>
                <a:chOff x="3953160" y="6184080"/>
                <a:chExt cx="51120" cy="53280"/>
              </a:xfrm>
            </p:grpSpPr>
            <p:sp>
              <p:nvSpPr>
                <p:cNvPr id="1429" name="Oval 1032"/>
                <p:cNvSpPr/>
                <p:nvPr/>
              </p:nvSpPr>
              <p:spPr>
                <a:xfrm flipV="1" rot="17476200">
                  <a:off x="3956040" y="6197040"/>
                  <a:ext cx="37800" cy="3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0" name="Line 1033"/>
                <p:cNvSpPr/>
                <p:nvPr/>
              </p:nvSpPr>
              <p:spPr>
                <a:xfrm flipV="1">
                  <a:off x="3989880" y="6184080"/>
                  <a:ext cx="14400" cy="14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31" name="Group 1034"/>
              <p:cNvGrpSpPr/>
              <p:nvPr/>
            </p:nvGrpSpPr>
            <p:grpSpPr>
              <a:xfrm>
                <a:off x="4015440" y="6111360"/>
                <a:ext cx="73440" cy="59760"/>
                <a:chOff x="4015440" y="6111360"/>
                <a:chExt cx="73440" cy="59760"/>
              </a:xfrm>
            </p:grpSpPr>
            <p:sp>
              <p:nvSpPr>
                <p:cNvPr id="1432" name="Oval 1035"/>
                <p:cNvSpPr/>
                <p:nvPr/>
              </p:nvSpPr>
              <p:spPr>
                <a:xfrm flipH="1" flipV="1" rot="14027400">
                  <a:off x="4026600" y="6116760"/>
                  <a:ext cx="38880" cy="4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3" name="Line 1036"/>
                <p:cNvSpPr/>
                <p:nvPr/>
              </p:nvSpPr>
              <p:spPr>
                <a:xfrm>
                  <a:off x="4067640" y="6149520"/>
                  <a:ext cx="21240" cy="8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34" name="Group 1037"/>
              <p:cNvGrpSpPr/>
              <p:nvPr/>
            </p:nvGrpSpPr>
            <p:grpSpPr>
              <a:xfrm>
                <a:off x="3985920" y="6186600"/>
                <a:ext cx="41400" cy="47520"/>
                <a:chOff x="3985920" y="6186600"/>
                <a:chExt cx="41400" cy="47520"/>
              </a:xfrm>
            </p:grpSpPr>
            <p:sp>
              <p:nvSpPr>
                <p:cNvPr id="1435" name="Oval 1038"/>
                <p:cNvSpPr/>
                <p:nvPr/>
              </p:nvSpPr>
              <p:spPr>
                <a:xfrm flipV="1" rot="15247800">
                  <a:off x="3993120" y="6198480"/>
                  <a:ext cx="26640" cy="3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6" name="Line 1039"/>
                <p:cNvSpPr/>
                <p:nvPr/>
              </p:nvSpPr>
              <p:spPr>
                <a:xfrm flipV="1">
                  <a:off x="4011840" y="6186600"/>
                  <a:ext cx="5040" cy="14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37" name="Group 1040"/>
              <p:cNvGrpSpPr/>
              <p:nvPr/>
            </p:nvGrpSpPr>
            <p:grpSpPr>
              <a:xfrm>
                <a:off x="4193640" y="6087600"/>
                <a:ext cx="78840" cy="96840"/>
                <a:chOff x="4193640" y="6087600"/>
                <a:chExt cx="78840" cy="96840"/>
              </a:xfrm>
            </p:grpSpPr>
            <p:sp>
              <p:nvSpPr>
                <p:cNvPr id="1438" name="Oval 1041"/>
                <p:cNvSpPr/>
                <p:nvPr/>
              </p:nvSpPr>
              <p:spPr>
                <a:xfrm flipV="1" rot="13383600">
                  <a:off x="4206960" y="6114600"/>
                  <a:ext cx="5184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9" name="Line 1042"/>
                <p:cNvSpPr/>
                <p:nvPr/>
              </p:nvSpPr>
              <p:spPr>
                <a:xfrm flipH="1" flipV="1">
                  <a:off x="4215960" y="6087600"/>
                  <a:ext cx="8640" cy="28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40" name="Freeform 1043"/>
              <p:cNvSpPr/>
              <p:nvPr/>
            </p:nvSpPr>
            <p:spPr>
              <a:xfrm flipH="1" flipV="1" rot="2583600">
                <a:off x="4218840" y="5965920"/>
                <a:ext cx="145800" cy="120600"/>
              </a:xfrm>
              <a:custGeom>
                <a:avLst/>
                <a:gdLst>
                  <a:gd name="textAreaLeft" fmla="*/ -360 w 145800"/>
                  <a:gd name="textAreaRight" fmla="*/ 145800 w 145800"/>
                  <a:gd name="textAreaTop" fmla="*/ -360 h 120600"/>
                  <a:gd name="textAreaBottom" fmla="*/ 120600 h 12060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41" name="Group 1044"/>
              <p:cNvGrpSpPr/>
              <p:nvPr/>
            </p:nvGrpSpPr>
            <p:grpSpPr>
              <a:xfrm>
                <a:off x="4263840" y="6099480"/>
                <a:ext cx="98640" cy="118800"/>
                <a:chOff x="4263840" y="6099480"/>
                <a:chExt cx="98640" cy="118800"/>
              </a:xfrm>
            </p:grpSpPr>
            <p:sp>
              <p:nvSpPr>
                <p:cNvPr id="1442" name="Oval 1045"/>
                <p:cNvSpPr/>
                <p:nvPr/>
              </p:nvSpPr>
              <p:spPr>
                <a:xfrm flipV="1" rot="14377800">
                  <a:off x="4282200" y="6132240"/>
                  <a:ext cx="61560" cy="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3" name="Line 1046"/>
                <p:cNvSpPr/>
                <p:nvPr/>
              </p:nvSpPr>
              <p:spPr>
                <a:xfrm flipV="1">
                  <a:off x="4314600" y="6099480"/>
                  <a:ext cx="144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1444" name="Picture 193" descr="Рисунок2"/>
          <p:cNvPicPr/>
          <p:nvPr/>
        </p:nvPicPr>
        <p:blipFill>
          <a:blip r:embed="rId2"/>
          <a:stretch/>
        </p:blipFill>
        <p:spPr>
          <a:xfrm>
            <a:off x="792000" y="3486240"/>
            <a:ext cx="2710080" cy="3035160"/>
          </a:xfrm>
          <a:prstGeom prst="rect">
            <a:avLst/>
          </a:prstGeom>
          <a:ln w="0">
            <a:noFill/>
          </a:ln>
        </p:spPr>
      </p:pic>
      <p:sp>
        <p:nvSpPr>
          <p:cNvPr id="1445" name="AutoShape 14">
            <a:hlinkClick r:id="rId3" action="ppaction://hlinksldjump"/>
          </p:cNvPr>
          <p:cNvSpPr/>
          <p:nvPr/>
        </p:nvSpPr>
        <p:spPr>
          <a:xfrm>
            <a:off x="6715080" y="6307200"/>
            <a:ext cx="1461960" cy="550800"/>
          </a:xfrm>
          <a:custGeom>
            <a:avLst/>
            <a:gdLst>
              <a:gd name="textAreaLeft" fmla="*/ 35640 w 1461960"/>
              <a:gd name="textAreaRight" fmla="*/ 1426320 w 146196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57308" h="21600">
                <a:moveTo>
                  <a:pt x="0" y="0"/>
                </a:moveTo>
                <a:lnTo>
                  <a:pt x="57308" y="0"/>
                </a:lnTo>
                <a:lnTo>
                  <a:pt x="57308" y="21600"/>
                </a:lnTo>
                <a:lnTo>
                  <a:pt x="0" y="21600"/>
                </a:lnTo>
                <a:close/>
              </a:path>
              <a:path fill="lightenLess" w="57308" h="21600">
                <a:moveTo>
                  <a:pt x="0" y="0"/>
                </a:moveTo>
                <a:lnTo>
                  <a:pt x="57308" y="0"/>
                </a:lnTo>
                <a:lnTo>
                  <a:pt x="55908" y="1400"/>
                </a:lnTo>
                <a:lnTo>
                  <a:pt x="1400" y="1400"/>
                </a:lnTo>
                <a:close/>
              </a:path>
              <a:path fill="darken" w="57308" h="21600">
                <a:moveTo>
                  <a:pt x="57308" y="0"/>
                </a:moveTo>
                <a:lnTo>
                  <a:pt x="57308" y="21600"/>
                </a:lnTo>
                <a:lnTo>
                  <a:pt x="55908" y="20200"/>
                </a:lnTo>
                <a:lnTo>
                  <a:pt x="55908" y="1400"/>
                </a:lnTo>
                <a:close/>
              </a:path>
              <a:path fill="darkenLess" w="57308" h="21600">
                <a:moveTo>
                  <a:pt x="57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08" y="20200"/>
                </a:lnTo>
                <a:close/>
              </a:path>
              <a:path fill="lighten" w="57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Управляющая кнопка: далее 101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V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Реб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8" name="Picture 3" descr=""/>
          <p:cNvPicPr/>
          <p:nvPr/>
        </p:nvPicPr>
        <p:blipFill>
          <a:blip r:embed="rId1"/>
          <a:stretch/>
        </p:blipFill>
        <p:spPr>
          <a:xfrm>
            <a:off x="1092240" y="1471680"/>
            <a:ext cx="6216480" cy="2965320"/>
          </a:xfrm>
          <a:prstGeom prst="rect">
            <a:avLst/>
          </a:prstGeom>
          <a:ln w="0">
            <a:noFill/>
          </a:ln>
        </p:spPr>
      </p:pic>
      <p:sp>
        <p:nvSpPr>
          <p:cNvPr id="1449" name="Rectangle 3"/>
          <p:cNvSpPr/>
          <p:nvPr/>
        </p:nvSpPr>
        <p:spPr>
          <a:xfrm>
            <a:off x="684360" y="4597560"/>
            <a:ext cx="7343640" cy="1557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3 минуты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ребусе звездочки заменить цифрами таким образом, чтобы равенства были верны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бал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AutoShape 14">
            <a:hlinkClick r:id="rId2" action="ppaction://hlinksldjump"/>
          </p:cNvPr>
          <p:cNvSpPr/>
          <p:nvPr/>
        </p:nvSpPr>
        <p:spPr>
          <a:xfrm>
            <a:off x="6715080" y="6307200"/>
            <a:ext cx="1461960" cy="550800"/>
          </a:xfrm>
          <a:custGeom>
            <a:avLst/>
            <a:gdLst>
              <a:gd name="textAreaLeft" fmla="*/ 35640 w 1461960"/>
              <a:gd name="textAreaRight" fmla="*/ 1426320 w 146196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57308" h="21600">
                <a:moveTo>
                  <a:pt x="0" y="0"/>
                </a:moveTo>
                <a:lnTo>
                  <a:pt x="57308" y="0"/>
                </a:lnTo>
                <a:lnTo>
                  <a:pt x="57308" y="21600"/>
                </a:lnTo>
                <a:lnTo>
                  <a:pt x="0" y="21600"/>
                </a:lnTo>
                <a:close/>
              </a:path>
              <a:path fill="lightenLess" w="57308" h="21600">
                <a:moveTo>
                  <a:pt x="0" y="0"/>
                </a:moveTo>
                <a:lnTo>
                  <a:pt x="57308" y="0"/>
                </a:lnTo>
                <a:lnTo>
                  <a:pt x="55908" y="1400"/>
                </a:lnTo>
                <a:lnTo>
                  <a:pt x="1400" y="1400"/>
                </a:lnTo>
                <a:close/>
              </a:path>
              <a:path fill="darken" w="57308" h="21600">
                <a:moveTo>
                  <a:pt x="57308" y="0"/>
                </a:moveTo>
                <a:lnTo>
                  <a:pt x="57308" y="21600"/>
                </a:lnTo>
                <a:lnTo>
                  <a:pt x="55908" y="20200"/>
                </a:lnTo>
                <a:lnTo>
                  <a:pt x="55908" y="1400"/>
                </a:lnTo>
                <a:close/>
              </a:path>
              <a:path fill="darkenLess" w="57308" h="21600">
                <a:moveTo>
                  <a:pt x="57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08" y="20200"/>
                </a:lnTo>
                <a:close/>
              </a:path>
              <a:path fill="lighten" w="57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6796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Calibri"/>
              </a:rPr>
              <a:t>Музыкальная пауз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3" name="i-main-pic" descr="Картинка 7 из 1264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565360"/>
            <a:ext cx="3082680" cy="3314880"/>
          </a:xfrm>
          <a:prstGeom prst="rect">
            <a:avLst/>
          </a:prstGeom>
          <a:ln w="0">
            <a:noFill/>
          </a:ln>
        </p:spPr>
      </p:pic>
      <p:sp>
        <p:nvSpPr>
          <p:cNvPr id="145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Вычис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1834920" y="1341000"/>
            <a:ext cx="4879800" cy="8398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16 + 12 : 4 + 2 · 1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9"/>
          <p:cNvSpPr/>
          <p:nvPr/>
        </p:nvSpPr>
        <p:spPr>
          <a:xfrm>
            <a:off x="836640" y="2562120"/>
            <a:ext cx="67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</a:t>
            </a: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2 минуты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сставить скобки таким образом, чтобы результатом было 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наименьшее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из возмож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AutoShape 14">
            <a:hlinkClick r:id="rId1" action="ppaction://hlinksldjump"/>
          </p:cNvPr>
          <p:cNvSpPr/>
          <p:nvPr/>
        </p:nvSpPr>
        <p:spPr>
          <a:xfrm>
            <a:off x="6715080" y="6307200"/>
            <a:ext cx="1461960" cy="550800"/>
          </a:xfrm>
          <a:custGeom>
            <a:avLst/>
            <a:gdLst>
              <a:gd name="textAreaLeft" fmla="*/ 35640 w 1461960"/>
              <a:gd name="textAreaRight" fmla="*/ 1426320 w 146196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57308" h="21600">
                <a:moveTo>
                  <a:pt x="0" y="0"/>
                </a:moveTo>
                <a:lnTo>
                  <a:pt x="57308" y="0"/>
                </a:lnTo>
                <a:lnTo>
                  <a:pt x="57308" y="21600"/>
                </a:lnTo>
                <a:lnTo>
                  <a:pt x="0" y="21600"/>
                </a:lnTo>
                <a:close/>
              </a:path>
              <a:path fill="lightenLess" w="57308" h="21600">
                <a:moveTo>
                  <a:pt x="0" y="0"/>
                </a:moveTo>
                <a:lnTo>
                  <a:pt x="57308" y="0"/>
                </a:lnTo>
                <a:lnTo>
                  <a:pt x="55908" y="1400"/>
                </a:lnTo>
                <a:lnTo>
                  <a:pt x="1400" y="1400"/>
                </a:lnTo>
                <a:close/>
              </a:path>
              <a:path fill="darken" w="57308" h="21600">
                <a:moveTo>
                  <a:pt x="57308" y="0"/>
                </a:moveTo>
                <a:lnTo>
                  <a:pt x="57308" y="21600"/>
                </a:lnTo>
                <a:lnTo>
                  <a:pt x="55908" y="20200"/>
                </a:lnTo>
                <a:lnTo>
                  <a:pt x="55908" y="1400"/>
                </a:lnTo>
                <a:close/>
              </a:path>
              <a:path fill="darkenLess" w="57308" h="21600">
                <a:moveTo>
                  <a:pt x="57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08" y="20200"/>
                </a:lnTo>
                <a:close/>
              </a:path>
              <a:path fill="lighten" w="57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TextBox 7"/>
          <p:cNvSpPr/>
          <p:nvPr/>
        </p:nvSpPr>
        <p:spPr>
          <a:xfrm>
            <a:off x="611280" y="4149720"/>
            <a:ext cx="716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236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сставить скобки таким образом, чтобы результатом было 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наибольшее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из возмож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балла за каждо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I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 Конкурс капит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457200" y="160920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TextBox 5"/>
          <p:cNvSpPr/>
          <p:nvPr/>
        </p:nvSpPr>
        <p:spPr>
          <a:xfrm>
            <a:off x="880920" y="4230720"/>
            <a:ext cx="7507440" cy="19227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к нужно разрезать циферблат часов на 6 частей так, чтобы во всех частях сумма чисел была одинаков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бал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AutoShape 14">
            <a:hlinkClick r:id="rId1" action="ppaction://hlinksldjump"/>
          </p:cNvPr>
          <p:cNvSpPr/>
          <p:nvPr/>
        </p:nvSpPr>
        <p:spPr>
          <a:xfrm>
            <a:off x="6715080" y="6307200"/>
            <a:ext cx="1461960" cy="550800"/>
          </a:xfrm>
          <a:custGeom>
            <a:avLst/>
            <a:gdLst>
              <a:gd name="textAreaLeft" fmla="*/ 35640 w 1461960"/>
              <a:gd name="textAreaRight" fmla="*/ 1426320 w 146196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57308" h="21600">
                <a:moveTo>
                  <a:pt x="0" y="0"/>
                </a:moveTo>
                <a:lnTo>
                  <a:pt x="57308" y="0"/>
                </a:lnTo>
                <a:lnTo>
                  <a:pt x="57308" y="21600"/>
                </a:lnTo>
                <a:lnTo>
                  <a:pt x="0" y="21600"/>
                </a:lnTo>
                <a:close/>
              </a:path>
              <a:path fill="lightenLess" w="57308" h="21600">
                <a:moveTo>
                  <a:pt x="0" y="0"/>
                </a:moveTo>
                <a:lnTo>
                  <a:pt x="57308" y="0"/>
                </a:lnTo>
                <a:lnTo>
                  <a:pt x="55908" y="1400"/>
                </a:lnTo>
                <a:lnTo>
                  <a:pt x="1400" y="1400"/>
                </a:lnTo>
                <a:close/>
              </a:path>
              <a:path fill="darken" w="57308" h="21600">
                <a:moveTo>
                  <a:pt x="57308" y="0"/>
                </a:moveTo>
                <a:lnTo>
                  <a:pt x="57308" y="21600"/>
                </a:lnTo>
                <a:lnTo>
                  <a:pt x="55908" y="20200"/>
                </a:lnTo>
                <a:lnTo>
                  <a:pt x="55908" y="1400"/>
                </a:lnTo>
                <a:close/>
              </a:path>
              <a:path fill="darkenLess" w="57308" h="21600">
                <a:moveTo>
                  <a:pt x="57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08" y="20200"/>
                </a:lnTo>
                <a:close/>
              </a:path>
              <a:path fill="lighten" w="57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i-main-pic" descr="Картинка 15 из 553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1268280"/>
            <a:ext cx="3078000" cy="29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3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II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 Наибольшее и наименьше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814320" y="2924280"/>
            <a:ext cx="75009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1 минута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черкнуть 5 цифр таким образом, чтобы оставшиеся цифры</a:t>
            </a:r>
            <a:r>
              <a:rPr b="1" lang="en-US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ставили </a:t>
            </a:r>
            <a:r>
              <a:rPr b="1" lang="ru-RU" sz="26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наименьшее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и </a:t>
            </a:r>
            <a:r>
              <a:rPr b="1" lang="ru-RU" sz="26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наибольшее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чис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балла за каждое числ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TextBox 3"/>
          <p:cNvSpPr/>
          <p:nvPr/>
        </p:nvSpPr>
        <p:spPr>
          <a:xfrm>
            <a:off x="2268360" y="1708200"/>
            <a:ext cx="4592880" cy="764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650798283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AutoShape 14">
            <a:hlinkClick r:id="rId1" action="ppaction://hlinksldjump"/>
          </p:cNvPr>
          <p:cNvSpPr/>
          <p:nvPr/>
        </p:nvSpPr>
        <p:spPr>
          <a:xfrm>
            <a:off x="6715080" y="6307200"/>
            <a:ext cx="1461960" cy="550800"/>
          </a:xfrm>
          <a:custGeom>
            <a:avLst/>
            <a:gdLst>
              <a:gd name="textAreaLeft" fmla="*/ 35640 w 1461960"/>
              <a:gd name="textAreaRight" fmla="*/ 1426320 w 146196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57308" h="21600">
                <a:moveTo>
                  <a:pt x="0" y="0"/>
                </a:moveTo>
                <a:lnTo>
                  <a:pt x="57308" y="0"/>
                </a:lnTo>
                <a:lnTo>
                  <a:pt x="57308" y="21600"/>
                </a:lnTo>
                <a:lnTo>
                  <a:pt x="0" y="21600"/>
                </a:lnTo>
                <a:close/>
              </a:path>
              <a:path fill="lightenLess" w="57308" h="21600">
                <a:moveTo>
                  <a:pt x="0" y="0"/>
                </a:moveTo>
                <a:lnTo>
                  <a:pt x="57308" y="0"/>
                </a:lnTo>
                <a:lnTo>
                  <a:pt x="55908" y="1400"/>
                </a:lnTo>
                <a:lnTo>
                  <a:pt x="1400" y="1400"/>
                </a:lnTo>
                <a:close/>
              </a:path>
              <a:path fill="darken" w="57308" h="21600">
                <a:moveTo>
                  <a:pt x="57308" y="0"/>
                </a:moveTo>
                <a:lnTo>
                  <a:pt x="57308" y="21600"/>
                </a:lnTo>
                <a:lnTo>
                  <a:pt x="55908" y="20200"/>
                </a:lnTo>
                <a:lnTo>
                  <a:pt x="55908" y="1400"/>
                </a:lnTo>
                <a:close/>
              </a:path>
              <a:path fill="darkenLess" w="57308" h="21600">
                <a:moveTo>
                  <a:pt x="57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08" y="20200"/>
                </a:lnTo>
                <a:close/>
              </a:path>
              <a:path fill="lighten" w="57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III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 Числовой т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457200" y="160920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TextBox 5"/>
          <p:cNvSpPr/>
          <p:nvPr/>
        </p:nvSpPr>
        <p:spPr>
          <a:xfrm>
            <a:off x="5072040" y="1785960"/>
            <a:ext cx="3460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 минут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каждом из секторов А, В, С и Д «мишени» числа вписаны в кольца по определенному закону. За каждое отгаданное число команда получа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2 бал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AutoShape 14">
            <a:hlinkClick r:id="rId1" action="ppaction://hlinksldjump"/>
          </p:cNvPr>
          <p:cNvSpPr/>
          <p:nvPr/>
        </p:nvSpPr>
        <p:spPr>
          <a:xfrm>
            <a:off x="6715080" y="6307200"/>
            <a:ext cx="1461960" cy="550800"/>
          </a:xfrm>
          <a:custGeom>
            <a:avLst/>
            <a:gdLst>
              <a:gd name="textAreaLeft" fmla="*/ 35640 w 1461960"/>
              <a:gd name="textAreaRight" fmla="*/ 1426320 w 146196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57308" h="21600">
                <a:moveTo>
                  <a:pt x="0" y="0"/>
                </a:moveTo>
                <a:lnTo>
                  <a:pt x="57308" y="0"/>
                </a:lnTo>
                <a:lnTo>
                  <a:pt x="57308" y="21600"/>
                </a:lnTo>
                <a:lnTo>
                  <a:pt x="0" y="21600"/>
                </a:lnTo>
                <a:close/>
              </a:path>
              <a:path fill="lightenLess" w="57308" h="21600">
                <a:moveTo>
                  <a:pt x="0" y="0"/>
                </a:moveTo>
                <a:lnTo>
                  <a:pt x="57308" y="0"/>
                </a:lnTo>
                <a:lnTo>
                  <a:pt x="55908" y="1400"/>
                </a:lnTo>
                <a:lnTo>
                  <a:pt x="1400" y="1400"/>
                </a:lnTo>
                <a:close/>
              </a:path>
              <a:path fill="darken" w="57308" h="21600">
                <a:moveTo>
                  <a:pt x="57308" y="0"/>
                </a:moveTo>
                <a:lnTo>
                  <a:pt x="57308" y="21600"/>
                </a:lnTo>
                <a:lnTo>
                  <a:pt x="55908" y="20200"/>
                </a:lnTo>
                <a:lnTo>
                  <a:pt x="55908" y="1400"/>
                </a:lnTo>
                <a:close/>
              </a:path>
              <a:path fill="darkenLess" w="57308" h="21600">
                <a:moveTo>
                  <a:pt x="57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08" y="20200"/>
                </a:lnTo>
                <a:close/>
              </a:path>
              <a:path fill="lighten" w="57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Управляющая кнопка: далее 56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7" name="Picture 2" descr=""/>
          <p:cNvPicPr/>
          <p:nvPr/>
        </p:nvPicPr>
        <p:blipFill>
          <a:blip r:embed="rId2"/>
          <a:stretch/>
        </p:blipFill>
        <p:spPr>
          <a:xfrm>
            <a:off x="455760" y="1928880"/>
            <a:ext cx="447336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X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 Поговорим о пятёр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826560" y="155736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пятёрку в виде какого-либо предме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гимн пятёр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TextBox 5"/>
          <p:cNvSpPr/>
          <p:nvPr/>
        </p:nvSpPr>
        <p:spPr>
          <a:xfrm>
            <a:off x="755640" y="3789360"/>
            <a:ext cx="7416720" cy="19227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я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2 минуты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полняются одновременно, затем происходит отчет.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исунок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бал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Гимн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бал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3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 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1008000" y="1413000"/>
            <a:ext cx="6624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ать сказку, стихотворение, спеть песню, сыграть сценку о числах.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4 бал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5" name="Picture 2" descr=""/>
          <p:cNvPicPr/>
          <p:nvPr/>
        </p:nvPicPr>
        <p:blipFill>
          <a:blip r:embed="rId1"/>
          <a:stretch/>
        </p:blipFill>
        <p:spPr>
          <a:xfrm>
            <a:off x="2411280" y="3683160"/>
            <a:ext cx="337500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Picture 15" descr="бабоч"/>
          <p:cNvPicPr/>
          <p:nvPr/>
        </p:nvPicPr>
        <p:blipFill>
          <a:blip r:embed="rId1"/>
          <a:stretch/>
        </p:blipFill>
        <p:spPr>
          <a:xfrm rot="18683400">
            <a:off x="6173640" y="4835160"/>
            <a:ext cx="666720" cy="762120"/>
          </a:xfrm>
          <a:prstGeom prst="rect">
            <a:avLst/>
          </a:prstGeom>
          <a:ln w="0">
            <a:noFill/>
          </a:ln>
        </p:spPr>
      </p:pic>
      <p:sp>
        <p:nvSpPr>
          <p:cNvPr id="1487" name="Text Box 38"/>
          <p:cNvSpPr/>
          <p:nvPr/>
        </p:nvSpPr>
        <p:spPr>
          <a:xfrm>
            <a:off x="3514680" y="3083040"/>
            <a:ext cx="424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лово жюр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Заголовок 1"/>
          <p:cNvSpPr/>
          <p:nvPr/>
        </p:nvSpPr>
        <p:spPr>
          <a:xfrm>
            <a:off x="1319040" y="1995480"/>
            <a:ext cx="64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9" name="Picture 5" descr="F:\02.11.09\butterfly1-2.gif"/>
          <p:cNvPicPr/>
          <p:nvPr/>
        </p:nvPicPr>
        <p:blipFill>
          <a:blip r:embed="rId2"/>
          <a:stretch/>
        </p:blipFill>
        <p:spPr>
          <a:xfrm>
            <a:off x="6000840" y="785880"/>
            <a:ext cx="666720" cy="761760"/>
          </a:xfrm>
          <a:prstGeom prst="rect">
            <a:avLst/>
          </a:prstGeom>
          <a:ln w="0">
            <a:noFill/>
          </a:ln>
        </p:spPr>
      </p:pic>
      <p:sp>
        <p:nvSpPr>
          <p:cNvPr id="1490" name="Управляющая кнопка: в начало 10">
            <a:hlinkClick r:id="rId3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71516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2" name="Picture 4" descr="http://briticat.ru/smail/butterflys/butterfly2-16.gif"/>
          <p:cNvPicPr/>
          <p:nvPr/>
        </p:nvPicPr>
        <p:blipFill>
          <a:blip r:embed="rId4"/>
          <a:stretch/>
        </p:blipFill>
        <p:spPr>
          <a:xfrm>
            <a:off x="357120" y="928800"/>
            <a:ext cx="3143160" cy="106668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2" descr="http://barvihafilm.ru/wp-content/uploads/2009/11/konkurs.jpg"/>
          <p:cNvPicPr/>
          <p:nvPr/>
        </p:nvPicPr>
        <p:blipFill>
          <a:blip r:embed="rId5"/>
          <a:stretch/>
        </p:blipFill>
        <p:spPr>
          <a:xfrm>
            <a:off x="928800" y="4000680"/>
            <a:ext cx="2708280" cy="27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УРНИ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280" y="1628640"/>
            <a:ext cx="792972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мет математики столь серьёзен, что не следует упускать ни одной возможности сделать его более занима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лез Паскаль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правляющая кнопка: домой 8">
            <a:hlinkClick r:id="" action="ppaction://hlinkshowjump?jump=endshow"/>
          </p:cNvPr>
          <p:cNvSpPr/>
          <p:nvPr/>
        </p:nvSpPr>
        <p:spPr>
          <a:xfrm>
            <a:off x="8715240" y="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6" descr="C:\Documents and Settings\Артур\Рабочий стол\дети в школу.jpg"/>
          <p:cNvPicPr/>
          <p:nvPr/>
        </p:nvPicPr>
        <p:blipFill>
          <a:blip r:embed="rId1"/>
          <a:stretch/>
        </p:blipFill>
        <p:spPr>
          <a:xfrm>
            <a:off x="539640" y="3789360"/>
            <a:ext cx="4086360" cy="28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684360" y="1714680"/>
            <a:ext cx="74167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а Яга предложила Василисе Премудрой разгадать правило, по которому составлен ряд, и вставить пропущенные чис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  17,  37,  77,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57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317,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Заголовок 1"/>
          <p:cNvSpPr/>
          <p:nvPr/>
        </p:nvSpPr>
        <p:spPr>
          <a:xfrm>
            <a:off x="500040" y="357120"/>
            <a:ext cx="723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Arial"/>
                <a:ea typeface="Arial"/>
              </a:rPr>
              <a:t>Ответ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AutoShape 14">
            <a:hlinkClick r:id="rId1" action="ppaction://hlinksldjump"/>
          </p:cNvPr>
          <p:cNvSpPr/>
          <p:nvPr/>
        </p:nvSpPr>
        <p:spPr>
          <a:xfrm>
            <a:off x="7858080" y="6357960"/>
            <a:ext cx="1285920" cy="500040"/>
          </a:xfrm>
          <a:custGeom>
            <a:avLst/>
            <a:gdLst>
              <a:gd name="textAreaLeft" fmla="*/ 32400 w 1285920"/>
              <a:gd name="textAreaRight" fmla="*/ 1253520 w 12859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55523" h="21600">
                <a:moveTo>
                  <a:pt x="0" y="0"/>
                </a:moveTo>
                <a:lnTo>
                  <a:pt x="55523" y="0"/>
                </a:lnTo>
                <a:lnTo>
                  <a:pt x="55523" y="21600"/>
                </a:lnTo>
                <a:lnTo>
                  <a:pt x="0" y="21600"/>
                </a:lnTo>
                <a:close/>
              </a:path>
              <a:path fill="lightenLess" w="55523" h="21600">
                <a:moveTo>
                  <a:pt x="0" y="0"/>
                </a:moveTo>
                <a:lnTo>
                  <a:pt x="55523" y="0"/>
                </a:lnTo>
                <a:lnTo>
                  <a:pt x="54123" y="1400"/>
                </a:lnTo>
                <a:lnTo>
                  <a:pt x="1400" y="1400"/>
                </a:lnTo>
                <a:close/>
              </a:path>
              <a:path fill="darken" w="55523" h="21600">
                <a:moveTo>
                  <a:pt x="55523" y="0"/>
                </a:moveTo>
                <a:lnTo>
                  <a:pt x="55523" y="21600"/>
                </a:lnTo>
                <a:lnTo>
                  <a:pt x="54123" y="20200"/>
                </a:lnTo>
                <a:lnTo>
                  <a:pt x="54123" y="1400"/>
                </a:lnTo>
                <a:close/>
              </a:path>
              <a:path fill="darkenLess" w="55523" h="21600">
                <a:moveTo>
                  <a:pt x="5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3" y="20200"/>
                </a:lnTo>
                <a:close/>
              </a:path>
              <a:path fill="lighten" w="5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Наз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к вопро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AutoShape 14">
            <a:hlinkClick r:id="rId1" action="ppaction://hlinksldjump"/>
          </p:cNvPr>
          <p:cNvSpPr/>
          <p:nvPr/>
        </p:nvSpPr>
        <p:spPr>
          <a:xfrm>
            <a:off x="7824960" y="6353280"/>
            <a:ext cx="1319040" cy="504720"/>
          </a:xfrm>
          <a:custGeom>
            <a:avLst/>
            <a:gdLst>
              <a:gd name="textAreaLeft" fmla="*/ 32400 w 1319040"/>
              <a:gd name="textAreaRight" fmla="*/ 1286640 w 1319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6425" h="21600">
                <a:moveTo>
                  <a:pt x="0" y="0"/>
                </a:moveTo>
                <a:lnTo>
                  <a:pt x="56425" y="0"/>
                </a:lnTo>
                <a:lnTo>
                  <a:pt x="56425" y="21600"/>
                </a:lnTo>
                <a:lnTo>
                  <a:pt x="0" y="21600"/>
                </a:lnTo>
                <a:close/>
              </a:path>
              <a:path fill="lightenLess" w="56425" h="21600">
                <a:moveTo>
                  <a:pt x="0" y="0"/>
                </a:moveTo>
                <a:lnTo>
                  <a:pt x="56425" y="0"/>
                </a:lnTo>
                <a:lnTo>
                  <a:pt x="55025" y="1400"/>
                </a:lnTo>
                <a:lnTo>
                  <a:pt x="1400" y="1400"/>
                </a:lnTo>
                <a:close/>
              </a:path>
              <a:path fill="darken" w="56425" h="21600">
                <a:moveTo>
                  <a:pt x="56425" y="0"/>
                </a:moveTo>
                <a:lnTo>
                  <a:pt x="56425" y="21600"/>
                </a:lnTo>
                <a:lnTo>
                  <a:pt x="55025" y="20200"/>
                </a:lnTo>
                <a:lnTo>
                  <a:pt x="55025" y="1400"/>
                </a:lnTo>
                <a:close/>
              </a:path>
              <a:path fill="darkenLess" w="56425" h="21600">
                <a:moveTo>
                  <a:pt x="56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5" y="20200"/>
                </a:lnTo>
                <a:close/>
              </a:path>
              <a:path fill="lighten" w="56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Наз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к вопро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Заголовок 1"/>
          <p:cNvSpPr/>
          <p:nvPr/>
        </p:nvSpPr>
        <p:spPr>
          <a:xfrm>
            <a:off x="500040" y="357120"/>
            <a:ext cx="723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Arial"/>
                <a:ea typeface="Arial"/>
              </a:rPr>
              <a:t>Ответ задачи 1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9" name="Picture 265" descr="boy4g"/>
          <p:cNvPicPr/>
          <p:nvPr/>
        </p:nvPicPr>
        <p:blipFill>
          <a:blip r:embed="rId2"/>
          <a:stretch/>
        </p:blipFill>
        <p:spPr>
          <a:xfrm>
            <a:off x="3786120" y="1000080"/>
            <a:ext cx="987480" cy="16257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265" descr="boy4g"/>
          <p:cNvPicPr/>
          <p:nvPr/>
        </p:nvPicPr>
        <p:blipFill>
          <a:blip r:embed="rId3"/>
          <a:stretch/>
        </p:blipFill>
        <p:spPr>
          <a:xfrm>
            <a:off x="2428920" y="4000680"/>
            <a:ext cx="987480" cy="162540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265" descr="boy4g"/>
          <p:cNvPicPr/>
          <p:nvPr/>
        </p:nvPicPr>
        <p:blipFill>
          <a:blip r:embed="rId4"/>
          <a:stretch/>
        </p:blipFill>
        <p:spPr>
          <a:xfrm>
            <a:off x="5143680" y="3929040"/>
            <a:ext cx="987120" cy="162576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265" descr="boy4g"/>
          <p:cNvPicPr/>
          <p:nvPr/>
        </p:nvPicPr>
        <p:blipFill>
          <a:blip r:embed="rId5"/>
          <a:stretch/>
        </p:blipFill>
        <p:spPr>
          <a:xfrm>
            <a:off x="5500800" y="2000160"/>
            <a:ext cx="987480" cy="162576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265" descr="boy4g"/>
          <p:cNvPicPr/>
          <p:nvPr/>
        </p:nvPicPr>
        <p:blipFill>
          <a:blip r:embed="rId6"/>
          <a:stretch/>
        </p:blipFill>
        <p:spPr>
          <a:xfrm>
            <a:off x="1714680" y="1857240"/>
            <a:ext cx="987120" cy="1625760"/>
          </a:xfrm>
          <a:prstGeom prst="rect">
            <a:avLst/>
          </a:prstGeom>
          <a:ln w="0">
            <a:noFill/>
          </a:ln>
        </p:spPr>
      </p:pic>
      <p:sp>
        <p:nvSpPr>
          <p:cNvPr id="1504" name="Овал 19"/>
          <p:cNvSpPr/>
          <p:nvPr/>
        </p:nvSpPr>
        <p:spPr>
          <a:xfrm>
            <a:off x="1000080" y="1000080"/>
            <a:ext cx="6429600" cy="5572080"/>
          </a:xfrm>
          <a:prstGeom prst="ellipse">
            <a:avLst/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TextBox 10"/>
          <p:cNvSpPr/>
          <p:nvPr/>
        </p:nvSpPr>
        <p:spPr>
          <a:xfrm>
            <a:off x="3643200" y="564372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6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6" name="Picture 191" descr="afficher_image564"/>
          <p:cNvPicPr/>
          <p:nvPr/>
        </p:nvPicPr>
        <p:blipFill>
          <a:blip r:embed="rId7"/>
          <a:stretch/>
        </p:blipFill>
        <p:spPr>
          <a:xfrm>
            <a:off x="3786120" y="3571920"/>
            <a:ext cx="785880" cy="13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AutoShape 14">
            <a:hlinkClick r:id="rId1" action="ppaction://hlinksldjump"/>
          </p:cNvPr>
          <p:cNvSpPr/>
          <p:nvPr/>
        </p:nvSpPr>
        <p:spPr>
          <a:xfrm>
            <a:off x="7824960" y="6353280"/>
            <a:ext cx="1319040" cy="504720"/>
          </a:xfrm>
          <a:custGeom>
            <a:avLst/>
            <a:gdLst>
              <a:gd name="textAreaLeft" fmla="*/ 32400 w 1319040"/>
              <a:gd name="textAreaRight" fmla="*/ 1286640 w 1319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6425" h="21600">
                <a:moveTo>
                  <a:pt x="0" y="0"/>
                </a:moveTo>
                <a:lnTo>
                  <a:pt x="56425" y="0"/>
                </a:lnTo>
                <a:lnTo>
                  <a:pt x="56425" y="21600"/>
                </a:lnTo>
                <a:lnTo>
                  <a:pt x="0" y="21600"/>
                </a:lnTo>
                <a:close/>
              </a:path>
              <a:path fill="lightenLess" w="56425" h="21600">
                <a:moveTo>
                  <a:pt x="0" y="0"/>
                </a:moveTo>
                <a:lnTo>
                  <a:pt x="56425" y="0"/>
                </a:lnTo>
                <a:lnTo>
                  <a:pt x="55025" y="1400"/>
                </a:lnTo>
                <a:lnTo>
                  <a:pt x="1400" y="1400"/>
                </a:lnTo>
                <a:close/>
              </a:path>
              <a:path fill="darken" w="56425" h="21600">
                <a:moveTo>
                  <a:pt x="56425" y="0"/>
                </a:moveTo>
                <a:lnTo>
                  <a:pt x="56425" y="21600"/>
                </a:lnTo>
                <a:lnTo>
                  <a:pt x="55025" y="20200"/>
                </a:lnTo>
                <a:lnTo>
                  <a:pt x="55025" y="1400"/>
                </a:lnTo>
                <a:close/>
              </a:path>
              <a:path fill="darkenLess" w="56425" h="21600">
                <a:moveTo>
                  <a:pt x="56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5" y="20200"/>
                </a:lnTo>
                <a:close/>
              </a:path>
              <a:path fill="lighten" w="56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Наз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к вопро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Заголовок 1"/>
          <p:cNvSpPr/>
          <p:nvPr/>
        </p:nvSpPr>
        <p:spPr>
          <a:xfrm>
            <a:off x="500040" y="357120"/>
            <a:ext cx="723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Arial"/>
                <a:ea typeface="Arial"/>
              </a:rPr>
              <a:t>Ответ задачи 2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TextBox 14"/>
          <p:cNvSpPr/>
          <p:nvPr/>
        </p:nvSpPr>
        <p:spPr>
          <a:xfrm>
            <a:off x="928800" y="150012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160 я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TextBox 15"/>
          <p:cNvSpPr/>
          <p:nvPr/>
        </p:nvSpPr>
        <p:spPr>
          <a:xfrm>
            <a:off x="4143240" y="1500120"/>
            <a:ext cx="378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5 ·10 = 50 я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50 +94= 144 я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TextBox 16"/>
          <p:cNvSpPr/>
          <p:nvPr/>
        </p:nvSpPr>
        <p:spPr>
          <a:xfrm>
            <a:off x="1428840" y="600084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160 + 144 = 304 ябл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Правая фигурная скобка 9"/>
          <p:cNvSpPr/>
          <p:nvPr/>
        </p:nvSpPr>
        <p:spPr>
          <a:xfrm rot="5400000">
            <a:off x="2999880" y="3285720"/>
            <a:ext cx="822240" cy="4394520"/>
          </a:xfrm>
          <a:custGeom>
            <a:avLst/>
            <a:gdLst>
              <a:gd name="textAreaLeft" fmla="*/ 0 w 822240"/>
              <a:gd name="textAreaRight" fmla="*/ 297000 w 822240"/>
              <a:gd name="textAreaTop" fmla="*/ 21240 h 4394520"/>
              <a:gd name="textAreaBottom" fmla="*/ 4373280 h 439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9"/>
                  <a:pt x="10800" y="337"/>
                </a:cubicBezTo>
                <a:lnTo>
                  <a:pt x="10800" y="10463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9"/>
                  <a:pt x="10800" y="11137"/>
                </a:cubicBezTo>
                <a:lnTo>
                  <a:pt x="10800" y="21263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3" name="Group 1455"/>
          <p:cNvGrpSpPr/>
          <p:nvPr/>
        </p:nvGrpSpPr>
        <p:grpSpPr>
          <a:xfrm>
            <a:off x="1189440" y="2807280"/>
            <a:ext cx="1623960" cy="2336040"/>
            <a:chOff x="1189440" y="2807280"/>
            <a:chExt cx="1623960" cy="2336040"/>
          </a:xfrm>
        </p:grpSpPr>
        <p:grpSp>
          <p:nvGrpSpPr>
            <p:cNvPr id="1514" name="Group 1456"/>
            <p:cNvGrpSpPr/>
            <p:nvPr/>
          </p:nvGrpSpPr>
          <p:grpSpPr>
            <a:xfrm>
              <a:off x="1297440" y="2807280"/>
              <a:ext cx="1514520" cy="2336040"/>
              <a:chOff x="1297440" y="2807280"/>
              <a:chExt cx="1514520" cy="2336040"/>
            </a:xfrm>
          </p:grpSpPr>
          <p:sp>
            <p:nvSpPr>
              <p:cNvPr id="1515" name="Freeform 1457"/>
              <p:cNvSpPr/>
              <p:nvPr/>
            </p:nvSpPr>
            <p:spPr>
              <a:xfrm>
                <a:off x="1909080" y="3719880"/>
                <a:ext cx="118080" cy="142344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423440"/>
                  <a:gd name="textAreaBottom" fmla="*/ 1423800 h 1423440"/>
                </a:gdLst>
                <a:ahLst/>
                <a:rect l="textAreaLeft" t="textAreaTop" r="textAreaRight" b="textAreaBottom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6" name="Freeform 1458"/>
              <p:cNvSpPr/>
              <p:nvPr/>
            </p:nvSpPr>
            <p:spPr>
              <a:xfrm>
                <a:off x="1428480" y="3051360"/>
                <a:ext cx="1224720" cy="1367640"/>
              </a:xfrm>
              <a:custGeom>
                <a:avLst/>
                <a:gdLst>
                  <a:gd name="textAreaLeft" fmla="*/ 0 w 1224720"/>
                  <a:gd name="textAreaRight" fmla="*/ 1225080 w 1224720"/>
                  <a:gd name="textAreaTop" fmla="*/ 0 h 1367640"/>
                  <a:gd name="textAreaBottom" fmla="*/ 1368000 h 1367640"/>
                </a:gdLst>
                <a:ahLst/>
                <a:rect l="textAreaLeft" t="textAreaTop" r="textAreaRight" b="textAreaBottom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517" name="Group 1459"/>
              <p:cNvGrpSpPr/>
              <p:nvPr/>
            </p:nvGrpSpPr>
            <p:grpSpPr>
              <a:xfrm>
                <a:off x="1954800" y="3854880"/>
                <a:ext cx="363600" cy="277920"/>
                <a:chOff x="1954800" y="3854880"/>
                <a:chExt cx="363600" cy="277920"/>
              </a:xfrm>
            </p:grpSpPr>
            <p:sp>
              <p:nvSpPr>
                <p:cNvPr id="1518" name="Freeform 1460"/>
                <p:cNvSpPr/>
                <p:nvPr/>
              </p:nvSpPr>
              <p:spPr>
                <a:xfrm rot="18155400">
                  <a:off x="2162520" y="3874680"/>
                  <a:ext cx="124560" cy="14220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142200"/>
                    <a:gd name="textAreaBottom" fmla="*/ 142560 h 142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519" name="Group 1461"/>
                <p:cNvGrpSpPr/>
                <p:nvPr/>
              </p:nvGrpSpPr>
              <p:grpSpPr>
                <a:xfrm>
                  <a:off x="1954800" y="3876840"/>
                  <a:ext cx="303840" cy="255960"/>
                  <a:chOff x="1954800" y="3876840"/>
                  <a:chExt cx="303840" cy="255960"/>
                </a:xfrm>
              </p:grpSpPr>
              <p:grpSp>
                <p:nvGrpSpPr>
                  <p:cNvPr id="1520" name="Group 1462"/>
                  <p:cNvGrpSpPr/>
                  <p:nvPr/>
                </p:nvGrpSpPr>
                <p:grpSpPr>
                  <a:xfrm>
                    <a:off x="1954800" y="3876840"/>
                    <a:ext cx="303840" cy="255960"/>
                    <a:chOff x="1954800" y="3876840"/>
                    <a:chExt cx="303840" cy="255960"/>
                  </a:xfrm>
                </p:grpSpPr>
                <p:sp>
                  <p:nvSpPr>
                    <p:cNvPr id="1521" name="Freeform 1463"/>
                    <p:cNvSpPr/>
                    <p:nvPr/>
                  </p:nvSpPr>
                  <p:spPr>
                    <a:xfrm rot="19953000">
                      <a:off x="1958040" y="3931200"/>
                      <a:ext cx="256320" cy="76680"/>
                    </a:xfrm>
                    <a:custGeom>
                      <a:avLst/>
                      <a:gdLst>
                        <a:gd name="textAreaLeft" fmla="*/ 0 w 256320"/>
                        <a:gd name="textAreaRight" fmla="*/ 256680 w 256320"/>
                        <a:gd name="textAreaTop" fmla="*/ 0 h 76680"/>
                        <a:gd name="textAreaBottom" fmla="*/ 77040 h 766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22" name="Freeform 1464"/>
                    <p:cNvSpPr/>
                    <p:nvPr/>
                  </p:nvSpPr>
                  <p:spPr>
                    <a:xfrm rot="19953000">
                      <a:off x="1988280" y="3976560"/>
                      <a:ext cx="261720" cy="101520"/>
                    </a:xfrm>
                    <a:custGeom>
                      <a:avLst/>
                      <a:gdLst>
                        <a:gd name="textAreaLeft" fmla="*/ 0 w 261720"/>
                        <a:gd name="textAreaRight" fmla="*/ 262080 w 261720"/>
                        <a:gd name="textAreaTop" fmla="*/ 0 h 101520"/>
                        <a:gd name="textAreaBottom" fmla="*/ 10188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523" name="Freeform 1465"/>
                  <p:cNvSpPr/>
                  <p:nvPr/>
                </p:nvSpPr>
                <p:spPr>
                  <a:xfrm rot="19953000">
                    <a:off x="2174760" y="394416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4" name="Freeform 1466"/>
                  <p:cNvSpPr/>
                  <p:nvPr/>
                </p:nvSpPr>
                <p:spPr>
                  <a:xfrm rot="19953000">
                    <a:off x="2142000" y="396072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5" name="Freeform 1467"/>
                  <p:cNvSpPr/>
                  <p:nvPr/>
                </p:nvSpPr>
                <p:spPr>
                  <a:xfrm rot="19953000">
                    <a:off x="2109240" y="3989160"/>
                    <a:ext cx="21600" cy="45720"/>
                  </a:xfrm>
                  <a:custGeom>
                    <a:avLst/>
                    <a:gdLst>
                      <a:gd name="textAreaLeft" fmla="*/ 0 w 21600"/>
                      <a:gd name="textAreaRight" fmla="*/ 21960 w 2160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6" name="Freeform 1468"/>
                  <p:cNvSpPr/>
                  <p:nvPr/>
                </p:nvSpPr>
                <p:spPr>
                  <a:xfrm rot="19953000">
                    <a:off x="2106360" y="3930120"/>
                    <a:ext cx="33840" cy="36000"/>
                  </a:xfrm>
                  <a:custGeom>
                    <a:avLst/>
                    <a:gdLst>
                      <a:gd name="textAreaLeft" fmla="*/ 0 w 33840"/>
                      <a:gd name="textAreaRight" fmla="*/ 34200 w 33840"/>
                      <a:gd name="textAreaTop" fmla="*/ 0 h 36000"/>
                      <a:gd name="textAreaBottom" fmla="*/ 36360 h 36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7" name="Freeform 1469"/>
                  <p:cNvSpPr/>
                  <p:nvPr/>
                </p:nvSpPr>
                <p:spPr>
                  <a:xfrm rot="19953000">
                    <a:off x="2131560" y="3912840"/>
                    <a:ext cx="36000" cy="3996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9960"/>
                      <a:gd name="textAreaBottom" fmla="*/ 4032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528" name="Group 1470"/>
              <p:cNvGrpSpPr/>
              <p:nvPr/>
            </p:nvGrpSpPr>
            <p:grpSpPr>
              <a:xfrm>
                <a:off x="1495440" y="4139640"/>
                <a:ext cx="363600" cy="277920"/>
                <a:chOff x="1495440" y="4139640"/>
                <a:chExt cx="363600" cy="277920"/>
              </a:xfrm>
            </p:grpSpPr>
            <p:sp>
              <p:nvSpPr>
                <p:cNvPr id="1529" name="Freeform 1471"/>
                <p:cNvSpPr/>
                <p:nvPr/>
              </p:nvSpPr>
              <p:spPr>
                <a:xfrm rot="18155400">
                  <a:off x="1703160" y="4159440"/>
                  <a:ext cx="124560" cy="14220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142200"/>
                    <a:gd name="textAreaBottom" fmla="*/ 142560 h 142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530" name="Group 1472"/>
                <p:cNvGrpSpPr/>
                <p:nvPr/>
              </p:nvGrpSpPr>
              <p:grpSpPr>
                <a:xfrm>
                  <a:off x="1495440" y="4161600"/>
                  <a:ext cx="303840" cy="255960"/>
                  <a:chOff x="1495440" y="4161600"/>
                  <a:chExt cx="303840" cy="255960"/>
                </a:xfrm>
              </p:grpSpPr>
              <p:grpSp>
                <p:nvGrpSpPr>
                  <p:cNvPr id="1531" name="Group 1473"/>
                  <p:cNvGrpSpPr/>
                  <p:nvPr/>
                </p:nvGrpSpPr>
                <p:grpSpPr>
                  <a:xfrm>
                    <a:off x="1495440" y="4161600"/>
                    <a:ext cx="303840" cy="255960"/>
                    <a:chOff x="1495440" y="4161600"/>
                    <a:chExt cx="303840" cy="255960"/>
                  </a:xfrm>
                </p:grpSpPr>
                <p:sp>
                  <p:nvSpPr>
                    <p:cNvPr id="1532" name="Freeform 1474"/>
                    <p:cNvSpPr/>
                    <p:nvPr/>
                  </p:nvSpPr>
                  <p:spPr>
                    <a:xfrm rot="19953000">
                      <a:off x="1498680" y="4215960"/>
                      <a:ext cx="256320" cy="76680"/>
                    </a:xfrm>
                    <a:custGeom>
                      <a:avLst/>
                      <a:gdLst>
                        <a:gd name="textAreaLeft" fmla="*/ 0 w 256320"/>
                        <a:gd name="textAreaRight" fmla="*/ 256680 w 256320"/>
                        <a:gd name="textAreaTop" fmla="*/ 0 h 76680"/>
                        <a:gd name="textAreaBottom" fmla="*/ 77040 h 766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33" name="Freeform 1475"/>
                    <p:cNvSpPr/>
                    <p:nvPr/>
                  </p:nvSpPr>
                  <p:spPr>
                    <a:xfrm rot="19953000">
                      <a:off x="1528920" y="4261320"/>
                      <a:ext cx="261720" cy="101520"/>
                    </a:xfrm>
                    <a:custGeom>
                      <a:avLst/>
                      <a:gdLst>
                        <a:gd name="textAreaLeft" fmla="*/ 0 w 261720"/>
                        <a:gd name="textAreaRight" fmla="*/ 262080 w 261720"/>
                        <a:gd name="textAreaTop" fmla="*/ 0 h 101520"/>
                        <a:gd name="textAreaBottom" fmla="*/ 10188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534" name="Freeform 1476"/>
                  <p:cNvSpPr/>
                  <p:nvPr/>
                </p:nvSpPr>
                <p:spPr>
                  <a:xfrm rot="19953000">
                    <a:off x="1715400" y="422892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5" name="Freeform 1477"/>
                  <p:cNvSpPr/>
                  <p:nvPr/>
                </p:nvSpPr>
                <p:spPr>
                  <a:xfrm rot="19953000">
                    <a:off x="1682640" y="424548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6" name="Freeform 1478"/>
                  <p:cNvSpPr/>
                  <p:nvPr/>
                </p:nvSpPr>
                <p:spPr>
                  <a:xfrm rot="19953000">
                    <a:off x="1649880" y="4273920"/>
                    <a:ext cx="21600" cy="45720"/>
                  </a:xfrm>
                  <a:custGeom>
                    <a:avLst/>
                    <a:gdLst>
                      <a:gd name="textAreaLeft" fmla="*/ 0 w 21600"/>
                      <a:gd name="textAreaRight" fmla="*/ 21960 w 2160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7" name="Freeform 1479"/>
                  <p:cNvSpPr/>
                  <p:nvPr/>
                </p:nvSpPr>
                <p:spPr>
                  <a:xfrm rot="19953000">
                    <a:off x="1647000" y="4214880"/>
                    <a:ext cx="33840" cy="36000"/>
                  </a:xfrm>
                  <a:custGeom>
                    <a:avLst/>
                    <a:gdLst>
                      <a:gd name="textAreaLeft" fmla="*/ 0 w 33840"/>
                      <a:gd name="textAreaRight" fmla="*/ 34200 w 33840"/>
                      <a:gd name="textAreaTop" fmla="*/ 0 h 36000"/>
                      <a:gd name="textAreaBottom" fmla="*/ 36360 h 36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8" name="Freeform 1480"/>
                  <p:cNvSpPr/>
                  <p:nvPr/>
                </p:nvSpPr>
                <p:spPr>
                  <a:xfrm rot="19953000">
                    <a:off x="1672200" y="4197600"/>
                    <a:ext cx="36000" cy="3996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9960"/>
                      <a:gd name="textAreaBottom" fmla="*/ 4032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539" name="Group 1481"/>
              <p:cNvGrpSpPr/>
              <p:nvPr/>
            </p:nvGrpSpPr>
            <p:grpSpPr>
              <a:xfrm>
                <a:off x="1311840" y="3805560"/>
                <a:ext cx="200160" cy="410400"/>
                <a:chOff x="1311840" y="3805560"/>
                <a:chExt cx="200160" cy="410400"/>
              </a:xfrm>
            </p:grpSpPr>
            <p:sp>
              <p:nvSpPr>
                <p:cNvPr id="1540" name="Freeform 1482"/>
                <p:cNvSpPr/>
                <p:nvPr/>
              </p:nvSpPr>
              <p:spPr>
                <a:xfrm rot="13840800">
                  <a:off x="1361520" y="3811680"/>
                  <a:ext cx="100440" cy="176400"/>
                </a:xfrm>
                <a:custGeom>
                  <a:avLst/>
                  <a:gdLst>
                    <a:gd name="textAreaLeft" fmla="*/ 0 w 100440"/>
                    <a:gd name="textAreaRight" fmla="*/ 100800 w 100440"/>
                    <a:gd name="textAreaTop" fmla="*/ 0 h 176400"/>
                    <a:gd name="textAreaBottom" fmla="*/ 176760 h 176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541" name="Group 1483"/>
                <p:cNvGrpSpPr/>
                <p:nvPr/>
              </p:nvGrpSpPr>
              <p:grpSpPr>
                <a:xfrm>
                  <a:off x="1317960" y="3875760"/>
                  <a:ext cx="174600" cy="340200"/>
                  <a:chOff x="1317960" y="3875760"/>
                  <a:chExt cx="174600" cy="340200"/>
                </a:xfrm>
              </p:grpSpPr>
              <p:grpSp>
                <p:nvGrpSpPr>
                  <p:cNvPr id="1542" name="Group 1484"/>
                  <p:cNvGrpSpPr/>
                  <p:nvPr/>
                </p:nvGrpSpPr>
                <p:grpSpPr>
                  <a:xfrm>
                    <a:off x="1317960" y="3875760"/>
                    <a:ext cx="174600" cy="340200"/>
                    <a:chOff x="1317960" y="3875760"/>
                    <a:chExt cx="174600" cy="340200"/>
                  </a:xfrm>
                </p:grpSpPr>
                <p:sp>
                  <p:nvSpPr>
                    <p:cNvPr id="1543" name="Freeform 1485"/>
                    <p:cNvSpPr/>
                    <p:nvPr/>
                  </p:nvSpPr>
                  <p:spPr>
                    <a:xfrm rot="15638400">
                      <a:off x="1215360" y="4023000"/>
                      <a:ext cx="317520" cy="61920"/>
                    </a:xfrm>
                    <a:custGeom>
                      <a:avLst/>
                      <a:gdLst>
                        <a:gd name="textAreaLeft" fmla="*/ 0 w 317520"/>
                        <a:gd name="textAreaRight" fmla="*/ 317880 w 317520"/>
                        <a:gd name="textAreaTop" fmla="*/ 0 h 61920"/>
                        <a:gd name="textAreaBottom" fmla="*/ 62280 h 6192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44" name="Freeform 1486"/>
                    <p:cNvSpPr/>
                    <p:nvPr/>
                  </p:nvSpPr>
                  <p:spPr>
                    <a:xfrm rot="15638400">
                      <a:off x="1263600" y="4001400"/>
                      <a:ext cx="324360" cy="81720"/>
                    </a:xfrm>
                    <a:custGeom>
                      <a:avLst/>
                      <a:gdLst>
                        <a:gd name="textAreaLeft" fmla="*/ 0 w 324360"/>
                        <a:gd name="textAreaRight" fmla="*/ 324720 w 324360"/>
                        <a:gd name="textAreaTop" fmla="*/ 0 h 81720"/>
                        <a:gd name="textAreaBottom" fmla="*/ 82080 h 817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545" name="Freeform 1487"/>
                  <p:cNvSpPr/>
                  <p:nvPr/>
                </p:nvSpPr>
                <p:spPr>
                  <a:xfrm rot="15638400">
                    <a:off x="1385640" y="3913560"/>
                    <a:ext cx="32400" cy="5796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7960"/>
                      <a:gd name="textAreaBottom" fmla="*/ 58320 h 57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6" name="Freeform 1488"/>
                  <p:cNvSpPr/>
                  <p:nvPr/>
                </p:nvSpPr>
                <p:spPr>
                  <a:xfrm rot="15638400">
                    <a:off x="1393200" y="3957840"/>
                    <a:ext cx="32400" cy="5796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7960"/>
                      <a:gd name="textAreaBottom" fmla="*/ 58320 h 57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7" name="Freeform 1489"/>
                  <p:cNvSpPr/>
                  <p:nvPr/>
                </p:nvSpPr>
                <p:spPr>
                  <a:xfrm rot="15638400">
                    <a:off x="1401120" y="4015800"/>
                    <a:ext cx="26640" cy="36720"/>
                  </a:xfrm>
                  <a:custGeom>
                    <a:avLst/>
                    <a:gdLst>
                      <a:gd name="textAreaLeft" fmla="*/ 0 w 26640"/>
                      <a:gd name="textAreaRight" fmla="*/ 27000 w 266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8" name="Freeform 1490"/>
                  <p:cNvSpPr/>
                  <p:nvPr/>
                </p:nvSpPr>
                <p:spPr>
                  <a:xfrm rot="15638400">
                    <a:off x="1343160" y="3987000"/>
                    <a:ext cx="41760" cy="28800"/>
                  </a:xfrm>
                  <a:custGeom>
                    <a:avLst/>
                    <a:gdLst>
                      <a:gd name="textAreaLeft" fmla="*/ 0 w 41760"/>
                      <a:gd name="textAreaRight" fmla="*/ 42120 w 4176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9" name="Freeform 1491"/>
                  <p:cNvSpPr/>
                  <p:nvPr/>
                </p:nvSpPr>
                <p:spPr>
                  <a:xfrm rot="15638400">
                    <a:off x="1333440" y="3949200"/>
                    <a:ext cx="44640" cy="3204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550" name="Group 1492"/>
              <p:cNvGrpSpPr/>
              <p:nvPr/>
            </p:nvGrpSpPr>
            <p:grpSpPr>
              <a:xfrm>
                <a:off x="1297440" y="3333600"/>
                <a:ext cx="246600" cy="345960"/>
                <a:chOff x="1297440" y="3333600"/>
                <a:chExt cx="246600" cy="345960"/>
              </a:xfrm>
            </p:grpSpPr>
            <p:sp>
              <p:nvSpPr>
                <p:cNvPr id="1551" name="Freeform 1493"/>
                <p:cNvSpPr/>
                <p:nvPr/>
              </p:nvSpPr>
              <p:spPr>
                <a:xfrm rot="15604200">
                  <a:off x="1400760" y="3336120"/>
                  <a:ext cx="124560" cy="14220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142200"/>
                    <a:gd name="textAreaBottom" fmla="*/ 142560 h 142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552" name="Group 1494"/>
                <p:cNvGrpSpPr/>
                <p:nvPr/>
              </p:nvGrpSpPr>
              <p:grpSpPr>
                <a:xfrm>
                  <a:off x="1297440" y="3385080"/>
                  <a:ext cx="235800" cy="294480"/>
                  <a:chOff x="1297440" y="3385080"/>
                  <a:chExt cx="235800" cy="294480"/>
                </a:xfrm>
              </p:grpSpPr>
              <p:grpSp>
                <p:nvGrpSpPr>
                  <p:cNvPr id="1553" name="Group 1495"/>
                  <p:cNvGrpSpPr/>
                  <p:nvPr/>
                </p:nvGrpSpPr>
                <p:grpSpPr>
                  <a:xfrm>
                    <a:off x="1297440" y="3385080"/>
                    <a:ext cx="235800" cy="294480"/>
                    <a:chOff x="1297440" y="3385080"/>
                    <a:chExt cx="235800" cy="294480"/>
                  </a:xfrm>
                </p:grpSpPr>
                <p:sp>
                  <p:nvSpPr>
                    <p:cNvPr id="1554" name="Freeform 1496"/>
                    <p:cNvSpPr/>
                    <p:nvPr/>
                  </p:nvSpPr>
                  <p:spPr>
                    <a:xfrm rot="17401800">
                      <a:off x="1248840" y="3480120"/>
                      <a:ext cx="256320" cy="76680"/>
                    </a:xfrm>
                    <a:custGeom>
                      <a:avLst/>
                      <a:gdLst>
                        <a:gd name="textAreaLeft" fmla="*/ 0 w 256320"/>
                        <a:gd name="textAreaRight" fmla="*/ 256680 w 256320"/>
                        <a:gd name="textAreaTop" fmla="*/ 0 h 76680"/>
                        <a:gd name="textAreaBottom" fmla="*/ 77040 h 766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55" name="Freeform 1497"/>
                    <p:cNvSpPr/>
                    <p:nvPr/>
                  </p:nvSpPr>
                  <p:spPr>
                    <a:xfrm rot="17401800">
                      <a:off x="1309680" y="3488040"/>
                      <a:ext cx="261720" cy="101520"/>
                    </a:xfrm>
                    <a:custGeom>
                      <a:avLst/>
                      <a:gdLst>
                        <a:gd name="textAreaLeft" fmla="*/ 0 w 261720"/>
                        <a:gd name="textAreaRight" fmla="*/ 262080 w 261720"/>
                        <a:gd name="textAreaTop" fmla="*/ 0 h 101520"/>
                        <a:gd name="textAreaBottom" fmla="*/ 10188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556" name="Freeform 1498"/>
                  <p:cNvSpPr/>
                  <p:nvPr/>
                </p:nvSpPr>
                <p:spPr>
                  <a:xfrm rot="17401800">
                    <a:off x="1446120" y="342144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7" name="Freeform 1499"/>
                  <p:cNvSpPr/>
                  <p:nvPr/>
                </p:nvSpPr>
                <p:spPr>
                  <a:xfrm rot="17401800">
                    <a:off x="1433160" y="345564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8" name="Freeform 1500"/>
                  <p:cNvSpPr/>
                  <p:nvPr/>
                </p:nvSpPr>
                <p:spPr>
                  <a:xfrm rot="17401800">
                    <a:off x="1419480" y="3503880"/>
                    <a:ext cx="21600" cy="45720"/>
                  </a:xfrm>
                  <a:custGeom>
                    <a:avLst/>
                    <a:gdLst>
                      <a:gd name="textAreaLeft" fmla="*/ 0 w 21600"/>
                      <a:gd name="textAreaRight" fmla="*/ 21960 w 2160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9" name="Freeform 1501"/>
                  <p:cNvSpPr/>
                  <p:nvPr/>
                </p:nvSpPr>
                <p:spPr>
                  <a:xfrm rot="17401800">
                    <a:off x="1373400" y="3459600"/>
                    <a:ext cx="33840" cy="36000"/>
                  </a:xfrm>
                  <a:custGeom>
                    <a:avLst/>
                    <a:gdLst>
                      <a:gd name="textAreaLeft" fmla="*/ 0 w 33840"/>
                      <a:gd name="textAreaRight" fmla="*/ 34200 w 33840"/>
                      <a:gd name="textAreaTop" fmla="*/ 0 h 36000"/>
                      <a:gd name="textAreaBottom" fmla="*/ 36360 h 36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0" name="Freeform 1502"/>
                  <p:cNvSpPr/>
                  <p:nvPr/>
                </p:nvSpPr>
                <p:spPr>
                  <a:xfrm rot="17401800">
                    <a:off x="1380960" y="3428280"/>
                    <a:ext cx="36000" cy="3996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39960"/>
                      <a:gd name="textAreaBottom" fmla="*/ 4032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561" name="Group 1503"/>
              <p:cNvGrpSpPr/>
              <p:nvPr/>
            </p:nvGrpSpPr>
            <p:grpSpPr>
              <a:xfrm>
                <a:off x="2161440" y="2962440"/>
                <a:ext cx="327960" cy="353520"/>
                <a:chOff x="2161440" y="2962440"/>
                <a:chExt cx="327960" cy="353520"/>
              </a:xfrm>
            </p:grpSpPr>
            <p:sp>
              <p:nvSpPr>
                <p:cNvPr id="1562" name="Freeform 1504"/>
                <p:cNvSpPr/>
                <p:nvPr/>
              </p:nvSpPr>
              <p:spPr>
                <a:xfrm rot="444000">
                  <a:off x="2372400" y="3133440"/>
                  <a:ext cx="100440" cy="176400"/>
                </a:xfrm>
                <a:custGeom>
                  <a:avLst/>
                  <a:gdLst>
                    <a:gd name="textAreaLeft" fmla="*/ 0 w 100440"/>
                    <a:gd name="textAreaRight" fmla="*/ 100800 w 100440"/>
                    <a:gd name="textAreaTop" fmla="*/ 0 h 176400"/>
                    <a:gd name="textAreaBottom" fmla="*/ 176760 h 176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563" name="Group 1505"/>
                <p:cNvGrpSpPr/>
                <p:nvPr/>
              </p:nvGrpSpPr>
              <p:grpSpPr>
                <a:xfrm>
                  <a:off x="2161440" y="2962440"/>
                  <a:ext cx="327960" cy="295920"/>
                  <a:chOff x="2161440" y="2962440"/>
                  <a:chExt cx="327960" cy="295920"/>
                </a:xfrm>
              </p:grpSpPr>
              <p:grpSp>
                <p:nvGrpSpPr>
                  <p:cNvPr id="1564" name="Group 1506"/>
                  <p:cNvGrpSpPr/>
                  <p:nvPr/>
                </p:nvGrpSpPr>
                <p:grpSpPr>
                  <a:xfrm>
                    <a:off x="2161440" y="2962440"/>
                    <a:ext cx="327960" cy="295920"/>
                    <a:chOff x="2161440" y="2962440"/>
                    <a:chExt cx="327960" cy="295920"/>
                  </a:xfrm>
                </p:grpSpPr>
                <p:sp>
                  <p:nvSpPr>
                    <p:cNvPr id="1565" name="Freeform 1507"/>
                    <p:cNvSpPr/>
                    <p:nvPr/>
                  </p:nvSpPr>
                  <p:spPr>
                    <a:xfrm rot="2241600">
                      <a:off x="2185560" y="3052080"/>
                      <a:ext cx="317520" cy="61920"/>
                    </a:xfrm>
                    <a:custGeom>
                      <a:avLst/>
                      <a:gdLst>
                        <a:gd name="textAreaLeft" fmla="*/ 0 w 317520"/>
                        <a:gd name="textAreaRight" fmla="*/ 317880 w 317520"/>
                        <a:gd name="textAreaTop" fmla="*/ 0 h 61920"/>
                        <a:gd name="textAreaBottom" fmla="*/ 62280 h 6192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66" name="Freeform 1508"/>
                    <p:cNvSpPr/>
                    <p:nvPr/>
                  </p:nvSpPr>
                  <p:spPr>
                    <a:xfrm rot="2241600">
                      <a:off x="2152800" y="3086640"/>
                      <a:ext cx="324360" cy="81720"/>
                    </a:xfrm>
                    <a:custGeom>
                      <a:avLst/>
                      <a:gdLst>
                        <a:gd name="textAreaLeft" fmla="*/ 0 w 324360"/>
                        <a:gd name="textAreaRight" fmla="*/ 324720 w 324360"/>
                        <a:gd name="textAreaTop" fmla="*/ 0 h 81720"/>
                        <a:gd name="textAreaBottom" fmla="*/ 82080 h 817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567" name="Freeform 1509"/>
                  <p:cNvSpPr/>
                  <p:nvPr/>
                </p:nvSpPr>
                <p:spPr>
                  <a:xfrm rot="2241600">
                    <a:off x="2384640" y="3154680"/>
                    <a:ext cx="32400" cy="5796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7960"/>
                      <a:gd name="textAreaBottom" fmla="*/ 58320 h 57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8" name="Freeform 1510"/>
                  <p:cNvSpPr/>
                  <p:nvPr/>
                </p:nvSpPr>
                <p:spPr>
                  <a:xfrm rot="2241600">
                    <a:off x="2348640" y="3127680"/>
                    <a:ext cx="32400" cy="5796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7960"/>
                      <a:gd name="textAreaBottom" fmla="*/ 58320 h 57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9" name="Freeform 1511"/>
                  <p:cNvSpPr/>
                  <p:nvPr/>
                </p:nvSpPr>
                <p:spPr>
                  <a:xfrm rot="2241600">
                    <a:off x="2315520" y="3107160"/>
                    <a:ext cx="26640" cy="36720"/>
                  </a:xfrm>
                  <a:custGeom>
                    <a:avLst/>
                    <a:gdLst>
                      <a:gd name="textAreaLeft" fmla="*/ 0 w 26640"/>
                      <a:gd name="textAreaRight" fmla="*/ 27000 w 266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0" name="Freeform 1512"/>
                  <p:cNvSpPr/>
                  <p:nvPr/>
                </p:nvSpPr>
                <p:spPr>
                  <a:xfrm rot="2241600">
                    <a:off x="2367000" y="3100320"/>
                    <a:ext cx="41760" cy="28800"/>
                  </a:xfrm>
                  <a:custGeom>
                    <a:avLst/>
                    <a:gdLst>
                      <a:gd name="textAreaLeft" fmla="*/ 0 w 41760"/>
                      <a:gd name="textAreaRight" fmla="*/ 42120 w 4176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1" name="Freeform 1513"/>
                  <p:cNvSpPr/>
                  <p:nvPr/>
                </p:nvSpPr>
                <p:spPr>
                  <a:xfrm rot="2241600">
                    <a:off x="2396520" y="3120120"/>
                    <a:ext cx="44640" cy="3204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572" name="Group 1514"/>
              <p:cNvGrpSpPr/>
              <p:nvPr/>
            </p:nvGrpSpPr>
            <p:grpSpPr>
              <a:xfrm>
                <a:off x="1931760" y="2807280"/>
                <a:ext cx="327960" cy="353520"/>
                <a:chOff x="1931760" y="2807280"/>
                <a:chExt cx="327960" cy="353520"/>
              </a:xfrm>
            </p:grpSpPr>
            <p:sp>
              <p:nvSpPr>
                <p:cNvPr id="1573" name="Freeform 1515"/>
                <p:cNvSpPr/>
                <p:nvPr/>
              </p:nvSpPr>
              <p:spPr>
                <a:xfrm rot="444000">
                  <a:off x="2142720" y="2978280"/>
                  <a:ext cx="100440" cy="176400"/>
                </a:xfrm>
                <a:custGeom>
                  <a:avLst/>
                  <a:gdLst>
                    <a:gd name="textAreaLeft" fmla="*/ 0 w 100440"/>
                    <a:gd name="textAreaRight" fmla="*/ 100800 w 100440"/>
                    <a:gd name="textAreaTop" fmla="*/ 0 h 176400"/>
                    <a:gd name="textAreaBottom" fmla="*/ 176760 h 176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574" name="Group 1516"/>
                <p:cNvGrpSpPr/>
                <p:nvPr/>
              </p:nvGrpSpPr>
              <p:grpSpPr>
                <a:xfrm>
                  <a:off x="1931760" y="2807280"/>
                  <a:ext cx="327960" cy="295920"/>
                  <a:chOff x="1931760" y="2807280"/>
                  <a:chExt cx="327960" cy="295920"/>
                </a:xfrm>
              </p:grpSpPr>
              <p:grpSp>
                <p:nvGrpSpPr>
                  <p:cNvPr id="1575" name="Group 1517"/>
                  <p:cNvGrpSpPr/>
                  <p:nvPr/>
                </p:nvGrpSpPr>
                <p:grpSpPr>
                  <a:xfrm>
                    <a:off x="1931760" y="2807280"/>
                    <a:ext cx="327960" cy="295920"/>
                    <a:chOff x="1931760" y="2807280"/>
                    <a:chExt cx="327960" cy="295920"/>
                  </a:xfrm>
                </p:grpSpPr>
                <p:sp>
                  <p:nvSpPr>
                    <p:cNvPr id="1576" name="Freeform 1518"/>
                    <p:cNvSpPr/>
                    <p:nvPr/>
                  </p:nvSpPr>
                  <p:spPr>
                    <a:xfrm rot="2241600">
                      <a:off x="1955880" y="2896920"/>
                      <a:ext cx="317520" cy="61920"/>
                    </a:xfrm>
                    <a:custGeom>
                      <a:avLst/>
                      <a:gdLst>
                        <a:gd name="textAreaLeft" fmla="*/ 0 w 317520"/>
                        <a:gd name="textAreaRight" fmla="*/ 317880 w 317520"/>
                        <a:gd name="textAreaTop" fmla="*/ 0 h 61920"/>
                        <a:gd name="textAreaBottom" fmla="*/ 62280 h 6192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77" name="Freeform 1519"/>
                    <p:cNvSpPr/>
                    <p:nvPr/>
                  </p:nvSpPr>
                  <p:spPr>
                    <a:xfrm rot="2241600">
                      <a:off x="1923120" y="2931480"/>
                      <a:ext cx="324360" cy="81720"/>
                    </a:xfrm>
                    <a:custGeom>
                      <a:avLst/>
                      <a:gdLst>
                        <a:gd name="textAreaLeft" fmla="*/ 0 w 324360"/>
                        <a:gd name="textAreaRight" fmla="*/ 324720 w 324360"/>
                        <a:gd name="textAreaTop" fmla="*/ 0 h 81720"/>
                        <a:gd name="textAreaBottom" fmla="*/ 82080 h 817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578" name="Freeform 1520"/>
                  <p:cNvSpPr/>
                  <p:nvPr/>
                </p:nvSpPr>
                <p:spPr>
                  <a:xfrm rot="2241600">
                    <a:off x="2154960" y="2999520"/>
                    <a:ext cx="32400" cy="5796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7960"/>
                      <a:gd name="textAreaBottom" fmla="*/ 58320 h 57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9" name="Freeform 1521"/>
                  <p:cNvSpPr/>
                  <p:nvPr/>
                </p:nvSpPr>
                <p:spPr>
                  <a:xfrm rot="2241600">
                    <a:off x="2118960" y="2972520"/>
                    <a:ext cx="32400" cy="5796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7960"/>
                      <a:gd name="textAreaBottom" fmla="*/ 58320 h 57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0" name="Freeform 1522"/>
                  <p:cNvSpPr/>
                  <p:nvPr/>
                </p:nvSpPr>
                <p:spPr>
                  <a:xfrm rot="2241600">
                    <a:off x="2085840" y="2952000"/>
                    <a:ext cx="26640" cy="36720"/>
                  </a:xfrm>
                  <a:custGeom>
                    <a:avLst/>
                    <a:gdLst>
                      <a:gd name="textAreaLeft" fmla="*/ 0 w 26640"/>
                      <a:gd name="textAreaRight" fmla="*/ 27000 w 266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1" name="Freeform 1523"/>
                  <p:cNvSpPr/>
                  <p:nvPr/>
                </p:nvSpPr>
                <p:spPr>
                  <a:xfrm rot="2241600">
                    <a:off x="2137320" y="2945160"/>
                    <a:ext cx="41760" cy="28800"/>
                  </a:xfrm>
                  <a:custGeom>
                    <a:avLst/>
                    <a:gdLst>
                      <a:gd name="textAreaLeft" fmla="*/ 0 w 41760"/>
                      <a:gd name="textAreaRight" fmla="*/ 42120 w 4176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2" name="Freeform 1524"/>
                  <p:cNvSpPr/>
                  <p:nvPr/>
                </p:nvSpPr>
                <p:spPr>
                  <a:xfrm rot="2241600">
                    <a:off x="2166840" y="2964960"/>
                    <a:ext cx="44640" cy="3204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583" name="Group 1525"/>
              <p:cNvGrpSpPr/>
              <p:nvPr/>
            </p:nvGrpSpPr>
            <p:grpSpPr>
              <a:xfrm>
                <a:off x="1576800" y="2884680"/>
                <a:ext cx="327960" cy="353520"/>
                <a:chOff x="1576800" y="2884680"/>
                <a:chExt cx="327960" cy="353520"/>
              </a:xfrm>
            </p:grpSpPr>
            <p:sp>
              <p:nvSpPr>
                <p:cNvPr id="1584" name="Freeform 1526"/>
                <p:cNvSpPr/>
                <p:nvPr/>
              </p:nvSpPr>
              <p:spPr>
                <a:xfrm rot="444000">
                  <a:off x="1787760" y="3055680"/>
                  <a:ext cx="100440" cy="176400"/>
                </a:xfrm>
                <a:custGeom>
                  <a:avLst/>
                  <a:gdLst>
                    <a:gd name="textAreaLeft" fmla="*/ 0 w 100440"/>
                    <a:gd name="textAreaRight" fmla="*/ 100800 w 100440"/>
                    <a:gd name="textAreaTop" fmla="*/ 0 h 176400"/>
                    <a:gd name="textAreaBottom" fmla="*/ 176760 h 176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585" name="Group 1527"/>
                <p:cNvGrpSpPr/>
                <p:nvPr/>
              </p:nvGrpSpPr>
              <p:grpSpPr>
                <a:xfrm>
                  <a:off x="1576800" y="2884680"/>
                  <a:ext cx="327960" cy="295920"/>
                  <a:chOff x="1576800" y="2884680"/>
                  <a:chExt cx="327960" cy="295920"/>
                </a:xfrm>
              </p:grpSpPr>
              <p:grpSp>
                <p:nvGrpSpPr>
                  <p:cNvPr id="1586" name="Group 1528"/>
                  <p:cNvGrpSpPr/>
                  <p:nvPr/>
                </p:nvGrpSpPr>
                <p:grpSpPr>
                  <a:xfrm>
                    <a:off x="1576800" y="2884680"/>
                    <a:ext cx="327960" cy="295920"/>
                    <a:chOff x="1576800" y="2884680"/>
                    <a:chExt cx="327960" cy="295920"/>
                  </a:xfrm>
                </p:grpSpPr>
                <p:sp>
                  <p:nvSpPr>
                    <p:cNvPr id="1587" name="Freeform 1529"/>
                    <p:cNvSpPr/>
                    <p:nvPr/>
                  </p:nvSpPr>
                  <p:spPr>
                    <a:xfrm rot="2241600">
                      <a:off x="1600920" y="2974320"/>
                      <a:ext cx="317520" cy="61920"/>
                    </a:xfrm>
                    <a:custGeom>
                      <a:avLst/>
                      <a:gdLst>
                        <a:gd name="textAreaLeft" fmla="*/ 0 w 317520"/>
                        <a:gd name="textAreaRight" fmla="*/ 317880 w 317520"/>
                        <a:gd name="textAreaTop" fmla="*/ 0 h 61920"/>
                        <a:gd name="textAreaBottom" fmla="*/ 62280 h 6192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88" name="Freeform 1530"/>
                    <p:cNvSpPr/>
                    <p:nvPr/>
                  </p:nvSpPr>
                  <p:spPr>
                    <a:xfrm rot="2241600">
                      <a:off x="1568160" y="3008880"/>
                      <a:ext cx="324360" cy="81720"/>
                    </a:xfrm>
                    <a:custGeom>
                      <a:avLst/>
                      <a:gdLst>
                        <a:gd name="textAreaLeft" fmla="*/ 0 w 324360"/>
                        <a:gd name="textAreaRight" fmla="*/ 324720 w 324360"/>
                        <a:gd name="textAreaTop" fmla="*/ 0 h 81720"/>
                        <a:gd name="textAreaBottom" fmla="*/ 82080 h 817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589" name="Freeform 1531"/>
                  <p:cNvSpPr/>
                  <p:nvPr/>
                </p:nvSpPr>
                <p:spPr>
                  <a:xfrm rot="2241600">
                    <a:off x="1800000" y="3076920"/>
                    <a:ext cx="32400" cy="5796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7960"/>
                      <a:gd name="textAreaBottom" fmla="*/ 58320 h 57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0" name="Freeform 1532"/>
                  <p:cNvSpPr/>
                  <p:nvPr/>
                </p:nvSpPr>
                <p:spPr>
                  <a:xfrm rot="2241600">
                    <a:off x="1764000" y="3049920"/>
                    <a:ext cx="32400" cy="5796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7960"/>
                      <a:gd name="textAreaBottom" fmla="*/ 58320 h 57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1" name="Freeform 1533"/>
                  <p:cNvSpPr/>
                  <p:nvPr/>
                </p:nvSpPr>
                <p:spPr>
                  <a:xfrm rot="2241600">
                    <a:off x="1730880" y="3029400"/>
                    <a:ext cx="26640" cy="36720"/>
                  </a:xfrm>
                  <a:custGeom>
                    <a:avLst/>
                    <a:gdLst>
                      <a:gd name="textAreaLeft" fmla="*/ 0 w 26640"/>
                      <a:gd name="textAreaRight" fmla="*/ 27000 w 266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2" name="Freeform 1534"/>
                  <p:cNvSpPr/>
                  <p:nvPr/>
                </p:nvSpPr>
                <p:spPr>
                  <a:xfrm rot="2241600">
                    <a:off x="1782360" y="3022560"/>
                    <a:ext cx="41760" cy="28800"/>
                  </a:xfrm>
                  <a:custGeom>
                    <a:avLst/>
                    <a:gdLst>
                      <a:gd name="textAreaLeft" fmla="*/ 0 w 41760"/>
                      <a:gd name="textAreaRight" fmla="*/ 42120 w 4176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3" name="Freeform 1535"/>
                  <p:cNvSpPr/>
                  <p:nvPr/>
                </p:nvSpPr>
                <p:spPr>
                  <a:xfrm rot="2241600">
                    <a:off x="1811880" y="3042360"/>
                    <a:ext cx="44640" cy="3204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594" name="Group 1536"/>
              <p:cNvGrpSpPr/>
              <p:nvPr/>
            </p:nvGrpSpPr>
            <p:grpSpPr>
              <a:xfrm>
                <a:off x="2539440" y="3406320"/>
                <a:ext cx="272520" cy="326880"/>
                <a:chOff x="2539440" y="3406320"/>
                <a:chExt cx="272520" cy="326880"/>
              </a:xfrm>
            </p:grpSpPr>
            <p:sp>
              <p:nvSpPr>
                <p:cNvPr id="1595" name="Freeform 1537"/>
                <p:cNvSpPr/>
                <p:nvPr/>
              </p:nvSpPr>
              <p:spPr>
                <a:xfrm flipV="1" rot="16192200">
                  <a:off x="2548080" y="3396960"/>
                  <a:ext cx="124560" cy="14220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-360 h 142200"/>
                    <a:gd name="textAreaBottom" fmla="*/ 142200 h 142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596" name="Group 1538"/>
                <p:cNvGrpSpPr/>
                <p:nvPr/>
              </p:nvGrpSpPr>
              <p:grpSpPr>
                <a:xfrm>
                  <a:off x="2546640" y="3433680"/>
                  <a:ext cx="265320" cy="299520"/>
                  <a:chOff x="2546640" y="3433680"/>
                  <a:chExt cx="265320" cy="299520"/>
                </a:xfrm>
              </p:grpSpPr>
              <p:grpSp>
                <p:nvGrpSpPr>
                  <p:cNvPr id="1597" name="Group 1539"/>
                  <p:cNvGrpSpPr/>
                  <p:nvPr/>
                </p:nvGrpSpPr>
                <p:grpSpPr>
                  <a:xfrm>
                    <a:off x="2546640" y="3433680"/>
                    <a:ext cx="265320" cy="299520"/>
                    <a:chOff x="2546640" y="3433680"/>
                    <a:chExt cx="265320" cy="299520"/>
                  </a:xfrm>
                </p:grpSpPr>
                <p:sp>
                  <p:nvSpPr>
                    <p:cNvPr id="1598" name="Freeform 1540"/>
                    <p:cNvSpPr/>
                    <p:nvPr/>
                  </p:nvSpPr>
                  <p:spPr>
                    <a:xfrm flipV="1" rot="14394600">
                      <a:off x="2586240" y="3525120"/>
                      <a:ext cx="256320" cy="76680"/>
                    </a:xfrm>
                    <a:custGeom>
                      <a:avLst/>
                      <a:gdLst>
                        <a:gd name="textAreaLeft" fmla="*/ 0 w 256320"/>
                        <a:gd name="textAreaRight" fmla="*/ 256680 w 256320"/>
                        <a:gd name="textAreaTop" fmla="*/ -360 h 76680"/>
                        <a:gd name="textAreaBottom" fmla="*/ 76680 h 766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99" name="Freeform 1541"/>
                    <p:cNvSpPr/>
                    <p:nvPr/>
                  </p:nvSpPr>
                  <p:spPr>
                    <a:xfrm flipV="1" rot="14394600">
                      <a:off x="2525040" y="3543480"/>
                      <a:ext cx="261720" cy="101520"/>
                    </a:xfrm>
                    <a:custGeom>
                      <a:avLst/>
                      <a:gdLst>
                        <a:gd name="textAreaLeft" fmla="*/ 0 w 261720"/>
                        <a:gd name="textAreaRight" fmla="*/ 262080 w 261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600" name="Freeform 1542"/>
                  <p:cNvSpPr/>
                  <p:nvPr/>
                </p:nvSpPr>
                <p:spPr>
                  <a:xfrm flipV="1" rot="14394600">
                    <a:off x="2609640" y="348192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1" name="Freeform 1543"/>
                  <p:cNvSpPr/>
                  <p:nvPr/>
                </p:nvSpPr>
                <p:spPr>
                  <a:xfrm flipV="1" rot="14394600">
                    <a:off x="2628360" y="351324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2" name="Freeform 1544"/>
                  <p:cNvSpPr/>
                  <p:nvPr/>
                </p:nvSpPr>
                <p:spPr>
                  <a:xfrm flipV="1" rot="14394600">
                    <a:off x="2652840" y="3557160"/>
                    <a:ext cx="21600" cy="45720"/>
                  </a:xfrm>
                  <a:custGeom>
                    <a:avLst/>
                    <a:gdLst>
                      <a:gd name="textAreaLeft" fmla="*/ 0 w 21600"/>
                      <a:gd name="textAreaRight" fmla="*/ 21960 w 2160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3" name="Freeform 1545"/>
                  <p:cNvSpPr/>
                  <p:nvPr/>
                </p:nvSpPr>
                <p:spPr>
                  <a:xfrm flipV="1" rot="14394600">
                    <a:off x="2677680" y="3507120"/>
                    <a:ext cx="33840" cy="36000"/>
                  </a:xfrm>
                  <a:custGeom>
                    <a:avLst/>
                    <a:gdLst>
                      <a:gd name="textAreaLeft" fmla="*/ 0 w 33840"/>
                      <a:gd name="textAreaRight" fmla="*/ 34200 w 33840"/>
                      <a:gd name="textAreaTop" fmla="*/ 360 h 36000"/>
                      <a:gd name="textAreaBottom" fmla="*/ 36720 h 36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4" name="Freeform 1546"/>
                  <p:cNvSpPr/>
                  <p:nvPr/>
                </p:nvSpPr>
                <p:spPr>
                  <a:xfrm flipV="1" rot="14394600">
                    <a:off x="2662920" y="3478320"/>
                    <a:ext cx="36000" cy="3996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-36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605" name="Group 1547"/>
              <p:cNvGrpSpPr/>
              <p:nvPr/>
            </p:nvGrpSpPr>
            <p:grpSpPr>
              <a:xfrm>
                <a:off x="2482920" y="3968280"/>
                <a:ext cx="272520" cy="326880"/>
                <a:chOff x="2482920" y="3968280"/>
                <a:chExt cx="272520" cy="326880"/>
              </a:xfrm>
            </p:grpSpPr>
            <p:sp>
              <p:nvSpPr>
                <p:cNvPr id="1606" name="Freeform 1548"/>
                <p:cNvSpPr/>
                <p:nvPr/>
              </p:nvSpPr>
              <p:spPr>
                <a:xfrm flipV="1" rot="16192200">
                  <a:off x="2491560" y="3958920"/>
                  <a:ext cx="124560" cy="14220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-360 h 142200"/>
                    <a:gd name="textAreaBottom" fmla="*/ 142200 h 142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607" name="Group 1549"/>
                <p:cNvGrpSpPr/>
                <p:nvPr/>
              </p:nvGrpSpPr>
              <p:grpSpPr>
                <a:xfrm>
                  <a:off x="2490120" y="3995640"/>
                  <a:ext cx="265320" cy="299520"/>
                  <a:chOff x="2490120" y="3995640"/>
                  <a:chExt cx="265320" cy="299520"/>
                </a:xfrm>
              </p:grpSpPr>
              <p:grpSp>
                <p:nvGrpSpPr>
                  <p:cNvPr id="1608" name="Group 1550"/>
                  <p:cNvGrpSpPr/>
                  <p:nvPr/>
                </p:nvGrpSpPr>
                <p:grpSpPr>
                  <a:xfrm>
                    <a:off x="2490120" y="3995640"/>
                    <a:ext cx="265320" cy="299520"/>
                    <a:chOff x="2490120" y="3995640"/>
                    <a:chExt cx="265320" cy="299520"/>
                  </a:xfrm>
                </p:grpSpPr>
                <p:sp>
                  <p:nvSpPr>
                    <p:cNvPr id="1609" name="Freeform 1551"/>
                    <p:cNvSpPr/>
                    <p:nvPr/>
                  </p:nvSpPr>
                  <p:spPr>
                    <a:xfrm flipV="1" rot="14394600">
                      <a:off x="2529720" y="4087080"/>
                      <a:ext cx="256320" cy="76680"/>
                    </a:xfrm>
                    <a:custGeom>
                      <a:avLst/>
                      <a:gdLst>
                        <a:gd name="textAreaLeft" fmla="*/ 0 w 256320"/>
                        <a:gd name="textAreaRight" fmla="*/ 256680 w 256320"/>
                        <a:gd name="textAreaTop" fmla="*/ -360 h 76680"/>
                        <a:gd name="textAreaBottom" fmla="*/ 76680 h 766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10" name="Freeform 1552"/>
                    <p:cNvSpPr/>
                    <p:nvPr/>
                  </p:nvSpPr>
                  <p:spPr>
                    <a:xfrm flipV="1" rot="14394600">
                      <a:off x="2468520" y="4105440"/>
                      <a:ext cx="261720" cy="101520"/>
                    </a:xfrm>
                    <a:custGeom>
                      <a:avLst/>
                      <a:gdLst>
                        <a:gd name="textAreaLeft" fmla="*/ 0 w 261720"/>
                        <a:gd name="textAreaRight" fmla="*/ 262080 w 261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611" name="Freeform 1553"/>
                  <p:cNvSpPr/>
                  <p:nvPr/>
                </p:nvSpPr>
                <p:spPr>
                  <a:xfrm flipV="1" rot="14394600">
                    <a:off x="2553120" y="404388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12" name="Freeform 1554"/>
                  <p:cNvSpPr/>
                  <p:nvPr/>
                </p:nvSpPr>
                <p:spPr>
                  <a:xfrm flipV="1" rot="14394600">
                    <a:off x="2571840" y="407520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13" name="Freeform 1555"/>
                  <p:cNvSpPr/>
                  <p:nvPr/>
                </p:nvSpPr>
                <p:spPr>
                  <a:xfrm flipV="1" rot="14394600">
                    <a:off x="2596320" y="4119120"/>
                    <a:ext cx="21600" cy="45720"/>
                  </a:xfrm>
                  <a:custGeom>
                    <a:avLst/>
                    <a:gdLst>
                      <a:gd name="textAreaLeft" fmla="*/ 0 w 21600"/>
                      <a:gd name="textAreaRight" fmla="*/ 21960 w 2160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14" name="Freeform 1556"/>
                  <p:cNvSpPr/>
                  <p:nvPr/>
                </p:nvSpPr>
                <p:spPr>
                  <a:xfrm flipV="1" rot="14394600">
                    <a:off x="2621160" y="4069080"/>
                    <a:ext cx="33840" cy="36000"/>
                  </a:xfrm>
                  <a:custGeom>
                    <a:avLst/>
                    <a:gdLst>
                      <a:gd name="textAreaLeft" fmla="*/ 0 w 33840"/>
                      <a:gd name="textAreaRight" fmla="*/ 34200 w 33840"/>
                      <a:gd name="textAreaTop" fmla="*/ 360 h 36000"/>
                      <a:gd name="textAreaBottom" fmla="*/ 36720 h 36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15" name="Freeform 1557"/>
                  <p:cNvSpPr/>
                  <p:nvPr/>
                </p:nvSpPr>
                <p:spPr>
                  <a:xfrm flipV="1" rot="14394600">
                    <a:off x="2606400" y="4040280"/>
                    <a:ext cx="36000" cy="3996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-36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616" name="Group 1558"/>
              <p:cNvGrpSpPr/>
              <p:nvPr/>
            </p:nvGrpSpPr>
            <p:grpSpPr>
              <a:xfrm>
                <a:off x="2295000" y="3424680"/>
                <a:ext cx="272520" cy="326880"/>
                <a:chOff x="2295000" y="3424680"/>
                <a:chExt cx="272520" cy="326880"/>
              </a:xfrm>
            </p:grpSpPr>
            <p:sp>
              <p:nvSpPr>
                <p:cNvPr id="1617" name="Freeform 1559"/>
                <p:cNvSpPr/>
                <p:nvPr/>
              </p:nvSpPr>
              <p:spPr>
                <a:xfrm flipV="1" rot="16192200">
                  <a:off x="2303640" y="3415320"/>
                  <a:ext cx="124560" cy="14220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-360 h 142200"/>
                    <a:gd name="textAreaBottom" fmla="*/ 142200 h 142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618" name="Group 1560"/>
                <p:cNvGrpSpPr/>
                <p:nvPr/>
              </p:nvGrpSpPr>
              <p:grpSpPr>
                <a:xfrm>
                  <a:off x="2302200" y="3452040"/>
                  <a:ext cx="265320" cy="299520"/>
                  <a:chOff x="2302200" y="3452040"/>
                  <a:chExt cx="265320" cy="299520"/>
                </a:xfrm>
              </p:grpSpPr>
              <p:grpSp>
                <p:nvGrpSpPr>
                  <p:cNvPr id="1619" name="Group 1561"/>
                  <p:cNvGrpSpPr/>
                  <p:nvPr/>
                </p:nvGrpSpPr>
                <p:grpSpPr>
                  <a:xfrm>
                    <a:off x="2302200" y="3452040"/>
                    <a:ext cx="265320" cy="299520"/>
                    <a:chOff x="2302200" y="3452040"/>
                    <a:chExt cx="265320" cy="299520"/>
                  </a:xfrm>
                </p:grpSpPr>
                <p:sp>
                  <p:nvSpPr>
                    <p:cNvPr id="1620" name="Freeform 1562"/>
                    <p:cNvSpPr/>
                    <p:nvPr/>
                  </p:nvSpPr>
                  <p:spPr>
                    <a:xfrm flipV="1" rot="14394600">
                      <a:off x="2341800" y="3543480"/>
                      <a:ext cx="256320" cy="76680"/>
                    </a:xfrm>
                    <a:custGeom>
                      <a:avLst/>
                      <a:gdLst>
                        <a:gd name="textAreaLeft" fmla="*/ 0 w 256320"/>
                        <a:gd name="textAreaRight" fmla="*/ 256680 w 256320"/>
                        <a:gd name="textAreaTop" fmla="*/ -360 h 76680"/>
                        <a:gd name="textAreaBottom" fmla="*/ 76680 h 766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21" name="Freeform 1563"/>
                    <p:cNvSpPr/>
                    <p:nvPr/>
                  </p:nvSpPr>
                  <p:spPr>
                    <a:xfrm flipV="1" rot="14394600">
                      <a:off x="2280600" y="3561840"/>
                      <a:ext cx="261720" cy="101520"/>
                    </a:xfrm>
                    <a:custGeom>
                      <a:avLst/>
                      <a:gdLst>
                        <a:gd name="textAreaLeft" fmla="*/ 0 w 261720"/>
                        <a:gd name="textAreaRight" fmla="*/ 262080 w 261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622" name="Freeform 1564"/>
                  <p:cNvSpPr/>
                  <p:nvPr/>
                </p:nvSpPr>
                <p:spPr>
                  <a:xfrm flipV="1" rot="14394600">
                    <a:off x="2365200" y="350028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3" name="Freeform 1565"/>
                  <p:cNvSpPr/>
                  <p:nvPr/>
                </p:nvSpPr>
                <p:spPr>
                  <a:xfrm flipV="1" rot="14394600">
                    <a:off x="2383920" y="353160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4" name="Freeform 1566"/>
                  <p:cNvSpPr/>
                  <p:nvPr/>
                </p:nvSpPr>
                <p:spPr>
                  <a:xfrm flipV="1" rot="14394600">
                    <a:off x="2408400" y="3575520"/>
                    <a:ext cx="21600" cy="45720"/>
                  </a:xfrm>
                  <a:custGeom>
                    <a:avLst/>
                    <a:gdLst>
                      <a:gd name="textAreaLeft" fmla="*/ 0 w 21600"/>
                      <a:gd name="textAreaRight" fmla="*/ 21960 w 2160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5" name="Freeform 1567"/>
                  <p:cNvSpPr/>
                  <p:nvPr/>
                </p:nvSpPr>
                <p:spPr>
                  <a:xfrm flipV="1" rot="14394600">
                    <a:off x="2433240" y="3525480"/>
                    <a:ext cx="33840" cy="36000"/>
                  </a:xfrm>
                  <a:custGeom>
                    <a:avLst/>
                    <a:gdLst>
                      <a:gd name="textAreaLeft" fmla="*/ 0 w 33840"/>
                      <a:gd name="textAreaRight" fmla="*/ 34200 w 33840"/>
                      <a:gd name="textAreaTop" fmla="*/ 360 h 36000"/>
                      <a:gd name="textAreaBottom" fmla="*/ 36720 h 36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6" name="Freeform 1568"/>
                  <p:cNvSpPr/>
                  <p:nvPr/>
                </p:nvSpPr>
                <p:spPr>
                  <a:xfrm flipV="1" rot="14394600">
                    <a:off x="2418480" y="3496680"/>
                    <a:ext cx="36000" cy="3996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-36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627" name="Group 1569"/>
              <p:cNvGrpSpPr/>
              <p:nvPr/>
            </p:nvGrpSpPr>
            <p:grpSpPr>
              <a:xfrm>
                <a:off x="1585080" y="3295080"/>
                <a:ext cx="272520" cy="326880"/>
                <a:chOff x="1585080" y="3295080"/>
                <a:chExt cx="272520" cy="326880"/>
              </a:xfrm>
            </p:grpSpPr>
            <p:sp>
              <p:nvSpPr>
                <p:cNvPr id="1628" name="Freeform 1570"/>
                <p:cNvSpPr/>
                <p:nvPr/>
              </p:nvSpPr>
              <p:spPr>
                <a:xfrm flipV="1" rot="16192200">
                  <a:off x="1593720" y="3285720"/>
                  <a:ext cx="124560" cy="14220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-360 h 142200"/>
                    <a:gd name="textAreaBottom" fmla="*/ 142200 h 142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629" name="Group 1571"/>
                <p:cNvGrpSpPr/>
                <p:nvPr/>
              </p:nvGrpSpPr>
              <p:grpSpPr>
                <a:xfrm>
                  <a:off x="1592280" y="3322440"/>
                  <a:ext cx="265320" cy="299520"/>
                  <a:chOff x="1592280" y="3322440"/>
                  <a:chExt cx="265320" cy="299520"/>
                </a:xfrm>
              </p:grpSpPr>
              <p:grpSp>
                <p:nvGrpSpPr>
                  <p:cNvPr id="1630" name="Group 1572"/>
                  <p:cNvGrpSpPr/>
                  <p:nvPr/>
                </p:nvGrpSpPr>
                <p:grpSpPr>
                  <a:xfrm>
                    <a:off x="1592280" y="3322440"/>
                    <a:ext cx="265320" cy="299520"/>
                    <a:chOff x="1592280" y="3322440"/>
                    <a:chExt cx="265320" cy="299520"/>
                  </a:xfrm>
                </p:grpSpPr>
                <p:sp>
                  <p:nvSpPr>
                    <p:cNvPr id="1631" name="Freeform 1573"/>
                    <p:cNvSpPr/>
                    <p:nvPr/>
                  </p:nvSpPr>
                  <p:spPr>
                    <a:xfrm flipV="1" rot="14394600">
                      <a:off x="1631880" y="3413880"/>
                      <a:ext cx="256320" cy="76680"/>
                    </a:xfrm>
                    <a:custGeom>
                      <a:avLst/>
                      <a:gdLst>
                        <a:gd name="textAreaLeft" fmla="*/ 0 w 256320"/>
                        <a:gd name="textAreaRight" fmla="*/ 256680 w 256320"/>
                        <a:gd name="textAreaTop" fmla="*/ -360 h 76680"/>
                        <a:gd name="textAreaBottom" fmla="*/ 76680 h 766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32" name="Freeform 1574"/>
                    <p:cNvSpPr/>
                    <p:nvPr/>
                  </p:nvSpPr>
                  <p:spPr>
                    <a:xfrm flipV="1" rot="14394600">
                      <a:off x="1570680" y="3432240"/>
                      <a:ext cx="261720" cy="101520"/>
                    </a:xfrm>
                    <a:custGeom>
                      <a:avLst/>
                      <a:gdLst>
                        <a:gd name="textAreaLeft" fmla="*/ 0 w 261720"/>
                        <a:gd name="textAreaRight" fmla="*/ 262080 w 261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633" name="Freeform 1575"/>
                  <p:cNvSpPr/>
                  <p:nvPr/>
                </p:nvSpPr>
                <p:spPr>
                  <a:xfrm flipV="1" rot="14394600">
                    <a:off x="1655280" y="337068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4" name="Freeform 1576"/>
                  <p:cNvSpPr/>
                  <p:nvPr/>
                </p:nvSpPr>
                <p:spPr>
                  <a:xfrm flipV="1" rot="14394600">
                    <a:off x="1674000" y="340200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5" name="Freeform 1577"/>
                  <p:cNvSpPr/>
                  <p:nvPr/>
                </p:nvSpPr>
                <p:spPr>
                  <a:xfrm flipV="1" rot="14394600">
                    <a:off x="1698480" y="3445920"/>
                    <a:ext cx="21600" cy="45720"/>
                  </a:xfrm>
                  <a:custGeom>
                    <a:avLst/>
                    <a:gdLst>
                      <a:gd name="textAreaLeft" fmla="*/ 0 w 21600"/>
                      <a:gd name="textAreaRight" fmla="*/ 21960 w 2160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6" name="Freeform 1578"/>
                  <p:cNvSpPr/>
                  <p:nvPr/>
                </p:nvSpPr>
                <p:spPr>
                  <a:xfrm flipV="1" rot="14394600">
                    <a:off x="1723320" y="3395880"/>
                    <a:ext cx="33840" cy="36000"/>
                  </a:xfrm>
                  <a:custGeom>
                    <a:avLst/>
                    <a:gdLst>
                      <a:gd name="textAreaLeft" fmla="*/ 0 w 33840"/>
                      <a:gd name="textAreaRight" fmla="*/ 34200 w 33840"/>
                      <a:gd name="textAreaTop" fmla="*/ 360 h 36000"/>
                      <a:gd name="textAreaBottom" fmla="*/ 36720 h 36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7" name="Freeform 1579"/>
                  <p:cNvSpPr/>
                  <p:nvPr/>
                </p:nvSpPr>
                <p:spPr>
                  <a:xfrm flipV="1" rot="14394600">
                    <a:off x="1708560" y="3367080"/>
                    <a:ext cx="36000" cy="3996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-36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638" name="Group 1580"/>
              <p:cNvGrpSpPr/>
              <p:nvPr/>
            </p:nvGrpSpPr>
            <p:grpSpPr>
              <a:xfrm>
                <a:off x="1668600" y="3709080"/>
                <a:ext cx="272520" cy="326880"/>
                <a:chOff x="1668600" y="3709080"/>
                <a:chExt cx="272520" cy="326880"/>
              </a:xfrm>
            </p:grpSpPr>
            <p:sp>
              <p:nvSpPr>
                <p:cNvPr id="1639" name="Freeform 1581"/>
                <p:cNvSpPr/>
                <p:nvPr/>
              </p:nvSpPr>
              <p:spPr>
                <a:xfrm flipV="1" rot="16192200">
                  <a:off x="1677240" y="3699720"/>
                  <a:ext cx="124560" cy="14220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-360 h 142200"/>
                    <a:gd name="textAreaBottom" fmla="*/ 142200 h 142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640" name="Group 1582"/>
                <p:cNvGrpSpPr/>
                <p:nvPr/>
              </p:nvGrpSpPr>
              <p:grpSpPr>
                <a:xfrm>
                  <a:off x="1675800" y="3736440"/>
                  <a:ext cx="265320" cy="299520"/>
                  <a:chOff x="1675800" y="3736440"/>
                  <a:chExt cx="265320" cy="299520"/>
                </a:xfrm>
              </p:grpSpPr>
              <p:grpSp>
                <p:nvGrpSpPr>
                  <p:cNvPr id="1641" name="Group 1583"/>
                  <p:cNvGrpSpPr/>
                  <p:nvPr/>
                </p:nvGrpSpPr>
                <p:grpSpPr>
                  <a:xfrm>
                    <a:off x="1675800" y="3736440"/>
                    <a:ext cx="265320" cy="299520"/>
                    <a:chOff x="1675800" y="3736440"/>
                    <a:chExt cx="265320" cy="299520"/>
                  </a:xfrm>
                </p:grpSpPr>
                <p:sp>
                  <p:nvSpPr>
                    <p:cNvPr id="1642" name="Freeform 1584"/>
                    <p:cNvSpPr/>
                    <p:nvPr/>
                  </p:nvSpPr>
                  <p:spPr>
                    <a:xfrm flipV="1" rot="14394600">
                      <a:off x="1715400" y="3827880"/>
                      <a:ext cx="256320" cy="76680"/>
                    </a:xfrm>
                    <a:custGeom>
                      <a:avLst/>
                      <a:gdLst>
                        <a:gd name="textAreaLeft" fmla="*/ 0 w 256320"/>
                        <a:gd name="textAreaRight" fmla="*/ 256680 w 256320"/>
                        <a:gd name="textAreaTop" fmla="*/ -360 h 76680"/>
                        <a:gd name="textAreaBottom" fmla="*/ 76680 h 766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43" name="Freeform 1585"/>
                    <p:cNvSpPr/>
                    <p:nvPr/>
                  </p:nvSpPr>
                  <p:spPr>
                    <a:xfrm flipV="1" rot="14394600">
                      <a:off x="1654200" y="3846240"/>
                      <a:ext cx="261720" cy="101520"/>
                    </a:xfrm>
                    <a:custGeom>
                      <a:avLst/>
                      <a:gdLst>
                        <a:gd name="textAreaLeft" fmla="*/ 0 w 261720"/>
                        <a:gd name="textAreaRight" fmla="*/ 262080 w 261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644" name="Freeform 1586"/>
                  <p:cNvSpPr/>
                  <p:nvPr/>
                </p:nvSpPr>
                <p:spPr>
                  <a:xfrm flipV="1" rot="14394600">
                    <a:off x="1738800" y="378468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5" name="Freeform 1587"/>
                  <p:cNvSpPr/>
                  <p:nvPr/>
                </p:nvSpPr>
                <p:spPr>
                  <a:xfrm flipV="1" rot="14394600">
                    <a:off x="1757520" y="381600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6" name="Freeform 1588"/>
                  <p:cNvSpPr/>
                  <p:nvPr/>
                </p:nvSpPr>
                <p:spPr>
                  <a:xfrm flipV="1" rot="14394600">
                    <a:off x="1782000" y="3859920"/>
                    <a:ext cx="21600" cy="45720"/>
                  </a:xfrm>
                  <a:custGeom>
                    <a:avLst/>
                    <a:gdLst>
                      <a:gd name="textAreaLeft" fmla="*/ 0 w 21600"/>
                      <a:gd name="textAreaRight" fmla="*/ 21960 w 2160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7" name="Freeform 1589"/>
                  <p:cNvSpPr/>
                  <p:nvPr/>
                </p:nvSpPr>
                <p:spPr>
                  <a:xfrm flipV="1" rot="14394600">
                    <a:off x="1806840" y="3809880"/>
                    <a:ext cx="33840" cy="36000"/>
                  </a:xfrm>
                  <a:custGeom>
                    <a:avLst/>
                    <a:gdLst>
                      <a:gd name="textAreaLeft" fmla="*/ 0 w 33840"/>
                      <a:gd name="textAreaRight" fmla="*/ 34200 w 33840"/>
                      <a:gd name="textAreaTop" fmla="*/ 360 h 36000"/>
                      <a:gd name="textAreaBottom" fmla="*/ 36720 h 36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8" name="Freeform 1590"/>
                  <p:cNvSpPr/>
                  <p:nvPr/>
                </p:nvSpPr>
                <p:spPr>
                  <a:xfrm flipV="1" rot="14394600">
                    <a:off x="1792080" y="3781080"/>
                    <a:ext cx="36000" cy="3996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-36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649" name="Group 1591"/>
              <p:cNvGrpSpPr/>
              <p:nvPr/>
            </p:nvGrpSpPr>
            <p:grpSpPr>
              <a:xfrm>
                <a:off x="2022120" y="4335840"/>
                <a:ext cx="318240" cy="371160"/>
                <a:chOff x="2022120" y="4335840"/>
                <a:chExt cx="318240" cy="371160"/>
              </a:xfrm>
            </p:grpSpPr>
            <p:sp>
              <p:nvSpPr>
                <p:cNvPr id="1650" name="Freeform 1592"/>
                <p:cNvSpPr/>
                <p:nvPr/>
              </p:nvSpPr>
              <p:spPr>
                <a:xfrm flipV="1" rot="20859000">
                  <a:off x="2217960" y="4344480"/>
                  <a:ext cx="100800" cy="17604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-360 h 176040"/>
                    <a:gd name="textAreaBottom" fmla="*/ 176040 h 17604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651" name="Group 1593"/>
                <p:cNvGrpSpPr/>
                <p:nvPr/>
              </p:nvGrpSpPr>
              <p:grpSpPr>
                <a:xfrm>
                  <a:off x="2022120" y="4396680"/>
                  <a:ext cx="318240" cy="310320"/>
                  <a:chOff x="2022120" y="4396680"/>
                  <a:chExt cx="318240" cy="310320"/>
                </a:xfrm>
              </p:grpSpPr>
              <p:grpSp>
                <p:nvGrpSpPr>
                  <p:cNvPr id="1652" name="Group 1594"/>
                  <p:cNvGrpSpPr/>
                  <p:nvPr/>
                </p:nvGrpSpPr>
                <p:grpSpPr>
                  <a:xfrm>
                    <a:off x="2022120" y="4396680"/>
                    <a:ext cx="318240" cy="310320"/>
                    <a:chOff x="2022120" y="4396680"/>
                    <a:chExt cx="318240" cy="310320"/>
                  </a:xfrm>
                </p:grpSpPr>
                <p:sp>
                  <p:nvSpPr>
                    <p:cNvPr id="1653" name="Freeform 1595"/>
                    <p:cNvSpPr/>
                    <p:nvPr/>
                  </p:nvSpPr>
                  <p:spPr>
                    <a:xfrm flipV="1" rot="19061400">
                      <a:off x="2043360" y="4545720"/>
                      <a:ext cx="317520" cy="61920"/>
                    </a:xfrm>
                    <a:custGeom>
                      <a:avLst/>
                      <a:gdLst>
                        <a:gd name="textAreaLeft" fmla="*/ 0 w 317520"/>
                        <a:gd name="textAreaRight" fmla="*/ 317880 w 317520"/>
                        <a:gd name="textAreaTop" fmla="*/ 360 h 61920"/>
                        <a:gd name="textAreaBottom" fmla="*/ 62640 h 6192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54" name="Freeform 1596"/>
                    <p:cNvSpPr/>
                    <p:nvPr/>
                  </p:nvSpPr>
                  <p:spPr>
                    <a:xfrm flipV="1" rot="19061400">
                      <a:off x="2007000" y="4494960"/>
                      <a:ext cx="324360" cy="81360"/>
                    </a:xfrm>
                    <a:custGeom>
                      <a:avLst/>
                      <a:gdLst>
                        <a:gd name="textAreaLeft" fmla="*/ 0 w 324360"/>
                        <a:gd name="textAreaRight" fmla="*/ 324720 w 324360"/>
                        <a:gd name="textAreaTop" fmla="*/ 360 h 81360"/>
                        <a:gd name="textAreaBottom" fmla="*/ 82080 h 8136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655" name="Freeform 1597"/>
                  <p:cNvSpPr/>
                  <p:nvPr/>
                </p:nvSpPr>
                <p:spPr>
                  <a:xfrm flipV="1" rot="19061400">
                    <a:off x="2233440" y="4443120"/>
                    <a:ext cx="32760" cy="5796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-360 h 57960"/>
                      <a:gd name="textAreaBottom" fmla="*/ 57960 h 57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6" name="Freeform 1598"/>
                  <p:cNvSpPr/>
                  <p:nvPr/>
                </p:nvSpPr>
                <p:spPr>
                  <a:xfrm flipV="1" rot="19061400">
                    <a:off x="2199960" y="4473360"/>
                    <a:ext cx="32760" cy="5796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-360 h 57960"/>
                      <a:gd name="textAreaBottom" fmla="*/ 57960 h 57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7" name="Freeform 1599"/>
                  <p:cNvSpPr/>
                  <p:nvPr/>
                </p:nvSpPr>
                <p:spPr>
                  <a:xfrm flipV="1" rot="19061400">
                    <a:off x="2169720" y="4517640"/>
                    <a:ext cx="26640" cy="36720"/>
                  </a:xfrm>
                  <a:custGeom>
                    <a:avLst/>
                    <a:gdLst>
                      <a:gd name="textAreaLeft" fmla="*/ 0 w 26640"/>
                      <a:gd name="textAreaRight" fmla="*/ 27000 w 26640"/>
                      <a:gd name="textAreaTop" fmla="*/ 360 h 36720"/>
                      <a:gd name="textAreaBottom" fmla="*/ 37440 h 36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8" name="Freeform 1600"/>
                  <p:cNvSpPr/>
                  <p:nvPr/>
                </p:nvSpPr>
                <p:spPr>
                  <a:xfrm flipV="1" rot="19061400">
                    <a:off x="2222280" y="4527360"/>
                    <a:ext cx="41760" cy="28800"/>
                  </a:xfrm>
                  <a:custGeom>
                    <a:avLst/>
                    <a:gdLst>
                      <a:gd name="textAreaLeft" fmla="*/ 0 w 41760"/>
                      <a:gd name="textAreaRight" fmla="*/ 42120 w 41760"/>
                      <a:gd name="textAreaTop" fmla="*/ 360 h 28800"/>
                      <a:gd name="textAreaBottom" fmla="*/ 29520 h 288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9" name="Freeform 1601"/>
                  <p:cNvSpPr/>
                  <p:nvPr/>
                </p:nvSpPr>
                <p:spPr>
                  <a:xfrm flipV="1" rot="19061400">
                    <a:off x="2249640" y="4502160"/>
                    <a:ext cx="44640" cy="3204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-360 h 32040"/>
                      <a:gd name="textAreaBottom" fmla="*/ 32040 h 3204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660" name="Group 1602"/>
              <p:cNvGrpSpPr/>
              <p:nvPr/>
            </p:nvGrpSpPr>
            <p:grpSpPr>
              <a:xfrm>
                <a:off x="2315880" y="4382280"/>
                <a:ext cx="272520" cy="326880"/>
                <a:chOff x="2315880" y="4382280"/>
                <a:chExt cx="272520" cy="326880"/>
              </a:xfrm>
            </p:grpSpPr>
            <p:sp>
              <p:nvSpPr>
                <p:cNvPr id="1661" name="Freeform 1603"/>
                <p:cNvSpPr/>
                <p:nvPr/>
              </p:nvSpPr>
              <p:spPr>
                <a:xfrm flipV="1" rot="16192200">
                  <a:off x="2324520" y="4372920"/>
                  <a:ext cx="124560" cy="14220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-360 h 142200"/>
                    <a:gd name="textAreaBottom" fmla="*/ 142200 h 142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662" name="Group 1604"/>
                <p:cNvGrpSpPr/>
                <p:nvPr/>
              </p:nvGrpSpPr>
              <p:grpSpPr>
                <a:xfrm>
                  <a:off x="2323080" y="4409640"/>
                  <a:ext cx="265320" cy="299520"/>
                  <a:chOff x="2323080" y="4409640"/>
                  <a:chExt cx="265320" cy="299520"/>
                </a:xfrm>
              </p:grpSpPr>
              <p:grpSp>
                <p:nvGrpSpPr>
                  <p:cNvPr id="1663" name="Group 1605"/>
                  <p:cNvGrpSpPr/>
                  <p:nvPr/>
                </p:nvGrpSpPr>
                <p:grpSpPr>
                  <a:xfrm>
                    <a:off x="2323080" y="4409640"/>
                    <a:ext cx="265320" cy="299520"/>
                    <a:chOff x="2323080" y="4409640"/>
                    <a:chExt cx="265320" cy="299520"/>
                  </a:xfrm>
                </p:grpSpPr>
                <p:sp>
                  <p:nvSpPr>
                    <p:cNvPr id="1664" name="Freeform 1606"/>
                    <p:cNvSpPr/>
                    <p:nvPr/>
                  </p:nvSpPr>
                  <p:spPr>
                    <a:xfrm flipV="1" rot="14394600">
                      <a:off x="2362680" y="4501080"/>
                      <a:ext cx="256320" cy="76680"/>
                    </a:xfrm>
                    <a:custGeom>
                      <a:avLst/>
                      <a:gdLst>
                        <a:gd name="textAreaLeft" fmla="*/ 0 w 256320"/>
                        <a:gd name="textAreaRight" fmla="*/ 256680 w 256320"/>
                        <a:gd name="textAreaTop" fmla="*/ -360 h 76680"/>
                        <a:gd name="textAreaBottom" fmla="*/ 76680 h 766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65" name="Freeform 1607"/>
                    <p:cNvSpPr/>
                    <p:nvPr/>
                  </p:nvSpPr>
                  <p:spPr>
                    <a:xfrm flipV="1" rot="14394600">
                      <a:off x="2301480" y="4519440"/>
                      <a:ext cx="261720" cy="101520"/>
                    </a:xfrm>
                    <a:custGeom>
                      <a:avLst/>
                      <a:gdLst>
                        <a:gd name="textAreaLeft" fmla="*/ 0 w 261720"/>
                        <a:gd name="textAreaRight" fmla="*/ 262080 w 261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666" name="Freeform 1608"/>
                  <p:cNvSpPr/>
                  <p:nvPr/>
                </p:nvSpPr>
                <p:spPr>
                  <a:xfrm flipV="1" rot="14394600">
                    <a:off x="2386080" y="445788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7" name="Freeform 1609"/>
                  <p:cNvSpPr/>
                  <p:nvPr/>
                </p:nvSpPr>
                <p:spPr>
                  <a:xfrm flipV="1" rot="14394600">
                    <a:off x="2404800" y="448920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8" name="Freeform 1610"/>
                  <p:cNvSpPr/>
                  <p:nvPr/>
                </p:nvSpPr>
                <p:spPr>
                  <a:xfrm flipV="1" rot="14394600">
                    <a:off x="2429280" y="4533120"/>
                    <a:ext cx="21600" cy="45720"/>
                  </a:xfrm>
                  <a:custGeom>
                    <a:avLst/>
                    <a:gdLst>
                      <a:gd name="textAreaLeft" fmla="*/ 0 w 21600"/>
                      <a:gd name="textAreaRight" fmla="*/ 21960 w 2160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9" name="Freeform 1611"/>
                  <p:cNvSpPr/>
                  <p:nvPr/>
                </p:nvSpPr>
                <p:spPr>
                  <a:xfrm flipV="1" rot="14394600">
                    <a:off x="2454120" y="4483080"/>
                    <a:ext cx="33840" cy="36000"/>
                  </a:xfrm>
                  <a:custGeom>
                    <a:avLst/>
                    <a:gdLst>
                      <a:gd name="textAreaLeft" fmla="*/ 0 w 33840"/>
                      <a:gd name="textAreaRight" fmla="*/ 34200 w 33840"/>
                      <a:gd name="textAreaTop" fmla="*/ 360 h 36000"/>
                      <a:gd name="textAreaBottom" fmla="*/ 36720 h 36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70" name="Freeform 1612"/>
                  <p:cNvSpPr/>
                  <p:nvPr/>
                </p:nvSpPr>
                <p:spPr>
                  <a:xfrm flipV="1" rot="14394600">
                    <a:off x="2439360" y="4454280"/>
                    <a:ext cx="36000" cy="3996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-36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671" name="Group 1613"/>
              <p:cNvGrpSpPr/>
              <p:nvPr/>
            </p:nvGrpSpPr>
            <p:grpSpPr>
              <a:xfrm>
                <a:off x="1647720" y="4356360"/>
                <a:ext cx="272520" cy="326880"/>
                <a:chOff x="1647720" y="4356360"/>
                <a:chExt cx="272520" cy="326880"/>
              </a:xfrm>
            </p:grpSpPr>
            <p:sp>
              <p:nvSpPr>
                <p:cNvPr id="1672" name="Freeform 1614"/>
                <p:cNvSpPr/>
                <p:nvPr/>
              </p:nvSpPr>
              <p:spPr>
                <a:xfrm flipV="1" rot="16192200">
                  <a:off x="1656360" y="4347000"/>
                  <a:ext cx="124560" cy="14220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-360 h 142200"/>
                    <a:gd name="textAreaBottom" fmla="*/ 142200 h 142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673" name="Group 1615"/>
                <p:cNvGrpSpPr/>
                <p:nvPr/>
              </p:nvGrpSpPr>
              <p:grpSpPr>
                <a:xfrm>
                  <a:off x="1654920" y="4383720"/>
                  <a:ext cx="265320" cy="299520"/>
                  <a:chOff x="1654920" y="4383720"/>
                  <a:chExt cx="265320" cy="299520"/>
                </a:xfrm>
              </p:grpSpPr>
              <p:grpSp>
                <p:nvGrpSpPr>
                  <p:cNvPr id="1674" name="Group 1616"/>
                  <p:cNvGrpSpPr/>
                  <p:nvPr/>
                </p:nvGrpSpPr>
                <p:grpSpPr>
                  <a:xfrm>
                    <a:off x="1654920" y="4383720"/>
                    <a:ext cx="265320" cy="299520"/>
                    <a:chOff x="1654920" y="4383720"/>
                    <a:chExt cx="265320" cy="299520"/>
                  </a:xfrm>
                </p:grpSpPr>
                <p:sp>
                  <p:nvSpPr>
                    <p:cNvPr id="1675" name="Freeform 1617"/>
                    <p:cNvSpPr/>
                    <p:nvPr/>
                  </p:nvSpPr>
                  <p:spPr>
                    <a:xfrm flipV="1" rot="14394600">
                      <a:off x="1694520" y="4475160"/>
                      <a:ext cx="256320" cy="76680"/>
                    </a:xfrm>
                    <a:custGeom>
                      <a:avLst/>
                      <a:gdLst>
                        <a:gd name="textAreaLeft" fmla="*/ 0 w 256320"/>
                        <a:gd name="textAreaRight" fmla="*/ 256680 w 256320"/>
                        <a:gd name="textAreaTop" fmla="*/ -360 h 76680"/>
                        <a:gd name="textAreaBottom" fmla="*/ 76680 h 766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76" name="Freeform 1618"/>
                    <p:cNvSpPr/>
                    <p:nvPr/>
                  </p:nvSpPr>
                  <p:spPr>
                    <a:xfrm flipV="1" rot="14394600">
                      <a:off x="1633320" y="4493520"/>
                      <a:ext cx="261720" cy="101520"/>
                    </a:xfrm>
                    <a:custGeom>
                      <a:avLst/>
                      <a:gdLst>
                        <a:gd name="textAreaLeft" fmla="*/ 0 w 261720"/>
                        <a:gd name="textAreaRight" fmla="*/ 262080 w 261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677" name="Freeform 1619"/>
                  <p:cNvSpPr/>
                  <p:nvPr/>
                </p:nvSpPr>
                <p:spPr>
                  <a:xfrm flipV="1" rot="14394600">
                    <a:off x="1717920" y="443196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78" name="Freeform 1620"/>
                  <p:cNvSpPr/>
                  <p:nvPr/>
                </p:nvSpPr>
                <p:spPr>
                  <a:xfrm flipV="1" rot="14394600">
                    <a:off x="1736640" y="4463280"/>
                    <a:ext cx="26280" cy="720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79" name="Freeform 1621"/>
                  <p:cNvSpPr/>
                  <p:nvPr/>
                </p:nvSpPr>
                <p:spPr>
                  <a:xfrm flipV="1" rot="14394600">
                    <a:off x="1761120" y="4507200"/>
                    <a:ext cx="21600" cy="45720"/>
                  </a:xfrm>
                  <a:custGeom>
                    <a:avLst/>
                    <a:gdLst>
                      <a:gd name="textAreaLeft" fmla="*/ 0 w 21600"/>
                      <a:gd name="textAreaRight" fmla="*/ 21960 w 2160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0" name="Freeform 1622"/>
                  <p:cNvSpPr/>
                  <p:nvPr/>
                </p:nvSpPr>
                <p:spPr>
                  <a:xfrm flipV="1" rot="14394600">
                    <a:off x="1785960" y="4457160"/>
                    <a:ext cx="33840" cy="36000"/>
                  </a:xfrm>
                  <a:custGeom>
                    <a:avLst/>
                    <a:gdLst>
                      <a:gd name="textAreaLeft" fmla="*/ 0 w 33840"/>
                      <a:gd name="textAreaRight" fmla="*/ 34200 w 33840"/>
                      <a:gd name="textAreaTop" fmla="*/ 360 h 36000"/>
                      <a:gd name="textAreaBottom" fmla="*/ 36720 h 36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1" name="Freeform 1623"/>
                  <p:cNvSpPr/>
                  <p:nvPr/>
                </p:nvSpPr>
                <p:spPr>
                  <a:xfrm flipV="1" rot="14394600">
                    <a:off x="1771200" y="4428360"/>
                    <a:ext cx="36000" cy="3996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-36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682" name="Group 1624"/>
            <p:cNvGrpSpPr/>
            <p:nvPr/>
          </p:nvGrpSpPr>
          <p:grpSpPr>
            <a:xfrm>
              <a:off x="1264320" y="3260880"/>
              <a:ext cx="184680" cy="152280"/>
              <a:chOff x="1264320" y="3260880"/>
              <a:chExt cx="184680" cy="152280"/>
            </a:xfrm>
          </p:grpSpPr>
          <p:sp>
            <p:nvSpPr>
              <p:cNvPr id="1683" name="Freeform 1625"/>
              <p:cNvSpPr/>
              <p:nvPr/>
            </p:nvSpPr>
            <p:spPr>
              <a:xfrm rot="3443400">
                <a:off x="1276200" y="3289680"/>
                <a:ext cx="120600" cy="943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3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1626"/>
              <p:cNvSpPr/>
              <p:nvPr/>
            </p:nvSpPr>
            <p:spPr>
              <a:xfrm flipH="1" rot="3444000">
                <a:off x="1318680" y="3315960"/>
                <a:ext cx="70560" cy="579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3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1627"/>
              <p:cNvSpPr/>
              <p:nvPr/>
            </p:nvSpPr>
            <p:spPr>
              <a:xfrm rot="3443400">
                <a:off x="1307160" y="3364200"/>
                <a:ext cx="7920" cy="39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86" name="Group 1628"/>
              <p:cNvGrpSpPr/>
              <p:nvPr/>
            </p:nvGrpSpPr>
            <p:grpSpPr>
              <a:xfrm>
                <a:off x="1340280" y="3261240"/>
                <a:ext cx="108720" cy="78840"/>
                <a:chOff x="1340280" y="3261240"/>
                <a:chExt cx="108720" cy="78840"/>
              </a:xfrm>
            </p:grpSpPr>
            <p:sp>
              <p:nvSpPr>
                <p:cNvPr id="1687" name="Freeform 1629"/>
                <p:cNvSpPr/>
                <p:nvPr/>
              </p:nvSpPr>
              <p:spPr>
                <a:xfrm flipH="1" rot="3444600">
                  <a:off x="1350360" y="3265200"/>
                  <a:ext cx="34200" cy="4356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688" name="Group 1630"/>
                <p:cNvGrpSpPr/>
                <p:nvPr/>
              </p:nvGrpSpPr>
              <p:grpSpPr>
                <a:xfrm>
                  <a:off x="1357920" y="3265920"/>
                  <a:ext cx="91080" cy="74160"/>
                  <a:chOff x="1357920" y="3265920"/>
                  <a:chExt cx="91080" cy="74160"/>
                </a:xfrm>
              </p:grpSpPr>
              <p:grpSp>
                <p:nvGrpSpPr>
                  <p:cNvPr id="1689" name="Group 1631"/>
                  <p:cNvGrpSpPr/>
                  <p:nvPr/>
                </p:nvGrpSpPr>
                <p:grpSpPr>
                  <a:xfrm>
                    <a:off x="1357920" y="3265920"/>
                    <a:ext cx="91080" cy="74160"/>
                    <a:chOff x="1357920" y="3265920"/>
                    <a:chExt cx="91080" cy="74160"/>
                  </a:xfrm>
                </p:grpSpPr>
                <p:sp>
                  <p:nvSpPr>
                    <p:cNvPr id="1690" name="Freeform 1632"/>
                    <p:cNvSpPr/>
                    <p:nvPr/>
                  </p:nvSpPr>
                  <p:spPr>
                    <a:xfrm flipH="1" rot="1647000">
                      <a:off x="1369440" y="3282840"/>
                      <a:ext cx="78840" cy="21240"/>
                    </a:xfrm>
                    <a:custGeom>
                      <a:avLst/>
                      <a:gdLst>
                        <a:gd name="textAreaLeft" fmla="*/ -360 w 78840"/>
                        <a:gd name="textAreaRight" fmla="*/ 78840 w 7884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91" name="Freeform 1633"/>
                    <p:cNvSpPr/>
                    <p:nvPr/>
                  </p:nvSpPr>
                  <p:spPr>
                    <a:xfrm flipH="1" rot="1647000">
                      <a:off x="1359720" y="3295080"/>
                      <a:ext cx="80280" cy="28080"/>
                    </a:xfrm>
                    <a:custGeom>
                      <a:avLst/>
                      <a:gdLst>
                        <a:gd name="textAreaLeft" fmla="*/ 0 w 80280"/>
                        <a:gd name="textAreaRight" fmla="*/ 80280 w 802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692" name="Freeform 1634"/>
                  <p:cNvSpPr/>
                  <p:nvPr/>
                </p:nvSpPr>
                <p:spPr>
                  <a:xfrm flipH="1" rot="1647000">
                    <a:off x="1374480" y="328536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3" name="Freeform 1635"/>
                  <p:cNvSpPr/>
                  <p:nvPr/>
                </p:nvSpPr>
                <p:spPr>
                  <a:xfrm flipH="1" rot="1647000">
                    <a:off x="1384560" y="329040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4" name="Freeform 1636"/>
                  <p:cNvSpPr/>
                  <p:nvPr/>
                </p:nvSpPr>
                <p:spPr>
                  <a:xfrm flipH="1" rot="1647000">
                    <a:off x="1396080" y="3298680"/>
                    <a:ext cx="6480" cy="12600"/>
                  </a:xfrm>
                  <a:custGeom>
                    <a:avLst/>
                    <a:gdLst>
                      <a:gd name="textAreaLeft" fmla="*/ 360 w 6480"/>
                      <a:gd name="textAreaRight" fmla="*/ 720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5" name="Freeform 1637"/>
                  <p:cNvSpPr/>
                  <p:nvPr/>
                </p:nvSpPr>
                <p:spPr>
                  <a:xfrm flipH="1" rot="1647000">
                    <a:off x="1392480" y="3282120"/>
                    <a:ext cx="10080" cy="972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6" name="Freeform 1638"/>
                  <p:cNvSpPr/>
                  <p:nvPr/>
                </p:nvSpPr>
                <p:spPr>
                  <a:xfrm flipH="1" rot="1647000">
                    <a:off x="1383840" y="3276360"/>
                    <a:ext cx="10800" cy="1080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697" name="Group 1639"/>
            <p:cNvGrpSpPr/>
            <p:nvPr/>
          </p:nvGrpSpPr>
          <p:grpSpPr>
            <a:xfrm>
              <a:off x="1909800" y="3260880"/>
              <a:ext cx="183960" cy="152280"/>
              <a:chOff x="1909800" y="3260880"/>
              <a:chExt cx="183960" cy="152280"/>
            </a:xfrm>
          </p:grpSpPr>
          <p:sp>
            <p:nvSpPr>
              <p:cNvPr id="1698" name="Freeform 1640"/>
              <p:cNvSpPr/>
              <p:nvPr/>
            </p:nvSpPr>
            <p:spPr>
              <a:xfrm flipH="1" rot="18156600">
                <a:off x="1960920" y="3289680"/>
                <a:ext cx="120600" cy="939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3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1641"/>
              <p:cNvSpPr/>
              <p:nvPr/>
            </p:nvSpPr>
            <p:spPr>
              <a:xfrm rot="18156000">
                <a:off x="1969200" y="331596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3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1642"/>
              <p:cNvSpPr/>
              <p:nvPr/>
            </p:nvSpPr>
            <p:spPr>
              <a:xfrm flipH="1" rot="18156600">
                <a:off x="2042640" y="336420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1" name="Group 1643"/>
              <p:cNvGrpSpPr/>
              <p:nvPr/>
            </p:nvGrpSpPr>
            <p:grpSpPr>
              <a:xfrm>
                <a:off x="1909800" y="3261240"/>
                <a:ext cx="108360" cy="78840"/>
                <a:chOff x="1909800" y="3261240"/>
                <a:chExt cx="108360" cy="78840"/>
              </a:xfrm>
            </p:grpSpPr>
            <p:sp>
              <p:nvSpPr>
                <p:cNvPr id="1702" name="Freeform 1644"/>
                <p:cNvSpPr/>
                <p:nvPr/>
              </p:nvSpPr>
              <p:spPr>
                <a:xfrm rot="18155400">
                  <a:off x="1973520" y="3265560"/>
                  <a:ext cx="34200" cy="432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03" name="Group 1645"/>
                <p:cNvGrpSpPr/>
                <p:nvPr/>
              </p:nvGrpSpPr>
              <p:grpSpPr>
                <a:xfrm>
                  <a:off x="1909800" y="3266280"/>
                  <a:ext cx="90720" cy="73800"/>
                  <a:chOff x="1909800" y="3266280"/>
                  <a:chExt cx="90720" cy="73800"/>
                </a:xfrm>
              </p:grpSpPr>
              <p:grpSp>
                <p:nvGrpSpPr>
                  <p:cNvPr id="1704" name="Group 1646"/>
                  <p:cNvGrpSpPr/>
                  <p:nvPr/>
                </p:nvGrpSpPr>
                <p:grpSpPr>
                  <a:xfrm>
                    <a:off x="1909800" y="3266280"/>
                    <a:ext cx="90720" cy="73800"/>
                    <a:chOff x="1909800" y="3266280"/>
                    <a:chExt cx="90720" cy="73800"/>
                  </a:xfrm>
                </p:grpSpPr>
                <p:sp>
                  <p:nvSpPr>
                    <p:cNvPr id="1705" name="Freeform 1647"/>
                    <p:cNvSpPr/>
                    <p:nvPr/>
                  </p:nvSpPr>
                  <p:spPr>
                    <a:xfrm rot="19953000">
                      <a:off x="1910160" y="3282840"/>
                      <a:ext cx="78480" cy="21240"/>
                    </a:xfrm>
                    <a:custGeom>
                      <a:avLst/>
                      <a:gdLst>
                        <a:gd name="textAreaLeft" fmla="*/ 0 w 78480"/>
                        <a:gd name="textAreaRight" fmla="*/ 78840 w 784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06" name="Freeform 1648"/>
                    <p:cNvSpPr/>
                    <p:nvPr/>
                  </p:nvSpPr>
                  <p:spPr>
                    <a:xfrm rot="19953000">
                      <a:off x="1918440" y="329508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707" name="Freeform 1649"/>
                  <p:cNvSpPr/>
                  <p:nvPr/>
                </p:nvSpPr>
                <p:spPr>
                  <a:xfrm rot="19953000">
                    <a:off x="1975320" y="328536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08" name="Freeform 1650"/>
                  <p:cNvSpPr/>
                  <p:nvPr/>
                </p:nvSpPr>
                <p:spPr>
                  <a:xfrm rot="19953000">
                    <a:off x="1965600" y="329040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09" name="Freeform 1651"/>
                  <p:cNvSpPr/>
                  <p:nvPr/>
                </p:nvSpPr>
                <p:spPr>
                  <a:xfrm rot="19953000">
                    <a:off x="1955880" y="329868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0" name="Freeform 1652"/>
                  <p:cNvSpPr/>
                  <p:nvPr/>
                </p:nvSpPr>
                <p:spPr>
                  <a:xfrm rot="19953000">
                    <a:off x="1955160" y="328212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1" name="Freeform 1653"/>
                  <p:cNvSpPr/>
                  <p:nvPr/>
                </p:nvSpPr>
                <p:spPr>
                  <a:xfrm rot="19953000">
                    <a:off x="1963080" y="327672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712" name="Group 1654"/>
            <p:cNvGrpSpPr/>
            <p:nvPr/>
          </p:nvGrpSpPr>
          <p:grpSpPr>
            <a:xfrm>
              <a:off x="2401920" y="4308840"/>
              <a:ext cx="184320" cy="152640"/>
              <a:chOff x="2401920" y="4308840"/>
              <a:chExt cx="184320" cy="152640"/>
            </a:xfrm>
          </p:grpSpPr>
          <p:sp>
            <p:nvSpPr>
              <p:cNvPr id="1713" name="Freeform 1655"/>
              <p:cNvSpPr/>
              <p:nvPr/>
            </p:nvSpPr>
            <p:spPr>
              <a:xfrm flipH="1" rot="18156600">
                <a:off x="2453040" y="4337640"/>
                <a:ext cx="120600" cy="9432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4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Freeform 1656"/>
              <p:cNvSpPr/>
              <p:nvPr/>
            </p:nvSpPr>
            <p:spPr>
              <a:xfrm rot="18156000">
                <a:off x="2461320" y="436392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4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Freeform 1657"/>
              <p:cNvSpPr/>
              <p:nvPr/>
            </p:nvSpPr>
            <p:spPr>
              <a:xfrm flipH="1" rot="18156600">
                <a:off x="2535120" y="441216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16" name="Group 1658"/>
              <p:cNvGrpSpPr/>
              <p:nvPr/>
            </p:nvGrpSpPr>
            <p:grpSpPr>
              <a:xfrm>
                <a:off x="2401920" y="4309200"/>
                <a:ext cx="108720" cy="78840"/>
                <a:chOff x="2401920" y="4309200"/>
                <a:chExt cx="108720" cy="78840"/>
              </a:xfrm>
            </p:grpSpPr>
            <p:sp>
              <p:nvSpPr>
                <p:cNvPr id="1717" name="Freeform 1659"/>
                <p:cNvSpPr/>
                <p:nvPr/>
              </p:nvSpPr>
              <p:spPr>
                <a:xfrm rot="18155400">
                  <a:off x="2466000" y="4313520"/>
                  <a:ext cx="34200" cy="4356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18" name="Group 1660"/>
                <p:cNvGrpSpPr/>
                <p:nvPr/>
              </p:nvGrpSpPr>
              <p:grpSpPr>
                <a:xfrm>
                  <a:off x="2401920" y="4313880"/>
                  <a:ext cx="91080" cy="74160"/>
                  <a:chOff x="2401920" y="4313880"/>
                  <a:chExt cx="91080" cy="74160"/>
                </a:xfrm>
              </p:grpSpPr>
              <p:grpSp>
                <p:nvGrpSpPr>
                  <p:cNvPr id="1719" name="Group 1661"/>
                  <p:cNvGrpSpPr/>
                  <p:nvPr/>
                </p:nvGrpSpPr>
                <p:grpSpPr>
                  <a:xfrm>
                    <a:off x="2401920" y="4313880"/>
                    <a:ext cx="91080" cy="74160"/>
                    <a:chOff x="2401920" y="4313880"/>
                    <a:chExt cx="91080" cy="74160"/>
                  </a:xfrm>
                </p:grpSpPr>
                <p:sp>
                  <p:nvSpPr>
                    <p:cNvPr id="1720" name="Freeform 1662"/>
                    <p:cNvSpPr/>
                    <p:nvPr/>
                  </p:nvSpPr>
                  <p:spPr>
                    <a:xfrm rot="19953000">
                      <a:off x="2402280" y="4330800"/>
                      <a:ext cx="78840" cy="21240"/>
                    </a:xfrm>
                    <a:custGeom>
                      <a:avLst/>
                      <a:gdLst>
                        <a:gd name="textAreaLeft" fmla="*/ 0 w 78840"/>
                        <a:gd name="textAreaRight" fmla="*/ 79200 w 7884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21" name="Freeform 1663"/>
                    <p:cNvSpPr/>
                    <p:nvPr/>
                  </p:nvSpPr>
                  <p:spPr>
                    <a:xfrm rot="19953000">
                      <a:off x="2410560" y="4343040"/>
                      <a:ext cx="80280" cy="28080"/>
                    </a:xfrm>
                    <a:custGeom>
                      <a:avLst/>
                      <a:gdLst>
                        <a:gd name="textAreaLeft" fmla="*/ 0 w 80280"/>
                        <a:gd name="textAreaRight" fmla="*/ 80280 w 802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722" name="Freeform 1664"/>
                  <p:cNvSpPr/>
                  <p:nvPr/>
                </p:nvSpPr>
                <p:spPr>
                  <a:xfrm rot="19953000">
                    <a:off x="2467800" y="433296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3" name="Freeform 1665"/>
                  <p:cNvSpPr/>
                  <p:nvPr/>
                </p:nvSpPr>
                <p:spPr>
                  <a:xfrm rot="19953000">
                    <a:off x="2457720" y="433800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4" name="Freeform 1666"/>
                  <p:cNvSpPr/>
                  <p:nvPr/>
                </p:nvSpPr>
                <p:spPr>
                  <a:xfrm rot="19953000">
                    <a:off x="2448000" y="434628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5" name="Freeform 1667"/>
                  <p:cNvSpPr/>
                  <p:nvPr/>
                </p:nvSpPr>
                <p:spPr>
                  <a:xfrm rot="19953000">
                    <a:off x="2447640" y="433008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6" name="Freeform 1668"/>
                  <p:cNvSpPr/>
                  <p:nvPr/>
                </p:nvSpPr>
                <p:spPr>
                  <a:xfrm rot="19953000">
                    <a:off x="2455560" y="432432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727" name="Group 1669"/>
            <p:cNvGrpSpPr/>
            <p:nvPr/>
          </p:nvGrpSpPr>
          <p:grpSpPr>
            <a:xfrm>
              <a:off x="2439720" y="3130200"/>
              <a:ext cx="183960" cy="152280"/>
              <a:chOff x="2439720" y="3130200"/>
              <a:chExt cx="183960" cy="152280"/>
            </a:xfrm>
          </p:grpSpPr>
          <p:sp>
            <p:nvSpPr>
              <p:cNvPr id="1728" name="Freeform 1670"/>
              <p:cNvSpPr/>
              <p:nvPr/>
            </p:nvSpPr>
            <p:spPr>
              <a:xfrm flipH="1" rot="18156600">
                <a:off x="2490840" y="3159000"/>
                <a:ext cx="120600" cy="939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4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1671"/>
              <p:cNvSpPr/>
              <p:nvPr/>
            </p:nvSpPr>
            <p:spPr>
              <a:xfrm rot="18156000">
                <a:off x="2499120" y="318528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4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1672"/>
              <p:cNvSpPr/>
              <p:nvPr/>
            </p:nvSpPr>
            <p:spPr>
              <a:xfrm flipH="1" rot="18156600">
                <a:off x="2572560" y="323352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31" name="Group 1673"/>
              <p:cNvGrpSpPr/>
              <p:nvPr/>
            </p:nvGrpSpPr>
            <p:grpSpPr>
              <a:xfrm>
                <a:off x="2439720" y="3130560"/>
                <a:ext cx="108360" cy="78840"/>
                <a:chOff x="2439720" y="3130560"/>
                <a:chExt cx="108360" cy="78840"/>
              </a:xfrm>
            </p:grpSpPr>
            <p:sp>
              <p:nvSpPr>
                <p:cNvPr id="1732" name="Freeform 1674"/>
                <p:cNvSpPr/>
                <p:nvPr/>
              </p:nvSpPr>
              <p:spPr>
                <a:xfrm rot="18155400">
                  <a:off x="2503440" y="3134880"/>
                  <a:ext cx="34200" cy="432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33" name="Group 1675"/>
                <p:cNvGrpSpPr/>
                <p:nvPr/>
              </p:nvGrpSpPr>
              <p:grpSpPr>
                <a:xfrm>
                  <a:off x="2439720" y="3135600"/>
                  <a:ext cx="90720" cy="73800"/>
                  <a:chOff x="2439720" y="3135600"/>
                  <a:chExt cx="90720" cy="73800"/>
                </a:xfrm>
              </p:grpSpPr>
              <p:grpSp>
                <p:nvGrpSpPr>
                  <p:cNvPr id="1734" name="Group 1676"/>
                  <p:cNvGrpSpPr/>
                  <p:nvPr/>
                </p:nvGrpSpPr>
                <p:grpSpPr>
                  <a:xfrm>
                    <a:off x="2439720" y="3135600"/>
                    <a:ext cx="90720" cy="73800"/>
                    <a:chOff x="2439720" y="3135600"/>
                    <a:chExt cx="90720" cy="73800"/>
                  </a:xfrm>
                </p:grpSpPr>
                <p:sp>
                  <p:nvSpPr>
                    <p:cNvPr id="1735" name="Freeform 1677"/>
                    <p:cNvSpPr/>
                    <p:nvPr/>
                  </p:nvSpPr>
                  <p:spPr>
                    <a:xfrm rot="19953000">
                      <a:off x="2440080" y="3152160"/>
                      <a:ext cx="78480" cy="21240"/>
                    </a:xfrm>
                    <a:custGeom>
                      <a:avLst/>
                      <a:gdLst>
                        <a:gd name="textAreaLeft" fmla="*/ 0 w 78480"/>
                        <a:gd name="textAreaRight" fmla="*/ 78840 w 784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36" name="Freeform 1678"/>
                    <p:cNvSpPr/>
                    <p:nvPr/>
                  </p:nvSpPr>
                  <p:spPr>
                    <a:xfrm rot="19953000">
                      <a:off x="2448360" y="316440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737" name="Freeform 1679"/>
                  <p:cNvSpPr/>
                  <p:nvPr/>
                </p:nvSpPr>
                <p:spPr>
                  <a:xfrm rot="19953000">
                    <a:off x="2505240" y="315468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38" name="Freeform 1680"/>
                  <p:cNvSpPr/>
                  <p:nvPr/>
                </p:nvSpPr>
                <p:spPr>
                  <a:xfrm rot="19953000">
                    <a:off x="2495520" y="315972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39" name="Freeform 1681"/>
                  <p:cNvSpPr/>
                  <p:nvPr/>
                </p:nvSpPr>
                <p:spPr>
                  <a:xfrm rot="19953000">
                    <a:off x="2485800" y="316800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0" name="Freeform 1682"/>
                  <p:cNvSpPr/>
                  <p:nvPr/>
                </p:nvSpPr>
                <p:spPr>
                  <a:xfrm rot="19953000">
                    <a:off x="2485080" y="315144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1" name="Freeform 1683"/>
                  <p:cNvSpPr/>
                  <p:nvPr/>
                </p:nvSpPr>
                <p:spPr>
                  <a:xfrm rot="19953000">
                    <a:off x="2493000" y="314604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742" name="Group 1684"/>
            <p:cNvGrpSpPr/>
            <p:nvPr/>
          </p:nvGrpSpPr>
          <p:grpSpPr>
            <a:xfrm>
              <a:off x="2629080" y="3348360"/>
              <a:ext cx="184320" cy="152640"/>
              <a:chOff x="2629080" y="3348360"/>
              <a:chExt cx="184320" cy="152640"/>
            </a:xfrm>
          </p:grpSpPr>
          <p:sp>
            <p:nvSpPr>
              <p:cNvPr id="1743" name="Freeform 1685"/>
              <p:cNvSpPr/>
              <p:nvPr/>
            </p:nvSpPr>
            <p:spPr>
              <a:xfrm flipH="1" rot="18156600">
                <a:off x="2680200" y="3377160"/>
                <a:ext cx="120600" cy="9432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4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1686"/>
              <p:cNvSpPr/>
              <p:nvPr/>
            </p:nvSpPr>
            <p:spPr>
              <a:xfrm rot="18156000">
                <a:off x="2688480" y="340344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5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Freeform 1687"/>
              <p:cNvSpPr/>
              <p:nvPr/>
            </p:nvSpPr>
            <p:spPr>
              <a:xfrm flipH="1" rot="18156600">
                <a:off x="2762280" y="345168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46" name="Group 1688"/>
              <p:cNvGrpSpPr/>
              <p:nvPr/>
            </p:nvGrpSpPr>
            <p:grpSpPr>
              <a:xfrm>
                <a:off x="2629080" y="3348720"/>
                <a:ext cx="108720" cy="78840"/>
                <a:chOff x="2629080" y="3348720"/>
                <a:chExt cx="108720" cy="78840"/>
              </a:xfrm>
            </p:grpSpPr>
            <p:sp>
              <p:nvSpPr>
                <p:cNvPr id="1747" name="Freeform 1689"/>
                <p:cNvSpPr/>
                <p:nvPr/>
              </p:nvSpPr>
              <p:spPr>
                <a:xfrm rot="18155400">
                  <a:off x="2693160" y="3353040"/>
                  <a:ext cx="34200" cy="4356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48" name="Group 1690"/>
                <p:cNvGrpSpPr/>
                <p:nvPr/>
              </p:nvGrpSpPr>
              <p:grpSpPr>
                <a:xfrm>
                  <a:off x="2629080" y="3353400"/>
                  <a:ext cx="91080" cy="74160"/>
                  <a:chOff x="2629080" y="3353400"/>
                  <a:chExt cx="91080" cy="74160"/>
                </a:xfrm>
              </p:grpSpPr>
              <p:grpSp>
                <p:nvGrpSpPr>
                  <p:cNvPr id="1749" name="Group 1691"/>
                  <p:cNvGrpSpPr/>
                  <p:nvPr/>
                </p:nvGrpSpPr>
                <p:grpSpPr>
                  <a:xfrm>
                    <a:off x="2629080" y="3353400"/>
                    <a:ext cx="91080" cy="74160"/>
                    <a:chOff x="2629080" y="3353400"/>
                    <a:chExt cx="91080" cy="74160"/>
                  </a:xfrm>
                </p:grpSpPr>
                <p:sp>
                  <p:nvSpPr>
                    <p:cNvPr id="1750" name="Freeform 1692"/>
                    <p:cNvSpPr/>
                    <p:nvPr/>
                  </p:nvSpPr>
                  <p:spPr>
                    <a:xfrm rot="19953000">
                      <a:off x="2629440" y="3370320"/>
                      <a:ext cx="78840" cy="21240"/>
                    </a:xfrm>
                    <a:custGeom>
                      <a:avLst/>
                      <a:gdLst>
                        <a:gd name="textAreaLeft" fmla="*/ 0 w 78840"/>
                        <a:gd name="textAreaRight" fmla="*/ 79200 w 7884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51" name="Freeform 1693"/>
                    <p:cNvSpPr/>
                    <p:nvPr/>
                  </p:nvSpPr>
                  <p:spPr>
                    <a:xfrm rot="19953000">
                      <a:off x="2637720" y="3382560"/>
                      <a:ext cx="80280" cy="28080"/>
                    </a:xfrm>
                    <a:custGeom>
                      <a:avLst/>
                      <a:gdLst>
                        <a:gd name="textAreaLeft" fmla="*/ 0 w 80280"/>
                        <a:gd name="textAreaRight" fmla="*/ 80280 w 802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752" name="Freeform 1694"/>
                  <p:cNvSpPr/>
                  <p:nvPr/>
                </p:nvSpPr>
                <p:spPr>
                  <a:xfrm rot="19953000">
                    <a:off x="2694960" y="337248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3" name="Freeform 1695"/>
                  <p:cNvSpPr/>
                  <p:nvPr/>
                </p:nvSpPr>
                <p:spPr>
                  <a:xfrm rot="19953000">
                    <a:off x="2684880" y="337752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4" name="Freeform 1696"/>
                  <p:cNvSpPr/>
                  <p:nvPr/>
                </p:nvSpPr>
                <p:spPr>
                  <a:xfrm rot="19953000">
                    <a:off x="2675160" y="338580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5" name="Freeform 1697"/>
                  <p:cNvSpPr/>
                  <p:nvPr/>
                </p:nvSpPr>
                <p:spPr>
                  <a:xfrm rot="19953000">
                    <a:off x="2674800" y="336960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6" name="Freeform 1698"/>
                  <p:cNvSpPr/>
                  <p:nvPr/>
                </p:nvSpPr>
                <p:spPr>
                  <a:xfrm rot="19953000">
                    <a:off x="2682720" y="336384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757" name="Group 1699"/>
            <p:cNvGrpSpPr/>
            <p:nvPr/>
          </p:nvGrpSpPr>
          <p:grpSpPr>
            <a:xfrm>
              <a:off x="2136960" y="3260880"/>
              <a:ext cx="183960" cy="152280"/>
              <a:chOff x="2136960" y="3260880"/>
              <a:chExt cx="183960" cy="152280"/>
            </a:xfrm>
          </p:grpSpPr>
          <p:sp>
            <p:nvSpPr>
              <p:cNvPr id="1758" name="Freeform 1700"/>
              <p:cNvSpPr/>
              <p:nvPr/>
            </p:nvSpPr>
            <p:spPr>
              <a:xfrm flipH="1" rot="18156600">
                <a:off x="2188080" y="3289680"/>
                <a:ext cx="120600" cy="939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5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1701"/>
              <p:cNvSpPr/>
              <p:nvPr/>
            </p:nvSpPr>
            <p:spPr>
              <a:xfrm rot="18156000">
                <a:off x="2196360" y="331596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5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1702"/>
              <p:cNvSpPr/>
              <p:nvPr/>
            </p:nvSpPr>
            <p:spPr>
              <a:xfrm flipH="1" rot="18156600">
                <a:off x="2269800" y="336420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61" name="Group 1703"/>
              <p:cNvGrpSpPr/>
              <p:nvPr/>
            </p:nvGrpSpPr>
            <p:grpSpPr>
              <a:xfrm>
                <a:off x="2136960" y="3261240"/>
                <a:ext cx="108360" cy="78840"/>
                <a:chOff x="2136960" y="3261240"/>
                <a:chExt cx="108360" cy="78840"/>
              </a:xfrm>
            </p:grpSpPr>
            <p:sp>
              <p:nvSpPr>
                <p:cNvPr id="1762" name="Freeform 1704"/>
                <p:cNvSpPr/>
                <p:nvPr/>
              </p:nvSpPr>
              <p:spPr>
                <a:xfrm rot="18155400">
                  <a:off x="2200680" y="3265560"/>
                  <a:ext cx="34200" cy="432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63" name="Group 1705"/>
                <p:cNvGrpSpPr/>
                <p:nvPr/>
              </p:nvGrpSpPr>
              <p:grpSpPr>
                <a:xfrm>
                  <a:off x="2136960" y="3266280"/>
                  <a:ext cx="90720" cy="73800"/>
                  <a:chOff x="2136960" y="3266280"/>
                  <a:chExt cx="90720" cy="73800"/>
                </a:xfrm>
              </p:grpSpPr>
              <p:grpSp>
                <p:nvGrpSpPr>
                  <p:cNvPr id="1764" name="Group 1706"/>
                  <p:cNvGrpSpPr/>
                  <p:nvPr/>
                </p:nvGrpSpPr>
                <p:grpSpPr>
                  <a:xfrm>
                    <a:off x="2136960" y="3266280"/>
                    <a:ext cx="90720" cy="73800"/>
                    <a:chOff x="2136960" y="3266280"/>
                    <a:chExt cx="90720" cy="73800"/>
                  </a:xfrm>
                </p:grpSpPr>
                <p:sp>
                  <p:nvSpPr>
                    <p:cNvPr id="1765" name="Freeform 1707"/>
                    <p:cNvSpPr/>
                    <p:nvPr/>
                  </p:nvSpPr>
                  <p:spPr>
                    <a:xfrm rot="19953000">
                      <a:off x="2137320" y="3282840"/>
                      <a:ext cx="78480" cy="21240"/>
                    </a:xfrm>
                    <a:custGeom>
                      <a:avLst/>
                      <a:gdLst>
                        <a:gd name="textAreaLeft" fmla="*/ 0 w 78480"/>
                        <a:gd name="textAreaRight" fmla="*/ 78840 w 784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66" name="Freeform 1708"/>
                    <p:cNvSpPr/>
                    <p:nvPr/>
                  </p:nvSpPr>
                  <p:spPr>
                    <a:xfrm rot="19953000">
                      <a:off x="2145600" y="329508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767" name="Freeform 1709"/>
                  <p:cNvSpPr/>
                  <p:nvPr/>
                </p:nvSpPr>
                <p:spPr>
                  <a:xfrm rot="19953000">
                    <a:off x="2202480" y="328536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68" name="Freeform 1710"/>
                  <p:cNvSpPr/>
                  <p:nvPr/>
                </p:nvSpPr>
                <p:spPr>
                  <a:xfrm rot="19953000">
                    <a:off x="2192760" y="329040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69" name="Freeform 1711"/>
                  <p:cNvSpPr/>
                  <p:nvPr/>
                </p:nvSpPr>
                <p:spPr>
                  <a:xfrm rot="19953000">
                    <a:off x="2183040" y="329868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0" name="Freeform 1712"/>
                  <p:cNvSpPr/>
                  <p:nvPr/>
                </p:nvSpPr>
                <p:spPr>
                  <a:xfrm rot="19953000">
                    <a:off x="2182320" y="328212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1" name="Freeform 1713"/>
                  <p:cNvSpPr/>
                  <p:nvPr/>
                </p:nvSpPr>
                <p:spPr>
                  <a:xfrm rot="19953000">
                    <a:off x="2190240" y="327672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772" name="Group 1714"/>
            <p:cNvGrpSpPr/>
            <p:nvPr/>
          </p:nvGrpSpPr>
          <p:grpSpPr>
            <a:xfrm>
              <a:off x="2023560" y="3479400"/>
              <a:ext cx="183960" cy="152280"/>
              <a:chOff x="2023560" y="3479400"/>
              <a:chExt cx="183960" cy="152280"/>
            </a:xfrm>
          </p:grpSpPr>
          <p:sp>
            <p:nvSpPr>
              <p:cNvPr id="1773" name="Freeform 1715"/>
              <p:cNvSpPr/>
              <p:nvPr/>
            </p:nvSpPr>
            <p:spPr>
              <a:xfrm flipH="1" rot="18156600">
                <a:off x="2074680" y="3508200"/>
                <a:ext cx="120600" cy="939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5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1716"/>
              <p:cNvSpPr/>
              <p:nvPr/>
            </p:nvSpPr>
            <p:spPr>
              <a:xfrm rot="18156000">
                <a:off x="2082960" y="353448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5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Freeform 1717"/>
              <p:cNvSpPr/>
              <p:nvPr/>
            </p:nvSpPr>
            <p:spPr>
              <a:xfrm flipH="1" rot="18156600">
                <a:off x="2156400" y="358272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76" name="Group 1718"/>
              <p:cNvGrpSpPr/>
              <p:nvPr/>
            </p:nvGrpSpPr>
            <p:grpSpPr>
              <a:xfrm>
                <a:off x="2023560" y="3479760"/>
                <a:ext cx="108360" cy="78840"/>
                <a:chOff x="2023560" y="3479760"/>
                <a:chExt cx="108360" cy="78840"/>
              </a:xfrm>
            </p:grpSpPr>
            <p:sp>
              <p:nvSpPr>
                <p:cNvPr id="1777" name="Freeform 1719"/>
                <p:cNvSpPr/>
                <p:nvPr/>
              </p:nvSpPr>
              <p:spPr>
                <a:xfrm rot="18155400">
                  <a:off x="2087280" y="3484080"/>
                  <a:ext cx="34200" cy="432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78" name="Group 1720"/>
                <p:cNvGrpSpPr/>
                <p:nvPr/>
              </p:nvGrpSpPr>
              <p:grpSpPr>
                <a:xfrm>
                  <a:off x="2023560" y="3484800"/>
                  <a:ext cx="90720" cy="73800"/>
                  <a:chOff x="2023560" y="3484800"/>
                  <a:chExt cx="90720" cy="73800"/>
                </a:xfrm>
              </p:grpSpPr>
              <p:grpSp>
                <p:nvGrpSpPr>
                  <p:cNvPr id="1779" name="Group 1721"/>
                  <p:cNvGrpSpPr/>
                  <p:nvPr/>
                </p:nvGrpSpPr>
                <p:grpSpPr>
                  <a:xfrm>
                    <a:off x="2023560" y="3484800"/>
                    <a:ext cx="90720" cy="73800"/>
                    <a:chOff x="2023560" y="3484800"/>
                    <a:chExt cx="90720" cy="73800"/>
                  </a:xfrm>
                </p:grpSpPr>
                <p:sp>
                  <p:nvSpPr>
                    <p:cNvPr id="1780" name="Freeform 1722"/>
                    <p:cNvSpPr/>
                    <p:nvPr/>
                  </p:nvSpPr>
                  <p:spPr>
                    <a:xfrm rot="19953000">
                      <a:off x="2023920" y="3501360"/>
                      <a:ext cx="78480" cy="21240"/>
                    </a:xfrm>
                    <a:custGeom>
                      <a:avLst/>
                      <a:gdLst>
                        <a:gd name="textAreaLeft" fmla="*/ 0 w 78480"/>
                        <a:gd name="textAreaRight" fmla="*/ 78840 w 784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81" name="Freeform 1723"/>
                    <p:cNvSpPr/>
                    <p:nvPr/>
                  </p:nvSpPr>
                  <p:spPr>
                    <a:xfrm rot="19953000">
                      <a:off x="2032200" y="351360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782" name="Freeform 1724"/>
                  <p:cNvSpPr/>
                  <p:nvPr/>
                </p:nvSpPr>
                <p:spPr>
                  <a:xfrm rot="19953000">
                    <a:off x="2089080" y="350388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3" name="Freeform 1725"/>
                  <p:cNvSpPr/>
                  <p:nvPr/>
                </p:nvSpPr>
                <p:spPr>
                  <a:xfrm rot="19953000">
                    <a:off x="2079360" y="350892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4" name="Freeform 1726"/>
                  <p:cNvSpPr/>
                  <p:nvPr/>
                </p:nvSpPr>
                <p:spPr>
                  <a:xfrm rot="19953000">
                    <a:off x="2069640" y="351720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5" name="Freeform 1727"/>
                  <p:cNvSpPr/>
                  <p:nvPr/>
                </p:nvSpPr>
                <p:spPr>
                  <a:xfrm rot="19953000">
                    <a:off x="2068920" y="350064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6" name="Freeform 1728"/>
                  <p:cNvSpPr/>
                  <p:nvPr/>
                </p:nvSpPr>
                <p:spPr>
                  <a:xfrm rot="19953000">
                    <a:off x="2076840" y="349524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787" name="Group 1729"/>
            <p:cNvGrpSpPr/>
            <p:nvPr/>
          </p:nvGrpSpPr>
          <p:grpSpPr>
            <a:xfrm>
              <a:off x="2326320" y="3741480"/>
              <a:ext cx="183960" cy="152280"/>
              <a:chOff x="2326320" y="3741480"/>
              <a:chExt cx="183960" cy="152280"/>
            </a:xfrm>
          </p:grpSpPr>
          <p:sp>
            <p:nvSpPr>
              <p:cNvPr id="1788" name="Freeform 1730"/>
              <p:cNvSpPr/>
              <p:nvPr/>
            </p:nvSpPr>
            <p:spPr>
              <a:xfrm flipH="1" rot="18156600">
                <a:off x="2377440" y="3770280"/>
                <a:ext cx="120600" cy="939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6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1731"/>
              <p:cNvSpPr/>
              <p:nvPr/>
            </p:nvSpPr>
            <p:spPr>
              <a:xfrm rot="18156000">
                <a:off x="2385720" y="379656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6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0" name="Freeform 1732"/>
              <p:cNvSpPr/>
              <p:nvPr/>
            </p:nvSpPr>
            <p:spPr>
              <a:xfrm flipH="1" rot="18156600">
                <a:off x="2459160" y="384480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91" name="Group 1733"/>
              <p:cNvGrpSpPr/>
              <p:nvPr/>
            </p:nvGrpSpPr>
            <p:grpSpPr>
              <a:xfrm>
                <a:off x="2326320" y="3741840"/>
                <a:ext cx="108360" cy="78840"/>
                <a:chOff x="2326320" y="3741840"/>
                <a:chExt cx="108360" cy="78840"/>
              </a:xfrm>
            </p:grpSpPr>
            <p:sp>
              <p:nvSpPr>
                <p:cNvPr id="1792" name="Freeform 1734"/>
                <p:cNvSpPr/>
                <p:nvPr/>
              </p:nvSpPr>
              <p:spPr>
                <a:xfrm rot="18155400">
                  <a:off x="2390040" y="3746160"/>
                  <a:ext cx="34200" cy="432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93" name="Group 1735"/>
                <p:cNvGrpSpPr/>
                <p:nvPr/>
              </p:nvGrpSpPr>
              <p:grpSpPr>
                <a:xfrm>
                  <a:off x="2326320" y="3746880"/>
                  <a:ext cx="90720" cy="73800"/>
                  <a:chOff x="2326320" y="3746880"/>
                  <a:chExt cx="90720" cy="73800"/>
                </a:xfrm>
              </p:grpSpPr>
              <p:grpSp>
                <p:nvGrpSpPr>
                  <p:cNvPr id="1794" name="Group 1736"/>
                  <p:cNvGrpSpPr/>
                  <p:nvPr/>
                </p:nvGrpSpPr>
                <p:grpSpPr>
                  <a:xfrm>
                    <a:off x="2326320" y="3746880"/>
                    <a:ext cx="90720" cy="73800"/>
                    <a:chOff x="2326320" y="3746880"/>
                    <a:chExt cx="90720" cy="73800"/>
                  </a:xfrm>
                </p:grpSpPr>
                <p:sp>
                  <p:nvSpPr>
                    <p:cNvPr id="1795" name="Freeform 1737"/>
                    <p:cNvSpPr/>
                    <p:nvPr/>
                  </p:nvSpPr>
                  <p:spPr>
                    <a:xfrm rot="19953000">
                      <a:off x="2326680" y="3763440"/>
                      <a:ext cx="78480" cy="21240"/>
                    </a:xfrm>
                    <a:custGeom>
                      <a:avLst/>
                      <a:gdLst>
                        <a:gd name="textAreaLeft" fmla="*/ 0 w 78480"/>
                        <a:gd name="textAreaRight" fmla="*/ 78840 w 784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96" name="Freeform 1738"/>
                    <p:cNvSpPr/>
                    <p:nvPr/>
                  </p:nvSpPr>
                  <p:spPr>
                    <a:xfrm rot="19953000">
                      <a:off x="2334960" y="377568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797" name="Freeform 1739"/>
                  <p:cNvSpPr/>
                  <p:nvPr/>
                </p:nvSpPr>
                <p:spPr>
                  <a:xfrm rot="19953000">
                    <a:off x="2391840" y="376596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8" name="Freeform 1740"/>
                  <p:cNvSpPr/>
                  <p:nvPr/>
                </p:nvSpPr>
                <p:spPr>
                  <a:xfrm rot="19953000">
                    <a:off x="2382120" y="377100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9" name="Freeform 1741"/>
                  <p:cNvSpPr/>
                  <p:nvPr/>
                </p:nvSpPr>
                <p:spPr>
                  <a:xfrm rot="19953000">
                    <a:off x="2372400" y="377928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0" name="Freeform 1742"/>
                  <p:cNvSpPr/>
                  <p:nvPr/>
                </p:nvSpPr>
                <p:spPr>
                  <a:xfrm rot="19953000">
                    <a:off x="2371680" y="376272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1" name="Freeform 1743"/>
                  <p:cNvSpPr/>
                  <p:nvPr/>
                </p:nvSpPr>
                <p:spPr>
                  <a:xfrm rot="19953000">
                    <a:off x="2379600" y="375732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802" name="Group 1744"/>
            <p:cNvGrpSpPr/>
            <p:nvPr/>
          </p:nvGrpSpPr>
          <p:grpSpPr>
            <a:xfrm>
              <a:off x="1833840" y="2999160"/>
              <a:ext cx="184320" cy="152640"/>
              <a:chOff x="1833840" y="2999160"/>
              <a:chExt cx="184320" cy="152640"/>
            </a:xfrm>
          </p:grpSpPr>
          <p:sp>
            <p:nvSpPr>
              <p:cNvPr id="1803" name="Freeform 1745"/>
              <p:cNvSpPr/>
              <p:nvPr/>
            </p:nvSpPr>
            <p:spPr>
              <a:xfrm flipH="1" rot="18156600">
                <a:off x="1884960" y="3027960"/>
                <a:ext cx="120600" cy="9432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6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4" name="Freeform 1746"/>
              <p:cNvSpPr/>
              <p:nvPr/>
            </p:nvSpPr>
            <p:spPr>
              <a:xfrm rot="18156000">
                <a:off x="1893240" y="305424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6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5" name="Freeform 1747"/>
              <p:cNvSpPr/>
              <p:nvPr/>
            </p:nvSpPr>
            <p:spPr>
              <a:xfrm flipH="1" rot="18156600">
                <a:off x="1967040" y="310248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06" name="Group 1748"/>
              <p:cNvGrpSpPr/>
              <p:nvPr/>
            </p:nvGrpSpPr>
            <p:grpSpPr>
              <a:xfrm>
                <a:off x="1833840" y="2999520"/>
                <a:ext cx="108720" cy="78840"/>
                <a:chOff x="1833840" y="2999520"/>
                <a:chExt cx="108720" cy="78840"/>
              </a:xfrm>
            </p:grpSpPr>
            <p:sp>
              <p:nvSpPr>
                <p:cNvPr id="1807" name="Freeform 1749"/>
                <p:cNvSpPr/>
                <p:nvPr/>
              </p:nvSpPr>
              <p:spPr>
                <a:xfrm rot="18155400">
                  <a:off x="1897920" y="3003840"/>
                  <a:ext cx="34200" cy="4356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808" name="Group 1750"/>
                <p:cNvGrpSpPr/>
                <p:nvPr/>
              </p:nvGrpSpPr>
              <p:grpSpPr>
                <a:xfrm>
                  <a:off x="1833840" y="3004200"/>
                  <a:ext cx="91080" cy="74160"/>
                  <a:chOff x="1833840" y="3004200"/>
                  <a:chExt cx="91080" cy="74160"/>
                </a:xfrm>
              </p:grpSpPr>
              <p:grpSp>
                <p:nvGrpSpPr>
                  <p:cNvPr id="1809" name="Group 1751"/>
                  <p:cNvGrpSpPr/>
                  <p:nvPr/>
                </p:nvGrpSpPr>
                <p:grpSpPr>
                  <a:xfrm>
                    <a:off x="1833840" y="3004200"/>
                    <a:ext cx="91080" cy="74160"/>
                    <a:chOff x="1833840" y="3004200"/>
                    <a:chExt cx="91080" cy="74160"/>
                  </a:xfrm>
                </p:grpSpPr>
                <p:sp>
                  <p:nvSpPr>
                    <p:cNvPr id="1810" name="Freeform 1752"/>
                    <p:cNvSpPr/>
                    <p:nvPr/>
                  </p:nvSpPr>
                  <p:spPr>
                    <a:xfrm rot="19953000">
                      <a:off x="1834200" y="3021120"/>
                      <a:ext cx="78840" cy="21240"/>
                    </a:xfrm>
                    <a:custGeom>
                      <a:avLst/>
                      <a:gdLst>
                        <a:gd name="textAreaLeft" fmla="*/ 0 w 78840"/>
                        <a:gd name="textAreaRight" fmla="*/ 79200 w 7884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11" name="Freeform 1753"/>
                    <p:cNvSpPr/>
                    <p:nvPr/>
                  </p:nvSpPr>
                  <p:spPr>
                    <a:xfrm rot="19953000">
                      <a:off x="1842480" y="3033360"/>
                      <a:ext cx="80280" cy="28080"/>
                    </a:xfrm>
                    <a:custGeom>
                      <a:avLst/>
                      <a:gdLst>
                        <a:gd name="textAreaLeft" fmla="*/ 0 w 80280"/>
                        <a:gd name="textAreaRight" fmla="*/ 80280 w 802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812" name="Freeform 1754"/>
                  <p:cNvSpPr/>
                  <p:nvPr/>
                </p:nvSpPr>
                <p:spPr>
                  <a:xfrm rot="19953000">
                    <a:off x="1899720" y="302328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3" name="Freeform 1755"/>
                  <p:cNvSpPr/>
                  <p:nvPr/>
                </p:nvSpPr>
                <p:spPr>
                  <a:xfrm rot="19953000">
                    <a:off x="1889640" y="302832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4" name="Freeform 1756"/>
                  <p:cNvSpPr/>
                  <p:nvPr/>
                </p:nvSpPr>
                <p:spPr>
                  <a:xfrm rot="19953000">
                    <a:off x="1879920" y="303660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5" name="Freeform 1757"/>
                  <p:cNvSpPr/>
                  <p:nvPr/>
                </p:nvSpPr>
                <p:spPr>
                  <a:xfrm rot="19953000">
                    <a:off x="1879560" y="302040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6" name="Freeform 1758"/>
                  <p:cNvSpPr/>
                  <p:nvPr/>
                </p:nvSpPr>
                <p:spPr>
                  <a:xfrm rot="19953000">
                    <a:off x="1887480" y="301464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817" name="Group 1759"/>
            <p:cNvGrpSpPr/>
            <p:nvPr/>
          </p:nvGrpSpPr>
          <p:grpSpPr>
            <a:xfrm>
              <a:off x="2591280" y="3872520"/>
              <a:ext cx="183960" cy="152280"/>
              <a:chOff x="2591280" y="3872520"/>
              <a:chExt cx="183960" cy="152280"/>
            </a:xfrm>
          </p:grpSpPr>
          <p:sp>
            <p:nvSpPr>
              <p:cNvPr id="1818" name="Freeform 1760"/>
              <p:cNvSpPr/>
              <p:nvPr/>
            </p:nvSpPr>
            <p:spPr>
              <a:xfrm flipH="1" rot="18156600">
                <a:off x="2642400" y="3901320"/>
                <a:ext cx="120600" cy="939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6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9" name="Freeform 1761"/>
              <p:cNvSpPr/>
              <p:nvPr/>
            </p:nvSpPr>
            <p:spPr>
              <a:xfrm rot="18156000">
                <a:off x="2650680" y="392760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7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0" name="Freeform 1762"/>
              <p:cNvSpPr/>
              <p:nvPr/>
            </p:nvSpPr>
            <p:spPr>
              <a:xfrm flipH="1" rot="18156600">
                <a:off x="2724120" y="397584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21" name="Group 1763"/>
              <p:cNvGrpSpPr/>
              <p:nvPr/>
            </p:nvGrpSpPr>
            <p:grpSpPr>
              <a:xfrm>
                <a:off x="2591280" y="3872880"/>
                <a:ext cx="108360" cy="78840"/>
                <a:chOff x="2591280" y="3872880"/>
                <a:chExt cx="108360" cy="78840"/>
              </a:xfrm>
            </p:grpSpPr>
            <p:sp>
              <p:nvSpPr>
                <p:cNvPr id="1822" name="Freeform 1764"/>
                <p:cNvSpPr/>
                <p:nvPr/>
              </p:nvSpPr>
              <p:spPr>
                <a:xfrm rot="18155400">
                  <a:off x="2655000" y="3877200"/>
                  <a:ext cx="34200" cy="432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823" name="Group 1765"/>
                <p:cNvGrpSpPr/>
                <p:nvPr/>
              </p:nvGrpSpPr>
              <p:grpSpPr>
                <a:xfrm>
                  <a:off x="2591280" y="3877920"/>
                  <a:ext cx="90720" cy="73800"/>
                  <a:chOff x="2591280" y="3877920"/>
                  <a:chExt cx="90720" cy="73800"/>
                </a:xfrm>
              </p:grpSpPr>
              <p:grpSp>
                <p:nvGrpSpPr>
                  <p:cNvPr id="1824" name="Group 1766"/>
                  <p:cNvGrpSpPr/>
                  <p:nvPr/>
                </p:nvGrpSpPr>
                <p:grpSpPr>
                  <a:xfrm>
                    <a:off x="2591280" y="3877920"/>
                    <a:ext cx="90720" cy="73800"/>
                    <a:chOff x="2591280" y="3877920"/>
                    <a:chExt cx="90720" cy="73800"/>
                  </a:xfrm>
                </p:grpSpPr>
                <p:sp>
                  <p:nvSpPr>
                    <p:cNvPr id="1825" name="Freeform 1767"/>
                    <p:cNvSpPr/>
                    <p:nvPr/>
                  </p:nvSpPr>
                  <p:spPr>
                    <a:xfrm rot="19953000">
                      <a:off x="2591640" y="3894480"/>
                      <a:ext cx="78480" cy="21240"/>
                    </a:xfrm>
                    <a:custGeom>
                      <a:avLst/>
                      <a:gdLst>
                        <a:gd name="textAreaLeft" fmla="*/ 0 w 78480"/>
                        <a:gd name="textAreaRight" fmla="*/ 78840 w 784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26" name="Freeform 1768"/>
                    <p:cNvSpPr/>
                    <p:nvPr/>
                  </p:nvSpPr>
                  <p:spPr>
                    <a:xfrm rot="19953000">
                      <a:off x="2599920" y="390672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827" name="Freeform 1769"/>
                  <p:cNvSpPr/>
                  <p:nvPr/>
                </p:nvSpPr>
                <p:spPr>
                  <a:xfrm rot="19953000">
                    <a:off x="2656800" y="389700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8" name="Freeform 1770"/>
                  <p:cNvSpPr/>
                  <p:nvPr/>
                </p:nvSpPr>
                <p:spPr>
                  <a:xfrm rot="19953000">
                    <a:off x="2647080" y="390204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9" name="Freeform 1771"/>
                  <p:cNvSpPr/>
                  <p:nvPr/>
                </p:nvSpPr>
                <p:spPr>
                  <a:xfrm rot="19953000">
                    <a:off x="2637360" y="391032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0" name="Freeform 1772"/>
                  <p:cNvSpPr/>
                  <p:nvPr/>
                </p:nvSpPr>
                <p:spPr>
                  <a:xfrm rot="19953000">
                    <a:off x="2636640" y="389376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1" name="Freeform 1773"/>
                  <p:cNvSpPr/>
                  <p:nvPr/>
                </p:nvSpPr>
                <p:spPr>
                  <a:xfrm rot="19953000">
                    <a:off x="2644560" y="388836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832" name="Group 1774"/>
            <p:cNvGrpSpPr/>
            <p:nvPr/>
          </p:nvGrpSpPr>
          <p:grpSpPr>
            <a:xfrm>
              <a:off x="1531080" y="3610440"/>
              <a:ext cx="183960" cy="152280"/>
              <a:chOff x="1531080" y="3610440"/>
              <a:chExt cx="183960" cy="152280"/>
            </a:xfrm>
          </p:grpSpPr>
          <p:sp>
            <p:nvSpPr>
              <p:cNvPr id="1833" name="Freeform 1775"/>
              <p:cNvSpPr/>
              <p:nvPr/>
            </p:nvSpPr>
            <p:spPr>
              <a:xfrm flipH="1" rot="18156600">
                <a:off x="1582200" y="3639240"/>
                <a:ext cx="120600" cy="939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7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4" name="Freeform 1776"/>
              <p:cNvSpPr/>
              <p:nvPr/>
            </p:nvSpPr>
            <p:spPr>
              <a:xfrm rot="18156000">
                <a:off x="1590480" y="366552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7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5" name="Freeform 1777"/>
              <p:cNvSpPr/>
              <p:nvPr/>
            </p:nvSpPr>
            <p:spPr>
              <a:xfrm flipH="1" rot="18156600">
                <a:off x="1663920" y="371376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36" name="Group 1778"/>
              <p:cNvGrpSpPr/>
              <p:nvPr/>
            </p:nvGrpSpPr>
            <p:grpSpPr>
              <a:xfrm>
                <a:off x="1531080" y="3610800"/>
                <a:ext cx="108360" cy="78840"/>
                <a:chOff x="1531080" y="3610800"/>
                <a:chExt cx="108360" cy="78840"/>
              </a:xfrm>
            </p:grpSpPr>
            <p:sp>
              <p:nvSpPr>
                <p:cNvPr id="1837" name="Freeform 1779"/>
                <p:cNvSpPr/>
                <p:nvPr/>
              </p:nvSpPr>
              <p:spPr>
                <a:xfrm rot="18155400">
                  <a:off x="1594800" y="3615120"/>
                  <a:ext cx="34200" cy="432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838" name="Group 1780"/>
                <p:cNvGrpSpPr/>
                <p:nvPr/>
              </p:nvGrpSpPr>
              <p:grpSpPr>
                <a:xfrm>
                  <a:off x="1531080" y="3615840"/>
                  <a:ext cx="90720" cy="73800"/>
                  <a:chOff x="1531080" y="3615840"/>
                  <a:chExt cx="90720" cy="73800"/>
                </a:xfrm>
              </p:grpSpPr>
              <p:grpSp>
                <p:nvGrpSpPr>
                  <p:cNvPr id="1839" name="Group 1781"/>
                  <p:cNvGrpSpPr/>
                  <p:nvPr/>
                </p:nvGrpSpPr>
                <p:grpSpPr>
                  <a:xfrm>
                    <a:off x="1531080" y="3615840"/>
                    <a:ext cx="90720" cy="73800"/>
                    <a:chOff x="1531080" y="3615840"/>
                    <a:chExt cx="90720" cy="73800"/>
                  </a:xfrm>
                </p:grpSpPr>
                <p:sp>
                  <p:nvSpPr>
                    <p:cNvPr id="1840" name="Freeform 1782"/>
                    <p:cNvSpPr/>
                    <p:nvPr/>
                  </p:nvSpPr>
                  <p:spPr>
                    <a:xfrm rot="19953000">
                      <a:off x="1531440" y="3632400"/>
                      <a:ext cx="78480" cy="21240"/>
                    </a:xfrm>
                    <a:custGeom>
                      <a:avLst/>
                      <a:gdLst>
                        <a:gd name="textAreaLeft" fmla="*/ 0 w 78480"/>
                        <a:gd name="textAreaRight" fmla="*/ 78840 w 784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41" name="Freeform 1783"/>
                    <p:cNvSpPr/>
                    <p:nvPr/>
                  </p:nvSpPr>
                  <p:spPr>
                    <a:xfrm rot="19953000">
                      <a:off x="1539720" y="364464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842" name="Freeform 1784"/>
                  <p:cNvSpPr/>
                  <p:nvPr/>
                </p:nvSpPr>
                <p:spPr>
                  <a:xfrm rot="19953000">
                    <a:off x="1596600" y="363492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3" name="Freeform 1785"/>
                  <p:cNvSpPr/>
                  <p:nvPr/>
                </p:nvSpPr>
                <p:spPr>
                  <a:xfrm rot="19953000">
                    <a:off x="1586880" y="363996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4" name="Freeform 1786"/>
                  <p:cNvSpPr/>
                  <p:nvPr/>
                </p:nvSpPr>
                <p:spPr>
                  <a:xfrm rot="19953000">
                    <a:off x="1577160" y="364824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5" name="Freeform 1787"/>
                  <p:cNvSpPr/>
                  <p:nvPr/>
                </p:nvSpPr>
                <p:spPr>
                  <a:xfrm rot="19953000">
                    <a:off x="1576440" y="363168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6" name="Freeform 1788"/>
                  <p:cNvSpPr/>
                  <p:nvPr/>
                </p:nvSpPr>
                <p:spPr>
                  <a:xfrm rot="19953000">
                    <a:off x="1584360" y="362628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847" name="Group 1789"/>
            <p:cNvGrpSpPr/>
            <p:nvPr/>
          </p:nvGrpSpPr>
          <p:grpSpPr>
            <a:xfrm>
              <a:off x="1872000" y="3610440"/>
              <a:ext cx="183960" cy="152280"/>
              <a:chOff x="1872000" y="3610440"/>
              <a:chExt cx="183960" cy="152280"/>
            </a:xfrm>
          </p:grpSpPr>
          <p:sp>
            <p:nvSpPr>
              <p:cNvPr id="1848" name="Freeform 1790"/>
              <p:cNvSpPr/>
              <p:nvPr/>
            </p:nvSpPr>
            <p:spPr>
              <a:xfrm flipH="1" rot="18156600">
                <a:off x="1923120" y="3639240"/>
                <a:ext cx="120600" cy="939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7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9" name="Freeform 1791"/>
              <p:cNvSpPr/>
              <p:nvPr/>
            </p:nvSpPr>
            <p:spPr>
              <a:xfrm rot="18156000">
                <a:off x="1931400" y="366552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7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0" name="Freeform 1792"/>
              <p:cNvSpPr/>
              <p:nvPr/>
            </p:nvSpPr>
            <p:spPr>
              <a:xfrm flipH="1" rot="18156600">
                <a:off x="2004840" y="371376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51" name="Group 1793"/>
              <p:cNvGrpSpPr/>
              <p:nvPr/>
            </p:nvGrpSpPr>
            <p:grpSpPr>
              <a:xfrm>
                <a:off x="1872000" y="3610800"/>
                <a:ext cx="108360" cy="78840"/>
                <a:chOff x="1872000" y="3610800"/>
                <a:chExt cx="108360" cy="78840"/>
              </a:xfrm>
            </p:grpSpPr>
            <p:sp>
              <p:nvSpPr>
                <p:cNvPr id="1852" name="Freeform 1794"/>
                <p:cNvSpPr/>
                <p:nvPr/>
              </p:nvSpPr>
              <p:spPr>
                <a:xfrm rot="18155400">
                  <a:off x="1935720" y="3615120"/>
                  <a:ext cx="34200" cy="432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853" name="Group 1795"/>
                <p:cNvGrpSpPr/>
                <p:nvPr/>
              </p:nvGrpSpPr>
              <p:grpSpPr>
                <a:xfrm>
                  <a:off x="1872000" y="3615840"/>
                  <a:ext cx="90720" cy="73800"/>
                  <a:chOff x="1872000" y="3615840"/>
                  <a:chExt cx="90720" cy="73800"/>
                </a:xfrm>
              </p:grpSpPr>
              <p:grpSp>
                <p:nvGrpSpPr>
                  <p:cNvPr id="1854" name="Group 1796"/>
                  <p:cNvGrpSpPr/>
                  <p:nvPr/>
                </p:nvGrpSpPr>
                <p:grpSpPr>
                  <a:xfrm>
                    <a:off x="1872000" y="3615840"/>
                    <a:ext cx="90720" cy="73800"/>
                    <a:chOff x="1872000" y="3615840"/>
                    <a:chExt cx="90720" cy="73800"/>
                  </a:xfrm>
                </p:grpSpPr>
                <p:sp>
                  <p:nvSpPr>
                    <p:cNvPr id="1855" name="Freeform 1797"/>
                    <p:cNvSpPr/>
                    <p:nvPr/>
                  </p:nvSpPr>
                  <p:spPr>
                    <a:xfrm rot="19953000">
                      <a:off x="1872360" y="3632400"/>
                      <a:ext cx="78480" cy="21240"/>
                    </a:xfrm>
                    <a:custGeom>
                      <a:avLst/>
                      <a:gdLst>
                        <a:gd name="textAreaLeft" fmla="*/ 0 w 78480"/>
                        <a:gd name="textAreaRight" fmla="*/ 78840 w 784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6" name="Freeform 1798"/>
                    <p:cNvSpPr/>
                    <p:nvPr/>
                  </p:nvSpPr>
                  <p:spPr>
                    <a:xfrm rot="19953000">
                      <a:off x="1880640" y="364464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857" name="Freeform 1799"/>
                  <p:cNvSpPr/>
                  <p:nvPr/>
                </p:nvSpPr>
                <p:spPr>
                  <a:xfrm rot="19953000">
                    <a:off x="1937520" y="363492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8" name="Freeform 1800"/>
                  <p:cNvSpPr/>
                  <p:nvPr/>
                </p:nvSpPr>
                <p:spPr>
                  <a:xfrm rot="19953000">
                    <a:off x="1927800" y="363996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9" name="Freeform 1801"/>
                  <p:cNvSpPr/>
                  <p:nvPr/>
                </p:nvSpPr>
                <p:spPr>
                  <a:xfrm rot="19953000">
                    <a:off x="1918080" y="364824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0" name="Freeform 1802"/>
                  <p:cNvSpPr/>
                  <p:nvPr/>
                </p:nvSpPr>
                <p:spPr>
                  <a:xfrm rot="19953000">
                    <a:off x="1917360" y="363168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1" name="Freeform 1803"/>
                  <p:cNvSpPr/>
                  <p:nvPr/>
                </p:nvSpPr>
                <p:spPr>
                  <a:xfrm rot="19953000">
                    <a:off x="1925280" y="362628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862" name="Group 1804"/>
            <p:cNvGrpSpPr/>
            <p:nvPr/>
          </p:nvGrpSpPr>
          <p:grpSpPr>
            <a:xfrm>
              <a:off x="1796040" y="4047120"/>
              <a:ext cx="183960" cy="152280"/>
              <a:chOff x="1796040" y="4047120"/>
              <a:chExt cx="183960" cy="152280"/>
            </a:xfrm>
          </p:grpSpPr>
          <p:sp>
            <p:nvSpPr>
              <p:cNvPr id="1863" name="Freeform 1805"/>
              <p:cNvSpPr/>
              <p:nvPr/>
            </p:nvSpPr>
            <p:spPr>
              <a:xfrm flipH="1" rot="18156600">
                <a:off x="1847160" y="4075920"/>
                <a:ext cx="120600" cy="939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8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4" name="Freeform 1806"/>
              <p:cNvSpPr/>
              <p:nvPr/>
            </p:nvSpPr>
            <p:spPr>
              <a:xfrm rot="18156000">
                <a:off x="1855440" y="410220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8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5" name="Freeform 1807"/>
              <p:cNvSpPr/>
              <p:nvPr/>
            </p:nvSpPr>
            <p:spPr>
              <a:xfrm flipH="1" rot="18156600">
                <a:off x="1928880" y="415044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66" name="Group 1808"/>
              <p:cNvGrpSpPr/>
              <p:nvPr/>
            </p:nvGrpSpPr>
            <p:grpSpPr>
              <a:xfrm>
                <a:off x="1796040" y="4047480"/>
                <a:ext cx="108360" cy="78840"/>
                <a:chOff x="1796040" y="4047480"/>
                <a:chExt cx="108360" cy="78840"/>
              </a:xfrm>
            </p:grpSpPr>
            <p:sp>
              <p:nvSpPr>
                <p:cNvPr id="1867" name="Freeform 1809"/>
                <p:cNvSpPr/>
                <p:nvPr/>
              </p:nvSpPr>
              <p:spPr>
                <a:xfrm rot="18155400">
                  <a:off x="1859760" y="4051800"/>
                  <a:ext cx="34200" cy="432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868" name="Group 1810"/>
                <p:cNvGrpSpPr/>
                <p:nvPr/>
              </p:nvGrpSpPr>
              <p:grpSpPr>
                <a:xfrm>
                  <a:off x="1796040" y="4052520"/>
                  <a:ext cx="90720" cy="73800"/>
                  <a:chOff x="1796040" y="4052520"/>
                  <a:chExt cx="90720" cy="73800"/>
                </a:xfrm>
              </p:grpSpPr>
              <p:grpSp>
                <p:nvGrpSpPr>
                  <p:cNvPr id="1869" name="Group 1811"/>
                  <p:cNvGrpSpPr/>
                  <p:nvPr/>
                </p:nvGrpSpPr>
                <p:grpSpPr>
                  <a:xfrm>
                    <a:off x="1796040" y="4052520"/>
                    <a:ext cx="90720" cy="73800"/>
                    <a:chOff x="1796040" y="4052520"/>
                    <a:chExt cx="90720" cy="73800"/>
                  </a:xfrm>
                </p:grpSpPr>
                <p:sp>
                  <p:nvSpPr>
                    <p:cNvPr id="1870" name="Freeform 1812"/>
                    <p:cNvSpPr/>
                    <p:nvPr/>
                  </p:nvSpPr>
                  <p:spPr>
                    <a:xfrm rot="19953000">
                      <a:off x="1796400" y="4069080"/>
                      <a:ext cx="78480" cy="21240"/>
                    </a:xfrm>
                    <a:custGeom>
                      <a:avLst/>
                      <a:gdLst>
                        <a:gd name="textAreaLeft" fmla="*/ 0 w 78480"/>
                        <a:gd name="textAreaRight" fmla="*/ 78840 w 784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71" name="Freeform 1813"/>
                    <p:cNvSpPr/>
                    <p:nvPr/>
                  </p:nvSpPr>
                  <p:spPr>
                    <a:xfrm rot="19953000">
                      <a:off x="1804680" y="408132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872" name="Freeform 1814"/>
                  <p:cNvSpPr/>
                  <p:nvPr/>
                </p:nvSpPr>
                <p:spPr>
                  <a:xfrm rot="19953000">
                    <a:off x="1861560" y="407160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3" name="Freeform 1815"/>
                  <p:cNvSpPr/>
                  <p:nvPr/>
                </p:nvSpPr>
                <p:spPr>
                  <a:xfrm rot="19953000">
                    <a:off x="1851840" y="407664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4" name="Freeform 1816"/>
                  <p:cNvSpPr/>
                  <p:nvPr/>
                </p:nvSpPr>
                <p:spPr>
                  <a:xfrm rot="19953000">
                    <a:off x="1842120" y="408492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5" name="Freeform 1817"/>
                  <p:cNvSpPr/>
                  <p:nvPr/>
                </p:nvSpPr>
                <p:spPr>
                  <a:xfrm rot="19953000">
                    <a:off x="1841400" y="406836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6" name="Freeform 1818"/>
                  <p:cNvSpPr/>
                  <p:nvPr/>
                </p:nvSpPr>
                <p:spPr>
                  <a:xfrm rot="19953000">
                    <a:off x="1849320" y="406296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877" name="Group 1819"/>
            <p:cNvGrpSpPr/>
            <p:nvPr/>
          </p:nvGrpSpPr>
          <p:grpSpPr>
            <a:xfrm>
              <a:off x="2136960" y="4047120"/>
              <a:ext cx="183960" cy="152280"/>
              <a:chOff x="2136960" y="4047120"/>
              <a:chExt cx="183960" cy="152280"/>
            </a:xfrm>
          </p:grpSpPr>
          <p:sp>
            <p:nvSpPr>
              <p:cNvPr id="1878" name="Freeform 1820"/>
              <p:cNvSpPr/>
              <p:nvPr/>
            </p:nvSpPr>
            <p:spPr>
              <a:xfrm flipH="1" rot="18156600">
                <a:off x="2188080" y="4075920"/>
                <a:ext cx="120600" cy="939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8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9" name="Freeform 1821"/>
              <p:cNvSpPr/>
              <p:nvPr/>
            </p:nvSpPr>
            <p:spPr>
              <a:xfrm rot="18156000">
                <a:off x="2196360" y="410220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8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0" name="Freeform 1822"/>
              <p:cNvSpPr/>
              <p:nvPr/>
            </p:nvSpPr>
            <p:spPr>
              <a:xfrm flipH="1" rot="18156600">
                <a:off x="2269800" y="415044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81" name="Group 1823"/>
              <p:cNvGrpSpPr/>
              <p:nvPr/>
            </p:nvGrpSpPr>
            <p:grpSpPr>
              <a:xfrm>
                <a:off x="2136960" y="4047480"/>
                <a:ext cx="108360" cy="78840"/>
                <a:chOff x="2136960" y="4047480"/>
                <a:chExt cx="108360" cy="78840"/>
              </a:xfrm>
            </p:grpSpPr>
            <p:sp>
              <p:nvSpPr>
                <p:cNvPr id="1882" name="Freeform 1824"/>
                <p:cNvSpPr/>
                <p:nvPr/>
              </p:nvSpPr>
              <p:spPr>
                <a:xfrm rot="18155400">
                  <a:off x="2200680" y="4051800"/>
                  <a:ext cx="34200" cy="432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883" name="Group 1825"/>
                <p:cNvGrpSpPr/>
                <p:nvPr/>
              </p:nvGrpSpPr>
              <p:grpSpPr>
                <a:xfrm>
                  <a:off x="2136960" y="4052520"/>
                  <a:ext cx="90720" cy="73800"/>
                  <a:chOff x="2136960" y="4052520"/>
                  <a:chExt cx="90720" cy="73800"/>
                </a:xfrm>
              </p:grpSpPr>
              <p:grpSp>
                <p:nvGrpSpPr>
                  <p:cNvPr id="1884" name="Group 1826"/>
                  <p:cNvGrpSpPr/>
                  <p:nvPr/>
                </p:nvGrpSpPr>
                <p:grpSpPr>
                  <a:xfrm>
                    <a:off x="2136960" y="4052520"/>
                    <a:ext cx="90720" cy="73800"/>
                    <a:chOff x="2136960" y="4052520"/>
                    <a:chExt cx="90720" cy="73800"/>
                  </a:xfrm>
                </p:grpSpPr>
                <p:sp>
                  <p:nvSpPr>
                    <p:cNvPr id="1885" name="Freeform 1827"/>
                    <p:cNvSpPr/>
                    <p:nvPr/>
                  </p:nvSpPr>
                  <p:spPr>
                    <a:xfrm rot="19953000">
                      <a:off x="2137320" y="4069080"/>
                      <a:ext cx="78480" cy="21240"/>
                    </a:xfrm>
                    <a:custGeom>
                      <a:avLst/>
                      <a:gdLst>
                        <a:gd name="textAreaLeft" fmla="*/ 0 w 78480"/>
                        <a:gd name="textAreaRight" fmla="*/ 78840 w 784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6" name="Freeform 1828"/>
                    <p:cNvSpPr/>
                    <p:nvPr/>
                  </p:nvSpPr>
                  <p:spPr>
                    <a:xfrm rot="19953000">
                      <a:off x="2145600" y="408132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887" name="Freeform 1829"/>
                  <p:cNvSpPr/>
                  <p:nvPr/>
                </p:nvSpPr>
                <p:spPr>
                  <a:xfrm rot="19953000">
                    <a:off x="2202480" y="407160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8" name="Freeform 1830"/>
                  <p:cNvSpPr/>
                  <p:nvPr/>
                </p:nvSpPr>
                <p:spPr>
                  <a:xfrm rot="19953000">
                    <a:off x="2192760" y="407664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9" name="Freeform 1831"/>
                  <p:cNvSpPr/>
                  <p:nvPr/>
                </p:nvSpPr>
                <p:spPr>
                  <a:xfrm rot="19953000">
                    <a:off x="2183040" y="408492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0" name="Freeform 1832"/>
                  <p:cNvSpPr/>
                  <p:nvPr/>
                </p:nvSpPr>
                <p:spPr>
                  <a:xfrm rot="19953000">
                    <a:off x="2182320" y="406836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1" name="Freeform 1833"/>
                  <p:cNvSpPr/>
                  <p:nvPr/>
                </p:nvSpPr>
                <p:spPr>
                  <a:xfrm rot="19953000">
                    <a:off x="2190240" y="406296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892" name="Group 1834"/>
            <p:cNvGrpSpPr/>
            <p:nvPr/>
          </p:nvGrpSpPr>
          <p:grpSpPr>
            <a:xfrm>
              <a:off x="2099160" y="3697560"/>
              <a:ext cx="183960" cy="152280"/>
              <a:chOff x="2099160" y="3697560"/>
              <a:chExt cx="183960" cy="152280"/>
            </a:xfrm>
          </p:grpSpPr>
          <p:sp>
            <p:nvSpPr>
              <p:cNvPr id="1893" name="Freeform 1835"/>
              <p:cNvSpPr/>
              <p:nvPr/>
            </p:nvSpPr>
            <p:spPr>
              <a:xfrm flipH="1" rot="18156600">
                <a:off x="2150280" y="3726360"/>
                <a:ext cx="120600" cy="939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8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4" name="Freeform 1836"/>
              <p:cNvSpPr/>
              <p:nvPr/>
            </p:nvSpPr>
            <p:spPr>
              <a:xfrm rot="18156000">
                <a:off x="2158560" y="375264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9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5" name="Freeform 1837"/>
              <p:cNvSpPr/>
              <p:nvPr/>
            </p:nvSpPr>
            <p:spPr>
              <a:xfrm flipH="1" rot="18156600">
                <a:off x="2232000" y="380088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96" name="Group 1838"/>
              <p:cNvGrpSpPr/>
              <p:nvPr/>
            </p:nvGrpSpPr>
            <p:grpSpPr>
              <a:xfrm>
                <a:off x="2099160" y="3697920"/>
                <a:ext cx="108360" cy="78840"/>
                <a:chOff x="2099160" y="3697920"/>
                <a:chExt cx="108360" cy="78840"/>
              </a:xfrm>
            </p:grpSpPr>
            <p:sp>
              <p:nvSpPr>
                <p:cNvPr id="1897" name="Freeform 1839"/>
                <p:cNvSpPr/>
                <p:nvPr/>
              </p:nvSpPr>
              <p:spPr>
                <a:xfrm rot="18155400">
                  <a:off x="2162880" y="3702240"/>
                  <a:ext cx="34200" cy="432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898" name="Group 1840"/>
                <p:cNvGrpSpPr/>
                <p:nvPr/>
              </p:nvGrpSpPr>
              <p:grpSpPr>
                <a:xfrm>
                  <a:off x="2099160" y="3702960"/>
                  <a:ext cx="90720" cy="73800"/>
                  <a:chOff x="2099160" y="3702960"/>
                  <a:chExt cx="90720" cy="73800"/>
                </a:xfrm>
              </p:grpSpPr>
              <p:grpSp>
                <p:nvGrpSpPr>
                  <p:cNvPr id="1899" name="Group 1841"/>
                  <p:cNvGrpSpPr/>
                  <p:nvPr/>
                </p:nvGrpSpPr>
                <p:grpSpPr>
                  <a:xfrm>
                    <a:off x="2099160" y="3702960"/>
                    <a:ext cx="90720" cy="73800"/>
                    <a:chOff x="2099160" y="3702960"/>
                    <a:chExt cx="90720" cy="73800"/>
                  </a:xfrm>
                </p:grpSpPr>
                <p:sp>
                  <p:nvSpPr>
                    <p:cNvPr id="1900" name="Freeform 1842"/>
                    <p:cNvSpPr/>
                    <p:nvPr/>
                  </p:nvSpPr>
                  <p:spPr>
                    <a:xfrm rot="19953000">
                      <a:off x="2099520" y="3719520"/>
                      <a:ext cx="78480" cy="21240"/>
                    </a:xfrm>
                    <a:custGeom>
                      <a:avLst/>
                      <a:gdLst>
                        <a:gd name="textAreaLeft" fmla="*/ 0 w 78480"/>
                        <a:gd name="textAreaRight" fmla="*/ 78840 w 784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01" name="Freeform 1843"/>
                    <p:cNvSpPr/>
                    <p:nvPr/>
                  </p:nvSpPr>
                  <p:spPr>
                    <a:xfrm rot="19953000">
                      <a:off x="2107800" y="373176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902" name="Freeform 1844"/>
                  <p:cNvSpPr/>
                  <p:nvPr/>
                </p:nvSpPr>
                <p:spPr>
                  <a:xfrm rot="19953000">
                    <a:off x="2164680" y="372204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03" name="Freeform 1845"/>
                  <p:cNvSpPr/>
                  <p:nvPr/>
                </p:nvSpPr>
                <p:spPr>
                  <a:xfrm rot="19953000">
                    <a:off x="2154960" y="372708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04" name="Freeform 1846"/>
                  <p:cNvSpPr/>
                  <p:nvPr/>
                </p:nvSpPr>
                <p:spPr>
                  <a:xfrm rot="19953000">
                    <a:off x="2145240" y="373536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05" name="Freeform 1847"/>
                  <p:cNvSpPr/>
                  <p:nvPr/>
                </p:nvSpPr>
                <p:spPr>
                  <a:xfrm rot="19953000">
                    <a:off x="2144520" y="371880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06" name="Freeform 1848"/>
                  <p:cNvSpPr/>
                  <p:nvPr/>
                </p:nvSpPr>
                <p:spPr>
                  <a:xfrm rot="19953000">
                    <a:off x="2152440" y="371340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907" name="Group 1849"/>
            <p:cNvGrpSpPr/>
            <p:nvPr/>
          </p:nvGrpSpPr>
          <p:grpSpPr>
            <a:xfrm>
              <a:off x="1189440" y="3828600"/>
              <a:ext cx="183960" cy="152280"/>
              <a:chOff x="1189440" y="3828600"/>
              <a:chExt cx="183960" cy="152280"/>
            </a:xfrm>
          </p:grpSpPr>
          <p:sp>
            <p:nvSpPr>
              <p:cNvPr id="1908" name="Freeform 1850"/>
              <p:cNvSpPr/>
              <p:nvPr/>
            </p:nvSpPr>
            <p:spPr>
              <a:xfrm rot="3443400">
                <a:off x="1201320" y="3857400"/>
                <a:ext cx="120600" cy="93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9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9" name="Freeform 1851"/>
              <p:cNvSpPr/>
              <p:nvPr/>
            </p:nvSpPr>
            <p:spPr>
              <a:xfrm flipH="1" rot="3444000">
                <a:off x="1243080" y="3883680"/>
                <a:ext cx="70560" cy="579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9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0" name="Freeform 1852"/>
              <p:cNvSpPr/>
              <p:nvPr/>
            </p:nvSpPr>
            <p:spPr>
              <a:xfrm rot="3443400">
                <a:off x="1231920" y="3931920"/>
                <a:ext cx="7920" cy="39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11" name="Group 1853"/>
              <p:cNvGrpSpPr/>
              <p:nvPr/>
            </p:nvGrpSpPr>
            <p:grpSpPr>
              <a:xfrm>
                <a:off x="1265040" y="3828960"/>
                <a:ext cx="108360" cy="78840"/>
                <a:chOff x="1265040" y="3828960"/>
                <a:chExt cx="108360" cy="78840"/>
              </a:xfrm>
            </p:grpSpPr>
            <p:sp>
              <p:nvSpPr>
                <p:cNvPr id="1912" name="Freeform 1854"/>
                <p:cNvSpPr/>
                <p:nvPr/>
              </p:nvSpPr>
              <p:spPr>
                <a:xfrm flipH="1" rot="3444600">
                  <a:off x="1275120" y="3833280"/>
                  <a:ext cx="34200" cy="4320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13" name="Group 1855"/>
                <p:cNvGrpSpPr/>
                <p:nvPr/>
              </p:nvGrpSpPr>
              <p:grpSpPr>
                <a:xfrm>
                  <a:off x="1282680" y="3834000"/>
                  <a:ext cx="90720" cy="73800"/>
                  <a:chOff x="1282680" y="3834000"/>
                  <a:chExt cx="90720" cy="73800"/>
                </a:xfrm>
              </p:grpSpPr>
              <p:grpSp>
                <p:nvGrpSpPr>
                  <p:cNvPr id="1914" name="Group 1856"/>
                  <p:cNvGrpSpPr/>
                  <p:nvPr/>
                </p:nvGrpSpPr>
                <p:grpSpPr>
                  <a:xfrm>
                    <a:off x="1282680" y="3834000"/>
                    <a:ext cx="90720" cy="73800"/>
                    <a:chOff x="1282680" y="3834000"/>
                    <a:chExt cx="90720" cy="73800"/>
                  </a:xfrm>
                </p:grpSpPr>
                <p:sp>
                  <p:nvSpPr>
                    <p:cNvPr id="1915" name="Freeform 1857"/>
                    <p:cNvSpPr/>
                    <p:nvPr/>
                  </p:nvSpPr>
                  <p:spPr>
                    <a:xfrm flipH="1" rot="1647000">
                      <a:off x="1294560" y="3850560"/>
                      <a:ext cx="78120" cy="21240"/>
                    </a:xfrm>
                    <a:custGeom>
                      <a:avLst/>
                      <a:gdLst>
                        <a:gd name="textAreaLeft" fmla="*/ -360 w 78120"/>
                        <a:gd name="textAreaRight" fmla="*/ 78120 w 7812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6" name="Freeform 1858"/>
                    <p:cNvSpPr/>
                    <p:nvPr/>
                  </p:nvSpPr>
                  <p:spPr>
                    <a:xfrm flipH="1" rot="1647000">
                      <a:off x="1284120" y="386280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917" name="Freeform 1859"/>
                  <p:cNvSpPr/>
                  <p:nvPr/>
                </p:nvSpPr>
                <p:spPr>
                  <a:xfrm flipH="1" rot="1647000">
                    <a:off x="1299240" y="385344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18" name="Freeform 1860"/>
                  <p:cNvSpPr/>
                  <p:nvPr/>
                </p:nvSpPr>
                <p:spPr>
                  <a:xfrm flipH="1" rot="1647000">
                    <a:off x="1308960" y="385848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19" name="Freeform 1861"/>
                  <p:cNvSpPr/>
                  <p:nvPr/>
                </p:nvSpPr>
                <p:spPr>
                  <a:xfrm flipH="1" rot="1647000">
                    <a:off x="1320480" y="3866760"/>
                    <a:ext cx="6480" cy="12600"/>
                  </a:xfrm>
                  <a:custGeom>
                    <a:avLst/>
                    <a:gdLst>
                      <a:gd name="textAreaLeft" fmla="*/ 360 w 6480"/>
                      <a:gd name="textAreaRight" fmla="*/ 720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20" name="Freeform 1862"/>
                  <p:cNvSpPr/>
                  <p:nvPr/>
                </p:nvSpPr>
                <p:spPr>
                  <a:xfrm flipH="1" rot="1647000">
                    <a:off x="1317240" y="3849840"/>
                    <a:ext cx="10080" cy="972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21" name="Freeform 1863"/>
                  <p:cNvSpPr/>
                  <p:nvPr/>
                </p:nvSpPr>
                <p:spPr>
                  <a:xfrm flipH="1" rot="1647000">
                    <a:off x="1308600" y="3844440"/>
                    <a:ext cx="10800" cy="1080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922" name="Group 1864"/>
            <p:cNvGrpSpPr/>
            <p:nvPr/>
          </p:nvGrpSpPr>
          <p:grpSpPr>
            <a:xfrm>
              <a:off x="1454400" y="3959640"/>
              <a:ext cx="183960" cy="152280"/>
              <a:chOff x="1454400" y="3959640"/>
              <a:chExt cx="183960" cy="152280"/>
            </a:xfrm>
          </p:grpSpPr>
          <p:sp>
            <p:nvSpPr>
              <p:cNvPr id="1923" name="Freeform 1865"/>
              <p:cNvSpPr/>
              <p:nvPr/>
            </p:nvSpPr>
            <p:spPr>
              <a:xfrm rot="3443400">
                <a:off x="1466280" y="3988440"/>
                <a:ext cx="120600" cy="93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9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4" name="Freeform 1866"/>
              <p:cNvSpPr/>
              <p:nvPr/>
            </p:nvSpPr>
            <p:spPr>
              <a:xfrm flipH="1" rot="3444000">
                <a:off x="1508040" y="4014720"/>
                <a:ext cx="70560" cy="579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9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5" name="Freeform 1867"/>
              <p:cNvSpPr/>
              <p:nvPr/>
            </p:nvSpPr>
            <p:spPr>
              <a:xfrm rot="3443400">
                <a:off x="1496880" y="4062960"/>
                <a:ext cx="7920" cy="39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26" name="Group 1868"/>
              <p:cNvGrpSpPr/>
              <p:nvPr/>
            </p:nvGrpSpPr>
            <p:grpSpPr>
              <a:xfrm>
                <a:off x="1530000" y="3960000"/>
                <a:ext cx="108360" cy="78840"/>
                <a:chOff x="1530000" y="3960000"/>
                <a:chExt cx="108360" cy="78840"/>
              </a:xfrm>
            </p:grpSpPr>
            <p:sp>
              <p:nvSpPr>
                <p:cNvPr id="1927" name="Freeform 1869"/>
                <p:cNvSpPr/>
                <p:nvPr/>
              </p:nvSpPr>
              <p:spPr>
                <a:xfrm flipH="1" rot="3444600">
                  <a:off x="1540080" y="3964320"/>
                  <a:ext cx="34200" cy="4320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28" name="Group 1870"/>
                <p:cNvGrpSpPr/>
                <p:nvPr/>
              </p:nvGrpSpPr>
              <p:grpSpPr>
                <a:xfrm>
                  <a:off x="1547640" y="3965040"/>
                  <a:ext cx="90720" cy="73800"/>
                  <a:chOff x="1547640" y="3965040"/>
                  <a:chExt cx="90720" cy="73800"/>
                </a:xfrm>
              </p:grpSpPr>
              <p:grpSp>
                <p:nvGrpSpPr>
                  <p:cNvPr id="1929" name="Group 1871"/>
                  <p:cNvGrpSpPr/>
                  <p:nvPr/>
                </p:nvGrpSpPr>
                <p:grpSpPr>
                  <a:xfrm>
                    <a:off x="1547640" y="3965040"/>
                    <a:ext cx="90720" cy="73800"/>
                    <a:chOff x="1547640" y="3965040"/>
                    <a:chExt cx="90720" cy="73800"/>
                  </a:xfrm>
                </p:grpSpPr>
                <p:sp>
                  <p:nvSpPr>
                    <p:cNvPr id="1930" name="Freeform 1872"/>
                    <p:cNvSpPr/>
                    <p:nvPr/>
                  </p:nvSpPr>
                  <p:spPr>
                    <a:xfrm flipH="1" rot="1647000">
                      <a:off x="1559520" y="3981600"/>
                      <a:ext cx="78120" cy="21240"/>
                    </a:xfrm>
                    <a:custGeom>
                      <a:avLst/>
                      <a:gdLst>
                        <a:gd name="textAreaLeft" fmla="*/ -360 w 78120"/>
                        <a:gd name="textAreaRight" fmla="*/ 78120 w 7812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31" name="Freeform 1873"/>
                    <p:cNvSpPr/>
                    <p:nvPr/>
                  </p:nvSpPr>
                  <p:spPr>
                    <a:xfrm flipH="1" rot="1647000">
                      <a:off x="1549080" y="399384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932" name="Freeform 1874"/>
                  <p:cNvSpPr/>
                  <p:nvPr/>
                </p:nvSpPr>
                <p:spPr>
                  <a:xfrm flipH="1" rot="1647000">
                    <a:off x="1564200" y="398448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3" name="Freeform 1875"/>
                  <p:cNvSpPr/>
                  <p:nvPr/>
                </p:nvSpPr>
                <p:spPr>
                  <a:xfrm flipH="1" rot="1647000">
                    <a:off x="1573920" y="398952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4" name="Freeform 1876"/>
                  <p:cNvSpPr/>
                  <p:nvPr/>
                </p:nvSpPr>
                <p:spPr>
                  <a:xfrm flipH="1" rot="1647000">
                    <a:off x="1585440" y="3997800"/>
                    <a:ext cx="6480" cy="12600"/>
                  </a:xfrm>
                  <a:custGeom>
                    <a:avLst/>
                    <a:gdLst>
                      <a:gd name="textAreaLeft" fmla="*/ 360 w 6480"/>
                      <a:gd name="textAreaRight" fmla="*/ 720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5" name="Freeform 1877"/>
                  <p:cNvSpPr/>
                  <p:nvPr/>
                </p:nvSpPr>
                <p:spPr>
                  <a:xfrm flipH="1" rot="1647000">
                    <a:off x="1582200" y="3980880"/>
                    <a:ext cx="10080" cy="972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6" name="Freeform 1878"/>
                  <p:cNvSpPr/>
                  <p:nvPr/>
                </p:nvSpPr>
                <p:spPr>
                  <a:xfrm flipH="1" rot="1647000">
                    <a:off x="1573560" y="3975480"/>
                    <a:ext cx="10800" cy="1080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937" name="Group 1879"/>
            <p:cNvGrpSpPr/>
            <p:nvPr/>
          </p:nvGrpSpPr>
          <p:grpSpPr>
            <a:xfrm>
              <a:off x="1491480" y="4396320"/>
              <a:ext cx="184680" cy="152280"/>
              <a:chOff x="1491480" y="4396320"/>
              <a:chExt cx="184680" cy="152280"/>
            </a:xfrm>
          </p:grpSpPr>
          <p:sp>
            <p:nvSpPr>
              <p:cNvPr id="1938" name="Freeform 1880"/>
              <p:cNvSpPr/>
              <p:nvPr/>
            </p:nvSpPr>
            <p:spPr>
              <a:xfrm rot="3443400">
                <a:off x="1503360" y="4425120"/>
                <a:ext cx="120600" cy="943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0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9" name="Freeform 1881"/>
              <p:cNvSpPr/>
              <p:nvPr/>
            </p:nvSpPr>
            <p:spPr>
              <a:xfrm flipH="1" rot="3444000">
                <a:off x="1545840" y="4451400"/>
                <a:ext cx="70560" cy="579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0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0" name="Freeform 1882"/>
              <p:cNvSpPr/>
              <p:nvPr/>
            </p:nvSpPr>
            <p:spPr>
              <a:xfrm rot="3443400">
                <a:off x="1534320" y="4499640"/>
                <a:ext cx="7920" cy="39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41" name="Group 1883"/>
              <p:cNvGrpSpPr/>
              <p:nvPr/>
            </p:nvGrpSpPr>
            <p:grpSpPr>
              <a:xfrm>
                <a:off x="1567440" y="4396680"/>
                <a:ext cx="108720" cy="78840"/>
                <a:chOff x="1567440" y="4396680"/>
                <a:chExt cx="108720" cy="78840"/>
              </a:xfrm>
            </p:grpSpPr>
            <p:sp>
              <p:nvSpPr>
                <p:cNvPr id="1942" name="Freeform 1884"/>
                <p:cNvSpPr/>
                <p:nvPr/>
              </p:nvSpPr>
              <p:spPr>
                <a:xfrm flipH="1" rot="3444600">
                  <a:off x="1577520" y="4400640"/>
                  <a:ext cx="34200" cy="4356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43" name="Group 1885"/>
                <p:cNvGrpSpPr/>
                <p:nvPr/>
              </p:nvGrpSpPr>
              <p:grpSpPr>
                <a:xfrm>
                  <a:off x="1585080" y="4401360"/>
                  <a:ext cx="91080" cy="74160"/>
                  <a:chOff x="1585080" y="4401360"/>
                  <a:chExt cx="91080" cy="74160"/>
                </a:xfrm>
              </p:grpSpPr>
              <p:grpSp>
                <p:nvGrpSpPr>
                  <p:cNvPr id="1944" name="Group 1886"/>
                  <p:cNvGrpSpPr/>
                  <p:nvPr/>
                </p:nvGrpSpPr>
                <p:grpSpPr>
                  <a:xfrm>
                    <a:off x="1585080" y="4401360"/>
                    <a:ext cx="91080" cy="74160"/>
                    <a:chOff x="1585080" y="4401360"/>
                    <a:chExt cx="91080" cy="74160"/>
                  </a:xfrm>
                </p:grpSpPr>
                <p:sp>
                  <p:nvSpPr>
                    <p:cNvPr id="1945" name="Freeform 1887"/>
                    <p:cNvSpPr/>
                    <p:nvPr/>
                  </p:nvSpPr>
                  <p:spPr>
                    <a:xfrm flipH="1" rot="1647000">
                      <a:off x="1596600" y="4418280"/>
                      <a:ext cx="78840" cy="21240"/>
                    </a:xfrm>
                    <a:custGeom>
                      <a:avLst/>
                      <a:gdLst>
                        <a:gd name="textAreaLeft" fmla="*/ -360 w 78840"/>
                        <a:gd name="textAreaRight" fmla="*/ 78840 w 7884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46" name="Freeform 1888"/>
                    <p:cNvSpPr/>
                    <p:nvPr/>
                  </p:nvSpPr>
                  <p:spPr>
                    <a:xfrm flipH="1" rot="1647000">
                      <a:off x="1586880" y="4430520"/>
                      <a:ext cx="80280" cy="28080"/>
                    </a:xfrm>
                    <a:custGeom>
                      <a:avLst/>
                      <a:gdLst>
                        <a:gd name="textAreaLeft" fmla="*/ 0 w 80280"/>
                        <a:gd name="textAreaRight" fmla="*/ 80280 w 802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947" name="Freeform 1889"/>
                  <p:cNvSpPr/>
                  <p:nvPr/>
                </p:nvSpPr>
                <p:spPr>
                  <a:xfrm flipH="1" rot="1647000">
                    <a:off x="1601640" y="442080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8" name="Freeform 1890"/>
                  <p:cNvSpPr/>
                  <p:nvPr/>
                </p:nvSpPr>
                <p:spPr>
                  <a:xfrm flipH="1" rot="1647000">
                    <a:off x="1611720" y="442584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9" name="Freeform 1891"/>
                  <p:cNvSpPr/>
                  <p:nvPr/>
                </p:nvSpPr>
                <p:spPr>
                  <a:xfrm flipH="1" rot="1647000">
                    <a:off x="1623240" y="4434120"/>
                    <a:ext cx="6480" cy="12600"/>
                  </a:xfrm>
                  <a:custGeom>
                    <a:avLst/>
                    <a:gdLst>
                      <a:gd name="textAreaLeft" fmla="*/ 360 w 6480"/>
                      <a:gd name="textAreaRight" fmla="*/ 720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0" name="Freeform 1892"/>
                  <p:cNvSpPr/>
                  <p:nvPr/>
                </p:nvSpPr>
                <p:spPr>
                  <a:xfrm flipH="1" rot="1647000">
                    <a:off x="1619640" y="4417560"/>
                    <a:ext cx="10080" cy="972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1" name="Freeform 1893"/>
                  <p:cNvSpPr/>
                  <p:nvPr/>
                </p:nvSpPr>
                <p:spPr>
                  <a:xfrm flipH="1" rot="1647000">
                    <a:off x="1611000" y="4411800"/>
                    <a:ext cx="10800" cy="1080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952" name="Group 1894"/>
            <p:cNvGrpSpPr/>
            <p:nvPr/>
          </p:nvGrpSpPr>
          <p:grpSpPr>
            <a:xfrm>
              <a:off x="1491480" y="3173760"/>
              <a:ext cx="184680" cy="152280"/>
              <a:chOff x="1491480" y="3173760"/>
              <a:chExt cx="184680" cy="152280"/>
            </a:xfrm>
          </p:grpSpPr>
          <p:sp>
            <p:nvSpPr>
              <p:cNvPr id="1953" name="Freeform 1895"/>
              <p:cNvSpPr/>
              <p:nvPr/>
            </p:nvSpPr>
            <p:spPr>
              <a:xfrm rot="3443400">
                <a:off x="1503360" y="3202560"/>
                <a:ext cx="120600" cy="943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0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4" name="Freeform 1896"/>
              <p:cNvSpPr/>
              <p:nvPr/>
            </p:nvSpPr>
            <p:spPr>
              <a:xfrm flipH="1" rot="3444000">
                <a:off x="1545840" y="3228840"/>
                <a:ext cx="70560" cy="579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0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5" name="Freeform 1897"/>
              <p:cNvSpPr/>
              <p:nvPr/>
            </p:nvSpPr>
            <p:spPr>
              <a:xfrm rot="3443400">
                <a:off x="1534320" y="3277080"/>
                <a:ext cx="7920" cy="39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56" name="Group 1898"/>
              <p:cNvGrpSpPr/>
              <p:nvPr/>
            </p:nvGrpSpPr>
            <p:grpSpPr>
              <a:xfrm>
                <a:off x="1567440" y="3174120"/>
                <a:ext cx="108720" cy="78840"/>
                <a:chOff x="1567440" y="3174120"/>
                <a:chExt cx="108720" cy="78840"/>
              </a:xfrm>
            </p:grpSpPr>
            <p:sp>
              <p:nvSpPr>
                <p:cNvPr id="1957" name="Freeform 1899"/>
                <p:cNvSpPr/>
                <p:nvPr/>
              </p:nvSpPr>
              <p:spPr>
                <a:xfrm flipH="1" rot="3444600">
                  <a:off x="1577520" y="3178080"/>
                  <a:ext cx="34200" cy="4356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58" name="Group 1900"/>
                <p:cNvGrpSpPr/>
                <p:nvPr/>
              </p:nvGrpSpPr>
              <p:grpSpPr>
                <a:xfrm>
                  <a:off x="1585080" y="3178800"/>
                  <a:ext cx="91080" cy="74160"/>
                  <a:chOff x="1585080" y="3178800"/>
                  <a:chExt cx="91080" cy="74160"/>
                </a:xfrm>
              </p:grpSpPr>
              <p:grpSp>
                <p:nvGrpSpPr>
                  <p:cNvPr id="1959" name="Group 1901"/>
                  <p:cNvGrpSpPr/>
                  <p:nvPr/>
                </p:nvGrpSpPr>
                <p:grpSpPr>
                  <a:xfrm>
                    <a:off x="1585080" y="3178800"/>
                    <a:ext cx="91080" cy="74160"/>
                    <a:chOff x="1585080" y="3178800"/>
                    <a:chExt cx="91080" cy="74160"/>
                  </a:xfrm>
                </p:grpSpPr>
                <p:sp>
                  <p:nvSpPr>
                    <p:cNvPr id="1960" name="Freeform 1902"/>
                    <p:cNvSpPr/>
                    <p:nvPr/>
                  </p:nvSpPr>
                  <p:spPr>
                    <a:xfrm flipH="1" rot="1647000">
                      <a:off x="1596600" y="3195720"/>
                      <a:ext cx="78840" cy="21240"/>
                    </a:xfrm>
                    <a:custGeom>
                      <a:avLst/>
                      <a:gdLst>
                        <a:gd name="textAreaLeft" fmla="*/ -360 w 78840"/>
                        <a:gd name="textAreaRight" fmla="*/ 78840 w 7884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61" name="Freeform 1903"/>
                    <p:cNvSpPr/>
                    <p:nvPr/>
                  </p:nvSpPr>
                  <p:spPr>
                    <a:xfrm flipH="1" rot="1647000">
                      <a:off x="1586880" y="3207960"/>
                      <a:ext cx="80280" cy="28080"/>
                    </a:xfrm>
                    <a:custGeom>
                      <a:avLst/>
                      <a:gdLst>
                        <a:gd name="textAreaLeft" fmla="*/ 0 w 80280"/>
                        <a:gd name="textAreaRight" fmla="*/ 80280 w 802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962" name="Freeform 1904"/>
                  <p:cNvSpPr/>
                  <p:nvPr/>
                </p:nvSpPr>
                <p:spPr>
                  <a:xfrm flipH="1" rot="1647000">
                    <a:off x="1601640" y="319824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3" name="Freeform 1905"/>
                  <p:cNvSpPr/>
                  <p:nvPr/>
                </p:nvSpPr>
                <p:spPr>
                  <a:xfrm flipH="1" rot="1647000">
                    <a:off x="1611720" y="320328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4" name="Freeform 1906"/>
                  <p:cNvSpPr/>
                  <p:nvPr/>
                </p:nvSpPr>
                <p:spPr>
                  <a:xfrm flipH="1" rot="1647000">
                    <a:off x="1623240" y="3211560"/>
                    <a:ext cx="6480" cy="12600"/>
                  </a:xfrm>
                  <a:custGeom>
                    <a:avLst/>
                    <a:gdLst>
                      <a:gd name="textAreaLeft" fmla="*/ 360 w 6480"/>
                      <a:gd name="textAreaRight" fmla="*/ 720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5" name="Freeform 1907"/>
                  <p:cNvSpPr/>
                  <p:nvPr/>
                </p:nvSpPr>
                <p:spPr>
                  <a:xfrm flipH="1" rot="1647000">
                    <a:off x="1619640" y="3195000"/>
                    <a:ext cx="10080" cy="972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6" name="Freeform 1908"/>
                  <p:cNvSpPr/>
                  <p:nvPr/>
                </p:nvSpPr>
                <p:spPr>
                  <a:xfrm flipH="1" rot="1647000">
                    <a:off x="1611000" y="3189240"/>
                    <a:ext cx="10800" cy="1080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967" name="Group 1909"/>
            <p:cNvGrpSpPr/>
            <p:nvPr/>
          </p:nvGrpSpPr>
          <p:grpSpPr>
            <a:xfrm>
              <a:off x="1870920" y="3785040"/>
              <a:ext cx="183960" cy="152280"/>
              <a:chOff x="1870920" y="3785040"/>
              <a:chExt cx="183960" cy="152280"/>
            </a:xfrm>
          </p:grpSpPr>
          <p:sp>
            <p:nvSpPr>
              <p:cNvPr id="1968" name="Freeform 1910"/>
              <p:cNvSpPr/>
              <p:nvPr/>
            </p:nvSpPr>
            <p:spPr>
              <a:xfrm rot="3443400">
                <a:off x="1882800" y="3813840"/>
                <a:ext cx="120600" cy="93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0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9" name="Freeform 1911"/>
              <p:cNvSpPr/>
              <p:nvPr/>
            </p:nvSpPr>
            <p:spPr>
              <a:xfrm flipH="1" rot="3444000">
                <a:off x="1924560" y="3840120"/>
                <a:ext cx="70560" cy="579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0" name="Freeform 1912"/>
              <p:cNvSpPr/>
              <p:nvPr/>
            </p:nvSpPr>
            <p:spPr>
              <a:xfrm rot="3443400">
                <a:off x="1913400" y="3888360"/>
                <a:ext cx="7920" cy="39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71" name="Group 1913"/>
              <p:cNvGrpSpPr/>
              <p:nvPr/>
            </p:nvGrpSpPr>
            <p:grpSpPr>
              <a:xfrm>
                <a:off x="1946520" y="3785400"/>
                <a:ext cx="108360" cy="78840"/>
                <a:chOff x="1946520" y="3785400"/>
                <a:chExt cx="108360" cy="78840"/>
              </a:xfrm>
            </p:grpSpPr>
            <p:sp>
              <p:nvSpPr>
                <p:cNvPr id="1972" name="Freeform 1914"/>
                <p:cNvSpPr/>
                <p:nvPr/>
              </p:nvSpPr>
              <p:spPr>
                <a:xfrm flipH="1" rot="3444600">
                  <a:off x="1956600" y="3789720"/>
                  <a:ext cx="34200" cy="4320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73" name="Group 1915"/>
                <p:cNvGrpSpPr/>
                <p:nvPr/>
              </p:nvGrpSpPr>
              <p:grpSpPr>
                <a:xfrm>
                  <a:off x="1964160" y="3790440"/>
                  <a:ext cx="90720" cy="73800"/>
                  <a:chOff x="1964160" y="3790440"/>
                  <a:chExt cx="90720" cy="73800"/>
                </a:xfrm>
              </p:grpSpPr>
              <p:grpSp>
                <p:nvGrpSpPr>
                  <p:cNvPr id="1974" name="Group 1916"/>
                  <p:cNvGrpSpPr/>
                  <p:nvPr/>
                </p:nvGrpSpPr>
                <p:grpSpPr>
                  <a:xfrm>
                    <a:off x="1964160" y="3790440"/>
                    <a:ext cx="90720" cy="73800"/>
                    <a:chOff x="1964160" y="3790440"/>
                    <a:chExt cx="90720" cy="73800"/>
                  </a:xfrm>
                </p:grpSpPr>
                <p:sp>
                  <p:nvSpPr>
                    <p:cNvPr id="1975" name="Freeform 1917"/>
                    <p:cNvSpPr/>
                    <p:nvPr/>
                  </p:nvSpPr>
                  <p:spPr>
                    <a:xfrm flipH="1" rot="1647000">
                      <a:off x="1976040" y="3807000"/>
                      <a:ext cx="78120" cy="21240"/>
                    </a:xfrm>
                    <a:custGeom>
                      <a:avLst/>
                      <a:gdLst>
                        <a:gd name="textAreaLeft" fmla="*/ -360 w 78120"/>
                        <a:gd name="textAreaRight" fmla="*/ 78120 w 7812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76" name="Freeform 1918"/>
                    <p:cNvSpPr/>
                    <p:nvPr/>
                  </p:nvSpPr>
                  <p:spPr>
                    <a:xfrm flipH="1" rot="1647000">
                      <a:off x="1965600" y="381924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977" name="Freeform 1919"/>
                  <p:cNvSpPr/>
                  <p:nvPr/>
                </p:nvSpPr>
                <p:spPr>
                  <a:xfrm flipH="1" rot="1647000">
                    <a:off x="1980720" y="380988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8" name="Freeform 1920"/>
                  <p:cNvSpPr/>
                  <p:nvPr/>
                </p:nvSpPr>
                <p:spPr>
                  <a:xfrm flipH="1" rot="1647000">
                    <a:off x="1990440" y="381492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9" name="Freeform 1921"/>
                  <p:cNvSpPr/>
                  <p:nvPr/>
                </p:nvSpPr>
                <p:spPr>
                  <a:xfrm flipH="1" rot="1647000">
                    <a:off x="2001960" y="3823200"/>
                    <a:ext cx="6480" cy="12600"/>
                  </a:xfrm>
                  <a:custGeom>
                    <a:avLst/>
                    <a:gdLst>
                      <a:gd name="textAreaLeft" fmla="*/ 360 w 6480"/>
                      <a:gd name="textAreaRight" fmla="*/ 720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0" name="Freeform 1922"/>
                  <p:cNvSpPr/>
                  <p:nvPr/>
                </p:nvSpPr>
                <p:spPr>
                  <a:xfrm flipH="1" rot="1647000">
                    <a:off x="1998720" y="3806280"/>
                    <a:ext cx="10080" cy="972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1" name="Freeform 1923"/>
                  <p:cNvSpPr/>
                  <p:nvPr/>
                </p:nvSpPr>
                <p:spPr>
                  <a:xfrm flipH="1" rot="1647000">
                    <a:off x="1990080" y="3800880"/>
                    <a:ext cx="10800" cy="1080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982" name="Group 1924"/>
            <p:cNvGrpSpPr/>
            <p:nvPr/>
          </p:nvGrpSpPr>
          <p:grpSpPr>
            <a:xfrm>
              <a:off x="2022480" y="4308840"/>
              <a:ext cx="183960" cy="152280"/>
              <a:chOff x="2022480" y="4308840"/>
              <a:chExt cx="183960" cy="152280"/>
            </a:xfrm>
          </p:grpSpPr>
          <p:sp>
            <p:nvSpPr>
              <p:cNvPr id="1983" name="Freeform 1925"/>
              <p:cNvSpPr/>
              <p:nvPr/>
            </p:nvSpPr>
            <p:spPr>
              <a:xfrm rot="3443400">
                <a:off x="2034360" y="4337640"/>
                <a:ext cx="120600" cy="93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1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4" name="Freeform 1926"/>
              <p:cNvSpPr/>
              <p:nvPr/>
            </p:nvSpPr>
            <p:spPr>
              <a:xfrm flipH="1" rot="3444000">
                <a:off x="2076120" y="4363920"/>
                <a:ext cx="70560" cy="579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5" name="Freeform 1927"/>
              <p:cNvSpPr/>
              <p:nvPr/>
            </p:nvSpPr>
            <p:spPr>
              <a:xfrm rot="3443400">
                <a:off x="2064960" y="4412160"/>
                <a:ext cx="7920" cy="39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86" name="Group 1928"/>
              <p:cNvGrpSpPr/>
              <p:nvPr/>
            </p:nvGrpSpPr>
            <p:grpSpPr>
              <a:xfrm>
                <a:off x="2098080" y="4309200"/>
                <a:ext cx="108360" cy="78840"/>
                <a:chOff x="2098080" y="4309200"/>
                <a:chExt cx="108360" cy="78840"/>
              </a:xfrm>
            </p:grpSpPr>
            <p:sp>
              <p:nvSpPr>
                <p:cNvPr id="1987" name="Freeform 1929"/>
                <p:cNvSpPr/>
                <p:nvPr/>
              </p:nvSpPr>
              <p:spPr>
                <a:xfrm flipH="1" rot="3444600">
                  <a:off x="2108160" y="4313520"/>
                  <a:ext cx="34200" cy="4320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88" name="Group 1930"/>
                <p:cNvGrpSpPr/>
                <p:nvPr/>
              </p:nvGrpSpPr>
              <p:grpSpPr>
                <a:xfrm>
                  <a:off x="2115720" y="4314240"/>
                  <a:ext cx="90720" cy="73800"/>
                  <a:chOff x="2115720" y="4314240"/>
                  <a:chExt cx="90720" cy="73800"/>
                </a:xfrm>
              </p:grpSpPr>
              <p:grpSp>
                <p:nvGrpSpPr>
                  <p:cNvPr id="1989" name="Group 1931"/>
                  <p:cNvGrpSpPr/>
                  <p:nvPr/>
                </p:nvGrpSpPr>
                <p:grpSpPr>
                  <a:xfrm>
                    <a:off x="2115720" y="4314240"/>
                    <a:ext cx="90720" cy="73800"/>
                    <a:chOff x="2115720" y="4314240"/>
                    <a:chExt cx="90720" cy="73800"/>
                  </a:xfrm>
                </p:grpSpPr>
                <p:sp>
                  <p:nvSpPr>
                    <p:cNvPr id="1990" name="Freeform 1932"/>
                    <p:cNvSpPr/>
                    <p:nvPr/>
                  </p:nvSpPr>
                  <p:spPr>
                    <a:xfrm flipH="1" rot="1647000">
                      <a:off x="2127600" y="4330800"/>
                      <a:ext cx="78120" cy="21240"/>
                    </a:xfrm>
                    <a:custGeom>
                      <a:avLst/>
                      <a:gdLst>
                        <a:gd name="textAreaLeft" fmla="*/ -360 w 78120"/>
                        <a:gd name="textAreaRight" fmla="*/ 78120 w 7812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91" name="Freeform 1933"/>
                    <p:cNvSpPr/>
                    <p:nvPr/>
                  </p:nvSpPr>
                  <p:spPr>
                    <a:xfrm flipH="1" rot="1647000">
                      <a:off x="2117160" y="434304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992" name="Freeform 1934"/>
                  <p:cNvSpPr/>
                  <p:nvPr/>
                </p:nvSpPr>
                <p:spPr>
                  <a:xfrm flipH="1" rot="1647000">
                    <a:off x="2132280" y="433368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3" name="Freeform 1935"/>
                  <p:cNvSpPr/>
                  <p:nvPr/>
                </p:nvSpPr>
                <p:spPr>
                  <a:xfrm flipH="1" rot="1647000">
                    <a:off x="2142000" y="433872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4" name="Freeform 1936"/>
                  <p:cNvSpPr/>
                  <p:nvPr/>
                </p:nvSpPr>
                <p:spPr>
                  <a:xfrm flipH="1" rot="1647000">
                    <a:off x="2153520" y="4347000"/>
                    <a:ext cx="6480" cy="12600"/>
                  </a:xfrm>
                  <a:custGeom>
                    <a:avLst/>
                    <a:gdLst>
                      <a:gd name="textAreaLeft" fmla="*/ 360 w 6480"/>
                      <a:gd name="textAreaRight" fmla="*/ 720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5" name="Freeform 1937"/>
                  <p:cNvSpPr/>
                  <p:nvPr/>
                </p:nvSpPr>
                <p:spPr>
                  <a:xfrm flipH="1" rot="1647000">
                    <a:off x="2150280" y="4330080"/>
                    <a:ext cx="10080" cy="972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6" name="Freeform 1938"/>
                  <p:cNvSpPr/>
                  <p:nvPr/>
                </p:nvSpPr>
                <p:spPr>
                  <a:xfrm flipH="1" rot="1647000">
                    <a:off x="2141640" y="4324680"/>
                    <a:ext cx="10800" cy="1080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997" name="Group 1939"/>
            <p:cNvGrpSpPr/>
            <p:nvPr/>
          </p:nvGrpSpPr>
          <p:grpSpPr>
            <a:xfrm>
              <a:off x="1681560" y="3217680"/>
              <a:ext cx="183960" cy="152280"/>
              <a:chOff x="1681560" y="3217680"/>
              <a:chExt cx="183960" cy="152280"/>
            </a:xfrm>
          </p:grpSpPr>
          <p:sp>
            <p:nvSpPr>
              <p:cNvPr id="1998" name="Freeform 1940"/>
              <p:cNvSpPr/>
              <p:nvPr/>
            </p:nvSpPr>
            <p:spPr>
              <a:xfrm rot="3443400">
                <a:off x="1693440" y="3246480"/>
                <a:ext cx="120600" cy="93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1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Freeform 1941"/>
              <p:cNvSpPr/>
              <p:nvPr/>
            </p:nvSpPr>
            <p:spPr>
              <a:xfrm flipH="1" rot="3444000">
                <a:off x="1735200" y="3272760"/>
                <a:ext cx="70560" cy="579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Freeform 1942"/>
              <p:cNvSpPr/>
              <p:nvPr/>
            </p:nvSpPr>
            <p:spPr>
              <a:xfrm rot="3443400">
                <a:off x="1724040" y="3321000"/>
                <a:ext cx="7920" cy="39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001" name="Group 1943"/>
              <p:cNvGrpSpPr/>
              <p:nvPr/>
            </p:nvGrpSpPr>
            <p:grpSpPr>
              <a:xfrm>
                <a:off x="1757160" y="3218040"/>
                <a:ext cx="108360" cy="78840"/>
                <a:chOff x="1757160" y="3218040"/>
                <a:chExt cx="108360" cy="78840"/>
              </a:xfrm>
            </p:grpSpPr>
            <p:sp>
              <p:nvSpPr>
                <p:cNvPr id="2002" name="Freeform 1944"/>
                <p:cNvSpPr/>
                <p:nvPr/>
              </p:nvSpPr>
              <p:spPr>
                <a:xfrm flipH="1" rot="3444600">
                  <a:off x="1767240" y="3222360"/>
                  <a:ext cx="34200" cy="4320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003" name="Group 1945"/>
                <p:cNvGrpSpPr/>
                <p:nvPr/>
              </p:nvGrpSpPr>
              <p:grpSpPr>
                <a:xfrm>
                  <a:off x="1774800" y="3223080"/>
                  <a:ext cx="90720" cy="73800"/>
                  <a:chOff x="1774800" y="3223080"/>
                  <a:chExt cx="90720" cy="73800"/>
                </a:xfrm>
              </p:grpSpPr>
              <p:grpSp>
                <p:nvGrpSpPr>
                  <p:cNvPr id="2004" name="Group 1946"/>
                  <p:cNvGrpSpPr/>
                  <p:nvPr/>
                </p:nvGrpSpPr>
                <p:grpSpPr>
                  <a:xfrm>
                    <a:off x="1774800" y="3223080"/>
                    <a:ext cx="90720" cy="73800"/>
                    <a:chOff x="1774800" y="3223080"/>
                    <a:chExt cx="90720" cy="73800"/>
                  </a:xfrm>
                </p:grpSpPr>
                <p:sp>
                  <p:nvSpPr>
                    <p:cNvPr id="2005" name="Freeform 1947"/>
                    <p:cNvSpPr/>
                    <p:nvPr/>
                  </p:nvSpPr>
                  <p:spPr>
                    <a:xfrm flipH="1" rot="1647000">
                      <a:off x="1786680" y="3239640"/>
                      <a:ext cx="78120" cy="21240"/>
                    </a:xfrm>
                    <a:custGeom>
                      <a:avLst/>
                      <a:gdLst>
                        <a:gd name="textAreaLeft" fmla="*/ -360 w 78120"/>
                        <a:gd name="textAreaRight" fmla="*/ 78120 w 7812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06" name="Freeform 1948"/>
                    <p:cNvSpPr/>
                    <p:nvPr/>
                  </p:nvSpPr>
                  <p:spPr>
                    <a:xfrm flipH="1" rot="1647000">
                      <a:off x="1776240" y="325188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007" name="Freeform 1949"/>
                  <p:cNvSpPr/>
                  <p:nvPr/>
                </p:nvSpPr>
                <p:spPr>
                  <a:xfrm flipH="1" rot="1647000">
                    <a:off x="1791360" y="324252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8" name="Freeform 1950"/>
                  <p:cNvSpPr/>
                  <p:nvPr/>
                </p:nvSpPr>
                <p:spPr>
                  <a:xfrm flipH="1" rot="1647000">
                    <a:off x="1801080" y="324756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9" name="Freeform 1951"/>
                  <p:cNvSpPr/>
                  <p:nvPr/>
                </p:nvSpPr>
                <p:spPr>
                  <a:xfrm flipH="1" rot="1647000">
                    <a:off x="1812600" y="3255840"/>
                    <a:ext cx="6480" cy="12600"/>
                  </a:xfrm>
                  <a:custGeom>
                    <a:avLst/>
                    <a:gdLst>
                      <a:gd name="textAreaLeft" fmla="*/ 360 w 6480"/>
                      <a:gd name="textAreaRight" fmla="*/ 720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0" name="Freeform 1952"/>
                  <p:cNvSpPr/>
                  <p:nvPr/>
                </p:nvSpPr>
                <p:spPr>
                  <a:xfrm flipH="1" rot="1647000">
                    <a:off x="1809360" y="3238920"/>
                    <a:ext cx="10080" cy="972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1" name="Freeform 1953"/>
                  <p:cNvSpPr/>
                  <p:nvPr/>
                </p:nvSpPr>
                <p:spPr>
                  <a:xfrm flipH="1" rot="1647000">
                    <a:off x="1800720" y="3233520"/>
                    <a:ext cx="10800" cy="1080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012" name="Group 1954"/>
            <p:cNvGrpSpPr/>
            <p:nvPr/>
          </p:nvGrpSpPr>
          <p:grpSpPr>
            <a:xfrm>
              <a:off x="1302840" y="3654000"/>
              <a:ext cx="183960" cy="152280"/>
              <a:chOff x="1302840" y="3654000"/>
              <a:chExt cx="183960" cy="152280"/>
            </a:xfrm>
          </p:grpSpPr>
          <p:sp>
            <p:nvSpPr>
              <p:cNvPr id="2013" name="Freeform 1955"/>
              <p:cNvSpPr/>
              <p:nvPr/>
            </p:nvSpPr>
            <p:spPr>
              <a:xfrm rot="3443400">
                <a:off x="1314720" y="3682800"/>
                <a:ext cx="120600" cy="93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2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1956"/>
              <p:cNvSpPr/>
              <p:nvPr/>
            </p:nvSpPr>
            <p:spPr>
              <a:xfrm flipH="1" rot="3444000">
                <a:off x="1356480" y="3709080"/>
                <a:ext cx="70560" cy="579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1957"/>
              <p:cNvSpPr/>
              <p:nvPr/>
            </p:nvSpPr>
            <p:spPr>
              <a:xfrm rot="3443400">
                <a:off x="1345320" y="3757320"/>
                <a:ext cx="7920" cy="39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016" name="Group 1958"/>
              <p:cNvGrpSpPr/>
              <p:nvPr/>
            </p:nvGrpSpPr>
            <p:grpSpPr>
              <a:xfrm>
                <a:off x="1378440" y="3654360"/>
                <a:ext cx="108360" cy="78840"/>
                <a:chOff x="1378440" y="3654360"/>
                <a:chExt cx="108360" cy="78840"/>
              </a:xfrm>
            </p:grpSpPr>
            <p:sp>
              <p:nvSpPr>
                <p:cNvPr id="2017" name="Freeform 1959"/>
                <p:cNvSpPr/>
                <p:nvPr/>
              </p:nvSpPr>
              <p:spPr>
                <a:xfrm flipH="1" rot="3444600">
                  <a:off x="1388520" y="3658680"/>
                  <a:ext cx="34200" cy="4320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018" name="Group 1960"/>
                <p:cNvGrpSpPr/>
                <p:nvPr/>
              </p:nvGrpSpPr>
              <p:grpSpPr>
                <a:xfrm>
                  <a:off x="1396080" y="3659400"/>
                  <a:ext cx="90720" cy="73800"/>
                  <a:chOff x="1396080" y="3659400"/>
                  <a:chExt cx="90720" cy="73800"/>
                </a:xfrm>
              </p:grpSpPr>
              <p:grpSp>
                <p:nvGrpSpPr>
                  <p:cNvPr id="2019" name="Group 1961"/>
                  <p:cNvGrpSpPr/>
                  <p:nvPr/>
                </p:nvGrpSpPr>
                <p:grpSpPr>
                  <a:xfrm>
                    <a:off x="1396080" y="3659400"/>
                    <a:ext cx="90720" cy="73800"/>
                    <a:chOff x="1396080" y="3659400"/>
                    <a:chExt cx="90720" cy="73800"/>
                  </a:xfrm>
                </p:grpSpPr>
                <p:sp>
                  <p:nvSpPr>
                    <p:cNvPr id="2020" name="Freeform 1962"/>
                    <p:cNvSpPr/>
                    <p:nvPr/>
                  </p:nvSpPr>
                  <p:spPr>
                    <a:xfrm flipH="1" rot="1647000">
                      <a:off x="1407960" y="3675960"/>
                      <a:ext cx="78120" cy="21240"/>
                    </a:xfrm>
                    <a:custGeom>
                      <a:avLst/>
                      <a:gdLst>
                        <a:gd name="textAreaLeft" fmla="*/ -360 w 78120"/>
                        <a:gd name="textAreaRight" fmla="*/ 78120 w 7812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21" name="Freeform 1963"/>
                    <p:cNvSpPr/>
                    <p:nvPr/>
                  </p:nvSpPr>
                  <p:spPr>
                    <a:xfrm flipH="1" rot="1647000">
                      <a:off x="1397520" y="368820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022" name="Freeform 1964"/>
                  <p:cNvSpPr/>
                  <p:nvPr/>
                </p:nvSpPr>
                <p:spPr>
                  <a:xfrm flipH="1" rot="1647000">
                    <a:off x="1412640" y="367884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3" name="Freeform 1965"/>
                  <p:cNvSpPr/>
                  <p:nvPr/>
                </p:nvSpPr>
                <p:spPr>
                  <a:xfrm flipH="1" rot="1647000">
                    <a:off x="1422360" y="368388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4" name="Freeform 1966"/>
                  <p:cNvSpPr/>
                  <p:nvPr/>
                </p:nvSpPr>
                <p:spPr>
                  <a:xfrm flipH="1" rot="1647000">
                    <a:off x="1433880" y="3692160"/>
                    <a:ext cx="6480" cy="12600"/>
                  </a:xfrm>
                  <a:custGeom>
                    <a:avLst/>
                    <a:gdLst>
                      <a:gd name="textAreaLeft" fmla="*/ 360 w 6480"/>
                      <a:gd name="textAreaRight" fmla="*/ 720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5" name="Freeform 1967"/>
                  <p:cNvSpPr/>
                  <p:nvPr/>
                </p:nvSpPr>
                <p:spPr>
                  <a:xfrm flipH="1" rot="1647000">
                    <a:off x="1430640" y="3675240"/>
                    <a:ext cx="10080" cy="972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6" name="Freeform 1968"/>
                  <p:cNvSpPr/>
                  <p:nvPr/>
                </p:nvSpPr>
                <p:spPr>
                  <a:xfrm flipH="1" rot="1647000">
                    <a:off x="1422000" y="3669840"/>
                    <a:ext cx="10800" cy="1080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027" name="Group 1969"/>
            <p:cNvGrpSpPr/>
            <p:nvPr/>
          </p:nvGrpSpPr>
          <p:grpSpPr>
            <a:xfrm>
              <a:off x="2211840" y="4265280"/>
              <a:ext cx="183960" cy="152280"/>
              <a:chOff x="2211840" y="4265280"/>
              <a:chExt cx="183960" cy="152280"/>
            </a:xfrm>
          </p:grpSpPr>
          <p:sp>
            <p:nvSpPr>
              <p:cNvPr id="2028" name="Freeform 1970"/>
              <p:cNvSpPr/>
              <p:nvPr/>
            </p:nvSpPr>
            <p:spPr>
              <a:xfrm rot="3443400">
                <a:off x="2223720" y="4294080"/>
                <a:ext cx="120600" cy="93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Freeform 1971"/>
              <p:cNvSpPr/>
              <p:nvPr/>
            </p:nvSpPr>
            <p:spPr>
              <a:xfrm flipH="1" rot="3444000">
                <a:off x="2265480" y="4320360"/>
                <a:ext cx="70560" cy="579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Freeform 1972"/>
              <p:cNvSpPr/>
              <p:nvPr/>
            </p:nvSpPr>
            <p:spPr>
              <a:xfrm rot="3443400">
                <a:off x="2254320" y="4368600"/>
                <a:ext cx="7920" cy="39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031" name="Group 1973"/>
              <p:cNvGrpSpPr/>
              <p:nvPr/>
            </p:nvGrpSpPr>
            <p:grpSpPr>
              <a:xfrm>
                <a:off x="2287440" y="4265640"/>
                <a:ext cx="108360" cy="78840"/>
                <a:chOff x="2287440" y="4265640"/>
                <a:chExt cx="108360" cy="78840"/>
              </a:xfrm>
            </p:grpSpPr>
            <p:sp>
              <p:nvSpPr>
                <p:cNvPr id="2032" name="Freeform 1974"/>
                <p:cNvSpPr/>
                <p:nvPr/>
              </p:nvSpPr>
              <p:spPr>
                <a:xfrm flipH="1" rot="3444600">
                  <a:off x="2297520" y="4269960"/>
                  <a:ext cx="34200" cy="4320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033" name="Group 1975"/>
                <p:cNvGrpSpPr/>
                <p:nvPr/>
              </p:nvGrpSpPr>
              <p:grpSpPr>
                <a:xfrm>
                  <a:off x="2305080" y="4270680"/>
                  <a:ext cx="90720" cy="73800"/>
                  <a:chOff x="2305080" y="4270680"/>
                  <a:chExt cx="90720" cy="73800"/>
                </a:xfrm>
              </p:grpSpPr>
              <p:grpSp>
                <p:nvGrpSpPr>
                  <p:cNvPr id="2034" name="Group 1976"/>
                  <p:cNvGrpSpPr/>
                  <p:nvPr/>
                </p:nvGrpSpPr>
                <p:grpSpPr>
                  <a:xfrm>
                    <a:off x="2305080" y="4270680"/>
                    <a:ext cx="90720" cy="73800"/>
                    <a:chOff x="2305080" y="4270680"/>
                    <a:chExt cx="90720" cy="73800"/>
                  </a:xfrm>
                </p:grpSpPr>
                <p:sp>
                  <p:nvSpPr>
                    <p:cNvPr id="2035" name="Freeform 1977"/>
                    <p:cNvSpPr/>
                    <p:nvPr/>
                  </p:nvSpPr>
                  <p:spPr>
                    <a:xfrm flipH="1" rot="1647000">
                      <a:off x="2316960" y="4287240"/>
                      <a:ext cx="78120" cy="21240"/>
                    </a:xfrm>
                    <a:custGeom>
                      <a:avLst/>
                      <a:gdLst>
                        <a:gd name="textAreaLeft" fmla="*/ -360 w 78120"/>
                        <a:gd name="textAreaRight" fmla="*/ 78120 w 7812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36" name="Freeform 1978"/>
                    <p:cNvSpPr/>
                    <p:nvPr/>
                  </p:nvSpPr>
                  <p:spPr>
                    <a:xfrm flipH="1" rot="1647000">
                      <a:off x="2306520" y="4299480"/>
                      <a:ext cx="79920" cy="28080"/>
                    </a:xfrm>
                    <a:custGeom>
                      <a:avLst/>
                      <a:gdLst>
                        <a:gd name="textAreaLeft" fmla="*/ 0 w 79920"/>
                        <a:gd name="textAreaRight" fmla="*/ 79920 w 799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037" name="Freeform 1979"/>
                  <p:cNvSpPr/>
                  <p:nvPr/>
                </p:nvSpPr>
                <p:spPr>
                  <a:xfrm flipH="1" rot="1647000">
                    <a:off x="2321640" y="429012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8" name="Freeform 1980"/>
                  <p:cNvSpPr/>
                  <p:nvPr/>
                </p:nvSpPr>
                <p:spPr>
                  <a:xfrm flipH="1" rot="1647000">
                    <a:off x="2331360" y="4295160"/>
                    <a:ext cx="7920" cy="19800"/>
                  </a:xfrm>
                  <a:custGeom>
                    <a:avLst/>
                    <a:gdLst>
                      <a:gd name="textAreaLeft" fmla="*/ 360 w 7920"/>
                      <a:gd name="textAreaRight" fmla="*/ 864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9" name="Freeform 1981"/>
                  <p:cNvSpPr/>
                  <p:nvPr/>
                </p:nvSpPr>
                <p:spPr>
                  <a:xfrm flipH="1" rot="1647000">
                    <a:off x="2342880" y="4303440"/>
                    <a:ext cx="6480" cy="12600"/>
                  </a:xfrm>
                  <a:custGeom>
                    <a:avLst/>
                    <a:gdLst>
                      <a:gd name="textAreaLeft" fmla="*/ 360 w 6480"/>
                      <a:gd name="textAreaRight" fmla="*/ 720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0" name="Freeform 1982"/>
                  <p:cNvSpPr/>
                  <p:nvPr/>
                </p:nvSpPr>
                <p:spPr>
                  <a:xfrm flipH="1" rot="1647000">
                    <a:off x="2339640" y="4286520"/>
                    <a:ext cx="10080" cy="972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1" name="Freeform 1983"/>
                  <p:cNvSpPr/>
                  <p:nvPr/>
                </p:nvSpPr>
                <p:spPr>
                  <a:xfrm flipH="1" rot="1647000">
                    <a:off x="2331000" y="4281120"/>
                    <a:ext cx="10800" cy="10800"/>
                  </a:xfrm>
                  <a:custGeom>
                    <a:avLst/>
                    <a:gdLst>
                      <a:gd name="textAreaLeft" fmla="*/ 360 w 10800"/>
                      <a:gd name="textAreaRight" fmla="*/ 1152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042" name="Group 1984"/>
            <p:cNvGrpSpPr/>
            <p:nvPr/>
          </p:nvGrpSpPr>
          <p:grpSpPr>
            <a:xfrm>
              <a:off x="1833840" y="4352760"/>
              <a:ext cx="184320" cy="152640"/>
              <a:chOff x="1833840" y="4352760"/>
              <a:chExt cx="184320" cy="152640"/>
            </a:xfrm>
          </p:grpSpPr>
          <p:sp>
            <p:nvSpPr>
              <p:cNvPr id="2043" name="Freeform 1985"/>
              <p:cNvSpPr/>
              <p:nvPr/>
            </p:nvSpPr>
            <p:spPr>
              <a:xfrm flipH="1" rot="18156600">
                <a:off x="1884960" y="4381560"/>
                <a:ext cx="120600" cy="9432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2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4" name="Freeform 1986"/>
              <p:cNvSpPr/>
              <p:nvPr/>
            </p:nvSpPr>
            <p:spPr>
              <a:xfrm rot="18156000">
                <a:off x="1893240" y="4407840"/>
                <a:ext cx="70560" cy="583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5" name="Freeform 1987"/>
              <p:cNvSpPr/>
              <p:nvPr/>
            </p:nvSpPr>
            <p:spPr>
              <a:xfrm flipH="1" rot="18156600">
                <a:off x="1967040" y="4456080"/>
                <a:ext cx="7920" cy="39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046" name="Group 1988"/>
              <p:cNvGrpSpPr/>
              <p:nvPr/>
            </p:nvGrpSpPr>
            <p:grpSpPr>
              <a:xfrm>
                <a:off x="1833840" y="4353120"/>
                <a:ext cx="108720" cy="78840"/>
                <a:chOff x="1833840" y="4353120"/>
                <a:chExt cx="108720" cy="78840"/>
              </a:xfrm>
            </p:grpSpPr>
            <p:sp>
              <p:nvSpPr>
                <p:cNvPr id="2047" name="Freeform 1989"/>
                <p:cNvSpPr/>
                <p:nvPr/>
              </p:nvSpPr>
              <p:spPr>
                <a:xfrm rot="18155400">
                  <a:off x="1897920" y="4357440"/>
                  <a:ext cx="34200" cy="4356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048" name="Group 1990"/>
                <p:cNvGrpSpPr/>
                <p:nvPr/>
              </p:nvGrpSpPr>
              <p:grpSpPr>
                <a:xfrm>
                  <a:off x="1833840" y="4357800"/>
                  <a:ext cx="91080" cy="74160"/>
                  <a:chOff x="1833840" y="4357800"/>
                  <a:chExt cx="91080" cy="74160"/>
                </a:xfrm>
              </p:grpSpPr>
              <p:grpSp>
                <p:nvGrpSpPr>
                  <p:cNvPr id="2049" name="Group 1991"/>
                  <p:cNvGrpSpPr/>
                  <p:nvPr/>
                </p:nvGrpSpPr>
                <p:grpSpPr>
                  <a:xfrm>
                    <a:off x="1833840" y="4357800"/>
                    <a:ext cx="91080" cy="74160"/>
                    <a:chOff x="1833840" y="4357800"/>
                    <a:chExt cx="91080" cy="74160"/>
                  </a:xfrm>
                </p:grpSpPr>
                <p:sp>
                  <p:nvSpPr>
                    <p:cNvPr id="2050" name="Freeform 1992"/>
                    <p:cNvSpPr/>
                    <p:nvPr/>
                  </p:nvSpPr>
                  <p:spPr>
                    <a:xfrm rot="19953000">
                      <a:off x="1834200" y="4374720"/>
                      <a:ext cx="78840" cy="21240"/>
                    </a:xfrm>
                    <a:custGeom>
                      <a:avLst/>
                      <a:gdLst>
                        <a:gd name="textAreaLeft" fmla="*/ 0 w 78840"/>
                        <a:gd name="textAreaRight" fmla="*/ 79200 w 7884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51" name="Freeform 1993"/>
                    <p:cNvSpPr/>
                    <p:nvPr/>
                  </p:nvSpPr>
                  <p:spPr>
                    <a:xfrm rot="19953000">
                      <a:off x="1842480" y="4386960"/>
                      <a:ext cx="80280" cy="28080"/>
                    </a:xfrm>
                    <a:custGeom>
                      <a:avLst/>
                      <a:gdLst>
                        <a:gd name="textAreaLeft" fmla="*/ 0 w 80280"/>
                        <a:gd name="textAreaRight" fmla="*/ 80280 w 8028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052" name="Freeform 1994"/>
                  <p:cNvSpPr/>
                  <p:nvPr/>
                </p:nvSpPr>
                <p:spPr>
                  <a:xfrm rot="19953000">
                    <a:off x="1899720" y="437688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3" name="Freeform 1995"/>
                  <p:cNvSpPr/>
                  <p:nvPr/>
                </p:nvSpPr>
                <p:spPr>
                  <a:xfrm rot="19953000">
                    <a:off x="1889640" y="4381920"/>
                    <a:ext cx="7920" cy="198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4" name="Freeform 1996"/>
                  <p:cNvSpPr/>
                  <p:nvPr/>
                </p:nvSpPr>
                <p:spPr>
                  <a:xfrm rot="19953000">
                    <a:off x="1879920" y="4390200"/>
                    <a:ext cx="6480" cy="1260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5" name="Freeform 1997"/>
                  <p:cNvSpPr/>
                  <p:nvPr/>
                </p:nvSpPr>
                <p:spPr>
                  <a:xfrm rot="19953000">
                    <a:off x="1879560" y="4374000"/>
                    <a:ext cx="10080" cy="97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6" name="Freeform 1998"/>
                  <p:cNvSpPr/>
                  <p:nvPr/>
                </p:nvSpPr>
                <p:spPr>
                  <a:xfrm rot="19953000">
                    <a:off x="1887480" y="4368240"/>
                    <a:ext cx="10800" cy="108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2057" name="Group 1455"/>
          <p:cNvGrpSpPr/>
          <p:nvPr/>
        </p:nvGrpSpPr>
        <p:grpSpPr>
          <a:xfrm>
            <a:off x="3832200" y="2882160"/>
            <a:ext cx="1518480" cy="2332800"/>
            <a:chOff x="3832200" y="2882160"/>
            <a:chExt cx="1518480" cy="2332800"/>
          </a:xfrm>
        </p:grpSpPr>
        <p:grpSp>
          <p:nvGrpSpPr>
            <p:cNvPr id="2058" name="Group 1456"/>
            <p:cNvGrpSpPr/>
            <p:nvPr/>
          </p:nvGrpSpPr>
          <p:grpSpPr>
            <a:xfrm>
              <a:off x="3930840" y="2882160"/>
              <a:ext cx="1419840" cy="2332800"/>
              <a:chOff x="3930840" y="2882160"/>
              <a:chExt cx="1419840" cy="2332800"/>
            </a:xfrm>
          </p:grpSpPr>
          <p:sp>
            <p:nvSpPr>
              <p:cNvPr id="2059" name="Freeform 1457"/>
              <p:cNvSpPr/>
              <p:nvPr/>
            </p:nvSpPr>
            <p:spPr>
              <a:xfrm>
                <a:off x="4504680" y="3791520"/>
                <a:ext cx="110160" cy="14234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423440"/>
                  <a:gd name="textAreaBottom" fmla="*/ 1423800 h 1423440"/>
                </a:gdLst>
                <a:ahLst/>
                <a:rect l="textAreaLeft" t="textAreaTop" r="textAreaRight" b="textAreaBottom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3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0" name="Freeform 1458"/>
              <p:cNvSpPr/>
              <p:nvPr/>
            </p:nvSpPr>
            <p:spPr>
              <a:xfrm>
                <a:off x="4057200" y="3123000"/>
                <a:ext cx="1141200" cy="1367280"/>
              </a:xfrm>
              <a:custGeom>
                <a:avLst/>
                <a:gdLst>
                  <a:gd name="textAreaLeft" fmla="*/ 0 w 1141200"/>
                  <a:gd name="textAreaRight" fmla="*/ 1141560 w 1141200"/>
                  <a:gd name="textAreaTop" fmla="*/ 0 h 1367280"/>
                  <a:gd name="textAreaBottom" fmla="*/ 1367280 h 1367280"/>
                </a:gdLst>
                <a:ahLst/>
                <a:rect l="textAreaLeft" t="textAreaTop" r="textAreaRight" b="textAreaBottom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061" name="Group 1459"/>
              <p:cNvGrpSpPr/>
              <p:nvPr/>
            </p:nvGrpSpPr>
            <p:grpSpPr>
              <a:xfrm>
                <a:off x="4545000" y="3927600"/>
                <a:ext cx="344520" cy="272880"/>
                <a:chOff x="4545000" y="3927600"/>
                <a:chExt cx="344520" cy="272880"/>
              </a:xfrm>
            </p:grpSpPr>
            <p:sp>
              <p:nvSpPr>
                <p:cNvPr id="2062" name="Freeform 1460"/>
                <p:cNvSpPr/>
                <p:nvPr/>
              </p:nvSpPr>
              <p:spPr>
                <a:xfrm rot="18155400">
                  <a:off x="4737960" y="3949200"/>
                  <a:ext cx="124200" cy="132480"/>
                </a:xfrm>
                <a:custGeom>
                  <a:avLst/>
                  <a:gdLst>
                    <a:gd name="textAreaLeft" fmla="*/ 0 w 124200"/>
                    <a:gd name="textAreaRight" fmla="*/ 124560 w 124200"/>
                    <a:gd name="textAreaTop" fmla="*/ 0 h 132480"/>
                    <a:gd name="textAreaBottom" fmla="*/ 132840 h 1324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063" name="Group 1461"/>
                <p:cNvGrpSpPr/>
                <p:nvPr/>
              </p:nvGrpSpPr>
              <p:grpSpPr>
                <a:xfrm>
                  <a:off x="4545000" y="3952440"/>
                  <a:ext cx="288000" cy="248040"/>
                  <a:chOff x="4545000" y="3952440"/>
                  <a:chExt cx="288000" cy="248040"/>
                </a:xfrm>
              </p:grpSpPr>
              <p:grpSp>
                <p:nvGrpSpPr>
                  <p:cNvPr id="2064" name="Group 1462"/>
                  <p:cNvGrpSpPr/>
                  <p:nvPr/>
                </p:nvGrpSpPr>
                <p:grpSpPr>
                  <a:xfrm>
                    <a:off x="4545000" y="3952440"/>
                    <a:ext cx="288000" cy="248040"/>
                    <a:chOff x="4545000" y="3952440"/>
                    <a:chExt cx="288000" cy="248040"/>
                  </a:xfrm>
                </p:grpSpPr>
                <p:sp>
                  <p:nvSpPr>
                    <p:cNvPr id="2065" name="Freeform 1463"/>
                    <p:cNvSpPr/>
                    <p:nvPr/>
                  </p:nvSpPr>
                  <p:spPr>
                    <a:xfrm rot="19953000">
                      <a:off x="4548960" y="4003200"/>
                      <a:ext cx="238680" cy="76680"/>
                    </a:xfrm>
                    <a:custGeom>
                      <a:avLst/>
                      <a:gdLst>
                        <a:gd name="textAreaLeft" fmla="*/ 0 w 238680"/>
                        <a:gd name="textAreaRight" fmla="*/ 239040 w 238680"/>
                        <a:gd name="textAreaTop" fmla="*/ 0 h 76680"/>
                        <a:gd name="textAreaBottom" fmla="*/ 77040 h 766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66" name="Freeform 1464"/>
                    <p:cNvSpPr/>
                    <p:nvPr/>
                  </p:nvSpPr>
                  <p:spPr>
                    <a:xfrm rot="19953000">
                      <a:off x="4579200" y="4048560"/>
                      <a:ext cx="243720" cy="101520"/>
                    </a:xfrm>
                    <a:custGeom>
                      <a:avLst/>
                      <a:gdLst>
                        <a:gd name="textAreaLeft" fmla="*/ 0 w 243720"/>
                        <a:gd name="textAreaRight" fmla="*/ 244080 w 243720"/>
                        <a:gd name="textAreaTop" fmla="*/ 0 h 101520"/>
                        <a:gd name="textAreaBottom" fmla="*/ 10188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067" name="Freeform 1465"/>
                  <p:cNvSpPr/>
                  <p:nvPr/>
                </p:nvSpPr>
                <p:spPr>
                  <a:xfrm rot="19953000">
                    <a:off x="4753080" y="4018680"/>
                    <a:ext cx="24480" cy="716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71640"/>
                      <a:gd name="textAreaBottom" fmla="*/ 72000 h 7164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8" name="Freeform 1466"/>
                  <p:cNvSpPr/>
                  <p:nvPr/>
                </p:nvSpPr>
                <p:spPr>
                  <a:xfrm rot="19953000">
                    <a:off x="4722840" y="4034520"/>
                    <a:ext cx="24480" cy="716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71640"/>
                      <a:gd name="textAreaBottom" fmla="*/ 72000 h 7164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9" name="Freeform 1467"/>
                  <p:cNvSpPr/>
                  <p:nvPr/>
                </p:nvSpPr>
                <p:spPr>
                  <a:xfrm rot="19953000">
                    <a:off x="4691880" y="4061160"/>
                    <a:ext cx="20160" cy="457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70" name="Freeform 1468"/>
                  <p:cNvSpPr/>
                  <p:nvPr/>
                </p:nvSpPr>
                <p:spPr>
                  <a:xfrm rot="19953000">
                    <a:off x="4687560" y="4003560"/>
                    <a:ext cx="31320" cy="35640"/>
                  </a:xfrm>
                  <a:custGeom>
                    <a:avLst/>
                    <a:gdLst>
                      <a:gd name="textAreaLeft" fmla="*/ 0 w 31320"/>
                      <a:gd name="textAreaRight" fmla="*/ 31680 w 31320"/>
                      <a:gd name="textAreaTop" fmla="*/ 0 h 35640"/>
                      <a:gd name="textAreaBottom" fmla="*/ 36000 h 3564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71" name="Freeform 1469"/>
                  <p:cNvSpPr/>
                  <p:nvPr/>
                </p:nvSpPr>
                <p:spPr>
                  <a:xfrm rot="19953000">
                    <a:off x="4710960" y="3987000"/>
                    <a:ext cx="33480" cy="3960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072" name="Group 1470"/>
              <p:cNvGrpSpPr/>
              <p:nvPr/>
            </p:nvGrpSpPr>
            <p:grpSpPr>
              <a:xfrm>
                <a:off x="4116960" y="4212360"/>
                <a:ext cx="344520" cy="272880"/>
                <a:chOff x="4116960" y="4212360"/>
                <a:chExt cx="344520" cy="272880"/>
              </a:xfrm>
            </p:grpSpPr>
            <p:sp>
              <p:nvSpPr>
                <p:cNvPr id="2073" name="Freeform 1471"/>
                <p:cNvSpPr/>
                <p:nvPr/>
              </p:nvSpPr>
              <p:spPr>
                <a:xfrm rot="18155400">
                  <a:off x="4309920" y="4233960"/>
                  <a:ext cx="124200" cy="132480"/>
                </a:xfrm>
                <a:custGeom>
                  <a:avLst/>
                  <a:gdLst>
                    <a:gd name="textAreaLeft" fmla="*/ 0 w 124200"/>
                    <a:gd name="textAreaRight" fmla="*/ 124560 w 124200"/>
                    <a:gd name="textAreaTop" fmla="*/ 0 h 132480"/>
                    <a:gd name="textAreaBottom" fmla="*/ 132840 h 1324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074" name="Group 1472"/>
                <p:cNvGrpSpPr/>
                <p:nvPr/>
              </p:nvGrpSpPr>
              <p:grpSpPr>
                <a:xfrm>
                  <a:off x="4116960" y="4237200"/>
                  <a:ext cx="288000" cy="248040"/>
                  <a:chOff x="4116960" y="4237200"/>
                  <a:chExt cx="288000" cy="248040"/>
                </a:xfrm>
              </p:grpSpPr>
              <p:grpSp>
                <p:nvGrpSpPr>
                  <p:cNvPr id="2075" name="Group 1473"/>
                  <p:cNvGrpSpPr/>
                  <p:nvPr/>
                </p:nvGrpSpPr>
                <p:grpSpPr>
                  <a:xfrm>
                    <a:off x="4116960" y="4237200"/>
                    <a:ext cx="288000" cy="248040"/>
                    <a:chOff x="4116960" y="4237200"/>
                    <a:chExt cx="288000" cy="248040"/>
                  </a:xfrm>
                </p:grpSpPr>
                <p:sp>
                  <p:nvSpPr>
                    <p:cNvPr id="2076" name="Freeform 1474"/>
                    <p:cNvSpPr/>
                    <p:nvPr/>
                  </p:nvSpPr>
                  <p:spPr>
                    <a:xfrm rot="19953000">
                      <a:off x="4120920" y="4287960"/>
                      <a:ext cx="238680" cy="76680"/>
                    </a:xfrm>
                    <a:custGeom>
                      <a:avLst/>
                      <a:gdLst>
                        <a:gd name="textAreaLeft" fmla="*/ 0 w 238680"/>
                        <a:gd name="textAreaRight" fmla="*/ 239040 w 238680"/>
                        <a:gd name="textAreaTop" fmla="*/ 0 h 76680"/>
                        <a:gd name="textAreaBottom" fmla="*/ 77040 h 766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77" name="Freeform 1475"/>
                    <p:cNvSpPr/>
                    <p:nvPr/>
                  </p:nvSpPr>
                  <p:spPr>
                    <a:xfrm rot="19953000">
                      <a:off x="4151160" y="4333320"/>
                      <a:ext cx="243720" cy="101520"/>
                    </a:xfrm>
                    <a:custGeom>
                      <a:avLst/>
                      <a:gdLst>
                        <a:gd name="textAreaLeft" fmla="*/ 0 w 243720"/>
                        <a:gd name="textAreaRight" fmla="*/ 244080 w 243720"/>
                        <a:gd name="textAreaTop" fmla="*/ 0 h 101520"/>
                        <a:gd name="textAreaBottom" fmla="*/ 10188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078" name="Freeform 1476"/>
                  <p:cNvSpPr/>
                  <p:nvPr/>
                </p:nvSpPr>
                <p:spPr>
                  <a:xfrm rot="19953000">
                    <a:off x="4325040" y="4303440"/>
                    <a:ext cx="24480" cy="716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71640"/>
                      <a:gd name="textAreaBottom" fmla="*/ 72000 h 7164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79" name="Freeform 1477"/>
                  <p:cNvSpPr/>
                  <p:nvPr/>
                </p:nvSpPr>
                <p:spPr>
                  <a:xfrm rot="19953000">
                    <a:off x="4294800" y="4319280"/>
                    <a:ext cx="24480" cy="716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71640"/>
                      <a:gd name="textAreaBottom" fmla="*/ 72000 h 7164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80" name="Freeform 1478"/>
                  <p:cNvSpPr/>
                  <p:nvPr/>
                </p:nvSpPr>
                <p:spPr>
                  <a:xfrm rot="19953000">
                    <a:off x="4263840" y="4345920"/>
                    <a:ext cx="20160" cy="457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81" name="Freeform 1479"/>
                  <p:cNvSpPr/>
                  <p:nvPr/>
                </p:nvSpPr>
                <p:spPr>
                  <a:xfrm rot="19953000">
                    <a:off x="4259520" y="4288320"/>
                    <a:ext cx="31320" cy="35640"/>
                  </a:xfrm>
                  <a:custGeom>
                    <a:avLst/>
                    <a:gdLst>
                      <a:gd name="textAreaLeft" fmla="*/ 0 w 31320"/>
                      <a:gd name="textAreaRight" fmla="*/ 31680 w 31320"/>
                      <a:gd name="textAreaTop" fmla="*/ 0 h 35640"/>
                      <a:gd name="textAreaBottom" fmla="*/ 36000 h 3564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82" name="Freeform 1480"/>
                  <p:cNvSpPr/>
                  <p:nvPr/>
                </p:nvSpPr>
                <p:spPr>
                  <a:xfrm rot="19953000">
                    <a:off x="4282920" y="4271760"/>
                    <a:ext cx="33480" cy="3960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083" name="Group 1481"/>
              <p:cNvGrpSpPr/>
              <p:nvPr/>
            </p:nvGrpSpPr>
            <p:grpSpPr>
              <a:xfrm>
                <a:off x="3947040" y="3880800"/>
                <a:ext cx="195480" cy="405720"/>
                <a:chOff x="3947040" y="3880800"/>
                <a:chExt cx="195480" cy="405720"/>
              </a:xfrm>
            </p:grpSpPr>
            <p:sp>
              <p:nvSpPr>
                <p:cNvPr id="2084" name="Freeform 1482"/>
                <p:cNvSpPr/>
                <p:nvPr/>
              </p:nvSpPr>
              <p:spPr>
                <a:xfrm rot="13840800">
                  <a:off x="3997800" y="3884400"/>
                  <a:ext cx="93240" cy="1764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176400"/>
                    <a:gd name="textAreaBottom" fmla="*/ 176760 h 176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085" name="Group 1483"/>
                <p:cNvGrpSpPr/>
                <p:nvPr/>
              </p:nvGrpSpPr>
              <p:grpSpPr>
                <a:xfrm>
                  <a:off x="3951720" y="3947400"/>
                  <a:ext cx="166680" cy="339120"/>
                  <a:chOff x="3951720" y="3947400"/>
                  <a:chExt cx="166680" cy="339120"/>
                </a:xfrm>
              </p:grpSpPr>
              <p:grpSp>
                <p:nvGrpSpPr>
                  <p:cNvPr id="2086" name="Group 1484"/>
                  <p:cNvGrpSpPr/>
                  <p:nvPr/>
                </p:nvGrpSpPr>
                <p:grpSpPr>
                  <a:xfrm>
                    <a:off x="3951720" y="3947400"/>
                    <a:ext cx="166680" cy="339120"/>
                    <a:chOff x="3951720" y="3947400"/>
                    <a:chExt cx="166680" cy="339120"/>
                  </a:xfrm>
                </p:grpSpPr>
                <p:sp>
                  <p:nvSpPr>
                    <p:cNvPr id="2087" name="Freeform 1485"/>
                    <p:cNvSpPr/>
                    <p:nvPr/>
                  </p:nvSpPr>
                  <p:spPr>
                    <a:xfrm rot="15638400">
                      <a:off x="3846960" y="4096080"/>
                      <a:ext cx="317520" cy="57600"/>
                    </a:xfrm>
                    <a:custGeom>
                      <a:avLst/>
                      <a:gdLst>
                        <a:gd name="textAreaLeft" fmla="*/ 0 w 317520"/>
                        <a:gd name="textAreaRight" fmla="*/ 317880 w 317520"/>
                        <a:gd name="textAreaTop" fmla="*/ 0 h 57600"/>
                        <a:gd name="textAreaBottom" fmla="*/ 57960 h 576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88" name="Freeform 1486"/>
                    <p:cNvSpPr/>
                    <p:nvPr/>
                  </p:nvSpPr>
                  <p:spPr>
                    <a:xfrm rot="15638400">
                      <a:off x="3891960" y="4075200"/>
                      <a:ext cx="324360" cy="76320"/>
                    </a:xfrm>
                    <a:custGeom>
                      <a:avLst/>
                      <a:gdLst>
                        <a:gd name="textAreaLeft" fmla="*/ 0 w 324360"/>
                        <a:gd name="textAreaRight" fmla="*/ 324720 w 32436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089" name="Freeform 1487"/>
                  <p:cNvSpPr/>
                  <p:nvPr/>
                </p:nvSpPr>
                <p:spPr>
                  <a:xfrm rot="15638400">
                    <a:off x="4014000" y="3986640"/>
                    <a:ext cx="32400" cy="5400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90" name="Freeform 1488"/>
                  <p:cNvSpPr/>
                  <p:nvPr/>
                </p:nvSpPr>
                <p:spPr>
                  <a:xfrm rot="15638400">
                    <a:off x="4021200" y="4030920"/>
                    <a:ext cx="32400" cy="5400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91" name="Freeform 1489"/>
                  <p:cNvSpPr/>
                  <p:nvPr/>
                </p:nvSpPr>
                <p:spPr>
                  <a:xfrm rot="15638400">
                    <a:off x="4029120" y="4088160"/>
                    <a:ext cx="26640" cy="34200"/>
                  </a:xfrm>
                  <a:custGeom>
                    <a:avLst/>
                    <a:gdLst>
                      <a:gd name="textAreaLeft" fmla="*/ 0 w 26640"/>
                      <a:gd name="textAreaRight" fmla="*/ 27000 w 26640"/>
                      <a:gd name="textAreaTop" fmla="*/ 0 h 34200"/>
                      <a:gd name="textAreaBottom" fmla="*/ 34560 h 342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92" name="Freeform 1490"/>
                  <p:cNvSpPr/>
                  <p:nvPr/>
                </p:nvSpPr>
                <p:spPr>
                  <a:xfrm rot="15638400">
                    <a:off x="3975120" y="4058640"/>
                    <a:ext cx="41760" cy="27000"/>
                  </a:xfrm>
                  <a:custGeom>
                    <a:avLst/>
                    <a:gdLst>
                      <a:gd name="textAreaLeft" fmla="*/ 0 w 41760"/>
                      <a:gd name="textAreaRight" fmla="*/ 42120 w 417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93" name="Freeform 1491"/>
                  <p:cNvSpPr/>
                  <p:nvPr/>
                </p:nvSpPr>
                <p:spPr>
                  <a:xfrm rot="15638400">
                    <a:off x="3965760" y="4020480"/>
                    <a:ext cx="44640" cy="2988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9880"/>
                      <a:gd name="textAreaBottom" fmla="*/ 30240 h 298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094" name="Group 1492"/>
              <p:cNvGrpSpPr/>
              <p:nvPr/>
            </p:nvGrpSpPr>
            <p:grpSpPr>
              <a:xfrm>
                <a:off x="3930840" y="3408840"/>
                <a:ext cx="232920" cy="333000"/>
                <a:chOff x="3930840" y="3408840"/>
                <a:chExt cx="232920" cy="333000"/>
              </a:xfrm>
            </p:grpSpPr>
            <p:sp>
              <p:nvSpPr>
                <p:cNvPr id="2095" name="Freeform 1493"/>
                <p:cNvSpPr/>
                <p:nvPr/>
              </p:nvSpPr>
              <p:spPr>
                <a:xfrm rot="15604200">
                  <a:off x="4025520" y="3414960"/>
                  <a:ext cx="124560" cy="13248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132480"/>
                    <a:gd name="textAreaBottom" fmla="*/ 132840 h 1324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096" name="Group 1494"/>
                <p:cNvGrpSpPr/>
                <p:nvPr/>
              </p:nvGrpSpPr>
              <p:grpSpPr>
                <a:xfrm>
                  <a:off x="3930840" y="3464280"/>
                  <a:ext cx="230040" cy="277560"/>
                  <a:chOff x="3930840" y="3464280"/>
                  <a:chExt cx="230040" cy="277560"/>
                </a:xfrm>
              </p:grpSpPr>
              <p:grpSp>
                <p:nvGrpSpPr>
                  <p:cNvPr id="2097" name="Group 1495"/>
                  <p:cNvGrpSpPr/>
                  <p:nvPr/>
                </p:nvGrpSpPr>
                <p:grpSpPr>
                  <a:xfrm>
                    <a:off x="3930840" y="3464280"/>
                    <a:ext cx="230040" cy="277560"/>
                    <a:chOff x="3930840" y="3464280"/>
                    <a:chExt cx="230040" cy="277560"/>
                  </a:xfrm>
                </p:grpSpPr>
                <p:sp>
                  <p:nvSpPr>
                    <p:cNvPr id="2098" name="Freeform 1496"/>
                    <p:cNvSpPr/>
                    <p:nvPr/>
                  </p:nvSpPr>
                  <p:spPr>
                    <a:xfrm rot="17401800">
                      <a:off x="3888360" y="3551040"/>
                      <a:ext cx="238680" cy="76680"/>
                    </a:xfrm>
                    <a:custGeom>
                      <a:avLst/>
                      <a:gdLst>
                        <a:gd name="textAreaLeft" fmla="*/ 0 w 238680"/>
                        <a:gd name="textAreaRight" fmla="*/ 239040 w 238680"/>
                        <a:gd name="textAreaTop" fmla="*/ 0 h 76680"/>
                        <a:gd name="textAreaBottom" fmla="*/ 77040 h 766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99" name="Freeform 1497"/>
                    <p:cNvSpPr/>
                    <p:nvPr/>
                  </p:nvSpPr>
                  <p:spPr>
                    <a:xfrm rot="17401800">
                      <a:off x="3949200" y="3558960"/>
                      <a:ext cx="243720" cy="101520"/>
                    </a:xfrm>
                    <a:custGeom>
                      <a:avLst/>
                      <a:gdLst>
                        <a:gd name="textAreaLeft" fmla="*/ 0 w 243720"/>
                        <a:gd name="textAreaRight" fmla="*/ 244080 w 243720"/>
                        <a:gd name="textAreaTop" fmla="*/ 0 h 101520"/>
                        <a:gd name="textAreaBottom" fmla="*/ 10188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00" name="Freeform 1498"/>
                  <p:cNvSpPr/>
                  <p:nvPr/>
                </p:nvSpPr>
                <p:spPr>
                  <a:xfrm rot="17401800">
                    <a:off x="4075560" y="3497760"/>
                    <a:ext cx="24480" cy="720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01" name="Freeform 1499"/>
                  <p:cNvSpPr/>
                  <p:nvPr/>
                </p:nvSpPr>
                <p:spPr>
                  <a:xfrm rot="17401800">
                    <a:off x="4064040" y="3529440"/>
                    <a:ext cx="24480" cy="720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02" name="Freeform 1500"/>
                  <p:cNvSpPr/>
                  <p:nvPr/>
                </p:nvSpPr>
                <p:spPr>
                  <a:xfrm rot="17401800">
                    <a:off x="4051080" y="3575160"/>
                    <a:ext cx="20160" cy="457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03" name="Freeform 1501"/>
                  <p:cNvSpPr/>
                  <p:nvPr/>
                </p:nvSpPr>
                <p:spPr>
                  <a:xfrm rot="17401800">
                    <a:off x="4004280" y="3533040"/>
                    <a:ext cx="31320" cy="36000"/>
                  </a:xfrm>
                  <a:custGeom>
                    <a:avLst/>
                    <a:gdLst>
                      <a:gd name="textAreaLeft" fmla="*/ 0 w 31320"/>
                      <a:gd name="textAreaRight" fmla="*/ 31680 w 31320"/>
                      <a:gd name="textAreaTop" fmla="*/ 0 h 36000"/>
                      <a:gd name="textAreaBottom" fmla="*/ 36360 h 36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04" name="Freeform 1502"/>
                  <p:cNvSpPr/>
                  <p:nvPr/>
                </p:nvSpPr>
                <p:spPr>
                  <a:xfrm rot="17401800">
                    <a:off x="4011120" y="3503880"/>
                    <a:ext cx="33480" cy="3996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39960"/>
                      <a:gd name="textAreaBottom" fmla="*/ 4032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105" name="Group 1503"/>
              <p:cNvGrpSpPr/>
              <p:nvPr/>
            </p:nvGrpSpPr>
            <p:grpSpPr>
              <a:xfrm>
                <a:off x="4729680" y="3037320"/>
                <a:ext cx="323280" cy="350280"/>
                <a:chOff x="4729680" y="3037320"/>
                <a:chExt cx="323280" cy="350280"/>
              </a:xfrm>
            </p:grpSpPr>
            <p:sp>
              <p:nvSpPr>
                <p:cNvPr id="2106" name="Freeform 1504"/>
                <p:cNvSpPr/>
                <p:nvPr/>
              </p:nvSpPr>
              <p:spPr>
                <a:xfrm rot="444000">
                  <a:off x="4938840" y="3205800"/>
                  <a:ext cx="93240" cy="1764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176400"/>
                    <a:gd name="textAreaBottom" fmla="*/ 176760 h 176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107" name="Group 1505"/>
                <p:cNvGrpSpPr/>
                <p:nvPr/>
              </p:nvGrpSpPr>
              <p:grpSpPr>
                <a:xfrm>
                  <a:off x="4729680" y="3037320"/>
                  <a:ext cx="323280" cy="289440"/>
                  <a:chOff x="4729680" y="3037320"/>
                  <a:chExt cx="323280" cy="289440"/>
                </a:xfrm>
              </p:grpSpPr>
              <p:grpSp>
                <p:nvGrpSpPr>
                  <p:cNvPr id="2108" name="Group 1506"/>
                  <p:cNvGrpSpPr/>
                  <p:nvPr/>
                </p:nvGrpSpPr>
                <p:grpSpPr>
                  <a:xfrm>
                    <a:off x="4729680" y="3037320"/>
                    <a:ext cx="323280" cy="289440"/>
                    <a:chOff x="4729680" y="3037320"/>
                    <a:chExt cx="323280" cy="289440"/>
                  </a:xfrm>
                </p:grpSpPr>
                <p:sp>
                  <p:nvSpPr>
                    <p:cNvPr id="2109" name="Freeform 1507"/>
                    <p:cNvSpPr/>
                    <p:nvPr/>
                  </p:nvSpPr>
                  <p:spPr>
                    <a:xfrm rot="2241600">
                      <a:off x="4750200" y="3127680"/>
                      <a:ext cx="317520" cy="57600"/>
                    </a:xfrm>
                    <a:custGeom>
                      <a:avLst/>
                      <a:gdLst>
                        <a:gd name="textAreaLeft" fmla="*/ 0 w 317520"/>
                        <a:gd name="textAreaRight" fmla="*/ 317880 w 317520"/>
                        <a:gd name="textAreaTop" fmla="*/ 0 h 57600"/>
                        <a:gd name="textAreaBottom" fmla="*/ 57960 h 576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10" name="Freeform 1508"/>
                    <p:cNvSpPr/>
                    <p:nvPr/>
                  </p:nvSpPr>
                  <p:spPr>
                    <a:xfrm rot="2241600">
                      <a:off x="4719600" y="3159720"/>
                      <a:ext cx="324360" cy="76320"/>
                    </a:xfrm>
                    <a:custGeom>
                      <a:avLst/>
                      <a:gdLst>
                        <a:gd name="textAreaLeft" fmla="*/ 0 w 324360"/>
                        <a:gd name="textAreaRight" fmla="*/ 324720 w 32436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11" name="Freeform 1509"/>
                  <p:cNvSpPr/>
                  <p:nvPr/>
                </p:nvSpPr>
                <p:spPr>
                  <a:xfrm rot="2241600">
                    <a:off x="4951800" y="3227040"/>
                    <a:ext cx="32400" cy="5400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12" name="Freeform 1510"/>
                  <p:cNvSpPr/>
                  <p:nvPr/>
                </p:nvSpPr>
                <p:spPr>
                  <a:xfrm rot="2241600">
                    <a:off x="4916160" y="3199680"/>
                    <a:ext cx="32400" cy="5400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13" name="Freeform 1511"/>
                  <p:cNvSpPr/>
                  <p:nvPr/>
                </p:nvSpPr>
                <p:spPr>
                  <a:xfrm rot="2241600">
                    <a:off x="4882680" y="3178800"/>
                    <a:ext cx="26640" cy="34200"/>
                  </a:xfrm>
                  <a:custGeom>
                    <a:avLst/>
                    <a:gdLst>
                      <a:gd name="textAreaLeft" fmla="*/ 0 w 26640"/>
                      <a:gd name="textAreaRight" fmla="*/ 27000 w 26640"/>
                      <a:gd name="textAreaTop" fmla="*/ 0 h 34200"/>
                      <a:gd name="textAreaBottom" fmla="*/ 34560 h 342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14" name="Freeform 1512"/>
                  <p:cNvSpPr/>
                  <p:nvPr/>
                </p:nvSpPr>
                <p:spPr>
                  <a:xfrm rot="2241600">
                    <a:off x="4931640" y="3174480"/>
                    <a:ext cx="41760" cy="27000"/>
                  </a:xfrm>
                  <a:custGeom>
                    <a:avLst/>
                    <a:gdLst>
                      <a:gd name="textAreaLeft" fmla="*/ 0 w 41760"/>
                      <a:gd name="textAreaRight" fmla="*/ 42120 w 417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15" name="Freeform 1513"/>
                  <p:cNvSpPr/>
                  <p:nvPr/>
                </p:nvSpPr>
                <p:spPr>
                  <a:xfrm rot="2241600">
                    <a:off x="4961160" y="3194640"/>
                    <a:ext cx="44640" cy="2988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9880"/>
                      <a:gd name="textAreaBottom" fmla="*/ 30240 h 298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116" name="Group 1514"/>
              <p:cNvGrpSpPr/>
              <p:nvPr/>
            </p:nvGrpSpPr>
            <p:grpSpPr>
              <a:xfrm>
                <a:off x="4515840" y="2882160"/>
                <a:ext cx="323280" cy="350280"/>
                <a:chOff x="4515840" y="2882160"/>
                <a:chExt cx="323280" cy="350280"/>
              </a:xfrm>
            </p:grpSpPr>
            <p:sp>
              <p:nvSpPr>
                <p:cNvPr id="2117" name="Freeform 1515"/>
                <p:cNvSpPr/>
                <p:nvPr/>
              </p:nvSpPr>
              <p:spPr>
                <a:xfrm rot="444000">
                  <a:off x="4725000" y="3050640"/>
                  <a:ext cx="93240" cy="1764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176400"/>
                    <a:gd name="textAreaBottom" fmla="*/ 176760 h 176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118" name="Group 1516"/>
                <p:cNvGrpSpPr/>
                <p:nvPr/>
              </p:nvGrpSpPr>
              <p:grpSpPr>
                <a:xfrm>
                  <a:off x="4515840" y="2882160"/>
                  <a:ext cx="323280" cy="289440"/>
                  <a:chOff x="4515840" y="2882160"/>
                  <a:chExt cx="323280" cy="289440"/>
                </a:xfrm>
              </p:grpSpPr>
              <p:grpSp>
                <p:nvGrpSpPr>
                  <p:cNvPr id="2119" name="Group 1517"/>
                  <p:cNvGrpSpPr/>
                  <p:nvPr/>
                </p:nvGrpSpPr>
                <p:grpSpPr>
                  <a:xfrm>
                    <a:off x="4515840" y="2882160"/>
                    <a:ext cx="323280" cy="289440"/>
                    <a:chOff x="4515840" y="2882160"/>
                    <a:chExt cx="323280" cy="289440"/>
                  </a:xfrm>
                </p:grpSpPr>
                <p:sp>
                  <p:nvSpPr>
                    <p:cNvPr id="2120" name="Freeform 1518"/>
                    <p:cNvSpPr/>
                    <p:nvPr/>
                  </p:nvSpPr>
                  <p:spPr>
                    <a:xfrm rot="2241600">
                      <a:off x="4536360" y="2972520"/>
                      <a:ext cx="317520" cy="57600"/>
                    </a:xfrm>
                    <a:custGeom>
                      <a:avLst/>
                      <a:gdLst>
                        <a:gd name="textAreaLeft" fmla="*/ 0 w 317520"/>
                        <a:gd name="textAreaRight" fmla="*/ 317880 w 317520"/>
                        <a:gd name="textAreaTop" fmla="*/ 0 h 57600"/>
                        <a:gd name="textAreaBottom" fmla="*/ 57960 h 576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21" name="Freeform 1519"/>
                    <p:cNvSpPr/>
                    <p:nvPr/>
                  </p:nvSpPr>
                  <p:spPr>
                    <a:xfrm rot="2241600">
                      <a:off x="4505760" y="3004560"/>
                      <a:ext cx="324360" cy="76320"/>
                    </a:xfrm>
                    <a:custGeom>
                      <a:avLst/>
                      <a:gdLst>
                        <a:gd name="textAreaLeft" fmla="*/ 0 w 324360"/>
                        <a:gd name="textAreaRight" fmla="*/ 324720 w 32436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22" name="Freeform 1520"/>
                  <p:cNvSpPr/>
                  <p:nvPr/>
                </p:nvSpPr>
                <p:spPr>
                  <a:xfrm rot="2241600">
                    <a:off x="4737960" y="3071880"/>
                    <a:ext cx="32400" cy="5400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3" name="Freeform 1521"/>
                  <p:cNvSpPr/>
                  <p:nvPr/>
                </p:nvSpPr>
                <p:spPr>
                  <a:xfrm rot="2241600">
                    <a:off x="4702320" y="3044520"/>
                    <a:ext cx="32400" cy="5400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4" name="Freeform 1522"/>
                  <p:cNvSpPr/>
                  <p:nvPr/>
                </p:nvSpPr>
                <p:spPr>
                  <a:xfrm rot="2241600">
                    <a:off x="4668840" y="3023640"/>
                    <a:ext cx="26640" cy="34200"/>
                  </a:xfrm>
                  <a:custGeom>
                    <a:avLst/>
                    <a:gdLst>
                      <a:gd name="textAreaLeft" fmla="*/ 0 w 26640"/>
                      <a:gd name="textAreaRight" fmla="*/ 27000 w 26640"/>
                      <a:gd name="textAreaTop" fmla="*/ 0 h 34200"/>
                      <a:gd name="textAreaBottom" fmla="*/ 34560 h 342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5" name="Freeform 1523"/>
                  <p:cNvSpPr/>
                  <p:nvPr/>
                </p:nvSpPr>
                <p:spPr>
                  <a:xfrm rot="2241600">
                    <a:off x="4717800" y="3019320"/>
                    <a:ext cx="41760" cy="27000"/>
                  </a:xfrm>
                  <a:custGeom>
                    <a:avLst/>
                    <a:gdLst>
                      <a:gd name="textAreaLeft" fmla="*/ 0 w 41760"/>
                      <a:gd name="textAreaRight" fmla="*/ 42120 w 417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6" name="Freeform 1524"/>
                  <p:cNvSpPr/>
                  <p:nvPr/>
                </p:nvSpPr>
                <p:spPr>
                  <a:xfrm rot="2241600">
                    <a:off x="4747320" y="3039480"/>
                    <a:ext cx="44640" cy="2988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9880"/>
                      <a:gd name="textAreaBottom" fmla="*/ 30240 h 298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127" name="Group 1525"/>
              <p:cNvGrpSpPr/>
              <p:nvPr/>
            </p:nvGrpSpPr>
            <p:grpSpPr>
              <a:xfrm>
                <a:off x="4185000" y="2959560"/>
                <a:ext cx="323280" cy="350280"/>
                <a:chOff x="4185000" y="2959560"/>
                <a:chExt cx="323280" cy="350280"/>
              </a:xfrm>
            </p:grpSpPr>
            <p:sp>
              <p:nvSpPr>
                <p:cNvPr id="2128" name="Freeform 1526"/>
                <p:cNvSpPr/>
                <p:nvPr/>
              </p:nvSpPr>
              <p:spPr>
                <a:xfrm rot="444000">
                  <a:off x="4394160" y="3128040"/>
                  <a:ext cx="93240" cy="1764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176400"/>
                    <a:gd name="textAreaBottom" fmla="*/ 176760 h 176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129" name="Group 1527"/>
                <p:cNvGrpSpPr/>
                <p:nvPr/>
              </p:nvGrpSpPr>
              <p:grpSpPr>
                <a:xfrm>
                  <a:off x="4185000" y="2959560"/>
                  <a:ext cx="323280" cy="289440"/>
                  <a:chOff x="4185000" y="2959560"/>
                  <a:chExt cx="323280" cy="289440"/>
                </a:xfrm>
              </p:grpSpPr>
              <p:grpSp>
                <p:nvGrpSpPr>
                  <p:cNvPr id="2130" name="Group 1528"/>
                  <p:cNvGrpSpPr/>
                  <p:nvPr/>
                </p:nvGrpSpPr>
                <p:grpSpPr>
                  <a:xfrm>
                    <a:off x="4185000" y="2959560"/>
                    <a:ext cx="323280" cy="289440"/>
                    <a:chOff x="4185000" y="2959560"/>
                    <a:chExt cx="323280" cy="289440"/>
                  </a:xfrm>
                </p:grpSpPr>
                <p:sp>
                  <p:nvSpPr>
                    <p:cNvPr id="2131" name="Freeform 1529"/>
                    <p:cNvSpPr/>
                    <p:nvPr/>
                  </p:nvSpPr>
                  <p:spPr>
                    <a:xfrm rot="2241600">
                      <a:off x="4205520" y="3049920"/>
                      <a:ext cx="317520" cy="57600"/>
                    </a:xfrm>
                    <a:custGeom>
                      <a:avLst/>
                      <a:gdLst>
                        <a:gd name="textAreaLeft" fmla="*/ 0 w 317520"/>
                        <a:gd name="textAreaRight" fmla="*/ 317880 w 317520"/>
                        <a:gd name="textAreaTop" fmla="*/ 0 h 57600"/>
                        <a:gd name="textAreaBottom" fmla="*/ 57960 h 576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32" name="Freeform 1530"/>
                    <p:cNvSpPr/>
                    <p:nvPr/>
                  </p:nvSpPr>
                  <p:spPr>
                    <a:xfrm rot="2241600">
                      <a:off x="4174920" y="3081960"/>
                      <a:ext cx="324360" cy="76320"/>
                    </a:xfrm>
                    <a:custGeom>
                      <a:avLst/>
                      <a:gdLst>
                        <a:gd name="textAreaLeft" fmla="*/ 0 w 324360"/>
                        <a:gd name="textAreaRight" fmla="*/ 324720 w 32436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33" name="Freeform 1531"/>
                  <p:cNvSpPr/>
                  <p:nvPr/>
                </p:nvSpPr>
                <p:spPr>
                  <a:xfrm rot="2241600">
                    <a:off x="4407120" y="3149280"/>
                    <a:ext cx="32400" cy="5400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34" name="Freeform 1532"/>
                  <p:cNvSpPr/>
                  <p:nvPr/>
                </p:nvSpPr>
                <p:spPr>
                  <a:xfrm rot="2241600">
                    <a:off x="4371480" y="3121920"/>
                    <a:ext cx="32400" cy="5400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35" name="Freeform 1533"/>
                  <p:cNvSpPr/>
                  <p:nvPr/>
                </p:nvSpPr>
                <p:spPr>
                  <a:xfrm rot="2241600">
                    <a:off x="4338000" y="3101040"/>
                    <a:ext cx="26640" cy="34200"/>
                  </a:xfrm>
                  <a:custGeom>
                    <a:avLst/>
                    <a:gdLst>
                      <a:gd name="textAreaLeft" fmla="*/ 0 w 26640"/>
                      <a:gd name="textAreaRight" fmla="*/ 27000 w 26640"/>
                      <a:gd name="textAreaTop" fmla="*/ 0 h 34200"/>
                      <a:gd name="textAreaBottom" fmla="*/ 34560 h 342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36" name="Freeform 1534"/>
                  <p:cNvSpPr/>
                  <p:nvPr/>
                </p:nvSpPr>
                <p:spPr>
                  <a:xfrm rot="2241600">
                    <a:off x="4386960" y="3096720"/>
                    <a:ext cx="41760" cy="27000"/>
                  </a:xfrm>
                  <a:custGeom>
                    <a:avLst/>
                    <a:gdLst>
                      <a:gd name="textAreaLeft" fmla="*/ 0 w 41760"/>
                      <a:gd name="textAreaRight" fmla="*/ 42120 w 417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37" name="Freeform 1535"/>
                  <p:cNvSpPr/>
                  <p:nvPr/>
                </p:nvSpPr>
                <p:spPr>
                  <a:xfrm rot="2241600">
                    <a:off x="4416480" y="3116880"/>
                    <a:ext cx="44640" cy="2988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9880"/>
                      <a:gd name="textAreaBottom" fmla="*/ 30240 h 298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138" name="Group 1536"/>
              <p:cNvGrpSpPr/>
              <p:nvPr/>
            </p:nvGrpSpPr>
            <p:grpSpPr>
              <a:xfrm>
                <a:off x="5093640" y="3479760"/>
                <a:ext cx="257040" cy="316440"/>
                <a:chOff x="5093640" y="3479760"/>
                <a:chExt cx="257040" cy="316440"/>
              </a:xfrm>
            </p:grpSpPr>
            <p:sp>
              <p:nvSpPr>
                <p:cNvPr id="2139" name="Freeform 1537"/>
                <p:cNvSpPr/>
                <p:nvPr/>
              </p:nvSpPr>
              <p:spPr>
                <a:xfrm flipV="1" rot="16192200">
                  <a:off x="5097600" y="3475440"/>
                  <a:ext cx="124560" cy="13248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360 h 132480"/>
                    <a:gd name="textAreaBottom" fmla="*/ 133200 h 1324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140" name="Group 1538"/>
                <p:cNvGrpSpPr/>
                <p:nvPr/>
              </p:nvGrpSpPr>
              <p:grpSpPr>
                <a:xfrm>
                  <a:off x="5094000" y="3511800"/>
                  <a:ext cx="256680" cy="284400"/>
                  <a:chOff x="5094000" y="3511800"/>
                  <a:chExt cx="256680" cy="284400"/>
                </a:xfrm>
              </p:grpSpPr>
              <p:grpSp>
                <p:nvGrpSpPr>
                  <p:cNvPr id="2141" name="Group 1539"/>
                  <p:cNvGrpSpPr/>
                  <p:nvPr/>
                </p:nvGrpSpPr>
                <p:grpSpPr>
                  <a:xfrm>
                    <a:off x="5094000" y="3511800"/>
                    <a:ext cx="256680" cy="284400"/>
                    <a:chOff x="5094000" y="3511800"/>
                    <a:chExt cx="256680" cy="284400"/>
                  </a:xfrm>
                </p:grpSpPr>
                <p:sp>
                  <p:nvSpPr>
                    <p:cNvPr id="2142" name="Freeform 1540"/>
                    <p:cNvSpPr/>
                    <p:nvPr/>
                  </p:nvSpPr>
                  <p:spPr>
                    <a:xfrm flipV="1" rot="14394600">
                      <a:off x="5137920" y="3595320"/>
                      <a:ext cx="238680" cy="77040"/>
                    </a:xfrm>
                    <a:custGeom>
                      <a:avLst/>
                      <a:gdLst>
                        <a:gd name="textAreaLeft" fmla="*/ 0 w 238680"/>
                        <a:gd name="textAreaRight" fmla="*/ 239040 w 238680"/>
                        <a:gd name="textAreaTop" fmla="*/ 360 h 77040"/>
                        <a:gd name="textAreaBottom" fmla="*/ 77760 h 77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43" name="Freeform 1541"/>
                    <p:cNvSpPr/>
                    <p:nvPr/>
                  </p:nvSpPr>
                  <p:spPr>
                    <a:xfrm flipV="1" rot="14394600">
                      <a:off x="5076720" y="3614040"/>
                      <a:ext cx="243720" cy="101520"/>
                    </a:xfrm>
                    <a:custGeom>
                      <a:avLst/>
                      <a:gdLst>
                        <a:gd name="textAreaLeft" fmla="*/ 0 w 243720"/>
                        <a:gd name="textAreaRight" fmla="*/ 244080 w 243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44" name="Freeform 1542"/>
                  <p:cNvSpPr/>
                  <p:nvPr/>
                </p:nvSpPr>
                <p:spPr>
                  <a:xfrm flipV="1" rot="14394600">
                    <a:off x="5156640" y="3557160"/>
                    <a:ext cx="24480" cy="720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5" name="Freeform 1543"/>
                  <p:cNvSpPr/>
                  <p:nvPr/>
                </p:nvSpPr>
                <p:spPr>
                  <a:xfrm flipV="1" rot="14394600">
                    <a:off x="5173200" y="3586320"/>
                    <a:ext cx="24480" cy="720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6" name="Freeform 1544"/>
                  <p:cNvSpPr/>
                  <p:nvPr/>
                </p:nvSpPr>
                <p:spPr>
                  <a:xfrm flipV="1" rot="14394600">
                    <a:off x="5196600" y="3629520"/>
                    <a:ext cx="20160" cy="457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7" name="Freeform 1545"/>
                  <p:cNvSpPr/>
                  <p:nvPr/>
                </p:nvSpPr>
                <p:spPr>
                  <a:xfrm flipV="1" rot="14394600">
                    <a:off x="5222880" y="3580200"/>
                    <a:ext cx="31320" cy="35640"/>
                  </a:xfrm>
                  <a:custGeom>
                    <a:avLst/>
                    <a:gdLst>
                      <a:gd name="textAreaLeft" fmla="*/ 0 w 31320"/>
                      <a:gd name="textAreaRight" fmla="*/ 31680 w 31320"/>
                      <a:gd name="textAreaTop" fmla="*/ -360 h 35640"/>
                      <a:gd name="textAreaBottom" fmla="*/ 35640 h 3564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8" name="Freeform 1546"/>
                  <p:cNvSpPr/>
                  <p:nvPr/>
                </p:nvSpPr>
                <p:spPr>
                  <a:xfrm flipV="1" rot="14394600">
                    <a:off x="5209560" y="3553560"/>
                    <a:ext cx="33480" cy="3996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-36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149" name="Group 1547"/>
              <p:cNvGrpSpPr/>
              <p:nvPr/>
            </p:nvGrpSpPr>
            <p:grpSpPr>
              <a:xfrm>
                <a:off x="5041080" y="4041720"/>
                <a:ext cx="257040" cy="316440"/>
                <a:chOff x="5041080" y="4041720"/>
                <a:chExt cx="257040" cy="316440"/>
              </a:xfrm>
            </p:grpSpPr>
            <p:sp>
              <p:nvSpPr>
                <p:cNvPr id="2150" name="Freeform 1548"/>
                <p:cNvSpPr/>
                <p:nvPr/>
              </p:nvSpPr>
              <p:spPr>
                <a:xfrm flipV="1" rot="16192200">
                  <a:off x="5045040" y="4037400"/>
                  <a:ext cx="124560" cy="13248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360 h 132480"/>
                    <a:gd name="textAreaBottom" fmla="*/ 133200 h 1324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151" name="Group 1549"/>
                <p:cNvGrpSpPr/>
                <p:nvPr/>
              </p:nvGrpSpPr>
              <p:grpSpPr>
                <a:xfrm>
                  <a:off x="5041440" y="4073760"/>
                  <a:ext cx="256680" cy="284400"/>
                  <a:chOff x="5041440" y="4073760"/>
                  <a:chExt cx="256680" cy="284400"/>
                </a:xfrm>
              </p:grpSpPr>
              <p:grpSp>
                <p:nvGrpSpPr>
                  <p:cNvPr id="2152" name="Group 1550"/>
                  <p:cNvGrpSpPr/>
                  <p:nvPr/>
                </p:nvGrpSpPr>
                <p:grpSpPr>
                  <a:xfrm>
                    <a:off x="5041440" y="4073760"/>
                    <a:ext cx="256680" cy="284400"/>
                    <a:chOff x="5041440" y="4073760"/>
                    <a:chExt cx="256680" cy="284400"/>
                  </a:xfrm>
                </p:grpSpPr>
                <p:sp>
                  <p:nvSpPr>
                    <p:cNvPr id="2153" name="Freeform 1551"/>
                    <p:cNvSpPr/>
                    <p:nvPr/>
                  </p:nvSpPr>
                  <p:spPr>
                    <a:xfrm flipV="1" rot="14394600">
                      <a:off x="5085360" y="4157280"/>
                      <a:ext cx="238680" cy="77040"/>
                    </a:xfrm>
                    <a:custGeom>
                      <a:avLst/>
                      <a:gdLst>
                        <a:gd name="textAreaLeft" fmla="*/ 0 w 238680"/>
                        <a:gd name="textAreaRight" fmla="*/ 239040 w 238680"/>
                        <a:gd name="textAreaTop" fmla="*/ 360 h 77040"/>
                        <a:gd name="textAreaBottom" fmla="*/ 77760 h 77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54" name="Freeform 1552"/>
                    <p:cNvSpPr/>
                    <p:nvPr/>
                  </p:nvSpPr>
                  <p:spPr>
                    <a:xfrm flipV="1" rot="14394600">
                      <a:off x="5024160" y="4176000"/>
                      <a:ext cx="243720" cy="101520"/>
                    </a:xfrm>
                    <a:custGeom>
                      <a:avLst/>
                      <a:gdLst>
                        <a:gd name="textAreaLeft" fmla="*/ 0 w 243720"/>
                        <a:gd name="textAreaRight" fmla="*/ 244080 w 243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55" name="Freeform 1553"/>
                  <p:cNvSpPr/>
                  <p:nvPr/>
                </p:nvSpPr>
                <p:spPr>
                  <a:xfrm flipV="1" rot="14394600">
                    <a:off x="5104080" y="4119120"/>
                    <a:ext cx="24480" cy="720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6" name="Freeform 1554"/>
                  <p:cNvSpPr/>
                  <p:nvPr/>
                </p:nvSpPr>
                <p:spPr>
                  <a:xfrm flipV="1" rot="14394600">
                    <a:off x="5120640" y="4148280"/>
                    <a:ext cx="24480" cy="720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7" name="Freeform 1555"/>
                  <p:cNvSpPr/>
                  <p:nvPr/>
                </p:nvSpPr>
                <p:spPr>
                  <a:xfrm flipV="1" rot="14394600">
                    <a:off x="5144040" y="4191480"/>
                    <a:ext cx="20160" cy="457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8" name="Freeform 1556"/>
                  <p:cNvSpPr/>
                  <p:nvPr/>
                </p:nvSpPr>
                <p:spPr>
                  <a:xfrm flipV="1" rot="14394600">
                    <a:off x="5170320" y="4142160"/>
                    <a:ext cx="31320" cy="35640"/>
                  </a:xfrm>
                  <a:custGeom>
                    <a:avLst/>
                    <a:gdLst>
                      <a:gd name="textAreaLeft" fmla="*/ 0 w 31320"/>
                      <a:gd name="textAreaRight" fmla="*/ 31680 w 31320"/>
                      <a:gd name="textAreaTop" fmla="*/ -360 h 35640"/>
                      <a:gd name="textAreaBottom" fmla="*/ 35640 h 3564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9" name="Freeform 1557"/>
                  <p:cNvSpPr/>
                  <p:nvPr/>
                </p:nvSpPr>
                <p:spPr>
                  <a:xfrm flipV="1" rot="14394600">
                    <a:off x="5157000" y="4115520"/>
                    <a:ext cx="33480" cy="3996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-36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160" name="Group 1558"/>
              <p:cNvGrpSpPr/>
              <p:nvPr/>
            </p:nvGrpSpPr>
            <p:grpSpPr>
              <a:xfrm>
                <a:off x="4865760" y="3498120"/>
                <a:ext cx="257040" cy="316440"/>
                <a:chOff x="4865760" y="3498120"/>
                <a:chExt cx="257040" cy="316440"/>
              </a:xfrm>
            </p:grpSpPr>
            <p:sp>
              <p:nvSpPr>
                <p:cNvPr id="2161" name="Freeform 1559"/>
                <p:cNvSpPr/>
                <p:nvPr/>
              </p:nvSpPr>
              <p:spPr>
                <a:xfrm flipV="1" rot="16192200">
                  <a:off x="4869720" y="3493800"/>
                  <a:ext cx="124560" cy="13248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360 h 132480"/>
                    <a:gd name="textAreaBottom" fmla="*/ 133200 h 1324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162" name="Group 1560"/>
                <p:cNvGrpSpPr/>
                <p:nvPr/>
              </p:nvGrpSpPr>
              <p:grpSpPr>
                <a:xfrm>
                  <a:off x="4866120" y="3530160"/>
                  <a:ext cx="256680" cy="284400"/>
                  <a:chOff x="4866120" y="3530160"/>
                  <a:chExt cx="256680" cy="284400"/>
                </a:xfrm>
              </p:grpSpPr>
              <p:grpSp>
                <p:nvGrpSpPr>
                  <p:cNvPr id="2163" name="Group 1561"/>
                  <p:cNvGrpSpPr/>
                  <p:nvPr/>
                </p:nvGrpSpPr>
                <p:grpSpPr>
                  <a:xfrm>
                    <a:off x="4866120" y="3530160"/>
                    <a:ext cx="256680" cy="284400"/>
                    <a:chOff x="4866120" y="3530160"/>
                    <a:chExt cx="256680" cy="284400"/>
                  </a:xfrm>
                </p:grpSpPr>
                <p:sp>
                  <p:nvSpPr>
                    <p:cNvPr id="2164" name="Freeform 1562"/>
                    <p:cNvSpPr/>
                    <p:nvPr/>
                  </p:nvSpPr>
                  <p:spPr>
                    <a:xfrm flipV="1" rot="14394600">
                      <a:off x="4910040" y="3613680"/>
                      <a:ext cx="238680" cy="77040"/>
                    </a:xfrm>
                    <a:custGeom>
                      <a:avLst/>
                      <a:gdLst>
                        <a:gd name="textAreaLeft" fmla="*/ 0 w 238680"/>
                        <a:gd name="textAreaRight" fmla="*/ 239040 w 238680"/>
                        <a:gd name="textAreaTop" fmla="*/ 360 h 77040"/>
                        <a:gd name="textAreaBottom" fmla="*/ 77760 h 77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65" name="Freeform 1563"/>
                    <p:cNvSpPr/>
                    <p:nvPr/>
                  </p:nvSpPr>
                  <p:spPr>
                    <a:xfrm flipV="1" rot="14394600">
                      <a:off x="4848840" y="3632400"/>
                      <a:ext cx="243720" cy="101520"/>
                    </a:xfrm>
                    <a:custGeom>
                      <a:avLst/>
                      <a:gdLst>
                        <a:gd name="textAreaLeft" fmla="*/ 0 w 243720"/>
                        <a:gd name="textAreaRight" fmla="*/ 244080 w 243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66" name="Freeform 1564"/>
                  <p:cNvSpPr/>
                  <p:nvPr/>
                </p:nvSpPr>
                <p:spPr>
                  <a:xfrm flipV="1" rot="14394600">
                    <a:off x="4928760" y="3575520"/>
                    <a:ext cx="24480" cy="720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7" name="Freeform 1565"/>
                  <p:cNvSpPr/>
                  <p:nvPr/>
                </p:nvSpPr>
                <p:spPr>
                  <a:xfrm flipV="1" rot="14394600">
                    <a:off x="4945320" y="3604680"/>
                    <a:ext cx="24480" cy="720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8" name="Freeform 1566"/>
                  <p:cNvSpPr/>
                  <p:nvPr/>
                </p:nvSpPr>
                <p:spPr>
                  <a:xfrm flipV="1" rot="14394600">
                    <a:off x="4968720" y="3647880"/>
                    <a:ext cx="20160" cy="457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9" name="Freeform 1567"/>
                  <p:cNvSpPr/>
                  <p:nvPr/>
                </p:nvSpPr>
                <p:spPr>
                  <a:xfrm flipV="1" rot="14394600">
                    <a:off x="4995000" y="3598560"/>
                    <a:ext cx="31320" cy="35640"/>
                  </a:xfrm>
                  <a:custGeom>
                    <a:avLst/>
                    <a:gdLst>
                      <a:gd name="textAreaLeft" fmla="*/ 0 w 31320"/>
                      <a:gd name="textAreaRight" fmla="*/ 31680 w 31320"/>
                      <a:gd name="textAreaTop" fmla="*/ -360 h 35640"/>
                      <a:gd name="textAreaBottom" fmla="*/ 35640 h 3564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0" name="Freeform 1568"/>
                  <p:cNvSpPr/>
                  <p:nvPr/>
                </p:nvSpPr>
                <p:spPr>
                  <a:xfrm flipV="1" rot="14394600">
                    <a:off x="4981680" y="3571920"/>
                    <a:ext cx="33480" cy="3996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-36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171" name="Group 1569"/>
              <p:cNvGrpSpPr/>
              <p:nvPr/>
            </p:nvGrpSpPr>
            <p:grpSpPr>
              <a:xfrm>
                <a:off x="4204440" y="3368520"/>
                <a:ext cx="256680" cy="316440"/>
                <a:chOff x="4204440" y="3368520"/>
                <a:chExt cx="256680" cy="316440"/>
              </a:xfrm>
            </p:grpSpPr>
            <p:sp>
              <p:nvSpPr>
                <p:cNvPr id="2172" name="Freeform 1570"/>
                <p:cNvSpPr/>
                <p:nvPr/>
              </p:nvSpPr>
              <p:spPr>
                <a:xfrm flipV="1" rot="16192200">
                  <a:off x="4208400" y="3364200"/>
                  <a:ext cx="124200" cy="132480"/>
                </a:xfrm>
                <a:custGeom>
                  <a:avLst/>
                  <a:gdLst>
                    <a:gd name="textAreaLeft" fmla="*/ 0 w 124200"/>
                    <a:gd name="textAreaRight" fmla="*/ 124560 w 124200"/>
                    <a:gd name="textAreaTop" fmla="*/ 360 h 132480"/>
                    <a:gd name="textAreaBottom" fmla="*/ 133200 h 1324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173" name="Group 1571"/>
                <p:cNvGrpSpPr/>
                <p:nvPr/>
              </p:nvGrpSpPr>
              <p:grpSpPr>
                <a:xfrm>
                  <a:off x="4204800" y="3400560"/>
                  <a:ext cx="256320" cy="284400"/>
                  <a:chOff x="4204800" y="3400560"/>
                  <a:chExt cx="256320" cy="284400"/>
                </a:xfrm>
              </p:grpSpPr>
              <p:grpSp>
                <p:nvGrpSpPr>
                  <p:cNvPr id="2174" name="Group 1572"/>
                  <p:cNvGrpSpPr/>
                  <p:nvPr/>
                </p:nvGrpSpPr>
                <p:grpSpPr>
                  <a:xfrm>
                    <a:off x="4204800" y="3400560"/>
                    <a:ext cx="256320" cy="284400"/>
                    <a:chOff x="4204800" y="3400560"/>
                    <a:chExt cx="256320" cy="284400"/>
                  </a:xfrm>
                </p:grpSpPr>
                <p:sp>
                  <p:nvSpPr>
                    <p:cNvPr id="2175" name="Freeform 1573"/>
                    <p:cNvSpPr/>
                    <p:nvPr/>
                  </p:nvSpPr>
                  <p:spPr>
                    <a:xfrm flipV="1" rot="14394600">
                      <a:off x="4248360" y="3484080"/>
                      <a:ext cx="238680" cy="77040"/>
                    </a:xfrm>
                    <a:custGeom>
                      <a:avLst/>
                      <a:gdLst>
                        <a:gd name="textAreaLeft" fmla="*/ 0 w 238680"/>
                        <a:gd name="textAreaRight" fmla="*/ 239040 w 238680"/>
                        <a:gd name="textAreaTop" fmla="*/ 360 h 77040"/>
                        <a:gd name="textAreaBottom" fmla="*/ 77760 h 77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76" name="Freeform 1574"/>
                    <p:cNvSpPr/>
                    <p:nvPr/>
                  </p:nvSpPr>
                  <p:spPr>
                    <a:xfrm flipV="1" rot="14394600">
                      <a:off x="4187520" y="3502800"/>
                      <a:ext cx="243720" cy="101520"/>
                    </a:xfrm>
                    <a:custGeom>
                      <a:avLst/>
                      <a:gdLst>
                        <a:gd name="textAreaLeft" fmla="*/ 0 w 243720"/>
                        <a:gd name="textAreaRight" fmla="*/ 244080 w 243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77" name="Freeform 1575"/>
                  <p:cNvSpPr/>
                  <p:nvPr/>
                </p:nvSpPr>
                <p:spPr>
                  <a:xfrm flipV="1" rot="14394600">
                    <a:off x="4267080" y="3446280"/>
                    <a:ext cx="24480" cy="716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8" name="Freeform 1576"/>
                  <p:cNvSpPr/>
                  <p:nvPr/>
                </p:nvSpPr>
                <p:spPr>
                  <a:xfrm flipV="1" rot="14394600">
                    <a:off x="4284000" y="3475800"/>
                    <a:ext cx="24480" cy="716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9" name="Freeform 1577"/>
                  <p:cNvSpPr/>
                  <p:nvPr/>
                </p:nvSpPr>
                <p:spPr>
                  <a:xfrm flipV="1" rot="14394600">
                    <a:off x="4307040" y="3518280"/>
                    <a:ext cx="20160" cy="457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0" name="Freeform 1578"/>
                  <p:cNvSpPr/>
                  <p:nvPr/>
                </p:nvSpPr>
                <p:spPr>
                  <a:xfrm flipV="1" rot="14394600">
                    <a:off x="4333680" y="3469320"/>
                    <a:ext cx="31320" cy="35280"/>
                  </a:xfrm>
                  <a:custGeom>
                    <a:avLst/>
                    <a:gdLst>
                      <a:gd name="textAreaLeft" fmla="*/ 0 w 31320"/>
                      <a:gd name="textAreaRight" fmla="*/ 31680 w 31320"/>
                      <a:gd name="textAreaTop" fmla="*/ 360 h 35280"/>
                      <a:gd name="textAreaBottom" fmla="*/ 36000 h 35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1" name="Freeform 1579"/>
                  <p:cNvSpPr/>
                  <p:nvPr/>
                </p:nvSpPr>
                <p:spPr>
                  <a:xfrm flipV="1" rot="14394600">
                    <a:off x="4320000" y="3442680"/>
                    <a:ext cx="33480" cy="3960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360 h 39600"/>
                      <a:gd name="textAreaBottom" fmla="*/ 40320 h 396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182" name="Group 1580"/>
              <p:cNvGrpSpPr/>
              <p:nvPr/>
            </p:nvGrpSpPr>
            <p:grpSpPr>
              <a:xfrm>
                <a:off x="4282200" y="3782880"/>
                <a:ext cx="257040" cy="316440"/>
                <a:chOff x="4282200" y="3782880"/>
                <a:chExt cx="257040" cy="316440"/>
              </a:xfrm>
            </p:grpSpPr>
            <p:sp>
              <p:nvSpPr>
                <p:cNvPr id="2183" name="Freeform 1581"/>
                <p:cNvSpPr/>
                <p:nvPr/>
              </p:nvSpPr>
              <p:spPr>
                <a:xfrm flipV="1" rot="16192200">
                  <a:off x="4286160" y="3778560"/>
                  <a:ext cx="124560" cy="13248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360 h 132480"/>
                    <a:gd name="textAreaBottom" fmla="*/ 133200 h 1324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184" name="Group 1582"/>
                <p:cNvGrpSpPr/>
                <p:nvPr/>
              </p:nvGrpSpPr>
              <p:grpSpPr>
                <a:xfrm>
                  <a:off x="4282560" y="3814920"/>
                  <a:ext cx="256680" cy="284400"/>
                  <a:chOff x="4282560" y="3814920"/>
                  <a:chExt cx="256680" cy="284400"/>
                </a:xfrm>
              </p:grpSpPr>
              <p:grpSp>
                <p:nvGrpSpPr>
                  <p:cNvPr id="2185" name="Group 1583"/>
                  <p:cNvGrpSpPr/>
                  <p:nvPr/>
                </p:nvGrpSpPr>
                <p:grpSpPr>
                  <a:xfrm>
                    <a:off x="4282560" y="3814920"/>
                    <a:ext cx="256680" cy="284400"/>
                    <a:chOff x="4282560" y="3814920"/>
                    <a:chExt cx="256680" cy="284400"/>
                  </a:xfrm>
                </p:grpSpPr>
                <p:sp>
                  <p:nvSpPr>
                    <p:cNvPr id="2186" name="Freeform 1584"/>
                    <p:cNvSpPr/>
                    <p:nvPr/>
                  </p:nvSpPr>
                  <p:spPr>
                    <a:xfrm flipV="1" rot="14394600">
                      <a:off x="4326480" y="3898440"/>
                      <a:ext cx="238680" cy="77040"/>
                    </a:xfrm>
                    <a:custGeom>
                      <a:avLst/>
                      <a:gdLst>
                        <a:gd name="textAreaLeft" fmla="*/ 0 w 238680"/>
                        <a:gd name="textAreaRight" fmla="*/ 239040 w 238680"/>
                        <a:gd name="textAreaTop" fmla="*/ 360 h 77040"/>
                        <a:gd name="textAreaBottom" fmla="*/ 77760 h 77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87" name="Freeform 1585"/>
                    <p:cNvSpPr/>
                    <p:nvPr/>
                  </p:nvSpPr>
                  <p:spPr>
                    <a:xfrm flipV="1" rot="14394600">
                      <a:off x="4265280" y="3917160"/>
                      <a:ext cx="243720" cy="101520"/>
                    </a:xfrm>
                    <a:custGeom>
                      <a:avLst/>
                      <a:gdLst>
                        <a:gd name="textAreaLeft" fmla="*/ 0 w 243720"/>
                        <a:gd name="textAreaRight" fmla="*/ 244080 w 243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88" name="Freeform 1586"/>
                  <p:cNvSpPr/>
                  <p:nvPr/>
                </p:nvSpPr>
                <p:spPr>
                  <a:xfrm flipV="1" rot="14394600">
                    <a:off x="4345200" y="3860280"/>
                    <a:ext cx="24480" cy="720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9" name="Freeform 1587"/>
                  <p:cNvSpPr/>
                  <p:nvPr/>
                </p:nvSpPr>
                <p:spPr>
                  <a:xfrm flipV="1" rot="14394600">
                    <a:off x="4361760" y="3889440"/>
                    <a:ext cx="24480" cy="720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0" name="Freeform 1588"/>
                  <p:cNvSpPr/>
                  <p:nvPr/>
                </p:nvSpPr>
                <p:spPr>
                  <a:xfrm flipV="1" rot="14394600">
                    <a:off x="4385160" y="3932640"/>
                    <a:ext cx="20160" cy="457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1" name="Freeform 1589"/>
                  <p:cNvSpPr/>
                  <p:nvPr/>
                </p:nvSpPr>
                <p:spPr>
                  <a:xfrm flipV="1" rot="14394600">
                    <a:off x="4411440" y="3883320"/>
                    <a:ext cx="31320" cy="35640"/>
                  </a:xfrm>
                  <a:custGeom>
                    <a:avLst/>
                    <a:gdLst>
                      <a:gd name="textAreaLeft" fmla="*/ 0 w 31320"/>
                      <a:gd name="textAreaRight" fmla="*/ 31680 w 31320"/>
                      <a:gd name="textAreaTop" fmla="*/ -360 h 35640"/>
                      <a:gd name="textAreaBottom" fmla="*/ 35640 h 3564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2" name="Freeform 1590"/>
                  <p:cNvSpPr/>
                  <p:nvPr/>
                </p:nvSpPr>
                <p:spPr>
                  <a:xfrm flipV="1" rot="14394600">
                    <a:off x="4398120" y="3856680"/>
                    <a:ext cx="33480" cy="3996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-36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193" name="Group 1591"/>
              <p:cNvGrpSpPr/>
              <p:nvPr/>
            </p:nvGrpSpPr>
            <p:grpSpPr>
              <a:xfrm>
                <a:off x="4600800" y="4407840"/>
                <a:ext cx="313200" cy="367920"/>
                <a:chOff x="4600800" y="4407840"/>
                <a:chExt cx="313200" cy="367920"/>
              </a:xfrm>
            </p:grpSpPr>
            <p:sp>
              <p:nvSpPr>
                <p:cNvPr id="2194" name="Freeform 1592"/>
                <p:cNvSpPr/>
                <p:nvPr/>
              </p:nvSpPr>
              <p:spPr>
                <a:xfrm flipV="1" rot="20859000">
                  <a:off x="4794840" y="4415400"/>
                  <a:ext cx="93240" cy="1764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360 h 176400"/>
                    <a:gd name="textAreaBottom" fmla="*/ 177120 h 176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195" name="Group 1593"/>
                <p:cNvGrpSpPr/>
                <p:nvPr/>
              </p:nvGrpSpPr>
              <p:grpSpPr>
                <a:xfrm>
                  <a:off x="4600800" y="4471200"/>
                  <a:ext cx="313200" cy="304560"/>
                  <a:chOff x="4600800" y="4471200"/>
                  <a:chExt cx="313200" cy="304560"/>
                </a:xfrm>
              </p:grpSpPr>
              <p:grpSp>
                <p:nvGrpSpPr>
                  <p:cNvPr id="2196" name="Group 1594"/>
                  <p:cNvGrpSpPr/>
                  <p:nvPr/>
                </p:nvGrpSpPr>
                <p:grpSpPr>
                  <a:xfrm>
                    <a:off x="4600800" y="4471200"/>
                    <a:ext cx="313200" cy="304560"/>
                    <a:chOff x="4600800" y="4471200"/>
                    <a:chExt cx="313200" cy="304560"/>
                  </a:xfrm>
                </p:grpSpPr>
                <p:sp>
                  <p:nvSpPr>
                    <p:cNvPr id="2197" name="Freeform 1595"/>
                    <p:cNvSpPr/>
                    <p:nvPr/>
                  </p:nvSpPr>
                  <p:spPr>
                    <a:xfrm flipV="1" rot="19061400">
                      <a:off x="4618440" y="4618800"/>
                      <a:ext cx="317520" cy="57240"/>
                    </a:xfrm>
                    <a:custGeom>
                      <a:avLst/>
                      <a:gdLst>
                        <a:gd name="textAreaLeft" fmla="*/ 0 w 317520"/>
                        <a:gd name="textAreaRight" fmla="*/ 317880 w 317520"/>
                        <a:gd name="textAreaTop" fmla="*/ 0 h 57240"/>
                        <a:gd name="textAreaBottom" fmla="*/ 57240 h 57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98" name="Freeform 1596"/>
                    <p:cNvSpPr/>
                    <p:nvPr/>
                  </p:nvSpPr>
                  <p:spPr>
                    <a:xfrm flipV="1" rot="19061400">
                      <a:off x="4583880" y="4569840"/>
                      <a:ext cx="324360" cy="75960"/>
                    </a:xfrm>
                    <a:custGeom>
                      <a:avLst/>
                      <a:gdLst>
                        <a:gd name="textAreaLeft" fmla="*/ 0 w 324360"/>
                        <a:gd name="textAreaRight" fmla="*/ 324720 w 324360"/>
                        <a:gd name="textAreaTop" fmla="*/ -360 h 75960"/>
                        <a:gd name="textAreaBottom" fmla="*/ 75960 h 7596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99" name="Freeform 1597"/>
                  <p:cNvSpPr/>
                  <p:nvPr/>
                </p:nvSpPr>
                <p:spPr>
                  <a:xfrm flipV="1" rot="19061400">
                    <a:off x="4810680" y="4518000"/>
                    <a:ext cx="32760" cy="540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360 h 54000"/>
                      <a:gd name="textAreaBottom" fmla="*/ 54720 h 54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0" name="Freeform 1598"/>
                  <p:cNvSpPr/>
                  <p:nvPr/>
                </p:nvSpPr>
                <p:spPr>
                  <a:xfrm flipV="1" rot="19061400">
                    <a:off x="4777560" y="4548240"/>
                    <a:ext cx="32760" cy="540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360 h 54000"/>
                      <a:gd name="textAreaBottom" fmla="*/ 54720 h 54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1" name="Freeform 1599"/>
                  <p:cNvSpPr/>
                  <p:nvPr/>
                </p:nvSpPr>
                <p:spPr>
                  <a:xfrm flipV="1" rot="19061400">
                    <a:off x="4746960" y="4592160"/>
                    <a:ext cx="26640" cy="34200"/>
                  </a:xfrm>
                  <a:custGeom>
                    <a:avLst/>
                    <a:gdLst>
                      <a:gd name="textAreaLeft" fmla="*/ 0 w 26640"/>
                      <a:gd name="textAreaRight" fmla="*/ 27000 w 26640"/>
                      <a:gd name="textAreaTop" fmla="*/ -360 h 34200"/>
                      <a:gd name="textAreaBottom" fmla="*/ 34200 h 342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2" name="Freeform 1600"/>
                  <p:cNvSpPr/>
                  <p:nvPr/>
                </p:nvSpPr>
                <p:spPr>
                  <a:xfrm flipV="1" rot="19061400">
                    <a:off x="4796640" y="4598640"/>
                    <a:ext cx="41760" cy="27360"/>
                  </a:xfrm>
                  <a:custGeom>
                    <a:avLst/>
                    <a:gdLst>
                      <a:gd name="textAreaLeft" fmla="*/ 0 w 41760"/>
                      <a:gd name="textAreaRight" fmla="*/ 42120 w 41760"/>
                      <a:gd name="textAreaTop" fmla="*/ 360 h 27360"/>
                      <a:gd name="textAreaBottom" fmla="*/ 28080 h 2736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3" name="Freeform 1601"/>
                  <p:cNvSpPr/>
                  <p:nvPr/>
                </p:nvSpPr>
                <p:spPr>
                  <a:xfrm flipV="1" rot="19061400">
                    <a:off x="4824000" y="4572720"/>
                    <a:ext cx="44640" cy="3024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360 h 30240"/>
                      <a:gd name="textAreaBottom" fmla="*/ 30960 h 3024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204" name="Group 1602"/>
              <p:cNvGrpSpPr/>
              <p:nvPr/>
            </p:nvGrpSpPr>
            <p:grpSpPr>
              <a:xfrm>
                <a:off x="4885200" y="4455720"/>
                <a:ext cx="256680" cy="316440"/>
                <a:chOff x="4885200" y="4455720"/>
                <a:chExt cx="256680" cy="316440"/>
              </a:xfrm>
            </p:grpSpPr>
            <p:sp>
              <p:nvSpPr>
                <p:cNvPr id="2205" name="Freeform 1603"/>
                <p:cNvSpPr/>
                <p:nvPr/>
              </p:nvSpPr>
              <p:spPr>
                <a:xfrm flipV="1" rot="16192200">
                  <a:off x="4889160" y="4451400"/>
                  <a:ext cx="124200" cy="132480"/>
                </a:xfrm>
                <a:custGeom>
                  <a:avLst/>
                  <a:gdLst>
                    <a:gd name="textAreaLeft" fmla="*/ 0 w 124200"/>
                    <a:gd name="textAreaRight" fmla="*/ 124560 w 124200"/>
                    <a:gd name="textAreaTop" fmla="*/ 360 h 132480"/>
                    <a:gd name="textAreaBottom" fmla="*/ 133200 h 1324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06" name="Group 1604"/>
                <p:cNvGrpSpPr/>
                <p:nvPr/>
              </p:nvGrpSpPr>
              <p:grpSpPr>
                <a:xfrm>
                  <a:off x="4885560" y="4487760"/>
                  <a:ext cx="256320" cy="284400"/>
                  <a:chOff x="4885560" y="4487760"/>
                  <a:chExt cx="256320" cy="284400"/>
                </a:xfrm>
              </p:grpSpPr>
              <p:grpSp>
                <p:nvGrpSpPr>
                  <p:cNvPr id="2207" name="Group 1605"/>
                  <p:cNvGrpSpPr/>
                  <p:nvPr/>
                </p:nvGrpSpPr>
                <p:grpSpPr>
                  <a:xfrm>
                    <a:off x="4885560" y="4487760"/>
                    <a:ext cx="256320" cy="284400"/>
                    <a:chOff x="4885560" y="4487760"/>
                    <a:chExt cx="256320" cy="284400"/>
                  </a:xfrm>
                </p:grpSpPr>
                <p:sp>
                  <p:nvSpPr>
                    <p:cNvPr id="2208" name="Freeform 1606"/>
                    <p:cNvSpPr/>
                    <p:nvPr/>
                  </p:nvSpPr>
                  <p:spPr>
                    <a:xfrm flipV="1" rot="14394600">
                      <a:off x="4929120" y="4571280"/>
                      <a:ext cx="238680" cy="77040"/>
                    </a:xfrm>
                    <a:custGeom>
                      <a:avLst/>
                      <a:gdLst>
                        <a:gd name="textAreaLeft" fmla="*/ 0 w 238680"/>
                        <a:gd name="textAreaRight" fmla="*/ 239040 w 238680"/>
                        <a:gd name="textAreaTop" fmla="*/ 360 h 77040"/>
                        <a:gd name="textAreaBottom" fmla="*/ 77760 h 77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09" name="Freeform 1607"/>
                    <p:cNvSpPr/>
                    <p:nvPr/>
                  </p:nvSpPr>
                  <p:spPr>
                    <a:xfrm flipV="1" rot="14394600">
                      <a:off x="4868280" y="4590000"/>
                      <a:ext cx="243720" cy="101520"/>
                    </a:xfrm>
                    <a:custGeom>
                      <a:avLst/>
                      <a:gdLst>
                        <a:gd name="textAreaLeft" fmla="*/ 0 w 243720"/>
                        <a:gd name="textAreaRight" fmla="*/ 244080 w 243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210" name="Freeform 1608"/>
                  <p:cNvSpPr/>
                  <p:nvPr/>
                </p:nvSpPr>
                <p:spPr>
                  <a:xfrm flipV="1" rot="14394600">
                    <a:off x="4947840" y="4533480"/>
                    <a:ext cx="24480" cy="716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1" name="Freeform 1609"/>
                  <p:cNvSpPr/>
                  <p:nvPr/>
                </p:nvSpPr>
                <p:spPr>
                  <a:xfrm flipV="1" rot="14394600">
                    <a:off x="4964760" y="4563000"/>
                    <a:ext cx="24480" cy="716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-360 h 71640"/>
                      <a:gd name="textAreaBottom" fmla="*/ 71640 h 7164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2" name="Freeform 1610"/>
                  <p:cNvSpPr/>
                  <p:nvPr/>
                </p:nvSpPr>
                <p:spPr>
                  <a:xfrm flipV="1" rot="14394600">
                    <a:off x="4987800" y="4605480"/>
                    <a:ext cx="20160" cy="457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3" name="Freeform 1611"/>
                  <p:cNvSpPr/>
                  <p:nvPr/>
                </p:nvSpPr>
                <p:spPr>
                  <a:xfrm flipV="1" rot="14394600">
                    <a:off x="5014440" y="4556520"/>
                    <a:ext cx="31320" cy="35280"/>
                  </a:xfrm>
                  <a:custGeom>
                    <a:avLst/>
                    <a:gdLst>
                      <a:gd name="textAreaLeft" fmla="*/ 0 w 31320"/>
                      <a:gd name="textAreaRight" fmla="*/ 31680 w 31320"/>
                      <a:gd name="textAreaTop" fmla="*/ 360 h 35280"/>
                      <a:gd name="textAreaBottom" fmla="*/ 36000 h 35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4" name="Freeform 1612"/>
                  <p:cNvSpPr/>
                  <p:nvPr/>
                </p:nvSpPr>
                <p:spPr>
                  <a:xfrm flipV="1" rot="14394600">
                    <a:off x="5000760" y="4529880"/>
                    <a:ext cx="33480" cy="3960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360 h 39600"/>
                      <a:gd name="textAreaBottom" fmla="*/ 40320 h 396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215" name="Group 1613"/>
              <p:cNvGrpSpPr/>
              <p:nvPr/>
            </p:nvGrpSpPr>
            <p:grpSpPr>
              <a:xfrm>
                <a:off x="4262760" y="4430160"/>
                <a:ext cx="257040" cy="316440"/>
                <a:chOff x="4262760" y="4430160"/>
                <a:chExt cx="257040" cy="316440"/>
              </a:xfrm>
            </p:grpSpPr>
            <p:sp>
              <p:nvSpPr>
                <p:cNvPr id="2216" name="Freeform 1614"/>
                <p:cNvSpPr/>
                <p:nvPr/>
              </p:nvSpPr>
              <p:spPr>
                <a:xfrm flipV="1" rot="16192200">
                  <a:off x="4266720" y="4425840"/>
                  <a:ext cx="124560" cy="13248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360 h 132480"/>
                    <a:gd name="textAreaBottom" fmla="*/ 133200 h 1324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17" name="Group 1615"/>
                <p:cNvGrpSpPr/>
                <p:nvPr/>
              </p:nvGrpSpPr>
              <p:grpSpPr>
                <a:xfrm>
                  <a:off x="4263120" y="4462200"/>
                  <a:ext cx="256680" cy="284400"/>
                  <a:chOff x="4263120" y="4462200"/>
                  <a:chExt cx="256680" cy="284400"/>
                </a:xfrm>
              </p:grpSpPr>
              <p:grpSp>
                <p:nvGrpSpPr>
                  <p:cNvPr id="2218" name="Group 1616"/>
                  <p:cNvGrpSpPr/>
                  <p:nvPr/>
                </p:nvGrpSpPr>
                <p:grpSpPr>
                  <a:xfrm>
                    <a:off x="4263120" y="4462200"/>
                    <a:ext cx="256680" cy="284400"/>
                    <a:chOff x="4263120" y="4462200"/>
                    <a:chExt cx="256680" cy="284400"/>
                  </a:xfrm>
                </p:grpSpPr>
                <p:sp>
                  <p:nvSpPr>
                    <p:cNvPr id="2219" name="Freeform 1617"/>
                    <p:cNvSpPr/>
                    <p:nvPr/>
                  </p:nvSpPr>
                  <p:spPr>
                    <a:xfrm flipV="1" rot="14394600">
                      <a:off x="4307040" y="4545720"/>
                      <a:ext cx="238680" cy="77040"/>
                    </a:xfrm>
                    <a:custGeom>
                      <a:avLst/>
                      <a:gdLst>
                        <a:gd name="textAreaLeft" fmla="*/ 0 w 238680"/>
                        <a:gd name="textAreaRight" fmla="*/ 239040 w 238680"/>
                        <a:gd name="textAreaTop" fmla="*/ 360 h 77040"/>
                        <a:gd name="textAreaBottom" fmla="*/ 77760 h 77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20" name="Freeform 1618"/>
                    <p:cNvSpPr/>
                    <p:nvPr/>
                  </p:nvSpPr>
                  <p:spPr>
                    <a:xfrm flipV="1" rot="14394600">
                      <a:off x="4245840" y="4564440"/>
                      <a:ext cx="243720" cy="101520"/>
                    </a:xfrm>
                    <a:custGeom>
                      <a:avLst/>
                      <a:gdLst>
                        <a:gd name="textAreaLeft" fmla="*/ 0 w 243720"/>
                        <a:gd name="textAreaRight" fmla="*/ 244080 w 243720"/>
                        <a:gd name="textAreaTop" fmla="*/ 360 h 101520"/>
                        <a:gd name="textAreaBottom" fmla="*/ 102240 h 1015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221" name="Freeform 1619"/>
                  <p:cNvSpPr/>
                  <p:nvPr/>
                </p:nvSpPr>
                <p:spPr>
                  <a:xfrm flipV="1" rot="14394600">
                    <a:off x="4325760" y="4507560"/>
                    <a:ext cx="24480" cy="720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2" name="Freeform 1620"/>
                  <p:cNvSpPr/>
                  <p:nvPr/>
                </p:nvSpPr>
                <p:spPr>
                  <a:xfrm flipV="1" rot="14394600">
                    <a:off x="4342320" y="4536720"/>
                    <a:ext cx="24480" cy="720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360 h 72000"/>
                      <a:gd name="textAreaBottom" fmla="*/ 72720 h 720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3" name="Freeform 1621"/>
                  <p:cNvSpPr/>
                  <p:nvPr/>
                </p:nvSpPr>
                <p:spPr>
                  <a:xfrm flipV="1" rot="14394600">
                    <a:off x="4365720" y="4579920"/>
                    <a:ext cx="20160" cy="457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-360 h 45720"/>
                      <a:gd name="textAreaBottom" fmla="*/ 45720 h 457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4" name="Freeform 1622"/>
                  <p:cNvSpPr/>
                  <p:nvPr/>
                </p:nvSpPr>
                <p:spPr>
                  <a:xfrm flipV="1" rot="14394600">
                    <a:off x="4392000" y="4530600"/>
                    <a:ext cx="31320" cy="35640"/>
                  </a:xfrm>
                  <a:custGeom>
                    <a:avLst/>
                    <a:gdLst>
                      <a:gd name="textAreaLeft" fmla="*/ 0 w 31320"/>
                      <a:gd name="textAreaRight" fmla="*/ 31680 w 31320"/>
                      <a:gd name="textAreaTop" fmla="*/ -360 h 35640"/>
                      <a:gd name="textAreaBottom" fmla="*/ 35640 h 3564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5" name="Freeform 1623"/>
                  <p:cNvSpPr/>
                  <p:nvPr/>
                </p:nvSpPr>
                <p:spPr>
                  <a:xfrm flipV="1" rot="14394600">
                    <a:off x="4378680" y="4503960"/>
                    <a:ext cx="33480" cy="3996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-360 h 39960"/>
                      <a:gd name="textAreaBottom" fmla="*/ 39960 h 39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226" name="Group 1624"/>
            <p:cNvGrpSpPr/>
            <p:nvPr/>
          </p:nvGrpSpPr>
          <p:grpSpPr>
            <a:xfrm>
              <a:off x="3902400" y="3333240"/>
              <a:ext cx="175320" cy="150120"/>
              <a:chOff x="3902400" y="3333240"/>
              <a:chExt cx="175320" cy="150120"/>
            </a:xfrm>
          </p:grpSpPr>
          <p:sp>
            <p:nvSpPr>
              <p:cNvPr id="2227" name="Freeform 1625"/>
              <p:cNvSpPr/>
              <p:nvPr/>
            </p:nvSpPr>
            <p:spPr>
              <a:xfrm rot="3443400">
                <a:off x="3911400" y="3364560"/>
                <a:ext cx="120600" cy="882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6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8" name="Freeform 1626"/>
              <p:cNvSpPr/>
              <p:nvPr/>
            </p:nvSpPr>
            <p:spPr>
              <a:xfrm flipH="1" rot="3444000">
                <a:off x="3952440" y="3389400"/>
                <a:ext cx="70560" cy="543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6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9" name="Freeform 1627"/>
              <p:cNvSpPr/>
              <p:nvPr/>
            </p:nvSpPr>
            <p:spPr>
              <a:xfrm rot="3443400">
                <a:off x="3943440" y="343584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30" name="Group 1628"/>
              <p:cNvGrpSpPr/>
              <p:nvPr/>
            </p:nvGrpSpPr>
            <p:grpSpPr>
              <a:xfrm>
                <a:off x="3975120" y="3333240"/>
                <a:ext cx="102600" cy="77040"/>
                <a:chOff x="3975120" y="3333240"/>
                <a:chExt cx="102600" cy="77040"/>
              </a:xfrm>
            </p:grpSpPr>
            <p:sp>
              <p:nvSpPr>
                <p:cNvPr id="2231" name="Freeform 1629"/>
                <p:cNvSpPr/>
                <p:nvPr/>
              </p:nvSpPr>
              <p:spPr>
                <a:xfrm flipH="1" rot="3444600">
                  <a:off x="3983760" y="3338280"/>
                  <a:ext cx="34200" cy="4032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32" name="Group 1630"/>
                <p:cNvGrpSpPr/>
                <p:nvPr/>
              </p:nvGrpSpPr>
              <p:grpSpPr>
                <a:xfrm>
                  <a:off x="3991680" y="3338640"/>
                  <a:ext cx="86040" cy="71640"/>
                  <a:chOff x="3991680" y="3338640"/>
                  <a:chExt cx="86040" cy="71640"/>
                </a:xfrm>
              </p:grpSpPr>
              <p:grpSp>
                <p:nvGrpSpPr>
                  <p:cNvPr id="2233" name="Group 1631"/>
                  <p:cNvGrpSpPr/>
                  <p:nvPr/>
                </p:nvGrpSpPr>
                <p:grpSpPr>
                  <a:xfrm>
                    <a:off x="3991680" y="3338640"/>
                    <a:ext cx="86040" cy="71640"/>
                    <a:chOff x="3991680" y="3338640"/>
                    <a:chExt cx="86040" cy="71640"/>
                  </a:xfrm>
                </p:grpSpPr>
                <p:sp>
                  <p:nvSpPr>
                    <p:cNvPr id="2234" name="Freeform 1632"/>
                    <p:cNvSpPr/>
                    <p:nvPr/>
                  </p:nvSpPr>
                  <p:spPr>
                    <a:xfrm flipH="1" rot="1647000">
                      <a:off x="4003560" y="3354120"/>
                      <a:ext cx="73080" cy="21240"/>
                    </a:xfrm>
                    <a:custGeom>
                      <a:avLst/>
                      <a:gdLst>
                        <a:gd name="textAreaLeft" fmla="*/ -360 w 73080"/>
                        <a:gd name="textAreaRight" fmla="*/ 7308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35" name="Freeform 1633"/>
                    <p:cNvSpPr/>
                    <p:nvPr/>
                  </p:nvSpPr>
                  <p:spPr>
                    <a:xfrm flipH="1" rot="1647000">
                      <a:off x="3993840" y="3366720"/>
                      <a:ext cx="74520" cy="28080"/>
                    </a:xfrm>
                    <a:custGeom>
                      <a:avLst/>
                      <a:gdLst>
                        <a:gd name="textAreaLeft" fmla="*/ -360 w 74520"/>
                        <a:gd name="textAreaRight" fmla="*/ 7452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236" name="Freeform 1634"/>
                  <p:cNvSpPr/>
                  <p:nvPr/>
                </p:nvSpPr>
                <p:spPr>
                  <a:xfrm flipH="1" rot="1647000">
                    <a:off x="4007160" y="335772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7" name="Freeform 1635"/>
                  <p:cNvSpPr/>
                  <p:nvPr/>
                </p:nvSpPr>
                <p:spPr>
                  <a:xfrm flipH="1" rot="1647000">
                    <a:off x="4016520" y="336240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8" name="Freeform 1636"/>
                  <p:cNvSpPr/>
                  <p:nvPr/>
                </p:nvSpPr>
                <p:spPr>
                  <a:xfrm flipH="1" rot="1647000">
                    <a:off x="4027320" y="3370320"/>
                    <a:ext cx="6120" cy="1260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9" name="Freeform 1637"/>
                  <p:cNvSpPr/>
                  <p:nvPr/>
                </p:nvSpPr>
                <p:spPr>
                  <a:xfrm flipH="1" rot="1647000">
                    <a:off x="4024440" y="3354120"/>
                    <a:ext cx="9360" cy="9720"/>
                  </a:xfrm>
                  <a:custGeom>
                    <a:avLst/>
                    <a:gdLst>
                      <a:gd name="textAreaLeft" fmla="*/ 360 w 9360"/>
                      <a:gd name="textAreaRight" fmla="*/ 1008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0" name="Freeform 1638"/>
                  <p:cNvSpPr/>
                  <p:nvPr/>
                </p:nvSpPr>
                <p:spPr>
                  <a:xfrm flipH="1" rot="1647000">
                    <a:off x="4016880" y="3348720"/>
                    <a:ext cx="10080" cy="1080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241" name="Group 1639"/>
            <p:cNvGrpSpPr/>
            <p:nvPr/>
          </p:nvGrpSpPr>
          <p:grpSpPr>
            <a:xfrm>
              <a:off x="4504680" y="3333600"/>
              <a:ext cx="174600" cy="149400"/>
              <a:chOff x="4504680" y="3333600"/>
              <a:chExt cx="174600" cy="149400"/>
            </a:xfrm>
          </p:grpSpPr>
          <p:sp>
            <p:nvSpPr>
              <p:cNvPr id="2242" name="Freeform 1640"/>
              <p:cNvSpPr/>
              <p:nvPr/>
            </p:nvSpPr>
            <p:spPr>
              <a:xfrm flipH="1" rot="18156600">
                <a:off x="4548960" y="3364920"/>
                <a:ext cx="120600" cy="874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6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3" name="Freeform 1641"/>
              <p:cNvSpPr/>
              <p:nvPr/>
            </p:nvSpPr>
            <p:spPr>
              <a:xfrm rot="18156000">
                <a:off x="4558680" y="338940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6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4" name="Freeform 1642"/>
              <p:cNvSpPr/>
              <p:nvPr/>
            </p:nvSpPr>
            <p:spPr>
              <a:xfrm flipH="1" rot="18156600">
                <a:off x="4629960" y="343584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45" name="Group 1643"/>
              <p:cNvGrpSpPr/>
              <p:nvPr/>
            </p:nvGrpSpPr>
            <p:grpSpPr>
              <a:xfrm>
                <a:off x="4504680" y="3333600"/>
                <a:ext cx="102960" cy="76680"/>
                <a:chOff x="4504680" y="3333600"/>
                <a:chExt cx="102960" cy="76680"/>
              </a:xfrm>
            </p:grpSpPr>
            <p:sp>
              <p:nvSpPr>
                <p:cNvPr id="2246" name="Freeform 1644"/>
                <p:cNvSpPr/>
                <p:nvPr/>
              </p:nvSpPr>
              <p:spPr>
                <a:xfrm rot="18155400">
                  <a:off x="4564080" y="333864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47" name="Group 1645"/>
                <p:cNvGrpSpPr/>
                <p:nvPr/>
              </p:nvGrpSpPr>
              <p:grpSpPr>
                <a:xfrm>
                  <a:off x="4504680" y="3339000"/>
                  <a:ext cx="86040" cy="71280"/>
                  <a:chOff x="4504680" y="3339000"/>
                  <a:chExt cx="86040" cy="71280"/>
                </a:xfrm>
              </p:grpSpPr>
              <p:grpSp>
                <p:nvGrpSpPr>
                  <p:cNvPr id="2248" name="Group 1646"/>
                  <p:cNvGrpSpPr/>
                  <p:nvPr/>
                </p:nvGrpSpPr>
                <p:grpSpPr>
                  <a:xfrm>
                    <a:off x="4504680" y="3339000"/>
                    <a:ext cx="86040" cy="71280"/>
                    <a:chOff x="4504680" y="3339000"/>
                    <a:chExt cx="86040" cy="71280"/>
                  </a:xfrm>
                </p:grpSpPr>
                <p:sp>
                  <p:nvSpPr>
                    <p:cNvPr id="2249" name="Freeform 1647"/>
                    <p:cNvSpPr/>
                    <p:nvPr/>
                  </p:nvSpPr>
                  <p:spPr>
                    <a:xfrm rot="19953000">
                      <a:off x="4505400" y="335448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50" name="Freeform 1648"/>
                    <p:cNvSpPr/>
                    <p:nvPr/>
                  </p:nvSpPr>
                  <p:spPr>
                    <a:xfrm rot="19953000">
                      <a:off x="4513680" y="336636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251" name="Freeform 1649"/>
                  <p:cNvSpPr/>
                  <p:nvPr/>
                </p:nvSpPr>
                <p:spPr>
                  <a:xfrm rot="19953000">
                    <a:off x="4567320" y="335772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2" name="Freeform 1650"/>
                  <p:cNvSpPr/>
                  <p:nvPr/>
                </p:nvSpPr>
                <p:spPr>
                  <a:xfrm rot="19953000">
                    <a:off x="4557960" y="336240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3" name="Freeform 1651"/>
                  <p:cNvSpPr/>
                  <p:nvPr/>
                </p:nvSpPr>
                <p:spPr>
                  <a:xfrm rot="19953000">
                    <a:off x="4548600" y="337068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4" name="Freeform 1652"/>
                  <p:cNvSpPr/>
                  <p:nvPr/>
                </p:nvSpPr>
                <p:spPr>
                  <a:xfrm rot="19953000">
                    <a:off x="4547880" y="335412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5" name="Freeform 1653"/>
                  <p:cNvSpPr/>
                  <p:nvPr/>
                </p:nvSpPr>
                <p:spPr>
                  <a:xfrm rot="19953000">
                    <a:off x="4554720" y="334872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256" name="Group 1654"/>
            <p:cNvGrpSpPr/>
            <p:nvPr/>
          </p:nvGrpSpPr>
          <p:grpSpPr>
            <a:xfrm>
              <a:off x="4963320" y="4381200"/>
              <a:ext cx="175320" cy="150120"/>
              <a:chOff x="4963320" y="4381200"/>
              <a:chExt cx="175320" cy="150120"/>
            </a:xfrm>
          </p:grpSpPr>
          <p:sp>
            <p:nvSpPr>
              <p:cNvPr id="2257" name="Freeform 1655"/>
              <p:cNvSpPr/>
              <p:nvPr/>
            </p:nvSpPr>
            <p:spPr>
              <a:xfrm flipH="1" rot="18156600">
                <a:off x="5007960" y="4412520"/>
                <a:ext cx="120600" cy="8820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7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8" name="Freeform 1656"/>
              <p:cNvSpPr/>
              <p:nvPr/>
            </p:nvSpPr>
            <p:spPr>
              <a:xfrm rot="18156000">
                <a:off x="5017320" y="443736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7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9" name="Freeform 1657"/>
              <p:cNvSpPr/>
              <p:nvPr/>
            </p:nvSpPr>
            <p:spPr>
              <a:xfrm flipH="1" rot="18156600">
                <a:off x="5088960" y="448380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60" name="Group 1658"/>
              <p:cNvGrpSpPr/>
              <p:nvPr/>
            </p:nvGrpSpPr>
            <p:grpSpPr>
              <a:xfrm>
                <a:off x="4963320" y="4381200"/>
                <a:ext cx="102960" cy="77040"/>
                <a:chOff x="4963320" y="4381200"/>
                <a:chExt cx="102960" cy="77040"/>
              </a:xfrm>
            </p:grpSpPr>
            <p:sp>
              <p:nvSpPr>
                <p:cNvPr id="2261" name="Freeform 1659"/>
                <p:cNvSpPr/>
                <p:nvPr/>
              </p:nvSpPr>
              <p:spPr>
                <a:xfrm rot="18155400">
                  <a:off x="5022720" y="438624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62" name="Group 1660"/>
                <p:cNvGrpSpPr/>
                <p:nvPr/>
              </p:nvGrpSpPr>
              <p:grpSpPr>
                <a:xfrm>
                  <a:off x="4963320" y="4386600"/>
                  <a:ext cx="86040" cy="71640"/>
                  <a:chOff x="4963320" y="4386600"/>
                  <a:chExt cx="86040" cy="71640"/>
                </a:xfrm>
              </p:grpSpPr>
              <p:grpSp>
                <p:nvGrpSpPr>
                  <p:cNvPr id="2263" name="Group 1661"/>
                  <p:cNvGrpSpPr/>
                  <p:nvPr/>
                </p:nvGrpSpPr>
                <p:grpSpPr>
                  <a:xfrm>
                    <a:off x="4963320" y="4386600"/>
                    <a:ext cx="86040" cy="71640"/>
                    <a:chOff x="4963320" y="4386600"/>
                    <a:chExt cx="86040" cy="71640"/>
                  </a:xfrm>
                </p:grpSpPr>
                <p:sp>
                  <p:nvSpPr>
                    <p:cNvPr id="2264" name="Freeform 1662"/>
                    <p:cNvSpPr/>
                    <p:nvPr/>
                  </p:nvSpPr>
                  <p:spPr>
                    <a:xfrm rot="19953000">
                      <a:off x="4964040" y="440208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65" name="Freeform 1663"/>
                    <p:cNvSpPr/>
                    <p:nvPr/>
                  </p:nvSpPr>
                  <p:spPr>
                    <a:xfrm rot="19953000">
                      <a:off x="4972320" y="441432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266" name="Freeform 1664"/>
                  <p:cNvSpPr/>
                  <p:nvPr/>
                </p:nvSpPr>
                <p:spPr>
                  <a:xfrm rot="19953000">
                    <a:off x="5025960" y="440568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7" name="Freeform 1665"/>
                  <p:cNvSpPr/>
                  <p:nvPr/>
                </p:nvSpPr>
                <p:spPr>
                  <a:xfrm rot="19953000">
                    <a:off x="5016600" y="441036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8" name="Freeform 1666"/>
                  <p:cNvSpPr/>
                  <p:nvPr/>
                </p:nvSpPr>
                <p:spPr>
                  <a:xfrm rot="19953000">
                    <a:off x="5007240" y="441864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9" name="Freeform 1667"/>
                  <p:cNvSpPr/>
                  <p:nvPr/>
                </p:nvSpPr>
                <p:spPr>
                  <a:xfrm rot="19953000">
                    <a:off x="5006520" y="440208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0" name="Freeform 1668"/>
                  <p:cNvSpPr/>
                  <p:nvPr/>
                </p:nvSpPr>
                <p:spPr>
                  <a:xfrm rot="19953000">
                    <a:off x="5013360" y="439668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271" name="Group 1669"/>
            <p:cNvGrpSpPr/>
            <p:nvPr/>
          </p:nvGrpSpPr>
          <p:grpSpPr>
            <a:xfrm>
              <a:off x="4998600" y="3202560"/>
              <a:ext cx="174600" cy="149400"/>
              <a:chOff x="4998600" y="3202560"/>
              <a:chExt cx="174600" cy="149400"/>
            </a:xfrm>
          </p:grpSpPr>
          <p:sp>
            <p:nvSpPr>
              <p:cNvPr id="2272" name="Freeform 1670"/>
              <p:cNvSpPr/>
              <p:nvPr/>
            </p:nvSpPr>
            <p:spPr>
              <a:xfrm flipH="1" rot="18156600">
                <a:off x="5042880" y="3233880"/>
                <a:ext cx="120600" cy="874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7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3" name="Freeform 1671"/>
              <p:cNvSpPr/>
              <p:nvPr/>
            </p:nvSpPr>
            <p:spPr>
              <a:xfrm rot="18156000">
                <a:off x="5052600" y="325836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7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4" name="Freeform 1672"/>
              <p:cNvSpPr/>
              <p:nvPr/>
            </p:nvSpPr>
            <p:spPr>
              <a:xfrm flipH="1" rot="18156600">
                <a:off x="5123880" y="330480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75" name="Group 1673"/>
              <p:cNvGrpSpPr/>
              <p:nvPr/>
            </p:nvGrpSpPr>
            <p:grpSpPr>
              <a:xfrm>
                <a:off x="4998600" y="3202560"/>
                <a:ext cx="102960" cy="76680"/>
                <a:chOff x="4998600" y="3202560"/>
                <a:chExt cx="102960" cy="76680"/>
              </a:xfrm>
            </p:grpSpPr>
            <p:sp>
              <p:nvSpPr>
                <p:cNvPr id="2276" name="Freeform 1674"/>
                <p:cNvSpPr/>
                <p:nvPr/>
              </p:nvSpPr>
              <p:spPr>
                <a:xfrm rot="18155400">
                  <a:off x="5058000" y="320760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77" name="Group 1675"/>
                <p:cNvGrpSpPr/>
                <p:nvPr/>
              </p:nvGrpSpPr>
              <p:grpSpPr>
                <a:xfrm>
                  <a:off x="4998600" y="3207960"/>
                  <a:ext cx="86040" cy="71280"/>
                  <a:chOff x="4998600" y="3207960"/>
                  <a:chExt cx="86040" cy="71280"/>
                </a:xfrm>
              </p:grpSpPr>
              <p:grpSp>
                <p:nvGrpSpPr>
                  <p:cNvPr id="2278" name="Group 1676"/>
                  <p:cNvGrpSpPr/>
                  <p:nvPr/>
                </p:nvGrpSpPr>
                <p:grpSpPr>
                  <a:xfrm>
                    <a:off x="4998600" y="3207960"/>
                    <a:ext cx="86040" cy="71280"/>
                    <a:chOff x="4998600" y="3207960"/>
                    <a:chExt cx="86040" cy="71280"/>
                  </a:xfrm>
                </p:grpSpPr>
                <p:sp>
                  <p:nvSpPr>
                    <p:cNvPr id="2279" name="Freeform 1677"/>
                    <p:cNvSpPr/>
                    <p:nvPr/>
                  </p:nvSpPr>
                  <p:spPr>
                    <a:xfrm rot="19953000">
                      <a:off x="4999320" y="322344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80" name="Freeform 1678"/>
                    <p:cNvSpPr/>
                    <p:nvPr/>
                  </p:nvSpPr>
                  <p:spPr>
                    <a:xfrm rot="19953000">
                      <a:off x="5007600" y="323532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281" name="Freeform 1679"/>
                  <p:cNvSpPr/>
                  <p:nvPr/>
                </p:nvSpPr>
                <p:spPr>
                  <a:xfrm rot="19953000">
                    <a:off x="5061240" y="322668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2" name="Freeform 1680"/>
                  <p:cNvSpPr/>
                  <p:nvPr/>
                </p:nvSpPr>
                <p:spPr>
                  <a:xfrm rot="19953000">
                    <a:off x="5051880" y="323136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3" name="Freeform 1681"/>
                  <p:cNvSpPr/>
                  <p:nvPr/>
                </p:nvSpPr>
                <p:spPr>
                  <a:xfrm rot="19953000">
                    <a:off x="5042520" y="323964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4" name="Freeform 1682"/>
                  <p:cNvSpPr/>
                  <p:nvPr/>
                </p:nvSpPr>
                <p:spPr>
                  <a:xfrm rot="19953000">
                    <a:off x="5041800" y="322308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5" name="Freeform 1683"/>
                  <p:cNvSpPr/>
                  <p:nvPr/>
                </p:nvSpPr>
                <p:spPr>
                  <a:xfrm rot="19953000">
                    <a:off x="5048640" y="321768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286" name="Group 1684"/>
            <p:cNvGrpSpPr/>
            <p:nvPr/>
          </p:nvGrpSpPr>
          <p:grpSpPr>
            <a:xfrm>
              <a:off x="5175000" y="3420720"/>
              <a:ext cx="175320" cy="150120"/>
              <a:chOff x="5175000" y="3420720"/>
              <a:chExt cx="175320" cy="150120"/>
            </a:xfrm>
          </p:grpSpPr>
          <p:sp>
            <p:nvSpPr>
              <p:cNvPr id="2287" name="Freeform 1685"/>
              <p:cNvSpPr/>
              <p:nvPr/>
            </p:nvSpPr>
            <p:spPr>
              <a:xfrm flipH="1" rot="18156600">
                <a:off x="5219640" y="3452040"/>
                <a:ext cx="120600" cy="8820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8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8" name="Freeform 1686"/>
              <p:cNvSpPr/>
              <p:nvPr/>
            </p:nvSpPr>
            <p:spPr>
              <a:xfrm rot="18156000">
                <a:off x="5229000" y="347688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8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9" name="Freeform 1687"/>
              <p:cNvSpPr/>
              <p:nvPr/>
            </p:nvSpPr>
            <p:spPr>
              <a:xfrm flipH="1" rot="18156600">
                <a:off x="5300640" y="352332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90" name="Group 1688"/>
              <p:cNvGrpSpPr/>
              <p:nvPr/>
            </p:nvGrpSpPr>
            <p:grpSpPr>
              <a:xfrm>
                <a:off x="5175000" y="3420720"/>
                <a:ext cx="102960" cy="77040"/>
                <a:chOff x="5175000" y="3420720"/>
                <a:chExt cx="102960" cy="77040"/>
              </a:xfrm>
            </p:grpSpPr>
            <p:sp>
              <p:nvSpPr>
                <p:cNvPr id="2291" name="Freeform 1689"/>
                <p:cNvSpPr/>
                <p:nvPr/>
              </p:nvSpPr>
              <p:spPr>
                <a:xfrm rot="18155400">
                  <a:off x="5234400" y="342576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92" name="Group 1690"/>
                <p:cNvGrpSpPr/>
                <p:nvPr/>
              </p:nvGrpSpPr>
              <p:grpSpPr>
                <a:xfrm>
                  <a:off x="5175000" y="3426120"/>
                  <a:ext cx="86040" cy="71640"/>
                  <a:chOff x="5175000" y="3426120"/>
                  <a:chExt cx="86040" cy="71640"/>
                </a:xfrm>
              </p:grpSpPr>
              <p:grpSp>
                <p:nvGrpSpPr>
                  <p:cNvPr id="2293" name="Group 1691"/>
                  <p:cNvGrpSpPr/>
                  <p:nvPr/>
                </p:nvGrpSpPr>
                <p:grpSpPr>
                  <a:xfrm>
                    <a:off x="5175000" y="3426120"/>
                    <a:ext cx="86040" cy="71640"/>
                    <a:chOff x="5175000" y="3426120"/>
                    <a:chExt cx="86040" cy="71640"/>
                  </a:xfrm>
                </p:grpSpPr>
                <p:sp>
                  <p:nvSpPr>
                    <p:cNvPr id="2294" name="Freeform 1692"/>
                    <p:cNvSpPr/>
                    <p:nvPr/>
                  </p:nvSpPr>
                  <p:spPr>
                    <a:xfrm rot="19953000">
                      <a:off x="5175720" y="344160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95" name="Freeform 1693"/>
                    <p:cNvSpPr/>
                    <p:nvPr/>
                  </p:nvSpPr>
                  <p:spPr>
                    <a:xfrm rot="19953000">
                      <a:off x="5184000" y="345384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296" name="Freeform 1694"/>
                  <p:cNvSpPr/>
                  <p:nvPr/>
                </p:nvSpPr>
                <p:spPr>
                  <a:xfrm rot="19953000">
                    <a:off x="5237640" y="344520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7" name="Freeform 1695"/>
                  <p:cNvSpPr/>
                  <p:nvPr/>
                </p:nvSpPr>
                <p:spPr>
                  <a:xfrm rot="19953000">
                    <a:off x="5228280" y="344988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8" name="Freeform 1696"/>
                  <p:cNvSpPr/>
                  <p:nvPr/>
                </p:nvSpPr>
                <p:spPr>
                  <a:xfrm rot="19953000">
                    <a:off x="5218920" y="345816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9" name="Freeform 1697"/>
                  <p:cNvSpPr/>
                  <p:nvPr/>
                </p:nvSpPr>
                <p:spPr>
                  <a:xfrm rot="19953000">
                    <a:off x="5218200" y="344160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0" name="Freeform 1698"/>
                  <p:cNvSpPr/>
                  <p:nvPr/>
                </p:nvSpPr>
                <p:spPr>
                  <a:xfrm rot="19953000">
                    <a:off x="5225040" y="343620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301" name="Group 1699"/>
            <p:cNvGrpSpPr/>
            <p:nvPr/>
          </p:nvGrpSpPr>
          <p:grpSpPr>
            <a:xfrm>
              <a:off x="4716360" y="3333600"/>
              <a:ext cx="174600" cy="149400"/>
              <a:chOff x="4716360" y="3333600"/>
              <a:chExt cx="174600" cy="149400"/>
            </a:xfrm>
          </p:grpSpPr>
          <p:sp>
            <p:nvSpPr>
              <p:cNvPr id="2302" name="Freeform 1700"/>
              <p:cNvSpPr/>
              <p:nvPr/>
            </p:nvSpPr>
            <p:spPr>
              <a:xfrm flipH="1" rot="18156600">
                <a:off x="4760640" y="3364920"/>
                <a:ext cx="120600" cy="874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8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3" name="Freeform 1701"/>
              <p:cNvSpPr/>
              <p:nvPr/>
            </p:nvSpPr>
            <p:spPr>
              <a:xfrm rot="18156000">
                <a:off x="4770360" y="338940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8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4" name="Freeform 1702"/>
              <p:cNvSpPr/>
              <p:nvPr/>
            </p:nvSpPr>
            <p:spPr>
              <a:xfrm flipH="1" rot="18156600">
                <a:off x="4841640" y="343584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05" name="Group 1703"/>
              <p:cNvGrpSpPr/>
              <p:nvPr/>
            </p:nvGrpSpPr>
            <p:grpSpPr>
              <a:xfrm>
                <a:off x="4716360" y="3333600"/>
                <a:ext cx="102960" cy="76680"/>
                <a:chOff x="4716360" y="3333600"/>
                <a:chExt cx="102960" cy="76680"/>
              </a:xfrm>
            </p:grpSpPr>
            <p:sp>
              <p:nvSpPr>
                <p:cNvPr id="2306" name="Freeform 1704"/>
                <p:cNvSpPr/>
                <p:nvPr/>
              </p:nvSpPr>
              <p:spPr>
                <a:xfrm rot="18155400">
                  <a:off x="4775760" y="333864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307" name="Group 1705"/>
                <p:cNvGrpSpPr/>
                <p:nvPr/>
              </p:nvGrpSpPr>
              <p:grpSpPr>
                <a:xfrm>
                  <a:off x="4716360" y="3339000"/>
                  <a:ext cx="86040" cy="71280"/>
                  <a:chOff x="4716360" y="3339000"/>
                  <a:chExt cx="86040" cy="71280"/>
                </a:xfrm>
              </p:grpSpPr>
              <p:grpSp>
                <p:nvGrpSpPr>
                  <p:cNvPr id="2308" name="Group 1706"/>
                  <p:cNvGrpSpPr/>
                  <p:nvPr/>
                </p:nvGrpSpPr>
                <p:grpSpPr>
                  <a:xfrm>
                    <a:off x="4716360" y="3339000"/>
                    <a:ext cx="86040" cy="71280"/>
                    <a:chOff x="4716360" y="3339000"/>
                    <a:chExt cx="86040" cy="71280"/>
                  </a:xfrm>
                </p:grpSpPr>
                <p:sp>
                  <p:nvSpPr>
                    <p:cNvPr id="2309" name="Freeform 1707"/>
                    <p:cNvSpPr/>
                    <p:nvPr/>
                  </p:nvSpPr>
                  <p:spPr>
                    <a:xfrm rot="19953000">
                      <a:off x="4717080" y="335448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10" name="Freeform 1708"/>
                    <p:cNvSpPr/>
                    <p:nvPr/>
                  </p:nvSpPr>
                  <p:spPr>
                    <a:xfrm rot="19953000">
                      <a:off x="4725360" y="336636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311" name="Freeform 1709"/>
                  <p:cNvSpPr/>
                  <p:nvPr/>
                </p:nvSpPr>
                <p:spPr>
                  <a:xfrm rot="19953000">
                    <a:off x="4779000" y="335772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2" name="Freeform 1710"/>
                  <p:cNvSpPr/>
                  <p:nvPr/>
                </p:nvSpPr>
                <p:spPr>
                  <a:xfrm rot="19953000">
                    <a:off x="4769640" y="336240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3" name="Freeform 1711"/>
                  <p:cNvSpPr/>
                  <p:nvPr/>
                </p:nvSpPr>
                <p:spPr>
                  <a:xfrm rot="19953000">
                    <a:off x="4760280" y="337068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4" name="Freeform 1712"/>
                  <p:cNvSpPr/>
                  <p:nvPr/>
                </p:nvSpPr>
                <p:spPr>
                  <a:xfrm rot="19953000">
                    <a:off x="4759560" y="335412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5" name="Freeform 1713"/>
                  <p:cNvSpPr/>
                  <p:nvPr/>
                </p:nvSpPr>
                <p:spPr>
                  <a:xfrm rot="19953000">
                    <a:off x="4766400" y="334872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316" name="Group 1714"/>
            <p:cNvGrpSpPr/>
            <p:nvPr/>
          </p:nvGrpSpPr>
          <p:grpSpPr>
            <a:xfrm>
              <a:off x="4610520" y="3552120"/>
              <a:ext cx="174600" cy="149400"/>
              <a:chOff x="4610520" y="3552120"/>
              <a:chExt cx="174600" cy="149400"/>
            </a:xfrm>
          </p:grpSpPr>
          <p:sp>
            <p:nvSpPr>
              <p:cNvPr id="2317" name="Freeform 1715"/>
              <p:cNvSpPr/>
              <p:nvPr/>
            </p:nvSpPr>
            <p:spPr>
              <a:xfrm flipH="1" rot="18156600">
                <a:off x="4654800" y="3583440"/>
                <a:ext cx="120600" cy="874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8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8" name="Freeform 1716"/>
              <p:cNvSpPr/>
              <p:nvPr/>
            </p:nvSpPr>
            <p:spPr>
              <a:xfrm rot="18156000">
                <a:off x="4664520" y="360792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8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9" name="Freeform 1717"/>
              <p:cNvSpPr/>
              <p:nvPr/>
            </p:nvSpPr>
            <p:spPr>
              <a:xfrm flipH="1" rot="18156600">
                <a:off x="4735800" y="365436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20" name="Group 1718"/>
              <p:cNvGrpSpPr/>
              <p:nvPr/>
            </p:nvGrpSpPr>
            <p:grpSpPr>
              <a:xfrm>
                <a:off x="4610520" y="3552120"/>
                <a:ext cx="102960" cy="76680"/>
                <a:chOff x="4610520" y="3552120"/>
                <a:chExt cx="102960" cy="76680"/>
              </a:xfrm>
            </p:grpSpPr>
            <p:sp>
              <p:nvSpPr>
                <p:cNvPr id="2321" name="Freeform 1719"/>
                <p:cNvSpPr/>
                <p:nvPr/>
              </p:nvSpPr>
              <p:spPr>
                <a:xfrm rot="18155400">
                  <a:off x="4669920" y="355716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322" name="Group 1720"/>
                <p:cNvGrpSpPr/>
                <p:nvPr/>
              </p:nvGrpSpPr>
              <p:grpSpPr>
                <a:xfrm>
                  <a:off x="4610520" y="3557520"/>
                  <a:ext cx="86040" cy="71280"/>
                  <a:chOff x="4610520" y="3557520"/>
                  <a:chExt cx="86040" cy="71280"/>
                </a:xfrm>
              </p:grpSpPr>
              <p:grpSp>
                <p:nvGrpSpPr>
                  <p:cNvPr id="2323" name="Group 1721"/>
                  <p:cNvGrpSpPr/>
                  <p:nvPr/>
                </p:nvGrpSpPr>
                <p:grpSpPr>
                  <a:xfrm>
                    <a:off x="4610520" y="3557520"/>
                    <a:ext cx="86040" cy="71280"/>
                    <a:chOff x="4610520" y="3557520"/>
                    <a:chExt cx="86040" cy="71280"/>
                  </a:xfrm>
                </p:grpSpPr>
                <p:sp>
                  <p:nvSpPr>
                    <p:cNvPr id="2324" name="Freeform 1722"/>
                    <p:cNvSpPr/>
                    <p:nvPr/>
                  </p:nvSpPr>
                  <p:spPr>
                    <a:xfrm rot="19953000">
                      <a:off x="4611240" y="357300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25" name="Freeform 1723"/>
                    <p:cNvSpPr/>
                    <p:nvPr/>
                  </p:nvSpPr>
                  <p:spPr>
                    <a:xfrm rot="19953000">
                      <a:off x="4619520" y="358488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326" name="Freeform 1724"/>
                  <p:cNvSpPr/>
                  <p:nvPr/>
                </p:nvSpPr>
                <p:spPr>
                  <a:xfrm rot="19953000">
                    <a:off x="4673160" y="357624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7" name="Freeform 1725"/>
                  <p:cNvSpPr/>
                  <p:nvPr/>
                </p:nvSpPr>
                <p:spPr>
                  <a:xfrm rot="19953000">
                    <a:off x="4663800" y="358092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8" name="Freeform 1726"/>
                  <p:cNvSpPr/>
                  <p:nvPr/>
                </p:nvSpPr>
                <p:spPr>
                  <a:xfrm rot="19953000">
                    <a:off x="4654440" y="358920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9" name="Freeform 1727"/>
                  <p:cNvSpPr/>
                  <p:nvPr/>
                </p:nvSpPr>
                <p:spPr>
                  <a:xfrm rot="19953000">
                    <a:off x="4653720" y="357264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0" name="Freeform 1728"/>
                  <p:cNvSpPr/>
                  <p:nvPr/>
                </p:nvSpPr>
                <p:spPr>
                  <a:xfrm rot="19953000">
                    <a:off x="4660560" y="356724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331" name="Group 1729"/>
            <p:cNvGrpSpPr/>
            <p:nvPr/>
          </p:nvGrpSpPr>
          <p:grpSpPr>
            <a:xfrm>
              <a:off x="4892760" y="3814200"/>
              <a:ext cx="174600" cy="149400"/>
              <a:chOff x="4892760" y="3814200"/>
              <a:chExt cx="174600" cy="149400"/>
            </a:xfrm>
          </p:grpSpPr>
          <p:sp>
            <p:nvSpPr>
              <p:cNvPr id="2332" name="Freeform 1730"/>
              <p:cNvSpPr/>
              <p:nvPr/>
            </p:nvSpPr>
            <p:spPr>
              <a:xfrm flipH="1" rot="18156600">
                <a:off x="4937040" y="3845520"/>
                <a:ext cx="120600" cy="874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9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3" name="Freeform 1731"/>
              <p:cNvSpPr/>
              <p:nvPr/>
            </p:nvSpPr>
            <p:spPr>
              <a:xfrm rot="18156000">
                <a:off x="4946760" y="387000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9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4" name="Freeform 1732"/>
              <p:cNvSpPr/>
              <p:nvPr/>
            </p:nvSpPr>
            <p:spPr>
              <a:xfrm flipH="1" rot="18156600">
                <a:off x="5018040" y="391644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35" name="Group 1733"/>
              <p:cNvGrpSpPr/>
              <p:nvPr/>
            </p:nvGrpSpPr>
            <p:grpSpPr>
              <a:xfrm>
                <a:off x="4892760" y="3814200"/>
                <a:ext cx="102960" cy="76680"/>
                <a:chOff x="4892760" y="3814200"/>
                <a:chExt cx="102960" cy="76680"/>
              </a:xfrm>
            </p:grpSpPr>
            <p:sp>
              <p:nvSpPr>
                <p:cNvPr id="2336" name="Freeform 1734"/>
                <p:cNvSpPr/>
                <p:nvPr/>
              </p:nvSpPr>
              <p:spPr>
                <a:xfrm rot="18155400">
                  <a:off x="4952160" y="381924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337" name="Group 1735"/>
                <p:cNvGrpSpPr/>
                <p:nvPr/>
              </p:nvGrpSpPr>
              <p:grpSpPr>
                <a:xfrm>
                  <a:off x="4892760" y="3819600"/>
                  <a:ext cx="86040" cy="71280"/>
                  <a:chOff x="4892760" y="3819600"/>
                  <a:chExt cx="86040" cy="71280"/>
                </a:xfrm>
              </p:grpSpPr>
              <p:grpSp>
                <p:nvGrpSpPr>
                  <p:cNvPr id="2338" name="Group 1736"/>
                  <p:cNvGrpSpPr/>
                  <p:nvPr/>
                </p:nvGrpSpPr>
                <p:grpSpPr>
                  <a:xfrm>
                    <a:off x="4892760" y="3819600"/>
                    <a:ext cx="86040" cy="71280"/>
                    <a:chOff x="4892760" y="3819600"/>
                    <a:chExt cx="86040" cy="71280"/>
                  </a:xfrm>
                </p:grpSpPr>
                <p:sp>
                  <p:nvSpPr>
                    <p:cNvPr id="2339" name="Freeform 1737"/>
                    <p:cNvSpPr/>
                    <p:nvPr/>
                  </p:nvSpPr>
                  <p:spPr>
                    <a:xfrm rot="19953000">
                      <a:off x="4893480" y="383508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40" name="Freeform 1738"/>
                    <p:cNvSpPr/>
                    <p:nvPr/>
                  </p:nvSpPr>
                  <p:spPr>
                    <a:xfrm rot="19953000">
                      <a:off x="4901760" y="384696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341" name="Freeform 1739"/>
                  <p:cNvSpPr/>
                  <p:nvPr/>
                </p:nvSpPr>
                <p:spPr>
                  <a:xfrm rot="19953000">
                    <a:off x="4955400" y="383832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2" name="Freeform 1740"/>
                  <p:cNvSpPr/>
                  <p:nvPr/>
                </p:nvSpPr>
                <p:spPr>
                  <a:xfrm rot="19953000">
                    <a:off x="4946040" y="384300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3" name="Freeform 1741"/>
                  <p:cNvSpPr/>
                  <p:nvPr/>
                </p:nvSpPr>
                <p:spPr>
                  <a:xfrm rot="19953000">
                    <a:off x="4936680" y="385128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4" name="Freeform 1742"/>
                  <p:cNvSpPr/>
                  <p:nvPr/>
                </p:nvSpPr>
                <p:spPr>
                  <a:xfrm rot="19953000">
                    <a:off x="4935960" y="383472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5" name="Freeform 1743"/>
                  <p:cNvSpPr/>
                  <p:nvPr/>
                </p:nvSpPr>
                <p:spPr>
                  <a:xfrm rot="19953000">
                    <a:off x="4942800" y="382932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346" name="Group 1744"/>
            <p:cNvGrpSpPr/>
            <p:nvPr/>
          </p:nvGrpSpPr>
          <p:grpSpPr>
            <a:xfrm>
              <a:off x="4434120" y="3071520"/>
              <a:ext cx="175320" cy="150120"/>
              <a:chOff x="4434120" y="3071520"/>
              <a:chExt cx="175320" cy="150120"/>
            </a:xfrm>
          </p:grpSpPr>
          <p:sp>
            <p:nvSpPr>
              <p:cNvPr id="2347" name="Freeform 1745"/>
              <p:cNvSpPr/>
              <p:nvPr/>
            </p:nvSpPr>
            <p:spPr>
              <a:xfrm flipH="1" rot="18156600">
                <a:off x="4478760" y="3102840"/>
                <a:ext cx="120600" cy="8820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9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8" name="Freeform 1746"/>
              <p:cNvSpPr/>
              <p:nvPr/>
            </p:nvSpPr>
            <p:spPr>
              <a:xfrm rot="18156000">
                <a:off x="4488120" y="312768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9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9" name="Freeform 1747"/>
              <p:cNvSpPr/>
              <p:nvPr/>
            </p:nvSpPr>
            <p:spPr>
              <a:xfrm flipH="1" rot="18156600">
                <a:off x="4559760" y="317412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50" name="Group 1748"/>
              <p:cNvGrpSpPr/>
              <p:nvPr/>
            </p:nvGrpSpPr>
            <p:grpSpPr>
              <a:xfrm>
                <a:off x="4434120" y="3071520"/>
                <a:ext cx="102960" cy="77040"/>
                <a:chOff x="4434120" y="3071520"/>
                <a:chExt cx="102960" cy="77040"/>
              </a:xfrm>
            </p:grpSpPr>
            <p:sp>
              <p:nvSpPr>
                <p:cNvPr id="2351" name="Freeform 1749"/>
                <p:cNvSpPr/>
                <p:nvPr/>
              </p:nvSpPr>
              <p:spPr>
                <a:xfrm rot="18155400">
                  <a:off x="4493520" y="307656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352" name="Group 1750"/>
                <p:cNvGrpSpPr/>
                <p:nvPr/>
              </p:nvGrpSpPr>
              <p:grpSpPr>
                <a:xfrm>
                  <a:off x="4434120" y="3076920"/>
                  <a:ext cx="86040" cy="71640"/>
                  <a:chOff x="4434120" y="3076920"/>
                  <a:chExt cx="86040" cy="71640"/>
                </a:xfrm>
              </p:grpSpPr>
              <p:grpSp>
                <p:nvGrpSpPr>
                  <p:cNvPr id="2353" name="Group 1751"/>
                  <p:cNvGrpSpPr/>
                  <p:nvPr/>
                </p:nvGrpSpPr>
                <p:grpSpPr>
                  <a:xfrm>
                    <a:off x="4434120" y="3076920"/>
                    <a:ext cx="86040" cy="71640"/>
                    <a:chOff x="4434120" y="3076920"/>
                    <a:chExt cx="86040" cy="71640"/>
                  </a:xfrm>
                </p:grpSpPr>
                <p:sp>
                  <p:nvSpPr>
                    <p:cNvPr id="2354" name="Freeform 1752"/>
                    <p:cNvSpPr/>
                    <p:nvPr/>
                  </p:nvSpPr>
                  <p:spPr>
                    <a:xfrm rot="19953000">
                      <a:off x="4434840" y="309240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55" name="Freeform 1753"/>
                    <p:cNvSpPr/>
                    <p:nvPr/>
                  </p:nvSpPr>
                  <p:spPr>
                    <a:xfrm rot="19953000">
                      <a:off x="4443120" y="310464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356" name="Freeform 1754"/>
                  <p:cNvSpPr/>
                  <p:nvPr/>
                </p:nvSpPr>
                <p:spPr>
                  <a:xfrm rot="19953000">
                    <a:off x="4496760" y="309600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7" name="Freeform 1755"/>
                  <p:cNvSpPr/>
                  <p:nvPr/>
                </p:nvSpPr>
                <p:spPr>
                  <a:xfrm rot="19953000">
                    <a:off x="4487400" y="310068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8" name="Freeform 1756"/>
                  <p:cNvSpPr/>
                  <p:nvPr/>
                </p:nvSpPr>
                <p:spPr>
                  <a:xfrm rot="19953000">
                    <a:off x="4478040" y="310896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9" name="Freeform 1757"/>
                  <p:cNvSpPr/>
                  <p:nvPr/>
                </p:nvSpPr>
                <p:spPr>
                  <a:xfrm rot="19953000">
                    <a:off x="4477320" y="309240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0" name="Freeform 1758"/>
                  <p:cNvSpPr/>
                  <p:nvPr/>
                </p:nvSpPr>
                <p:spPr>
                  <a:xfrm rot="19953000">
                    <a:off x="4484160" y="308700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361" name="Group 1759"/>
            <p:cNvGrpSpPr/>
            <p:nvPr/>
          </p:nvGrpSpPr>
          <p:grpSpPr>
            <a:xfrm>
              <a:off x="5139720" y="3944880"/>
              <a:ext cx="174600" cy="149400"/>
              <a:chOff x="5139720" y="3944880"/>
              <a:chExt cx="174600" cy="149400"/>
            </a:xfrm>
          </p:grpSpPr>
          <p:sp>
            <p:nvSpPr>
              <p:cNvPr id="2362" name="Freeform 1760"/>
              <p:cNvSpPr/>
              <p:nvPr/>
            </p:nvSpPr>
            <p:spPr>
              <a:xfrm flipH="1" rot="18156600">
                <a:off x="5184000" y="3976200"/>
                <a:ext cx="120600" cy="874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0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3" name="Freeform 1761"/>
              <p:cNvSpPr/>
              <p:nvPr/>
            </p:nvSpPr>
            <p:spPr>
              <a:xfrm rot="18156000">
                <a:off x="5193720" y="400068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0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4" name="Freeform 1762"/>
              <p:cNvSpPr/>
              <p:nvPr/>
            </p:nvSpPr>
            <p:spPr>
              <a:xfrm flipH="1" rot="18156600">
                <a:off x="5265000" y="404712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65" name="Group 1763"/>
              <p:cNvGrpSpPr/>
              <p:nvPr/>
            </p:nvGrpSpPr>
            <p:grpSpPr>
              <a:xfrm>
                <a:off x="5139720" y="3944880"/>
                <a:ext cx="102960" cy="76680"/>
                <a:chOff x="5139720" y="3944880"/>
                <a:chExt cx="102960" cy="76680"/>
              </a:xfrm>
            </p:grpSpPr>
            <p:sp>
              <p:nvSpPr>
                <p:cNvPr id="2366" name="Freeform 1764"/>
                <p:cNvSpPr/>
                <p:nvPr/>
              </p:nvSpPr>
              <p:spPr>
                <a:xfrm rot="18155400">
                  <a:off x="5199120" y="394992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367" name="Group 1765"/>
                <p:cNvGrpSpPr/>
                <p:nvPr/>
              </p:nvGrpSpPr>
              <p:grpSpPr>
                <a:xfrm>
                  <a:off x="5139720" y="3950280"/>
                  <a:ext cx="86040" cy="71280"/>
                  <a:chOff x="5139720" y="3950280"/>
                  <a:chExt cx="86040" cy="71280"/>
                </a:xfrm>
              </p:grpSpPr>
              <p:grpSp>
                <p:nvGrpSpPr>
                  <p:cNvPr id="2368" name="Group 1766"/>
                  <p:cNvGrpSpPr/>
                  <p:nvPr/>
                </p:nvGrpSpPr>
                <p:grpSpPr>
                  <a:xfrm>
                    <a:off x="5139720" y="3950280"/>
                    <a:ext cx="86040" cy="71280"/>
                    <a:chOff x="5139720" y="3950280"/>
                    <a:chExt cx="86040" cy="71280"/>
                  </a:xfrm>
                </p:grpSpPr>
                <p:sp>
                  <p:nvSpPr>
                    <p:cNvPr id="2369" name="Freeform 1767"/>
                    <p:cNvSpPr/>
                    <p:nvPr/>
                  </p:nvSpPr>
                  <p:spPr>
                    <a:xfrm rot="19953000">
                      <a:off x="5140440" y="396576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70" name="Freeform 1768"/>
                    <p:cNvSpPr/>
                    <p:nvPr/>
                  </p:nvSpPr>
                  <p:spPr>
                    <a:xfrm rot="19953000">
                      <a:off x="5148720" y="397764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371" name="Freeform 1769"/>
                  <p:cNvSpPr/>
                  <p:nvPr/>
                </p:nvSpPr>
                <p:spPr>
                  <a:xfrm rot="19953000">
                    <a:off x="5202360" y="396900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2" name="Freeform 1770"/>
                  <p:cNvSpPr/>
                  <p:nvPr/>
                </p:nvSpPr>
                <p:spPr>
                  <a:xfrm rot="19953000">
                    <a:off x="5193000" y="397368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3" name="Freeform 1771"/>
                  <p:cNvSpPr/>
                  <p:nvPr/>
                </p:nvSpPr>
                <p:spPr>
                  <a:xfrm rot="19953000">
                    <a:off x="5183640" y="398196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4" name="Freeform 1772"/>
                  <p:cNvSpPr/>
                  <p:nvPr/>
                </p:nvSpPr>
                <p:spPr>
                  <a:xfrm rot="19953000">
                    <a:off x="5182920" y="396540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5" name="Freeform 1773"/>
                  <p:cNvSpPr/>
                  <p:nvPr/>
                </p:nvSpPr>
                <p:spPr>
                  <a:xfrm rot="19953000">
                    <a:off x="5189760" y="396000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376" name="Group 1774"/>
            <p:cNvGrpSpPr/>
            <p:nvPr/>
          </p:nvGrpSpPr>
          <p:grpSpPr>
            <a:xfrm>
              <a:off x="4151880" y="3683160"/>
              <a:ext cx="174600" cy="149400"/>
              <a:chOff x="4151880" y="3683160"/>
              <a:chExt cx="174600" cy="149400"/>
            </a:xfrm>
          </p:grpSpPr>
          <p:sp>
            <p:nvSpPr>
              <p:cNvPr id="2377" name="Freeform 1775"/>
              <p:cNvSpPr/>
              <p:nvPr/>
            </p:nvSpPr>
            <p:spPr>
              <a:xfrm flipH="1" rot="18156600">
                <a:off x="4196160" y="3714480"/>
                <a:ext cx="120600" cy="874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0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8" name="Freeform 1776"/>
              <p:cNvSpPr/>
              <p:nvPr/>
            </p:nvSpPr>
            <p:spPr>
              <a:xfrm rot="18156000">
                <a:off x="4205880" y="373896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0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9" name="Freeform 1777"/>
              <p:cNvSpPr/>
              <p:nvPr/>
            </p:nvSpPr>
            <p:spPr>
              <a:xfrm flipH="1" rot="18156600">
                <a:off x="4277160" y="378540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80" name="Group 1778"/>
              <p:cNvGrpSpPr/>
              <p:nvPr/>
            </p:nvGrpSpPr>
            <p:grpSpPr>
              <a:xfrm>
                <a:off x="4151880" y="3683160"/>
                <a:ext cx="102960" cy="76680"/>
                <a:chOff x="4151880" y="3683160"/>
                <a:chExt cx="102960" cy="76680"/>
              </a:xfrm>
            </p:grpSpPr>
            <p:sp>
              <p:nvSpPr>
                <p:cNvPr id="2381" name="Freeform 1779"/>
                <p:cNvSpPr/>
                <p:nvPr/>
              </p:nvSpPr>
              <p:spPr>
                <a:xfrm rot="18155400">
                  <a:off x="4211280" y="368820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382" name="Group 1780"/>
                <p:cNvGrpSpPr/>
                <p:nvPr/>
              </p:nvGrpSpPr>
              <p:grpSpPr>
                <a:xfrm>
                  <a:off x="4151880" y="3688560"/>
                  <a:ext cx="86040" cy="71280"/>
                  <a:chOff x="4151880" y="3688560"/>
                  <a:chExt cx="86040" cy="71280"/>
                </a:xfrm>
              </p:grpSpPr>
              <p:grpSp>
                <p:nvGrpSpPr>
                  <p:cNvPr id="2383" name="Group 1781"/>
                  <p:cNvGrpSpPr/>
                  <p:nvPr/>
                </p:nvGrpSpPr>
                <p:grpSpPr>
                  <a:xfrm>
                    <a:off x="4151880" y="3688560"/>
                    <a:ext cx="86040" cy="71280"/>
                    <a:chOff x="4151880" y="3688560"/>
                    <a:chExt cx="86040" cy="71280"/>
                  </a:xfrm>
                </p:grpSpPr>
                <p:sp>
                  <p:nvSpPr>
                    <p:cNvPr id="2384" name="Freeform 1782"/>
                    <p:cNvSpPr/>
                    <p:nvPr/>
                  </p:nvSpPr>
                  <p:spPr>
                    <a:xfrm rot="19953000">
                      <a:off x="4152600" y="370404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85" name="Freeform 1783"/>
                    <p:cNvSpPr/>
                    <p:nvPr/>
                  </p:nvSpPr>
                  <p:spPr>
                    <a:xfrm rot="19953000">
                      <a:off x="4160880" y="371592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386" name="Freeform 1784"/>
                  <p:cNvSpPr/>
                  <p:nvPr/>
                </p:nvSpPr>
                <p:spPr>
                  <a:xfrm rot="19953000">
                    <a:off x="4214520" y="370728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7" name="Freeform 1785"/>
                  <p:cNvSpPr/>
                  <p:nvPr/>
                </p:nvSpPr>
                <p:spPr>
                  <a:xfrm rot="19953000">
                    <a:off x="4205160" y="371196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8" name="Freeform 1786"/>
                  <p:cNvSpPr/>
                  <p:nvPr/>
                </p:nvSpPr>
                <p:spPr>
                  <a:xfrm rot="19953000">
                    <a:off x="4195800" y="372024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9" name="Freeform 1787"/>
                  <p:cNvSpPr/>
                  <p:nvPr/>
                </p:nvSpPr>
                <p:spPr>
                  <a:xfrm rot="19953000">
                    <a:off x="4195080" y="370368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0" name="Freeform 1788"/>
                  <p:cNvSpPr/>
                  <p:nvPr/>
                </p:nvSpPr>
                <p:spPr>
                  <a:xfrm rot="19953000">
                    <a:off x="4201920" y="369828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391" name="Group 1789"/>
            <p:cNvGrpSpPr/>
            <p:nvPr/>
          </p:nvGrpSpPr>
          <p:grpSpPr>
            <a:xfrm>
              <a:off x="4469400" y="3683160"/>
              <a:ext cx="174600" cy="149400"/>
              <a:chOff x="4469400" y="3683160"/>
              <a:chExt cx="174600" cy="149400"/>
            </a:xfrm>
          </p:grpSpPr>
          <p:sp>
            <p:nvSpPr>
              <p:cNvPr id="2392" name="Freeform 1790"/>
              <p:cNvSpPr/>
              <p:nvPr/>
            </p:nvSpPr>
            <p:spPr>
              <a:xfrm flipH="1" rot="18156600">
                <a:off x="4513680" y="3714480"/>
                <a:ext cx="120600" cy="874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0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3" name="Freeform 1791"/>
              <p:cNvSpPr/>
              <p:nvPr/>
            </p:nvSpPr>
            <p:spPr>
              <a:xfrm rot="18156000">
                <a:off x="4523400" y="373896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0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4" name="Freeform 1792"/>
              <p:cNvSpPr/>
              <p:nvPr/>
            </p:nvSpPr>
            <p:spPr>
              <a:xfrm flipH="1" rot="18156600">
                <a:off x="4594680" y="378540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95" name="Group 1793"/>
              <p:cNvGrpSpPr/>
              <p:nvPr/>
            </p:nvGrpSpPr>
            <p:grpSpPr>
              <a:xfrm>
                <a:off x="4469400" y="3683160"/>
                <a:ext cx="102960" cy="76680"/>
                <a:chOff x="4469400" y="3683160"/>
                <a:chExt cx="102960" cy="76680"/>
              </a:xfrm>
            </p:grpSpPr>
            <p:sp>
              <p:nvSpPr>
                <p:cNvPr id="2396" name="Freeform 1794"/>
                <p:cNvSpPr/>
                <p:nvPr/>
              </p:nvSpPr>
              <p:spPr>
                <a:xfrm rot="18155400">
                  <a:off x="4528800" y="368820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397" name="Group 1795"/>
                <p:cNvGrpSpPr/>
                <p:nvPr/>
              </p:nvGrpSpPr>
              <p:grpSpPr>
                <a:xfrm>
                  <a:off x="4469400" y="3688560"/>
                  <a:ext cx="86040" cy="71280"/>
                  <a:chOff x="4469400" y="3688560"/>
                  <a:chExt cx="86040" cy="71280"/>
                </a:xfrm>
              </p:grpSpPr>
              <p:grpSp>
                <p:nvGrpSpPr>
                  <p:cNvPr id="2398" name="Group 1796"/>
                  <p:cNvGrpSpPr/>
                  <p:nvPr/>
                </p:nvGrpSpPr>
                <p:grpSpPr>
                  <a:xfrm>
                    <a:off x="4469400" y="3688560"/>
                    <a:ext cx="86040" cy="71280"/>
                    <a:chOff x="4469400" y="3688560"/>
                    <a:chExt cx="86040" cy="71280"/>
                  </a:xfrm>
                </p:grpSpPr>
                <p:sp>
                  <p:nvSpPr>
                    <p:cNvPr id="2399" name="Freeform 1797"/>
                    <p:cNvSpPr/>
                    <p:nvPr/>
                  </p:nvSpPr>
                  <p:spPr>
                    <a:xfrm rot="19953000">
                      <a:off x="4470120" y="370404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00" name="Freeform 1798"/>
                    <p:cNvSpPr/>
                    <p:nvPr/>
                  </p:nvSpPr>
                  <p:spPr>
                    <a:xfrm rot="19953000">
                      <a:off x="4478400" y="371592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01" name="Freeform 1799"/>
                  <p:cNvSpPr/>
                  <p:nvPr/>
                </p:nvSpPr>
                <p:spPr>
                  <a:xfrm rot="19953000">
                    <a:off x="4532040" y="370728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2" name="Freeform 1800"/>
                  <p:cNvSpPr/>
                  <p:nvPr/>
                </p:nvSpPr>
                <p:spPr>
                  <a:xfrm rot="19953000">
                    <a:off x="4522680" y="371196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3" name="Freeform 1801"/>
                  <p:cNvSpPr/>
                  <p:nvPr/>
                </p:nvSpPr>
                <p:spPr>
                  <a:xfrm rot="19953000">
                    <a:off x="4513320" y="372024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4" name="Freeform 1802"/>
                  <p:cNvSpPr/>
                  <p:nvPr/>
                </p:nvSpPr>
                <p:spPr>
                  <a:xfrm rot="19953000">
                    <a:off x="4512600" y="370368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5" name="Freeform 1803"/>
                  <p:cNvSpPr/>
                  <p:nvPr/>
                </p:nvSpPr>
                <p:spPr>
                  <a:xfrm rot="19953000">
                    <a:off x="4519440" y="369828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406" name="Group 1804"/>
            <p:cNvGrpSpPr/>
            <p:nvPr/>
          </p:nvGrpSpPr>
          <p:grpSpPr>
            <a:xfrm>
              <a:off x="4398840" y="4119480"/>
              <a:ext cx="174600" cy="149400"/>
              <a:chOff x="4398840" y="4119480"/>
              <a:chExt cx="174600" cy="149400"/>
            </a:xfrm>
          </p:grpSpPr>
          <p:sp>
            <p:nvSpPr>
              <p:cNvPr id="2407" name="Freeform 1805"/>
              <p:cNvSpPr/>
              <p:nvPr/>
            </p:nvSpPr>
            <p:spPr>
              <a:xfrm flipH="1" rot="18156600">
                <a:off x="4443120" y="4150800"/>
                <a:ext cx="120600" cy="874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8" name="Freeform 1806"/>
              <p:cNvSpPr/>
              <p:nvPr/>
            </p:nvSpPr>
            <p:spPr>
              <a:xfrm rot="18156000">
                <a:off x="4452840" y="417528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9" name="Freeform 1807"/>
              <p:cNvSpPr/>
              <p:nvPr/>
            </p:nvSpPr>
            <p:spPr>
              <a:xfrm flipH="1" rot="18156600">
                <a:off x="4524120" y="422172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410" name="Group 1808"/>
              <p:cNvGrpSpPr/>
              <p:nvPr/>
            </p:nvGrpSpPr>
            <p:grpSpPr>
              <a:xfrm>
                <a:off x="4398840" y="4119480"/>
                <a:ext cx="102960" cy="76680"/>
                <a:chOff x="4398840" y="4119480"/>
                <a:chExt cx="102960" cy="76680"/>
              </a:xfrm>
            </p:grpSpPr>
            <p:sp>
              <p:nvSpPr>
                <p:cNvPr id="2411" name="Freeform 1809"/>
                <p:cNvSpPr/>
                <p:nvPr/>
              </p:nvSpPr>
              <p:spPr>
                <a:xfrm rot="18155400">
                  <a:off x="4458240" y="412452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412" name="Group 1810"/>
                <p:cNvGrpSpPr/>
                <p:nvPr/>
              </p:nvGrpSpPr>
              <p:grpSpPr>
                <a:xfrm>
                  <a:off x="4398840" y="4124880"/>
                  <a:ext cx="86040" cy="71280"/>
                  <a:chOff x="4398840" y="4124880"/>
                  <a:chExt cx="86040" cy="71280"/>
                </a:xfrm>
              </p:grpSpPr>
              <p:grpSp>
                <p:nvGrpSpPr>
                  <p:cNvPr id="2413" name="Group 1811"/>
                  <p:cNvGrpSpPr/>
                  <p:nvPr/>
                </p:nvGrpSpPr>
                <p:grpSpPr>
                  <a:xfrm>
                    <a:off x="4398840" y="4124880"/>
                    <a:ext cx="86040" cy="71280"/>
                    <a:chOff x="4398840" y="4124880"/>
                    <a:chExt cx="86040" cy="71280"/>
                  </a:xfrm>
                </p:grpSpPr>
                <p:sp>
                  <p:nvSpPr>
                    <p:cNvPr id="2414" name="Freeform 1812"/>
                    <p:cNvSpPr/>
                    <p:nvPr/>
                  </p:nvSpPr>
                  <p:spPr>
                    <a:xfrm rot="19953000">
                      <a:off x="4399560" y="414036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15" name="Freeform 1813"/>
                    <p:cNvSpPr/>
                    <p:nvPr/>
                  </p:nvSpPr>
                  <p:spPr>
                    <a:xfrm rot="19953000">
                      <a:off x="4407840" y="415224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16" name="Freeform 1814"/>
                  <p:cNvSpPr/>
                  <p:nvPr/>
                </p:nvSpPr>
                <p:spPr>
                  <a:xfrm rot="19953000">
                    <a:off x="4461480" y="414360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7" name="Freeform 1815"/>
                  <p:cNvSpPr/>
                  <p:nvPr/>
                </p:nvSpPr>
                <p:spPr>
                  <a:xfrm rot="19953000">
                    <a:off x="4452120" y="414828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8" name="Freeform 1816"/>
                  <p:cNvSpPr/>
                  <p:nvPr/>
                </p:nvSpPr>
                <p:spPr>
                  <a:xfrm rot="19953000">
                    <a:off x="4442760" y="415656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9" name="Freeform 1817"/>
                  <p:cNvSpPr/>
                  <p:nvPr/>
                </p:nvSpPr>
                <p:spPr>
                  <a:xfrm rot="19953000">
                    <a:off x="4442040" y="414000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0" name="Freeform 1818"/>
                  <p:cNvSpPr/>
                  <p:nvPr/>
                </p:nvSpPr>
                <p:spPr>
                  <a:xfrm rot="19953000">
                    <a:off x="4448880" y="413460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421" name="Group 1819"/>
            <p:cNvGrpSpPr/>
            <p:nvPr/>
          </p:nvGrpSpPr>
          <p:grpSpPr>
            <a:xfrm>
              <a:off x="4716360" y="4119480"/>
              <a:ext cx="174600" cy="149400"/>
              <a:chOff x="4716360" y="4119480"/>
              <a:chExt cx="174600" cy="149400"/>
            </a:xfrm>
          </p:grpSpPr>
          <p:sp>
            <p:nvSpPr>
              <p:cNvPr id="2422" name="Freeform 1820"/>
              <p:cNvSpPr/>
              <p:nvPr/>
            </p:nvSpPr>
            <p:spPr>
              <a:xfrm flipH="1" rot="18156600">
                <a:off x="4760640" y="4150800"/>
                <a:ext cx="120600" cy="874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3" name="Freeform 1821"/>
              <p:cNvSpPr/>
              <p:nvPr/>
            </p:nvSpPr>
            <p:spPr>
              <a:xfrm rot="18156000">
                <a:off x="4770360" y="417528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4" name="Freeform 1822"/>
              <p:cNvSpPr/>
              <p:nvPr/>
            </p:nvSpPr>
            <p:spPr>
              <a:xfrm flipH="1" rot="18156600">
                <a:off x="4841640" y="422172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425" name="Group 1823"/>
              <p:cNvGrpSpPr/>
              <p:nvPr/>
            </p:nvGrpSpPr>
            <p:grpSpPr>
              <a:xfrm>
                <a:off x="4716360" y="4119480"/>
                <a:ext cx="102960" cy="76680"/>
                <a:chOff x="4716360" y="4119480"/>
                <a:chExt cx="102960" cy="76680"/>
              </a:xfrm>
            </p:grpSpPr>
            <p:sp>
              <p:nvSpPr>
                <p:cNvPr id="2426" name="Freeform 1824"/>
                <p:cNvSpPr/>
                <p:nvPr/>
              </p:nvSpPr>
              <p:spPr>
                <a:xfrm rot="18155400">
                  <a:off x="4775760" y="412452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427" name="Group 1825"/>
                <p:cNvGrpSpPr/>
                <p:nvPr/>
              </p:nvGrpSpPr>
              <p:grpSpPr>
                <a:xfrm>
                  <a:off x="4716360" y="4124880"/>
                  <a:ext cx="86040" cy="71280"/>
                  <a:chOff x="4716360" y="4124880"/>
                  <a:chExt cx="86040" cy="71280"/>
                </a:xfrm>
              </p:grpSpPr>
              <p:grpSp>
                <p:nvGrpSpPr>
                  <p:cNvPr id="2428" name="Group 1826"/>
                  <p:cNvGrpSpPr/>
                  <p:nvPr/>
                </p:nvGrpSpPr>
                <p:grpSpPr>
                  <a:xfrm>
                    <a:off x="4716360" y="4124880"/>
                    <a:ext cx="86040" cy="71280"/>
                    <a:chOff x="4716360" y="4124880"/>
                    <a:chExt cx="86040" cy="71280"/>
                  </a:xfrm>
                </p:grpSpPr>
                <p:sp>
                  <p:nvSpPr>
                    <p:cNvPr id="2429" name="Freeform 1827"/>
                    <p:cNvSpPr/>
                    <p:nvPr/>
                  </p:nvSpPr>
                  <p:spPr>
                    <a:xfrm rot="19953000">
                      <a:off x="4717080" y="414036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30" name="Freeform 1828"/>
                    <p:cNvSpPr/>
                    <p:nvPr/>
                  </p:nvSpPr>
                  <p:spPr>
                    <a:xfrm rot="19953000">
                      <a:off x="4725360" y="415224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31" name="Freeform 1829"/>
                  <p:cNvSpPr/>
                  <p:nvPr/>
                </p:nvSpPr>
                <p:spPr>
                  <a:xfrm rot="19953000">
                    <a:off x="4779000" y="414360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2" name="Freeform 1830"/>
                  <p:cNvSpPr/>
                  <p:nvPr/>
                </p:nvSpPr>
                <p:spPr>
                  <a:xfrm rot="19953000">
                    <a:off x="4769640" y="414828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3" name="Freeform 1831"/>
                  <p:cNvSpPr/>
                  <p:nvPr/>
                </p:nvSpPr>
                <p:spPr>
                  <a:xfrm rot="19953000">
                    <a:off x="4760280" y="415656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4" name="Freeform 1832"/>
                  <p:cNvSpPr/>
                  <p:nvPr/>
                </p:nvSpPr>
                <p:spPr>
                  <a:xfrm rot="19953000">
                    <a:off x="4759560" y="414000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5" name="Freeform 1833"/>
                  <p:cNvSpPr/>
                  <p:nvPr/>
                </p:nvSpPr>
                <p:spPr>
                  <a:xfrm rot="19953000">
                    <a:off x="4766400" y="413460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436" name="Group 1834"/>
            <p:cNvGrpSpPr/>
            <p:nvPr/>
          </p:nvGrpSpPr>
          <p:grpSpPr>
            <a:xfrm>
              <a:off x="4681080" y="3770280"/>
              <a:ext cx="174600" cy="149400"/>
              <a:chOff x="4681080" y="3770280"/>
              <a:chExt cx="174600" cy="149400"/>
            </a:xfrm>
          </p:grpSpPr>
          <p:sp>
            <p:nvSpPr>
              <p:cNvPr id="2437" name="Freeform 1835"/>
              <p:cNvSpPr/>
              <p:nvPr/>
            </p:nvSpPr>
            <p:spPr>
              <a:xfrm flipH="1" rot="18156600">
                <a:off x="4725360" y="3801600"/>
                <a:ext cx="120600" cy="8748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2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8" name="Freeform 1836"/>
              <p:cNvSpPr/>
              <p:nvPr/>
            </p:nvSpPr>
            <p:spPr>
              <a:xfrm rot="18156000">
                <a:off x="4735080" y="382608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9" name="Freeform 1837"/>
              <p:cNvSpPr/>
              <p:nvPr/>
            </p:nvSpPr>
            <p:spPr>
              <a:xfrm flipH="1" rot="18156600">
                <a:off x="4806360" y="387252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440" name="Group 1838"/>
              <p:cNvGrpSpPr/>
              <p:nvPr/>
            </p:nvGrpSpPr>
            <p:grpSpPr>
              <a:xfrm>
                <a:off x="4681080" y="3770280"/>
                <a:ext cx="102960" cy="76680"/>
                <a:chOff x="4681080" y="3770280"/>
                <a:chExt cx="102960" cy="76680"/>
              </a:xfrm>
            </p:grpSpPr>
            <p:sp>
              <p:nvSpPr>
                <p:cNvPr id="2441" name="Freeform 1839"/>
                <p:cNvSpPr/>
                <p:nvPr/>
              </p:nvSpPr>
              <p:spPr>
                <a:xfrm rot="18155400">
                  <a:off x="4740480" y="377532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442" name="Group 1840"/>
                <p:cNvGrpSpPr/>
                <p:nvPr/>
              </p:nvGrpSpPr>
              <p:grpSpPr>
                <a:xfrm>
                  <a:off x="4681080" y="3775680"/>
                  <a:ext cx="86040" cy="71280"/>
                  <a:chOff x="4681080" y="3775680"/>
                  <a:chExt cx="86040" cy="71280"/>
                </a:xfrm>
              </p:grpSpPr>
              <p:grpSp>
                <p:nvGrpSpPr>
                  <p:cNvPr id="2443" name="Group 1841"/>
                  <p:cNvGrpSpPr/>
                  <p:nvPr/>
                </p:nvGrpSpPr>
                <p:grpSpPr>
                  <a:xfrm>
                    <a:off x="4681080" y="3775680"/>
                    <a:ext cx="86040" cy="71280"/>
                    <a:chOff x="4681080" y="3775680"/>
                    <a:chExt cx="86040" cy="71280"/>
                  </a:xfrm>
                </p:grpSpPr>
                <p:sp>
                  <p:nvSpPr>
                    <p:cNvPr id="2444" name="Freeform 1842"/>
                    <p:cNvSpPr/>
                    <p:nvPr/>
                  </p:nvSpPr>
                  <p:spPr>
                    <a:xfrm rot="19953000">
                      <a:off x="4681800" y="379116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45" name="Freeform 1843"/>
                    <p:cNvSpPr/>
                    <p:nvPr/>
                  </p:nvSpPr>
                  <p:spPr>
                    <a:xfrm rot="19953000">
                      <a:off x="4690080" y="380304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46" name="Freeform 1844"/>
                  <p:cNvSpPr/>
                  <p:nvPr/>
                </p:nvSpPr>
                <p:spPr>
                  <a:xfrm rot="19953000">
                    <a:off x="4743720" y="379440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7" name="Freeform 1845"/>
                  <p:cNvSpPr/>
                  <p:nvPr/>
                </p:nvSpPr>
                <p:spPr>
                  <a:xfrm rot="19953000">
                    <a:off x="4734360" y="379908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8" name="Freeform 1846"/>
                  <p:cNvSpPr/>
                  <p:nvPr/>
                </p:nvSpPr>
                <p:spPr>
                  <a:xfrm rot="19953000">
                    <a:off x="4725000" y="380736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9" name="Freeform 1847"/>
                  <p:cNvSpPr/>
                  <p:nvPr/>
                </p:nvSpPr>
                <p:spPr>
                  <a:xfrm rot="19953000">
                    <a:off x="4724280" y="379080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0" name="Freeform 1848"/>
                  <p:cNvSpPr/>
                  <p:nvPr/>
                </p:nvSpPr>
                <p:spPr>
                  <a:xfrm rot="19953000">
                    <a:off x="4731120" y="378540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451" name="Group 1849"/>
            <p:cNvGrpSpPr/>
            <p:nvPr/>
          </p:nvGrpSpPr>
          <p:grpSpPr>
            <a:xfrm>
              <a:off x="3832200" y="3901320"/>
              <a:ext cx="174600" cy="149400"/>
              <a:chOff x="3832200" y="3901320"/>
              <a:chExt cx="174600" cy="149400"/>
            </a:xfrm>
          </p:grpSpPr>
          <p:sp>
            <p:nvSpPr>
              <p:cNvPr id="2452" name="Freeform 1850"/>
              <p:cNvSpPr/>
              <p:nvPr/>
            </p:nvSpPr>
            <p:spPr>
              <a:xfrm rot="3443400">
                <a:off x="3841200" y="3932640"/>
                <a:ext cx="120600" cy="871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2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3" name="Freeform 1851"/>
              <p:cNvSpPr/>
              <p:nvPr/>
            </p:nvSpPr>
            <p:spPr>
              <a:xfrm flipH="1" rot="3444000">
                <a:off x="3881520" y="3957120"/>
                <a:ext cx="70560" cy="543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4" name="Freeform 1852"/>
              <p:cNvSpPr/>
              <p:nvPr/>
            </p:nvSpPr>
            <p:spPr>
              <a:xfrm rot="3443400">
                <a:off x="3872880" y="400356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455" name="Group 1853"/>
              <p:cNvGrpSpPr/>
              <p:nvPr/>
            </p:nvGrpSpPr>
            <p:grpSpPr>
              <a:xfrm>
                <a:off x="3904200" y="3901320"/>
                <a:ext cx="102600" cy="76680"/>
                <a:chOff x="3904200" y="3901320"/>
                <a:chExt cx="102600" cy="76680"/>
              </a:xfrm>
            </p:grpSpPr>
            <p:sp>
              <p:nvSpPr>
                <p:cNvPr id="2456" name="Freeform 1854"/>
                <p:cNvSpPr/>
                <p:nvPr/>
              </p:nvSpPr>
              <p:spPr>
                <a:xfrm flipH="1" rot="3444600">
                  <a:off x="3912840" y="3906360"/>
                  <a:ext cx="34200" cy="4032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457" name="Group 1855"/>
                <p:cNvGrpSpPr/>
                <p:nvPr/>
              </p:nvGrpSpPr>
              <p:grpSpPr>
                <a:xfrm>
                  <a:off x="3920760" y="3906720"/>
                  <a:ext cx="86040" cy="71280"/>
                  <a:chOff x="3920760" y="3906720"/>
                  <a:chExt cx="86040" cy="71280"/>
                </a:xfrm>
              </p:grpSpPr>
              <p:grpSp>
                <p:nvGrpSpPr>
                  <p:cNvPr id="2458" name="Group 1856"/>
                  <p:cNvGrpSpPr/>
                  <p:nvPr/>
                </p:nvGrpSpPr>
                <p:grpSpPr>
                  <a:xfrm>
                    <a:off x="3920760" y="3906720"/>
                    <a:ext cx="86040" cy="71280"/>
                    <a:chOff x="3920760" y="3906720"/>
                    <a:chExt cx="86040" cy="71280"/>
                  </a:xfrm>
                </p:grpSpPr>
                <p:sp>
                  <p:nvSpPr>
                    <p:cNvPr id="2459" name="Freeform 1857"/>
                    <p:cNvSpPr/>
                    <p:nvPr/>
                  </p:nvSpPr>
                  <p:spPr>
                    <a:xfrm flipH="1" rot="1647000">
                      <a:off x="3932640" y="3922200"/>
                      <a:ext cx="73080" cy="21240"/>
                    </a:xfrm>
                    <a:custGeom>
                      <a:avLst/>
                      <a:gdLst>
                        <a:gd name="textAreaLeft" fmla="*/ -360 w 73080"/>
                        <a:gd name="textAreaRight" fmla="*/ 7308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60" name="Freeform 1858"/>
                    <p:cNvSpPr/>
                    <p:nvPr/>
                  </p:nvSpPr>
                  <p:spPr>
                    <a:xfrm flipH="1" rot="1647000">
                      <a:off x="3922920" y="3934440"/>
                      <a:ext cx="74520" cy="28080"/>
                    </a:xfrm>
                    <a:custGeom>
                      <a:avLst/>
                      <a:gdLst>
                        <a:gd name="textAreaLeft" fmla="*/ -360 w 74520"/>
                        <a:gd name="textAreaRight" fmla="*/ 7452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61" name="Freeform 1859"/>
                  <p:cNvSpPr/>
                  <p:nvPr/>
                </p:nvSpPr>
                <p:spPr>
                  <a:xfrm flipH="1" rot="1647000">
                    <a:off x="3936240" y="392544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2" name="Freeform 1860"/>
                  <p:cNvSpPr/>
                  <p:nvPr/>
                </p:nvSpPr>
                <p:spPr>
                  <a:xfrm flipH="1" rot="1647000">
                    <a:off x="3945600" y="393012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3" name="Freeform 1861"/>
                  <p:cNvSpPr/>
                  <p:nvPr/>
                </p:nvSpPr>
                <p:spPr>
                  <a:xfrm flipH="1" rot="1647000">
                    <a:off x="3956400" y="3938040"/>
                    <a:ext cx="6120" cy="1260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4" name="Freeform 1862"/>
                  <p:cNvSpPr/>
                  <p:nvPr/>
                </p:nvSpPr>
                <p:spPr>
                  <a:xfrm flipH="1" rot="1647000">
                    <a:off x="3953520" y="3921840"/>
                    <a:ext cx="9360" cy="9720"/>
                  </a:xfrm>
                  <a:custGeom>
                    <a:avLst/>
                    <a:gdLst>
                      <a:gd name="textAreaLeft" fmla="*/ 360 w 9360"/>
                      <a:gd name="textAreaRight" fmla="*/ 1008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5" name="Freeform 1863"/>
                  <p:cNvSpPr/>
                  <p:nvPr/>
                </p:nvSpPr>
                <p:spPr>
                  <a:xfrm flipH="1" rot="1647000">
                    <a:off x="3945960" y="3916440"/>
                    <a:ext cx="10080" cy="1080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466" name="Group 1864"/>
            <p:cNvGrpSpPr/>
            <p:nvPr/>
          </p:nvGrpSpPr>
          <p:grpSpPr>
            <a:xfrm>
              <a:off x="4079160" y="4032360"/>
              <a:ext cx="174600" cy="149400"/>
              <a:chOff x="4079160" y="4032360"/>
              <a:chExt cx="174600" cy="149400"/>
            </a:xfrm>
          </p:grpSpPr>
          <p:sp>
            <p:nvSpPr>
              <p:cNvPr id="2467" name="Freeform 1865"/>
              <p:cNvSpPr/>
              <p:nvPr/>
            </p:nvSpPr>
            <p:spPr>
              <a:xfrm rot="3443400">
                <a:off x="4088160" y="4063680"/>
                <a:ext cx="120600" cy="871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2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8" name="Freeform 1866"/>
              <p:cNvSpPr/>
              <p:nvPr/>
            </p:nvSpPr>
            <p:spPr>
              <a:xfrm flipH="1" rot="3444000">
                <a:off x="4128480" y="4088160"/>
                <a:ext cx="70560" cy="543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9" name="Freeform 1867"/>
              <p:cNvSpPr/>
              <p:nvPr/>
            </p:nvSpPr>
            <p:spPr>
              <a:xfrm rot="3443400">
                <a:off x="4119840" y="413460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470" name="Group 1868"/>
              <p:cNvGrpSpPr/>
              <p:nvPr/>
            </p:nvGrpSpPr>
            <p:grpSpPr>
              <a:xfrm>
                <a:off x="4151160" y="4032360"/>
                <a:ext cx="102600" cy="76680"/>
                <a:chOff x="4151160" y="4032360"/>
                <a:chExt cx="102600" cy="76680"/>
              </a:xfrm>
            </p:grpSpPr>
            <p:sp>
              <p:nvSpPr>
                <p:cNvPr id="2471" name="Freeform 1869"/>
                <p:cNvSpPr/>
                <p:nvPr/>
              </p:nvSpPr>
              <p:spPr>
                <a:xfrm flipH="1" rot="3444600">
                  <a:off x="4159800" y="4037400"/>
                  <a:ext cx="34200" cy="4032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472" name="Group 1870"/>
                <p:cNvGrpSpPr/>
                <p:nvPr/>
              </p:nvGrpSpPr>
              <p:grpSpPr>
                <a:xfrm>
                  <a:off x="4167720" y="4037760"/>
                  <a:ext cx="86040" cy="71280"/>
                  <a:chOff x="4167720" y="4037760"/>
                  <a:chExt cx="86040" cy="71280"/>
                </a:xfrm>
              </p:grpSpPr>
              <p:grpSp>
                <p:nvGrpSpPr>
                  <p:cNvPr id="2473" name="Group 1871"/>
                  <p:cNvGrpSpPr/>
                  <p:nvPr/>
                </p:nvGrpSpPr>
                <p:grpSpPr>
                  <a:xfrm>
                    <a:off x="4167720" y="4037760"/>
                    <a:ext cx="86040" cy="71280"/>
                    <a:chOff x="4167720" y="4037760"/>
                    <a:chExt cx="86040" cy="71280"/>
                  </a:xfrm>
                </p:grpSpPr>
                <p:sp>
                  <p:nvSpPr>
                    <p:cNvPr id="2474" name="Freeform 1872"/>
                    <p:cNvSpPr/>
                    <p:nvPr/>
                  </p:nvSpPr>
                  <p:spPr>
                    <a:xfrm flipH="1" rot="1647000">
                      <a:off x="4179600" y="4053240"/>
                      <a:ext cx="73080" cy="21240"/>
                    </a:xfrm>
                    <a:custGeom>
                      <a:avLst/>
                      <a:gdLst>
                        <a:gd name="textAreaLeft" fmla="*/ -360 w 73080"/>
                        <a:gd name="textAreaRight" fmla="*/ 7308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75" name="Freeform 1873"/>
                    <p:cNvSpPr/>
                    <p:nvPr/>
                  </p:nvSpPr>
                  <p:spPr>
                    <a:xfrm flipH="1" rot="1647000">
                      <a:off x="4169880" y="4065480"/>
                      <a:ext cx="74520" cy="28080"/>
                    </a:xfrm>
                    <a:custGeom>
                      <a:avLst/>
                      <a:gdLst>
                        <a:gd name="textAreaLeft" fmla="*/ -360 w 74520"/>
                        <a:gd name="textAreaRight" fmla="*/ 7452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76" name="Freeform 1874"/>
                  <p:cNvSpPr/>
                  <p:nvPr/>
                </p:nvSpPr>
                <p:spPr>
                  <a:xfrm flipH="1" rot="1647000">
                    <a:off x="4183200" y="405648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7" name="Freeform 1875"/>
                  <p:cNvSpPr/>
                  <p:nvPr/>
                </p:nvSpPr>
                <p:spPr>
                  <a:xfrm flipH="1" rot="1647000">
                    <a:off x="4192560" y="406116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8" name="Freeform 1876"/>
                  <p:cNvSpPr/>
                  <p:nvPr/>
                </p:nvSpPr>
                <p:spPr>
                  <a:xfrm flipH="1" rot="1647000">
                    <a:off x="4203360" y="4069080"/>
                    <a:ext cx="6120" cy="1260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9" name="Freeform 1877"/>
                  <p:cNvSpPr/>
                  <p:nvPr/>
                </p:nvSpPr>
                <p:spPr>
                  <a:xfrm flipH="1" rot="1647000">
                    <a:off x="4200480" y="4052880"/>
                    <a:ext cx="9360" cy="9720"/>
                  </a:xfrm>
                  <a:custGeom>
                    <a:avLst/>
                    <a:gdLst>
                      <a:gd name="textAreaLeft" fmla="*/ 360 w 9360"/>
                      <a:gd name="textAreaRight" fmla="*/ 1008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0" name="Freeform 1878"/>
                  <p:cNvSpPr/>
                  <p:nvPr/>
                </p:nvSpPr>
                <p:spPr>
                  <a:xfrm flipH="1" rot="1647000">
                    <a:off x="4192920" y="4047480"/>
                    <a:ext cx="10080" cy="1080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481" name="Group 1879"/>
            <p:cNvGrpSpPr/>
            <p:nvPr/>
          </p:nvGrpSpPr>
          <p:grpSpPr>
            <a:xfrm>
              <a:off x="4114080" y="4468680"/>
              <a:ext cx="175320" cy="150120"/>
              <a:chOff x="4114080" y="4468680"/>
              <a:chExt cx="175320" cy="150120"/>
            </a:xfrm>
          </p:grpSpPr>
          <p:sp>
            <p:nvSpPr>
              <p:cNvPr id="2482" name="Freeform 1880"/>
              <p:cNvSpPr/>
              <p:nvPr/>
            </p:nvSpPr>
            <p:spPr>
              <a:xfrm rot="3443400">
                <a:off x="4123080" y="4500000"/>
                <a:ext cx="120600" cy="882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3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3" name="Freeform 1881"/>
              <p:cNvSpPr/>
              <p:nvPr/>
            </p:nvSpPr>
            <p:spPr>
              <a:xfrm flipH="1" rot="3444000">
                <a:off x="4164120" y="4524840"/>
                <a:ext cx="70560" cy="543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4" name="Freeform 1882"/>
              <p:cNvSpPr/>
              <p:nvPr/>
            </p:nvSpPr>
            <p:spPr>
              <a:xfrm rot="3443400">
                <a:off x="4155120" y="457128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485" name="Group 1883"/>
              <p:cNvGrpSpPr/>
              <p:nvPr/>
            </p:nvGrpSpPr>
            <p:grpSpPr>
              <a:xfrm>
                <a:off x="4186800" y="4468680"/>
                <a:ext cx="102600" cy="77040"/>
                <a:chOff x="4186800" y="4468680"/>
                <a:chExt cx="102600" cy="77040"/>
              </a:xfrm>
            </p:grpSpPr>
            <p:sp>
              <p:nvSpPr>
                <p:cNvPr id="2486" name="Freeform 1884"/>
                <p:cNvSpPr/>
                <p:nvPr/>
              </p:nvSpPr>
              <p:spPr>
                <a:xfrm flipH="1" rot="3444600">
                  <a:off x="4195440" y="4473720"/>
                  <a:ext cx="34200" cy="4032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487" name="Group 1885"/>
                <p:cNvGrpSpPr/>
                <p:nvPr/>
              </p:nvGrpSpPr>
              <p:grpSpPr>
                <a:xfrm>
                  <a:off x="4203360" y="4474080"/>
                  <a:ext cx="86040" cy="71640"/>
                  <a:chOff x="4203360" y="4474080"/>
                  <a:chExt cx="86040" cy="71640"/>
                </a:xfrm>
              </p:grpSpPr>
              <p:grpSp>
                <p:nvGrpSpPr>
                  <p:cNvPr id="2488" name="Group 1886"/>
                  <p:cNvGrpSpPr/>
                  <p:nvPr/>
                </p:nvGrpSpPr>
                <p:grpSpPr>
                  <a:xfrm>
                    <a:off x="4203360" y="4474080"/>
                    <a:ext cx="86040" cy="71640"/>
                    <a:chOff x="4203360" y="4474080"/>
                    <a:chExt cx="86040" cy="71640"/>
                  </a:xfrm>
                </p:grpSpPr>
                <p:sp>
                  <p:nvSpPr>
                    <p:cNvPr id="2489" name="Freeform 1887"/>
                    <p:cNvSpPr/>
                    <p:nvPr/>
                  </p:nvSpPr>
                  <p:spPr>
                    <a:xfrm flipH="1" rot="1647000">
                      <a:off x="4215240" y="4489560"/>
                      <a:ext cx="73080" cy="21240"/>
                    </a:xfrm>
                    <a:custGeom>
                      <a:avLst/>
                      <a:gdLst>
                        <a:gd name="textAreaLeft" fmla="*/ -360 w 73080"/>
                        <a:gd name="textAreaRight" fmla="*/ 7308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90" name="Freeform 1888"/>
                    <p:cNvSpPr/>
                    <p:nvPr/>
                  </p:nvSpPr>
                  <p:spPr>
                    <a:xfrm flipH="1" rot="1647000">
                      <a:off x="4205520" y="4502160"/>
                      <a:ext cx="74520" cy="28080"/>
                    </a:xfrm>
                    <a:custGeom>
                      <a:avLst/>
                      <a:gdLst>
                        <a:gd name="textAreaLeft" fmla="*/ -360 w 74520"/>
                        <a:gd name="textAreaRight" fmla="*/ 7452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91" name="Freeform 1889"/>
                  <p:cNvSpPr/>
                  <p:nvPr/>
                </p:nvSpPr>
                <p:spPr>
                  <a:xfrm flipH="1" rot="1647000">
                    <a:off x="4218840" y="449316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2" name="Freeform 1890"/>
                  <p:cNvSpPr/>
                  <p:nvPr/>
                </p:nvSpPr>
                <p:spPr>
                  <a:xfrm flipH="1" rot="1647000">
                    <a:off x="4228200" y="449784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3" name="Freeform 1891"/>
                  <p:cNvSpPr/>
                  <p:nvPr/>
                </p:nvSpPr>
                <p:spPr>
                  <a:xfrm flipH="1" rot="1647000">
                    <a:off x="4239000" y="4505760"/>
                    <a:ext cx="6120" cy="1260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4" name="Freeform 1892"/>
                  <p:cNvSpPr/>
                  <p:nvPr/>
                </p:nvSpPr>
                <p:spPr>
                  <a:xfrm flipH="1" rot="1647000">
                    <a:off x="4236120" y="4489560"/>
                    <a:ext cx="9360" cy="9720"/>
                  </a:xfrm>
                  <a:custGeom>
                    <a:avLst/>
                    <a:gdLst>
                      <a:gd name="textAreaLeft" fmla="*/ 360 w 9360"/>
                      <a:gd name="textAreaRight" fmla="*/ 1008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5" name="Freeform 1893"/>
                  <p:cNvSpPr/>
                  <p:nvPr/>
                </p:nvSpPr>
                <p:spPr>
                  <a:xfrm flipH="1" rot="1647000">
                    <a:off x="4228560" y="4484160"/>
                    <a:ext cx="10080" cy="1080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496" name="Group 1894"/>
            <p:cNvGrpSpPr/>
            <p:nvPr/>
          </p:nvGrpSpPr>
          <p:grpSpPr>
            <a:xfrm>
              <a:off x="4114080" y="3246120"/>
              <a:ext cx="175320" cy="150120"/>
              <a:chOff x="4114080" y="3246120"/>
              <a:chExt cx="175320" cy="150120"/>
            </a:xfrm>
          </p:grpSpPr>
          <p:sp>
            <p:nvSpPr>
              <p:cNvPr id="2497" name="Freeform 1895"/>
              <p:cNvSpPr/>
              <p:nvPr/>
            </p:nvSpPr>
            <p:spPr>
              <a:xfrm rot="3443400">
                <a:off x="4123080" y="3277440"/>
                <a:ext cx="120600" cy="882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3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8" name="Freeform 1896"/>
              <p:cNvSpPr/>
              <p:nvPr/>
            </p:nvSpPr>
            <p:spPr>
              <a:xfrm flipH="1" rot="3444000">
                <a:off x="4164120" y="3302280"/>
                <a:ext cx="70560" cy="543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3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9" name="Freeform 1897"/>
              <p:cNvSpPr/>
              <p:nvPr/>
            </p:nvSpPr>
            <p:spPr>
              <a:xfrm rot="3443400">
                <a:off x="4155120" y="334872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00" name="Group 1898"/>
              <p:cNvGrpSpPr/>
              <p:nvPr/>
            </p:nvGrpSpPr>
            <p:grpSpPr>
              <a:xfrm>
                <a:off x="4186800" y="3246120"/>
                <a:ext cx="102600" cy="77040"/>
                <a:chOff x="4186800" y="3246120"/>
                <a:chExt cx="102600" cy="77040"/>
              </a:xfrm>
            </p:grpSpPr>
            <p:sp>
              <p:nvSpPr>
                <p:cNvPr id="2501" name="Freeform 1899"/>
                <p:cNvSpPr/>
                <p:nvPr/>
              </p:nvSpPr>
              <p:spPr>
                <a:xfrm flipH="1" rot="3444600">
                  <a:off x="4195440" y="3251160"/>
                  <a:ext cx="34200" cy="4032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02" name="Group 1900"/>
                <p:cNvGrpSpPr/>
                <p:nvPr/>
              </p:nvGrpSpPr>
              <p:grpSpPr>
                <a:xfrm>
                  <a:off x="4203360" y="3251520"/>
                  <a:ext cx="86040" cy="71640"/>
                  <a:chOff x="4203360" y="3251520"/>
                  <a:chExt cx="86040" cy="71640"/>
                </a:xfrm>
              </p:grpSpPr>
              <p:grpSp>
                <p:nvGrpSpPr>
                  <p:cNvPr id="2503" name="Group 1901"/>
                  <p:cNvGrpSpPr/>
                  <p:nvPr/>
                </p:nvGrpSpPr>
                <p:grpSpPr>
                  <a:xfrm>
                    <a:off x="4203360" y="3251520"/>
                    <a:ext cx="86040" cy="71640"/>
                    <a:chOff x="4203360" y="3251520"/>
                    <a:chExt cx="86040" cy="71640"/>
                  </a:xfrm>
                </p:grpSpPr>
                <p:sp>
                  <p:nvSpPr>
                    <p:cNvPr id="2504" name="Freeform 1902"/>
                    <p:cNvSpPr/>
                    <p:nvPr/>
                  </p:nvSpPr>
                  <p:spPr>
                    <a:xfrm flipH="1" rot="1647000">
                      <a:off x="4215240" y="3267000"/>
                      <a:ext cx="73080" cy="21240"/>
                    </a:xfrm>
                    <a:custGeom>
                      <a:avLst/>
                      <a:gdLst>
                        <a:gd name="textAreaLeft" fmla="*/ -360 w 73080"/>
                        <a:gd name="textAreaRight" fmla="*/ 7308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05" name="Freeform 1903"/>
                    <p:cNvSpPr/>
                    <p:nvPr/>
                  </p:nvSpPr>
                  <p:spPr>
                    <a:xfrm flipH="1" rot="1647000">
                      <a:off x="4205520" y="3279600"/>
                      <a:ext cx="74520" cy="28080"/>
                    </a:xfrm>
                    <a:custGeom>
                      <a:avLst/>
                      <a:gdLst>
                        <a:gd name="textAreaLeft" fmla="*/ -360 w 74520"/>
                        <a:gd name="textAreaRight" fmla="*/ 7452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506" name="Freeform 1904"/>
                  <p:cNvSpPr/>
                  <p:nvPr/>
                </p:nvSpPr>
                <p:spPr>
                  <a:xfrm flipH="1" rot="1647000">
                    <a:off x="4218840" y="327060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7" name="Freeform 1905"/>
                  <p:cNvSpPr/>
                  <p:nvPr/>
                </p:nvSpPr>
                <p:spPr>
                  <a:xfrm flipH="1" rot="1647000">
                    <a:off x="4228200" y="327528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8" name="Freeform 1906"/>
                  <p:cNvSpPr/>
                  <p:nvPr/>
                </p:nvSpPr>
                <p:spPr>
                  <a:xfrm flipH="1" rot="1647000">
                    <a:off x="4239000" y="3283200"/>
                    <a:ext cx="6120" cy="1260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9" name="Freeform 1907"/>
                  <p:cNvSpPr/>
                  <p:nvPr/>
                </p:nvSpPr>
                <p:spPr>
                  <a:xfrm flipH="1" rot="1647000">
                    <a:off x="4236120" y="3267000"/>
                    <a:ext cx="9360" cy="9720"/>
                  </a:xfrm>
                  <a:custGeom>
                    <a:avLst/>
                    <a:gdLst>
                      <a:gd name="textAreaLeft" fmla="*/ 360 w 9360"/>
                      <a:gd name="textAreaRight" fmla="*/ 1008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10" name="Freeform 1908"/>
                  <p:cNvSpPr/>
                  <p:nvPr/>
                </p:nvSpPr>
                <p:spPr>
                  <a:xfrm flipH="1" rot="1647000">
                    <a:off x="4228560" y="3261600"/>
                    <a:ext cx="10080" cy="1080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511" name="Group 1909"/>
            <p:cNvGrpSpPr/>
            <p:nvPr/>
          </p:nvGrpSpPr>
          <p:grpSpPr>
            <a:xfrm>
              <a:off x="4467240" y="3857400"/>
              <a:ext cx="174600" cy="149400"/>
              <a:chOff x="4467240" y="3857400"/>
              <a:chExt cx="174600" cy="149400"/>
            </a:xfrm>
          </p:grpSpPr>
          <p:sp>
            <p:nvSpPr>
              <p:cNvPr id="2512" name="Freeform 1910"/>
              <p:cNvSpPr/>
              <p:nvPr/>
            </p:nvSpPr>
            <p:spPr>
              <a:xfrm rot="3443400">
                <a:off x="4476240" y="3888720"/>
                <a:ext cx="120600" cy="871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4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3" name="Freeform 1911"/>
              <p:cNvSpPr/>
              <p:nvPr/>
            </p:nvSpPr>
            <p:spPr>
              <a:xfrm flipH="1" rot="3444000">
                <a:off x="4516560" y="3913200"/>
                <a:ext cx="70560" cy="543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4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4" name="Freeform 1912"/>
              <p:cNvSpPr/>
              <p:nvPr/>
            </p:nvSpPr>
            <p:spPr>
              <a:xfrm rot="3443400">
                <a:off x="4507920" y="395964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15" name="Group 1913"/>
              <p:cNvGrpSpPr/>
              <p:nvPr/>
            </p:nvGrpSpPr>
            <p:grpSpPr>
              <a:xfrm>
                <a:off x="4539240" y="3857400"/>
                <a:ext cx="102600" cy="76680"/>
                <a:chOff x="4539240" y="3857400"/>
                <a:chExt cx="102600" cy="76680"/>
              </a:xfrm>
            </p:grpSpPr>
            <p:sp>
              <p:nvSpPr>
                <p:cNvPr id="2516" name="Freeform 1914"/>
                <p:cNvSpPr/>
                <p:nvPr/>
              </p:nvSpPr>
              <p:spPr>
                <a:xfrm flipH="1" rot="3444600">
                  <a:off x="4547880" y="3862440"/>
                  <a:ext cx="34200" cy="4032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17" name="Group 1915"/>
                <p:cNvGrpSpPr/>
                <p:nvPr/>
              </p:nvGrpSpPr>
              <p:grpSpPr>
                <a:xfrm>
                  <a:off x="4555800" y="3862800"/>
                  <a:ext cx="86040" cy="71280"/>
                  <a:chOff x="4555800" y="3862800"/>
                  <a:chExt cx="86040" cy="71280"/>
                </a:xfrm>
              </p:grpSpPr>
              <p:grpSp>
                <p:nvGrpSpPr>
                  <p:cNvPr id="2518" name="Group 1916"/>
                  <p:cNvGrpSpPr/>
                  <p:nvPr/>
                </p:nvGrpSpPr>
                <p:grpSpPr>
                  <a:xfrm>
                    <a:off x="4555800" y="3862800"/>
                    <a:ext cx="86040" cy="71280"/>
                    <a:chOff x="4555800" y="3862800"/>
                    <a:chExt cx="86040" cy="71280"/>
                  </a:xfrm>
                </p:grpSpPr>
                <p:sp>
                  <p:nvSpPr>
                    <p:cNvPr id="2519" name="Freeform 1917"/>
                    <p:cNvSpPr/>
                    <p:nvPr/>
                  </p:nvSpPr>
                  <p:spPr>
                    <a:xfrm flipH="1" rot="1647000">
                      <a:off x="4567680" y="3878280"/>
                      <a:ext cx="73080" cy="21240"/>
                    </a:xfrm>
                    <a:custGeom>
                      <a:avLst/>
                      <a:gdLst>
                        <a:gd name="textAreaLeft" fmla="*/ -360 w 73080"/>
                        <a:gd name="textAreaRight" fmla="*/ 7308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20" name="Freeform 1918"/>
                    <p:cNvSpPr/>
                    <p:nvPr/>
                  </p:nvSpPr>
                  <p:spPr>
                    <a:xfrm flipH="1" rot="1647000">
                      <a:off x="4557960" y="3890520"/>
                      <a:ext cx="74520" cy="28080"/>
                    </a:xfrm>
                    <a:custGeom>
                      <a:avLst/>
                      <a:gdLst>
                        <a:gd name="textAreaLeft" fmla="*/ -360 w 74520"/>
                        <a:gd name="textAreaRight" fmla="*/ 7452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521" name="Freeform 1919"/>
                  <p:cNvSpPr/>
                  <p:nvPr/>
                </p:nvSpPr>
                <p:spPr>
                  <a:xfrm flipH="1" rot="1647000">
                    <a:off x="4571280" y="388152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22" name="Freeform 1920"/>
                  <p:cNvSpPr/>
                  <p:nvPr/>
                </p:nvSpPr>
                <p:spPr>
                  <a:xfrm flipH="1" rot="1647000">
                    <a:off x="4580640" y="388620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23" name="Freeform 1921"/>
                  <p:cNvSpPr/>
                  <p:nvPr/>
                </p:nvSpPr>
                <p:spPr>
                  <a:xfrm flipH="1" rot="1647000">
                    <a:off x="4591440" y="3894120"/>
                    <a:ext cx="6120" cy="1260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24" name="Freeform 1922"/>
                  <p:cNvSpPr/>
                  <p:nvPr/>
                </p:nvSpPr>
                <p:spPr>
                  <a:xfrm flipH="1" rot="1647000">
                    <a:off x="4588560" y="3877920"/>
                    <a:ext cx="9360" cy="9720"/>
                  </a:xfrm>
                  <a:custGeom>
                    <a:avLst/>
                    <a:gdLst>
                      <a:gd name="textAreaLeft" fmla="*/ 360 w 9360"/>
                      <a:gd name="textAreaRight" fmla="*/ 1008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25" name="Freeform 1923"/>
                  <p:cNvSpPr/>
                  <p:nvPr/>
                </p:nvSpPr>
                <p:spPr>
                  <a:xfrm flipH="1" rot="1647000">
                    <a:off x="4581000" y="3872520"/>
                    <a:ext cx="10080" cy="1080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526" name="Group 1924"/>
            <p:cNvGrpSpPr/>
            <p:nvPr/>
          </p:nvGrpSpPr>
          <p:grpSpPr>
            <a:xfrm>
              <a:off x="4608360" y="4381560"/>
              <a:ext cx="174600" cy="149400"/>
              <a:chOff x="4608360" y="4381560"/>
              <a:chExt cx="174600" cy="149400"/>
            </a:xfrm>
          </p:grpSpPr>
          <p:sp>
            <p:nvSpPr>
              <p:cNvPr id="2527" name="Freeform 1925"/>
              <p:cNvSpPr/>
              <p:nvPr/>
            </p:nvSpPr>
            <p:spPr>
              <a:xfrm rot="3443400">
                <a:off x="4617360" y="4412880"/>
                <a:ext cx="120600" cy="871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4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8" name="Freeform 1926"/>
              <p:cNvSpPr/>
              <p:nvPr/>
            </p:nvSpPr>
            <p:spPr>
              <a:xfrm flipH="1" rot="3444000">
                <a:off x="4657680" y="4437360"/>
                <a:ext cx="70560" cy="543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4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9" name="Freeform 1927"/>
              <p:cNvSpPr/>
              <p:nvPr/>
            </p:nvSpPr>
            <p:spPr>
              <a:xfrm rot="3443400">
                <a:off x="4649040" y="448380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30" name="Group 1928"/>
              <p:cNvGrpSpPr/>
              <p:nvPr/>
            </p:nvGrpSpPr>
            <p:grpSpPr>
              <a:xfrm>
                <a:off x="4680360" y="4381560"/>
                <a:ext cx="102600" cy="76680"/>
                <a:chOff x="4680360" y="4381560"/>
                <a:chExt cx="102600" cy="76680"/>
              </a:xfrm>
            </p:grpSpPr>
            <p:sp>
              <p:nvSpPr>
                <p:cNvPr id="2531" name="Freeform 1929"/>
                <p:cNvSpPr/>
                <p:nvPr/>
              </p:nvSpPr>
              <p:spPr>
                <a:xfrm flipH="1" rot="3444600">
                  <a:off x="4689000" y="4386600"/>
                  <a:ext cx="34200" cy="4032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32" name="Group 1930"/>
                <p:cNvGrpSpPr/>
                <p:nvPr/>
              </p:nvGrpSpPr>
              <p:grpSpPr>
                <a:xfrm>
                  <a:off x="4696920" y="4386960"/>
                  <a:ext cx="86040" cy="71280"/>
                  <a:chOff x="4696920" y="4386960"/>
                  <a:chExt cx="86040" cy="71280"/>
                </a:xfrm>
              </p:grpSpPr>
              <p:grpSp>
                <p:nvGrpSpPr>
                  <p:cNvPr id="2533" name="Group 1931"/>
                  <p:cNvGrpSpPr/>
                  <p:nvPr/>
                </p:nvGrpSpPr>
                <p:grpSpPr>
                  <a:xfrm>
                    <a:off x="4696920" y="4386960"/>
                    <a:ext cx="86040" cy="71280"/>
                    <a:chOff x="4696920" y="4386960"/>
                    <a:chExt cx="86040" cy="71280"/>
                  </a:xfrm>
                </p:grpSpPr>
                <p:sp>
                  <p:nvSpPr>
                    <p:cNvPr id="2534" name="Freeform 1932"/>
                    <p:cNvSpPr/>
                    <p:nvPr/>
                  </p:nvSpPr>
                  <p:spPr>
                    <a:xfrm flipH="1" rot="1647000">
                      <a:off x="4708800" y="4402440"/>
                      <a:ext cx="73080" cy="21240"/>
                    </a:xfrm>
                    <a:custGeom>
                      <a:avLst/>
                      <a:gdLst>
                        <a:gd name="textAreaLeft" fmla="*/ -360 w 73080"/>
                        <a:gd name="textAreaRight" fmla="*/ 7308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35" name="Freeform 1933"/>
                    <p:cNvSpPr/>
                    <p:nvPr/>
                  </p:nvSpPr>
                  <p:spPr>
                    <a:xfrm flipH="1" rot="1647000">
                      <a:off x="4699080" y="4414680"/>
                      <a:ext cx="74520" cy="28080"/>
                    </a:xfrm>
                    <a:custGeom>
                      <a:avLst/>
                      <a:gdLst>
                        <a:gd name="textAreaLeft" fmla="*/ -360 w 74520"/>
                        <a:gd name="textAreaRight" fmla="*/ 7452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536" name="Freeform 1934"/>
                  <p:cNvSpPr/>
                  <p:nvPr/>
                </p:nvSpPr>
                <p:spPr>
                  <a:xfrm flipH="1" rot="1647000">
                    <a:off x="4712400" y="440568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37" name="Freeform 1935"/>
                  <p:cNvSpPr/>
                  <p:nvPr/>
                </p:nvSpPr>
                <p:spPr>
                  <a:xfrm flipH="1" rot="1647000">
                    <a:off x="4721760" y="441036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38" name="Freeform 1936"/>
                  <p:cNvSpPr/>
                  <p:nvPr/>
                </p:nvSpPr>
                <p:spPr>
                  <a:xfrm flipH="1" rot="1647000">
                    <a:off x="4732560" y="4418280"/>
                    <a:ext cx="6120" cy="1260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39" name="Freeform 1937"/>
                  <p:cNvSpPr/>
                  <p:nvPr/>
                </p:nvSpPr>
                <p:spPr>
                  <a:xfrm flipH="1" rot="1647000">
                    <a:off x="4729680" y="4402080"/>
                    <a:ext cx="9360" cy="9720"/>
                  </a:xfrm>
                  <a:custGeom>
                    <a:avLst/>
                    <a:gdLst>
                      <a:gd name="textAreaLeft" fmla="*/ 360 w 9360"/>
                      <a:gd name="textAreaRight" fmla="*/ 1008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40" name="Freeform 1938"/>
                  <p:cNvSpPr/>
                  <p:nvPr/>
                </p:nvSpPr>
                <p:spPr>
                  <a:xfrm flipH="1" rot="1647000">
                    <a:off x="4722120" y="4396680"/>
                    <a:ext cx="10080" cy="1080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541" name="Group 1939"/>
            <p:cNvGrpSpPr/>
            <p:nvPr/>
          </p:nvGrpSpPr>
          <p:grpSpPr>
            <a:xfrm>
              <a:off x="4290840" y="3290040"/>
              <a:ext cx="174600" cy="149400"/>
              <a:chOff x="4290840" y="3290040"/>
              <a:chExt cx="174600" cy="149400"/>
            </a:xfrm>
          </p:grpSpPr>
          <p:sp>
            <p:nvSpPr>
              <p:cNvPr id="2542" name="Freeform 1940"/>
              <p:cNvSpPr/>
              <p:nvPr/>
            </p:nvSpPr>
            <p:spPr>
              <a:xfrm rot="3443400">
                <a:off x="4299840" y="3321360"/>
                <a:ext cx="120600" cy="871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4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3" name="Freeform 1941"/>
              <p:cNvSpPr/>
              <p:nvPr/>
            </p:nvSpPr>
            <p:spPr>
              <a:xfrm flipH="1" rot="3444000">
                <a:off x="4340160" y="3345840"/>
                <a:ext cx="70560" cy="543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4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4" name="Freeform 1942"/>
              <p:cNvSpPr/>
              <p:nvPr/>
            </p:nvSpPr>
            <p:spPr>
              <a:xfrm rot="3443400">
                <a:off x="4331520" y="339228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45" name="Group 1943"/>
              <p:cNvGrpSpPr/>
              <p:nvPr/>
            </p:nvGrpSpPr>
            <p:grpSpPr>
              <a:xfrm>
                <a:off x="4362840" y="3290040"/>
                <a:ext cx="102600" cy="76680"/>
                <a:chOff x="4362840" y="3290040"/>
                <a:chExt cx="102600" cy="76680"/>
              </a:xfrm>
            </p:grpSpPr>
            <p:sp>
              <p:nvSpPr>
                <p:cNvPr id="2546" name="Freeform 1944"/>
                <p:cNvSpPr/>
                <p:nvPr/>
              </p:nvSpPr>
              <p:spPr>
                <a:xfrm flipH="1" rot="3444600">
                  <a:off x="4371480" y="3295080"/>
                  <a:ext cx="34200" cy="4032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47" name="Group 1945"/>
                <p:cNvGrpSpPr/>
                <p:nvPr/>
              </p:nvGrpSpPr>
              <p:grpSpPr>
                <a:xfrm>
                  <a:off x="4379400" y="3295440"/>
                  <a:ext cx="86040" cy="71280"/>
                  <a:chOff x="4379400" y="3295440"/>
                  <a:chExt cx="86040" cy="71280"/>
                </a:xfrm>
              </p:grpSpPr>
              <p:grpSp>
                <p:nvGrpSpPr>
                  <p:cNvPr id="2548" name="Group 1946"/>
                  <p:cNvGrpSpPr/>
                  <p:nvPr/>
                </p:nvGrpSpPr>
                <p:grpSpPr>
                  <a:xfrm>
                    <a:off x="4379400" y="3295440"/>
                    <a:ext cx="86040" cy="71280"/>
                    <a:chOff x="4379400" y="3295440"/>
                    <a:chExt cx="86040" cy="71280"/>
                  </a:xfrm>
                </p:grpSpPr>
                <p:sp>
                  <p:nvSpPr>
                    <p:cNvPr id="2549" name="Freeform 1947"/>
                    <p:cNvSpPr/>
                    <p:nvPr/>
                  </p:nvSpPr>
                  <p:spPr>
                    <a:xfrm flipH="1" rot="1647000">
                      <a:off x="4391280" y="3310920"/>
                      <a:ext cx="73080" cy="21240"/>
                    </a:xfrm>
                    <a:custGeom>
                      <a:avLst/>
                      <a:gdLst>
                        <a:gd name="textAreaLeft" fmla="*/ -360 w 73080"/>
                        <a:gd name="textAreaRight" fmla="*/ 7308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50" name="Freeform 1948"/>
                    <p:cNvSpPr/>
                    <p:nvPr/>
                  </p:nvSpPr>
                  <p:spPr>
                    <a:xfrm flipH="1" rot="1647000">
                      <a:off x="4381560" y="3323160"/>
                      <a:ext cx="74520" cy="28080"/>
                    </a:xfrm>
                    <a:custGeom>
                      <a:avLst/>
                      <a:gdLst>
                        <a:gd name="textAreaLeft" fmla="*/ -360 w 74520"/>
                        <a:gd name="textAreaRight" fmla="*/ 7452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551" name="Freeform 1949"/>
                  <p:cNvSpPr/>
                  <p:nvPr/>
                </p:nvSpPr>
                <p:spPr>
                  <a:xfrm flipH="1" rot="1647000">
                    <a:off x="4394880" y="331416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52" name="Freeform 1950"/>
                  <p:cNvSpPr/>
                  <p:nvPr/>
                </p:nvSpPr>
                <p:spPr>
                  <a:xfrm flipH="1" rot="1647000">
                    <a:off x="4404240" y="331884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53" name="Freeform 1951"/>
                  <p:cNvSpPr/>
                  <p:nvPr/>
                </p:nvSpPr>
                <p:spPr>
                  <a:xfrm flipH="1" rot="1647000">
                    <a:off x="4415040" y="3326760"/>
                    <a:ext cx="6120" cy="1260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54" name="Freeform 1952"/>
                  <p:cNvSpPr/>
                  <p:nvPr/>
                </p:nvSpPr>
                <p:spPr>
                  <a:xfrm flipH="1" rot="1647000">
                    <a:off x="4412160" y="3310560"/>
                    <a:ext cx="9360" cy="9720"/>
                  </a:xfrm>
                  <a:custGeom>
                    <a:avLst/>
                    <a:gdLst>
                      <a:gd name="textAreaLeft" fmla="*/ 360 w 9360"/>
                      <a:gd name="textAreaRight" fmla="*/ 1008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55" name="Freeform 1953"/>
                  <p:cNvSpPr/>
                  <p:nvPr/>
                </p:nvSpPr>
                <p:spPr>
                  <a:xfrm flipH="1" rot="1647000">
                    <a:off x="4404600" y="3305160"/>
                    <a:ext cx="10080" cy="1080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556" name="Group 1954"/>
            <p:cNvGrpSpPr/>
            <p:nvPr/>
          </p:nvGrpSpPr>
          <p:grpSpPr>
            <a:xfrm>
              <a:off x="3938040" y="3726720"/>
              <a:ext cx="174600" cy="149400"/>
              <a:chOff x="3938040" y="3726720"/>
              <a:chExt cx="174600" cy="149400"/>
            </a:xfrm>
          </p:grpSpPr>
          <p:sp>
            <p:nvSpPr>
              <p:cNvPr id="2557" name="Freeform 1955"/>
              <p:cNvSpPr/>
              <p:nvPr/>
            </p:nvSpPr>
            <p:spPr>
              <a:xfrm rot="3443400">
                <a:off x="3947040" y="3758040"/>
                <a:ext cx="120600" cy="871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5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Freeform 1956"/>
              <p:cNvSpPr/>
              <p:nvPr/>
            </p:nvSpPr>
            <p:spPr>
              <a:xfrm flipH="1" rot="3444000">
                <a:off x="3987360" y="3782520"/>
                <a:ext cx="70560" cy="543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5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Freeform 1957"/>
              <p:cNvSpPr/>
              <p:nvPr/>
            </p:nvSpPr>
            <p:spPr>
              <a:xfrm rot="3443400">
                <a:off x="3978720" y="382896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60" name="Group 1958"/>
              <p:cNvGrpSpPr/>
              <p:nvPr/>
            </p:nvGrpSpPr>
            <p:grpSpPr>
              <a:xfrm>
                <a:off x="4010040" y="3726720"/>
                <a:ext cx="102600" cy="76680"/>
                <a:chOff x="4010040" y="3726720"/>
                <a:chExt cx="102600" cy="76680"/>
              </a:xfrm>
            </p:grpSpPr>
            <p:sp>
              <p:nvSpPr>
                <p:cNvPr id="2561" name="Freeform 1959"/>
                <p:cNvSpPr/>
                <p:nvPr/>
              </p:nvSpPr>
              <p:spPr>
                <a:xfrm flipH="1" rot="3444600">
                  <a:off x="4018680" y="3731760"/>
                  <a:ext cx="34200" cy="4032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62" name="Group 1960"/>
                <p:cNvGrpSpPr/>
                <p:nvPr/>
              </p:nvGrpSpPr>
              <p:grpSpPr>
                <a:xfrm>
                  <a:off x="4026600" y="3732120"/>
                  <a:ext cx="86040" cy="71280"/>
                  <a:chOff x="4026600" y="3732120"/>
                  <a:chExt cx="86040" cy="71280"/>
                </a:xfrm>
              </p:grpSpPr>
              <p:grpSp>
                <p:nvGrpSpPr>
                  <p:cNvPr id="2563" name="Group 1961"/>
                  <p:cNvGrpSpPr/>
                  <p:nvPr/>
                </p:nvGrpSpPr>
                <p:grpSpPr>
                  <a:xfrm>
                    <a:off x="4026600" y="3732120"/>
                    <a:ext cx="86040" cy="71280"/>
                    <a:chOff x="4026600" y="3732120"/>
                    <a:chExt cx="86040" cy="71280"/>
                  </a:xfrm>
                </p:grpSpPr>
                <p:sp>
                  <p:nvSpPr>
                    <p:cNvPr id="2564" name="Freeform 1962"/>
                    <p:cNvSpPr/>
                    <p:nvPr/>
                  </p:nvSpPr>
                  <p:spPr>
                    <a:xfrm flipH="1" rot="1647000">
                      <a:off x="4038480" y="3747600"/>
                      <a:ext cx="73080" cy="21240"/>
                    </a:xfrm>
                    <a:custGeom>
                      <a:avLst/>
                      <a:gdLst>
                        <a:gd name="textAreaLeft" fmla="*/ -360 w 73080"/>
                        <a:gd name="textAreaRight" fmla="*/ 7308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65" name="Freeform 1963"/>
                    <p:cNvSpPr/>
                    <p:nvPr/>
                  </p:nvSpPr>
                  <p:spPr>
                    <a:xfrm flipH="1" rot="1647000">
                      <a:off x="4028760" y="3759840"/>
                      <a:ext cx="74520" cy="28080"/>
                    </a:xfrm>
                    <a:custGeom>
                      <a:avLst/>
                      <a:gdLst>
                        <a:gd name="textAreaLeft" fmla="*/ -360 w 74520"/>
                        <a:gd name="textAreaRight" fmla="*/ 7452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566" name="Freeform 1964"/>
                  <p:cNvSpPr/>
                  <p:nvPr/>
                </p:nvSpPr>
                <p:spPr>
                  <a:xfrm flipH="1" rot="1647000">
                    <a:off x="4042080" y="375084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67" name="Freeform 1965"/>
                  <p:cNvSpPr/>
                  <p:nvPr/>
                </p:nvSpPr>
                <p:spPr>
                  <a:xfrm flipH="1" rot="1647000">
                    <a:off x="4051440" y="375552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68" name="Freeform 1966"/>
                  <p:cNvSpPr/>
                  <p:nvPr/>
                </p:nvSpPr>
                <p:spPr>
                  <a:xfrm flipH="1" rot="1647000">
                    <a:off x="4062240" y="3763440"/>
                    <a:ext cx="6120" cy="1260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69" name="Freeform 1967"/>
                  <p:cNvSpPr/>
                  <p:nvPr/>
                </p:nvSpPr>
                <p:spPr>
                  <a:xfrm flipH="1" rot="1647000">
                    <a:off x="4059360" y="3747240"/>
                    <a:ext cx="9360" cy="9720"/>
                  </a:xfrm>
                  <a:custGeom>
                    <a:avLst/>
                    <a:gdLst>
                      <a:gd name="textAreaLeft" fmla="*/ 360 w 9360"/>
                      <a:gd name="textAreaRight" fmla="*/ 1008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70" name="Freeform 1968"/>
                  <p:cNvSpPr/>
                  <p:nvPr/>
                </p:nvSpPr>
                <p:spPr>
                  <a:xfrm flipH="1" rot="1647000">
                    <a:off x="4051800" y="3741840"/>
                    <a:ext cx="10080" cy="1080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571" name="Group 1969"/>
            <p:cNvGrpSpPr/>
            <p:nvPr/>
          </p:nvGrpSpPr>
          <p:grpSpPr>
            <a:xfrm>
              <a:off x="4784760" y="4338000"/>
              <a:ext cx="174600" cy="149400"/>
              <a:chOff x="4784760" y="4338000"/>
              <a:chExt cx="174600" cy="149400"/>
            </a:xfrm>
          </p:grpSpPr>
          <p:sp>
            <p:nvSpPr>
              <p:cNvPr id="2572" name="Freeform 1970"/>
              <p:cNvSpPr/>
              <p:nvPr/>
            </p:nvSpPr>
            <p:spPr>
              <a:xfrm rot="3443400">
                <a:off x="4793760" y="4369320"/>
                <a:ext cx="120600" cy="871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5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3" name="Freeform 1971"/>
              <p:cNvSpPr/>
              <p:nvPr/>
            </p:nvSpPr>
            <p:spPr>
              <a:xfrm flipH="1" rot="3444000">
                <a:off x="4834080" y="4393800"/>
                <a:ext cx="70560" cy="543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5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4" name="Freeform 1972"/>
              <p:cNvSpPr/>
              <p:nvPr/>
            </p:nvSpPr>
            <p:spPr>
              <a:xfrm rot="3443400">
                <a:off x="4825440" y="4440240"/>
                <a:ext cx="7920" cy="3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75" name="Group 1973"/>
              <p:cNvGrpSpPr/>
              <p:nvPr/>
            </p:nvGrpSpPr>
            <p:grpSpPr>
              <a:xfrm>
                <a:off x="4856760" y="4338000"/>
                <a:ext cx="102600" cy="76680"/>
                <a:chOff x="4856760" y="4338000"/>
                <a:chExt cx="102600" cy="76680"/>
              </a:xfrm>
            </p:grpSpPr>
            <p:sp>
              <p:nvSpPr>
                <p:cNvPr id="2576" name="Freeform 1974"/>
                <p:cNvSpPr/>
                <p:nvPr/>
              </p:nvSpPr>
              <p:spPr>
                <a:xfrm flipH="1" rot="3444600">
                  <a:off x="4865400" y="4343040"/>
                  <a:ext cx="34200" cy="40320"/>
                </a:xfrm>
                <a:custGeom>
                  <a:avLst/>
                  <a:gdLst>
                    <a:gd name="textAreaLeft" fmla="*/ -360 w 34200"/>
                    <a:gd name="textAreaRight" fmla="*/ 3420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77" name="Group 1975"/>
                <p:cNvGrpSpPr/>
                <p:nvPr/>
              </p:nvGrpSpPr>
              <p:grpSpPr>
                <a:xfrm>
                  <a:off x="4873320" y="4343400"/>
                  <a:ext cx="86040" cy="71280"/>
                  <a:chOff x="4873320" y="4343400"/>
                  <a:chExt cx="86040" cy="71280"/>
                </a:xfrm>
              </p:grpSpPr>
              <p:grpSp>
                <p:nvGrpSpPr>
                  <p:cNvPr id="2578" name="Group 1976"/>
                  <p:cNvGrpSpPr/>
                  <p:nvPr/>
                </p:nvGrpSpPr>
                <p:grpSpPr>
                  <a:xfrm>
                    <a:off x="4873320" y="4343400"/>
                    <a:ext cx="86040" cy="71280"/>
                    <a:chOff x="4873320" y="4343400"/>
                    <a:chExt cx="86040" cy="71280"/>
                  </a:xfrm>
                </p:grpSpPr>
                <p:sp>
                  <p:nvSpPr>
                    <p:cNvPr id="2579" name="Freeform 1977"/>
                    <p:cNvSpPr/>
                    <p:nvPr/>
                  </p:nvSpPr>
                  <p:spPr>
                    <a:xfrm flipH="1" rot="1647000">
                      <a:off x="4885200" y="4358880"/>
                      <a:ext cx="73080" cy="21240"/>
                    </a:xfrm>
                    <a:custGeom>
                      <a:avLst/>
                      <a:gdLst>
                        <a:gd name="textAreaLeft" fmla="*/ -360 w 73080"/>
                        <a:gd name="textAreaRight" fmla="*/ 7308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80" name="Freeform 1978"/>
                    <p:cNvSpPr/>
                    <p:nvPr/>
                  </p:nvSpPr>
                  <p:spPr>
                    <a:xfrm flipH="1" rot="1647000">
                      <a:off x="4875480" y="4371120"/>
                      <a:ext cx="74520" cy="28080"/>
                    </a:xfrm>
                    <a:custGeom>
                      <a:avLst/>
                      <a:gdLst>
                        <a:gd name="textAreaLeft" fmla="*/ -360 w 74520"/>
                        <a:gd name="textAreaRight" fmla="*/ 7452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581" name="Freeform 1979"/>
                  <p:cNvSpPr/>
                  <p:nvPr/>
                </p:nvSpPr>
                <p:spPr>
                  <a:xfrm flipH="1" rot="1647000">
                    <a:off x="4888800" y="436212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2" name="Freeform 1980"/>
                  <p:cNvSpPr/>
                  <p:nvPr/>
                </p:nvSpPr>
                <p:spPr>
                  <a:xfrm flipH="1" rot="1647000">
                    <a:off x="4898160" y="4366800"/>
                    <a:ext cx="7200" cy="19800"/>
                  </a:xfrm>
                  <a:custGeom>
                    <a:avLst/>
                    <a:gdLst>
                      <a:gd name="textAreaLeft" fmla="*/ 360 w 7200"/>
                      <a:gd name="textAreaRight" fmla="*/ 792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3" name="Freeform 1981"/>
                  <p:cNvSpPr/>
                  <p:nvPr/>
                </p:nvSpPr>
                <p:spPr>
                  <a:xfrm flipH="1" rot="1647000">
                    <a:off x="4908960" y="4374720"/>
                    <a:ext cx="6120" cy="1260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4" name="Freeform 1982"/>
                  <p:cNvSpPr/>
                  <p:nvPr/>
                </p:nvSpPr>
                <p:spPr>
                  <a:xfrm flipH="1" rot="1647000">
                    <a:off x="4906080" y="4358520"/>
                    <a:ext cx="9360" cy="9720"/>
                  </a:xfrm>
                  <a:custGeom>
                    <a:avLst/>
                    <a:gdLst>
                      <a:gd name="textAreaLeft" fmla="*/ 360 w 9360"/>
                      <a:gd name="textAreaRight" fmla="*/ 1008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5" name="Freeform 1983"/>
                  <p:cNvSpPr/>
                  <p:nvPr/>
                </p:nvSpPr>
                <p:spPr>
                  <a:xfrm flipH="1" rot="1647000">
                    <a:off x="4898520" y="4353120"/>
                    <a:ext cx="10080" cy="10800"/>
                  </a:xfrm>
                  <a:custGeom>
                    <a:avLst/>
                    <a:gdLst>
                      <a:gd name="textAreaLeft" fmla="*/ 360 w 10080"/>
                      <a:gd name="textAreaRight" fmla="*/ 1080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586" name="Group 1984"/>
            <p:cNvGrpSpPr/>
            <p:nvPr/>
          </p:nvGrpSpPr>
          <p:grpSpPr>
            <a:xfrm>
              <a:off x="4434120" y="4424760"/>
              <a:ext cx="175320" cy="150120"/>
              <a:chOff x="4434120" y="4424760"/>
              <a:chExt cx="175320" cy="150120"/>
            </a:xfrm>
          </p:grpSpPr>
          <p:sp>
            <p:nvSpPr>
              <p:cNvPr id="2587" name="Freeform 1985"/>
              <p:cNvSpPr/>
              <p:nvPr/>
            </p:nvSpPr>
            <p:spPr>
              <a:xfrm flipH="1" rot="18156600">
                <a:off x="4478760" y="4456080"/>
                <a:ext cx="120600" cy="8820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6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8" name="Freeform 1986"/>
              <p:cNvSpPr/>
              <p:nvPr/>
            </p:nvSpPr>
            <p:spPr>
              <a:xfrm rot="18156000">
                <a:off x="4488120" y="4480920"/>
                <a:ext cx="70560" cy="543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6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9" name="Freeform 1987"/>
              <p:cNvSpPr/>
              <p:nvPr/>
            </p:nvSpPr>
            <p:spPr>
              <a:xfrm flipH="1" rot="18156600">
                <a:off x="4559760" y="4527360"/>
                <a:ext cx="7920" cy="3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90" name="Group 1988"/>
              <p:cNvGrpSpPr/>
              <p:nvPr/>
            </p:nvGrpSpPr>
            <p:grpSpPr>
              <a:xfrm>
                <a:off x="4434120" y="4424760"/>
                <a:ext cx="102960" cy="77040"/>
                <a:chOff x="4434120" y="4424760"/>
                <a:chExt cx="102960" cy="77040"/>
              </a:xfrm>
            </p:grpSpPr>
            <p:sp>
              <p:nvSpPr>
                <p:cNvPr id="2591" name="Freeform 1989"/>
                <p:cNvSpPr/>
                <p:nvPr/>
              </p:nvSpPr>
              <p:spPr>
                <a:xfrm rot="18155400">
                  <a:off x="4493520" y="4429800"/>
                  <a:ext cx="34200" cy="40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40320"/>
                    <a:gd name="textAreaBottom" fmla="*/ 40680 h 4032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92" name="Group 1990"/>
                <p:cNvGrpSpPr/>
                <p:nvPr/>
              </p:nvGrpSpPr>
              <p:grpSpPr>
                <a:xfrm>
                  <a:off x="4434120" y="4430160"/>
                  <a:ext cx="86040" cy="71640"/>
                  <a:chOff x="4434120" y="4430160"/>
                  <a:chExt cx="86040" cy="71640"/>
                </a:xfrm>
              </p:grpSpPr>
              <p:grpSp>
                <p:nvGrpSpPr>
                  <p:cNvPr id="2593" name="Group 1991"/>
                  <p:cNvGrpSpPr/>
                  <p:nvPr/>
                </p:nvGrpSpPr>
                <p:grpSpPr>
                  <a:xfrm>
                    <a:off x="4434120" y="4430160"/>
                    <a:ext cx="86040" cy="71640"/>
                    <a:chOff x="4434120" y="4430160"/>
                    <a:chExt cx="86040" cy="71640"/>
                  </a:xfrm>
                </p:grpSpPr>
                <p:sp>
                  <p:nvSpPr>
                    <p:cNvPr id="2594" name="Freeform 1992"/>
                    <p:cNvSpPr/>
                    <p:nvPr/>
                  </p:nvSpPr>
                  <p:spPr>
                    <a:xfrm rot="19953000">
                      <a:off x="4434840" y="4445640"/>
                      <a:ext cx="73080" cy="2124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21240"/>
                        <a:gd name="textAreaBottom" fmla="*/ 21600 h 212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95" name="Freeform 1993"/>
                    <p:cNvSpPr/>
                    <p:nvPr/>
                  </p:nvSpPr>
                  <p:spPr>
                    <a:xfrm rot="19953000">
                      <a:off x="4443120" y="4457880"/>
                      <a:ext cx="74520" cy="280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28080"/>
                        <a:gd name="textAreaBottom" fmla="*/ 28440 h 28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596" name="Freeform 1994"/>
                  <p:cNvSpPr/>
                  <p:nvPr/>
                </p:nvSpPr>
                <p:spPr>
                  <a:xfrm rot="19953000">
                    <a:off x="4496760" y="444924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7" name="Freeform 1995"/>
                  <p:cNvSpPr/>
                  <p:nvPr/>
                </p:nvSpPr>
                <p:spPr>
                  <a:xfrm rot="19953000">
                    <a:off x="4487400" y="4453920"/>
                    <a:ext cx="7200" cy="198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8" name="Freeform 1996"/>
                  <p:cNvSpPr/>
                  <p:nvPr/>
                </p:nvSpPr>
                <p:spPr>
                  <a:xfrm rot="19953000">
                    <a:off x="4478040" y="4462200"/>
                    <a:ext cx="6120" cy="1260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9" name="Freeform 1997"/>
                  <p:cNvSpPr/>
                  <p:nvPr/>
                </p:nvSpPr>
                <p:spPr>
                  <a:xfrm rot="19953000">
                    <a:off x="4477320" y="444564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0" name="Freeform 1998"/>
                  <p:cNvSpPr/>
                  <p:nvPr/>
                </p:nvSpPr>
                <p:spPr>
                  <a:xfrm rot="19953000">
                    <a:off x="4484160" y="4440240"/>
                    <a:ext cx="10080" cy="108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Text Box 36"/>
          <p:cNvSpPr/>
          <p:nvPr/>
        </p:nvSpPr>
        <p:spPr>
          <a:xfrm>
            <a:off x="695160" y="2571840"/>
            <a:ext cx="7858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 · 1 =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 · 2 = 16            43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верны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· 3 =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· 5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AutoShape 14">
            <a:hlinkClick r:id="rId1" action="ppaction://hlinksldjump"/>
          </p:cNvPr>
          <p:cNvSpPr/>
          <p:nvPr/>
        </p:nvSpPr>
        <p:spPr>
          <a:xfrm>
            <a:off x="7824960" y="6353280"/>
            <a:ext cx="1319040" cy="504720"/>
          </a:xfrm>
          <a:custGeom>
            <a:avLst/>
            <a:gdLst>
              <a:gd name="textAreaLeft" fmla="*/ 32400 w 1319040"/>
              <a:gd name="textAreaRight" fmla="*/ 1286640 w 1319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6425" h="21600">
                <a:moveTo>
                  <a:pt x="0" y="0"/>
                </a:moveTo>
                <a:lnTo>
                  <a:pt x="56425" y="0"/>
                </a:lnTo>
                <a:lnTo>
                  <a:pt x="56425" y="21600"/>
                </a:lnTo>
                <a:lnTo>
                  <a:pt x="0" y="21600"/>
                </a:lnTo>
                <a:close/>
              </a:path>
              <a:path fill="lightenLess" w="56425" h="21600">
                <a:moveTo>
                  <a:pt x="0" y="0"/>
                </a:moveTo>
                <a:lnTo>
                  <a:pt x="56425" y="0"/>
                </a:lnTo>
                <a:lnTo>
                  <a:pt x="55025" y="1400"/>
                </a:lnTo>
                <a:lnTo>
                  <a:pt x="1400" y="1400"/>
                </a:lnTo>
                <a:close/>
              </a:path>
              <a:path fill="darken" w="56425" h="21600">
                <a:moveTo>
                  <a:pt x="56425" y="0"/>
                </a:moveTo>
                <a:lnTo>
                  <a:pt x="56425" y="21600"/>
                </a:lnTo>
                <a:lnTo>
                  <a:pt x="55025" y="20200"/>
                </a:lnTo>
                <a:lnTo>
                  <a:pt x="55025" y="1400"/>
                </a:lnTo>
                <a:close/>
              </a:path>
              <a:path fill="darkenLess" w="56425" h="21600">
                <a:moveTo>
                  <a:pt x="56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5" y="20200"/>
                </a:lnTo>
                <a:close/>
              </a:path>
              <a:path fill="lighten" w="56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Наз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к вопро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Заголовок 1"/>
          <p:cNvSpPr/>
          <p:nvPr/>
        </p:nvSpPr>
        <p:spPr>
          <a:xfrm>
            <a:off x="500040" y="357120"/>
            <a:ext cx="723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Arial"/>
                <a:ea typeface="Arial"/>
              </a:rPr>
              <a:t>Ответ задачи 3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Правая фигурная скобка 5"/>
          <p:cNvSpPr/>
          <p:nvPr/>
        </p:nvSpPr>
        <p:spPr>
          <a:xfrm>
            <a:off x="2571840" y="2571840"/>
            <a:ext cx="655560" cy="1928880"/>
          </a:xfrm>
          <a:custGeom>
            <a:avLst/>
            <a:gdLst>
              <a:gd name="textAreaLeft" fmla="*/ 0 w 655560"/>
              <a:gd name="textAreaRight" fmla="*/ 236520 w 655560"/>
              <a:gd name="textAreaTop" fmla="*/ 16920 h 1928880"/>
              <a:gd name="textAreaBottom" fmla="*/ 191196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6"/>
                  <a:pt x="10800" y="612"/>
                </a:cubicBezTo>
                <a:lnTo>
                  <a:pt x="10800" y="10188"/>
                </a:lnTo>
                <a:cubicBezTo>
                  <a:pt x="10800" y="10494"/>
                  <a:pt x="16200" y="10800"/>
                  <a:pt x="21600" y="10800"/>
                </a:cubicBezTo>
                <a:cubicBezTo>
                  <a:pt x="16200" y="10800"/>
                  <a:pt x="10800" y="11106"/>
                  <a:pt x="10800" y="11412"/>
                </a:cubicBezTo>
                <a:lnTo>
                  <a:pt x="10800" y="20988"/>
                </a:lnTo>
                <a:cubicBezTo>
                  <a:pt x="10800" y="21294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TextBox 7"/>
          <p:cNvSpPr/>
          <p:nvPr/>
        </p:nvSpPr>
        <p:spPr>
          <a:xfrm>
            <a:off x="1403280" y="517212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0 – 43 = 107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верны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TextBox 8"/>
          <p:cNvSpPr/>
          <p:nvPr/>
        </p:nvSpPr>
        <p:spPr>
          <a:xfrm>
            <a:off x="695160" y="1357200"/>
            <a:ext cx="752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0 · 5 = 150 –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все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дач в контроль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AutoShape 14">
            <a:hlinkClick r:id="rId1" action="ppaction://hlinksldjump"/>
          </p:cNvPr>
          <p:cNvSpPr/>
          <p:nvPr/>
        </p:nvSpPr>
        <p:spPr>
          <a:xfrm>
            <a:off x="7824960" y="6353280"/>
            <a:ext cx="1319040" cy="504720"/>
          </a:xfrm>
          <a:custGeom>
            <a:avLst/>
            <a:gdLst>
              <a:gd name="textAreaLeft" fmla="*/ 32400 w 1319040"/>
              <a:gd name="textAreaRight" fmla="*/ 1286640 w 1319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6425" h="21600">
                <a:moveTo>
                  <a:pt x="0" y="0"/>
                </a:moveTo>
                <a:lnTo>
                  <a:pt x="56425" y="0"/>
                </a:lnTo>
                <a:lnTo>
                  <a:pt x="56425" y="21600"/>
                </a:lnTo>
                <a:lnTo>
                  <a:pt x="0" y="21600"/>
                </a:lnTo>
                <a:close/>
              </a:path>
              <a:path fill="lightenLess" w="56425" h="21600">
                <a:moveTo>
                  <a:pt x="0" y="0"/>
                </a:moveTo>
                <a:lnTo>
                  <a:pt x="56425" y="0"/>
                </a:lnTo>
                <a:lnTo>
                  <a:pt x="55025" y="1400"/>
                </a:lnTo>
                <a:lnTo>
                  <a:pt x="1400" y="1400"/>
                </a:lnTo>
                <a:close/>
              </a:path>
              <a:path fill="darken" w="56425" h="21600">
                <a:moveTo>
                  <a:pt x="56425" y="0"/>
                </a:moveTo>
                <a:lnTo>
                  <a:pt x="56425" y="21600"/>
                </a:lnTo>
                <a:lnTo>
                  <a:pt x="55025" y="20200"/>
                </a:lnTo>
                <a:lnTo>
                  <a:pt x="55025" y="1400"/>
                </a:lnTo>
                <a:close/>
              </a:path>
              <a:path fill="darkenLess" w="56425" h="21600">
                <a:moveTo>
                  <a:pt x="56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5" y="20200"/>
                </a:lnTo>
                <a:close/>
              </a:path>
              <a:path fill="lighten" w="56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Наз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к вопро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Заголовок 1"/>
          <p:cNvSpPr/>
          <p:nvPr/>
        </p:nvSpPr>
        <p:spPr>
          <a:xfrm>
            <a:off x="500040" y="357120"/>
            <a:ext cx="723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Arial"/>
                <a:ea typeface="Arial"/>
              </a:rPr>
              <a:t>Ответ задачи 4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9" name="TextBox 10"/>
          <p:cNvSpPr/>
          <p:nvPr/>
        </p:nvSpPr>
        <p:spPr>
          <a:xfrm>
            <a:off x="1143000" y="2428920"/>
            <a:ext cx="71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7 · 7 · 7 · 7 · 7 =</a:t>
            </a:r>
            <a:r>
              <a:rPr b="0" lang="ru-RU" sz="4800" spc="-1" strike="noStrike">
                <a:solidFill>
                  <a:srgbClr val="376092"/>
                </a:solidFill>
                <a:latin typeface="Calibri"/>
              </a:rPr>
              <a:t>16807 </a:t>
            </a:r>
            <a:r>
              <a:rPr b="0" lang="ru-RU" sz="4000" spc="-1" strike="noStrike">
                <a:solidFill>
                  <a:srgbClr val="376092"/>
                </a:solidFill>
                <a:latin typeface="Calibri"/>
              </a:rPr>
              <a:t>мер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TextBox 11"/>
          <p:cNvSpPr/>
          <p:nvPr/>
        </p:nvSpPr>
        <p:spPr>
          <a:xfrm>
            <a:off x="1143000" y="392904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TextBox 20"/>
          <p:cNvSpPr/>
          <p:nvPr/>
        </p:nvSpPr>
        <p:spPr>
          <a:xfrm>
            <a:off x="403200" y="34876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TextBox 22"/>
          <p:cNvSpPr/>
          <p:nvPr/>
        </p:nvSpPr>
        <p:spPr>
          <a:xfrm>
            <a:off x="2286000" y="457200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TextBox 23"/>
          <p:cNvSpPr/>
          <p:nvPr/>
        </p:nvSpPr>
        <p:spPr>
          <a:xfrm>
            <a:off x="3357720" y="40006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кол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TextBox 24"/>
          <p:cNvSpPr/>
          <p:nvPr/>
        </p:nvSpPr>
        <p:spPr>
          <a:xfrm>
            <a:off x="4214880" y="335772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м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15" name="Прямая со стрелкой 26"/>
          <p:cNvCxnSpPr/>
          <p:nvPr/>
        </p:nvCxnSpPr>
        <p:spPr>
          <a:xfrm flipH="1">
            <a:off x="970920" y="3178080"/>
            <a:ext cx="361080" cy="465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6" name="Прямая со стрелкой 28"/>
          <p:cNvCxnSpPr/>
          <p:nvPr/>
        </p:nvCxnSpPr>
        <p:spPr>
          <a:xfrm flipH="1">
            <a:off x="1999440" y="3143160"/>
            <a:ext cx="72360" cy="929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7" name="Прямая со стрелкой 30"/>
          <p:cNvCxnSpPr/>
          <p:nvPr/>
        </p:nvCxnSpPr>
        <p:spPr>
          <a:xfrm>
            <a:off x="2857320" y="3106440"/>
            <a:ext cx="1080" cy="1608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8" name="Прямая со стрелкой 32"/>
          <p:cNvCxnSpPr/>
          <p:nvPr/>
        </p:nvCxnSpPr>
        <p:spPr>
          <a:xfrm>
            <a:off x="3643200" y="3143160"/>
            <a:ext cx="215280" cy="10008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9" name="Прямая со стрелкой 34"/>
          <p:cNvCxnSpPr/>
          <p:nvPr/>
        </p:nvCxnSpPr>
        <p:spPr>
          <a:xfrm>
            <a:off x="4428000" y="3106800"/>
            <a:ext cx="143640" cy="3589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AutoShape 14">
            <a:hlinkClick r:id="rId1" action="ppaction://hlinksldjump"/>
          </p:cNvPr>
          <p:cNvSpPr/>
          <p:nvPr/>
        </p:nvSpPr>
        <p:spPr>
          <a:xfrm>
            <a:off x="7824960" y="6353280"/>
            <a:ext cx="1319040" cy="504720"/>
          </a:xfrm>
          <a:custGeom>
            <a:avLst/>
            <a:gdLst>
              <a:gd name="textAreaLeft" fmla="*/ 32400 w 1319040"/>
              <a:gd name="textAreaRight" fmla="*/ 1286640 w 1319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6425" h="21600">
                <a:moveTo>
                  <a:pt x="0" y="0"/>
                </a:moveTo>
                <a:lnTo>
                  <a:pt x="56425" y="0"/>
                </a:lnTo>
                <a:lnTo>
                  <a:pt x="56425" y="21600"/>
                </a:lnTo>
                <a:lnTo>
                  <a:pt x="0" y="21600"/>
                </a:lnTo>
                <a:close/>
              </a:path>
              <a:path fill="lightenLess" w="56425" h="21600">
                <a:moveTo>
                  <a:pt x="0" y="0"/>
                </a:moveTo>
                <a:lnTo>
                  <a:pt x="56425" y="0"/>
                </a:lnTo>
                <a:lnTo>
                  <a:pt x="55025" y="1400"/>
                </a:lnTo>
                <a:lnTo>
                  <a:pt x="1400" y="1400"/>
                </a:lnTo>
                <a:close/>
              </a:path>
              <a:path fill="darken" w="56425" h="21600">
                <a:moveTo>
                  <a:pt x="56425" y="0"/>
                </a:moveTo>
                <a:lnTo>
                  <a:pt x="56425" y="21600"/>
                </a:lnTo>
                <a:lnTo>
                  <a:pt x="55025" y="20200"/>
                </a:lnTo>
                <a:lnTo>
                  <a:pt x="55025" y="1400"/>
                </a:lnTo>
                <a:close/>
              </a:path>
              <a:path fill="darkenLess" w="56425" h="21600">
                <a:moveTo>
                  <a:pt x="56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5" y="20200"/>
                </a:lnTo>
                <a:close/>
              </a:path>
              <a:path fill="lighten" w="56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Наз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к вопро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Заголовок 1"/>
          <p:cNvSpPr/>
          <p:nvPr/>
        </p:nvSpPr>
        <p:spPr>
          <a:xfrm>
            <a:off x="500040" y="357120"/>
            <a:ext cx="723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Arial"/>
                <a:ea typeface="Arial"/>
              </a:rPr>
              <a:t>Ответ задачи 5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22" name="Соединительная линия уступом 5"/>
          <p:cNvCxnSpPr/>
          <p:nvPr/>
        </p:nvCxnSpPr>
        <p:spPr>
          <a:xfrm flipV="1">
            <a:off x="1213920" y="5071320"/>
            <a:ext cx="2072520" cy="786600"/>
          </a:xfrm>
          <a:prstGeom prst="bentConnector3">
            <a:avLst>
              <a:gd name="adj1" fmla="val 50000"/>
            </a:avLst>
          </a:prstGeom>
          <a:ln w="50760">
            <a:solidFill>
              <a:srgbClr val="4a7ebb"/>
            </a:solidFill>
            <a:miter/>
          </a:ln>
        </p:spPr>
      </p:cxnSp>
      <p:cxnSp>
        <p:nvCxnSpPr>
          <p:cNvPr id="2623" name="Соединительная линия уступом 11"/>
          <p:cNvCxnSpPr/>
          <p:nvPr/>
        </p:nvCxnSpPr>
        <p:spPr>
          <a:xfrm flipH="1" flipV="1" rot="5400000">
            <a:off x="3070800" y="3785400"/>
            <a:ext cx="1500840" cy="1072440"/>
          </a:xfrm>
          <a:prstGeom prst="bentConnector3">
            <a:avLst>
              <a:gd name="adj1" fmla="val 50000"/>
            </a:avLst>
          </a:prstGeom>
          <a:ln w="50760">
            <a:solidFill>
              <a:srgbClr val="4a7ebb"/>
            </a:solidFill>
            <a:miter/>
          </a:ln>
        </p:spPr>
      </p:cxnSp>
      <p:cxnSp>
        <p:nvCxnSpPr>
          <p:cNvPr id="2624" name="Соединительная линия уступом 13"/>
          <p:cNvCxnSpPr/>
          <p:nvPr/>
        </p:nvCxnSpPr>
        <p:spPr>
          <a:xfrm flipV="1">
            <a:off x="4357800" y="2714040"/>
            <a:ext cx="2071800" cy="857880"/>
          </a:xfrm>
          <a:prstGeom prst="bentConnector3">
            <a:avLst>
              <a:gd name="adj1" fmla="val 50000"/>
            </a:avLst>
          </a:prstGeom>
          <a:ln w="50760">
            <a:solidFill>
              <a:srgbClr val="4a7ebb"/>
            </a:solidFill>
            <a:miter/>
          </a:ln>
        </p:spPr>
      </p:cxnSp>
      <p:sp>
        <p:nvSpPr>
          <p:cNvPr id="2625" name="TextBox 14"/>
          <p:cNvSpPr/>
          <p:nvPr/>
        </p:nvSpPr>
        <p:spPr>
          <a:xfrm>
            <a:off x="214200" y="564372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эта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TextBox 15"/>
          <p:cNvSpPr/>
          <p:nvPr/>
        </p:nvSpPr>
        <p:spPr>
          <a:xfrm>
            <a:off x="5357880" y="17859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эта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TextBox 16"/>
          <p:cNvSpPr/>
          <p:nvPr/>
        </p:nvSpPr>
        <p:spPr>
          <a:xfrm>
            <a:off x="4286160" y="2571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эта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TextBox 18"/>
          <p:cNvSpPr/>
          <p:nvPr/>
        </p:nvSpPr>
        <p:spPr>
          <a:xfrm>
            <a:off x="3286080" y="335772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эта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TextBox 19"/>
          <p:cNvSpPr/>
          <p:nvPr/>
        </p:nvSpPr>
        <p:spPr>
          <a:xfrm>
            <a:off x="2143080" y="41432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эта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TextBox 20"/>
          <p:cNvSpPr/>
          <p:nvPr/>
        </p:nvSpPr>
        <p:spPr>
          <a:xfrm>
            <a:off x="1214280" y="492912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эта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31" name="Соединительная линия уступом 25"/>
          <p:cNvCxnSpPr/>
          <p:nvPr/>
        </p:nvCxnSpPr>
        <p:spPr>
          <a:xfrm flipH="1" flipV="1" rot="5400000">
            <a:off x="6249600" y="1535040"/>
            <a:ext cx="1358280" cy="1001160"/>
          </a:xfrm>
          <a:prstGeom prst="bentConnector3">
            <a:avLst>
              <a:gd name="adj1" fmla="val 50000"/>
            </a:avLst>
          </a:prstGeom>
          <a:ln w="50760">
            <a:solidFill>
              <a:srgbClr val="4a7ebb"/>
            </a:solidFill>
            <a:miter/>
          </a:ln>
        </p:spPr>
      </p:cxnSp>
      <p:sp>
        <p:nvSpPr>
          <p:cNvPr id="2632" name="Правая фигурная скобка 26"/>
          <p:cNvSpPr/>
          <p:nvPr/>
        </p:nvSpPr>
        <p:spPr>
          <a:xfrm>
            <a:off x="3286080" y="4357800"/>
            <a:ext cx="500040" cy="150012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500120"/>
              <a:gd name="textAreaBottom" fmla="*/ 14871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TextBox 27"/>
          <p:cNvSpPr/>
          <p:nvPr/>
        </p:nvSpPr>
        <p:spPr>
          <a:xfrm>
            <a:off x="3643200" y="478620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36 ступен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Правая фигурная скобка 29"/>
          <p:cNvSpPr/>
          <p:nvPr/>
        </p:nvSpPr>
        <p:spPr>
          <a:xfrm>
            <a:off x="7429680" y="5143680"/>
            <a:ext cx="214200" cy="71424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240"/>
              <a:gd name="textAreaBottom" fmla="*/ 70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Правая фигурная скобка 30"/>
          <p:cNvSpPr/>
          <p:nvPr/>
        </p:nvSpPr>
        <p:spPr>
          <a:xfrm>
            <a:off x="7429680" y="4357800"/>
            <a:ext cx="214200" cy="71424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240"/>
              <a:gd name="textAreaBottom" fmla="*/ 70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6" name="Правая фигурная скобка 31"/>
          <p:cNvSpPr/>
          <p:nvPr/>
        </p:nvSpPr>
        <p:spPr>
          <a:xfrm>
            <a:off x="7429680" y="3571920"/>
            <a:ext cx="214200" cy="71424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240"/>
              <a:gd name="textAreaBottom" fmla="*/ 70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Правая фигурная скобка 32"/>
          <p:cNvSpPr/>
          <p:nvPr/>
        </p:nvSpPr>
        <p:spPr>
          <a:xfrm>
            <a:off x="7429680" y="2786040"/>
            <a:ext cx="214200" cy="71424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240"/>
              <a:gd name="textAreaBottom" fmla="*/ 70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Правая фигурная скобка 33"/>
          <p:cNvSpPr/>
          <p:nvPr/>
        </p:nvSpPr>
        <p:spPr>
          <a:xfrm>
            <a:off x="7429680" y="2000160"/>
            <a:ext cx="214200" cy="7146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600"/>
              <a:gd name="textAreaBottom" fmla="*/ 709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TextBox 35"/>
          <p:cNvSpPr/>
          <p:nvPr/>
        </p:nvSpPr>
        <p:spPr>
          <a:xfrm>
            <a:off x="7572240" y="207180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TextBox 36"/>
          <p:cNvSpPr/>
          <p:nvPr/>
        </p:nvSpPr>
        <p:spPr>
          <a:xfrm>
            <a:off x="7572240" y="29289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TextBox 37"/>
          <p:cNvSpPr/>
          <p:nvPr/>
        </p:nvSpPr>
        <p:spPr>
          <a:xfrm>
            <a:off x="7572240" y="37148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extBox 38"/>
          <p:cNvSpPr/>
          <p:nvPr/>
        </p:nvSpPr>
        <p:spPr>
          <a:xfrm>
            <a:off x="7572240" y="450072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TextBox 39"/>
          <p:cNvSpPr/>
          <p:nvPr/>
        </p:nvSpPr>
        <p:spPr>
          <a:xfrm>
            <a:off x="7572240" y="52862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TextBox 40"/>
          <p:cNvSpPr/>
          <p:nvPr/>
        </p:nvSpPr>
        <p:spPr>
          <a:xfrm>
            <a:off x="4071960" y="57862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8 · 5 = 90 ступен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2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AutoShape 14">
            <a:hlinkClick r:id="rId1" action="ppaction://hlinksldjump"/>
          </p:cNvPr>
          <p:cNvSpPr/>
          <p:nvPr/>
        </p:nvSpPr>
        <p:spPr>
          <a:xfrm>
            <a:off x="7824960" y="6353280"/>
            <a:ext cx="1319040" cy="504720"/>
          </a:xfrm>
          <a:custGeom>
            <a:avLst/>
            <a:gdLst>
              <a:gd name="textAreaLeft" fmla="*/ 32400 w 1319040"/>
              <a:gd name="textAreaRight" fmla="*/ 1286640 w 1319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6425" h="21600">
                <a:moveTo>
                  <a:pt x="0" y="0"/>
                </a:moveTo>
                <a:lnTo>
                  <a:pt x="56425" y="0"/>
                </a:lnTo>
                <a:lnTo>
                  <a:pt x="56425" y="21600"/>
                </a:lnTo>
                <a:lnTo>
                  <a:pt x="0" y="21600"/>
                </a:lnTo>
                <a:close/>
              </a:path>
              <a:path fill="lightenLess" w="56425" h="21600">
                <a:moveTo>
                  <a:pt x="0" y="0"/>
                </a:moveTo>
                <a:lnTo>
                  <a:pt x="56425" y="0"/>
                </a:lnTo>
                <a:lnTo>
                  <a:pt x="55025" y="1400"/>
                </a:lnTo>
                <a:lnTo>
                  <a:pt x="1400" y="1400"/>
                </a:lnTo>
                <a:close/>
              </a:path>
              <a:path fill="darken" w="56425" h="21600">
                <a:moveTo>
                  <a:pt x="56425" y="0"/>
                </a:moveTo>
                <a:lnTo>
                  <a:pt x="56425" y="21600"/>
                </a:lnTo>
                <a:lnTo>
                  <a:pt x="55025" y="20200"/>
                </a:lnTo>
                <a:lnTo>
                  <a:pt x="55025" y="1400"/>
                </a:lnTo>
                <a:close/>
              </a:path>
              <a:path fill="darkenLess" w="56425" h="21600">
                <a:moveTo>
                  <a:pt x="56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5" y="20200"/>
                </a:lnTo>
                <a:close/>
              </a:path>
              <a:path fill="lighten" w="56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Наз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к вопро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Заголовок 1"/>
          <p:cNvSpPr/>
          <p:nvPr/>
        </p:nvSpPr>
        <p:spPr>
          <a:xfrm>
            <a:off x="500040" y="357120"/>
            <a:ext cx="723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Arial"/>
                <a:ea typeface="Arial"/>
              </a:rPr>
              <a:t>Ответ задачи 6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7" name="Picture 193" descr="Рисунок2"/>
          <p:cNvPicPr/>
          <p:nvPr/>
        </p:nvPicPr>
        <p:blipFill>
          <a:blip r:embed="rId2"/>
          <a:stretch/>
        </p:blipFill>
        <p:spPr>
          <a:xfrm>
            <a:off x="636480" y="3406680"/>
            <a:ext cx="2786040" cy="3121200"/>
          </a:xfrm>
          <a:prstGeom prst="rect">
            <a:avLst/>
          </a:prstGeom>
          <a:ln w="0">
            <a:noFill/>
          </a:ln>
        </p:spPr>
      </p:pic>
      <p:grpSp>
        <p:nvGrpSpPr>
          <p:cNvPr id="2648" name="Group 956"/>
          <p:cNvGrpSpPr/>
          <p:nvPr/>
        </p:nvGrpSpPr>
        <p:grpSpPr>
          <a:xfrm>
            <a:off x="2906640" y="5357880"/>
            <a:ext cx="1152360" cy="1186920"/>
            <a:chOff x="2906640" y="5357880"/>
            <a:chExt cx="1152360" cy="1186920"/>
          </a:xfrm>
        </p:grpSpPr>
        <p:sp>
          <p:nvSpPr>
            <p:cNvPr id="2649" name="Freeform 957"/>
            <p:cNvSpPr/>
            <p:nvPr/>
          </p:nvSpPr>
          <p:spPr>
            <a:xfrm rot="20865000">
              <a:off x="3717720" y="5590800"/>
              <a:ext cx="282600" cy="579240"/>
            </a:xfrm>
            <a:custGeom>
              <a:avLst/>
              <a:gdLst/>
              <a:ahLst/>
              <a:rect l="l" t="t" r="r" b="b"/>
              <a:pathLst>
                <a:path w="377" h="623">
                  <a:moveTo>
                    <a:pt x="102" y="270"/>
                  </a:moveTo>
                  <a:cubicBezTo>
                    <a:pt x="102" y="262"/>
                    <a:pt x="101" y="259"/>
                    <a:pt x="103" y="248"/>
                  </a:cubicBezTo>
                  <a:cubicBezTo>
                    <a:pt x="105" y="237"/>
                    <a:pt x="105" y="219"/>
                    <a:pt x="112" y="203"/>
                  </a:cubicBezTo>
                  <a:cubicBezTo>
                    <a:pt x="119" y="187"/>
                    <a:pt x="132" y="167"/>
                    <a:pt x="145" y="149"/>
                  </a:cubicBezTo>
                  <a:cubicBezTo>
                    <a:pt x="158" y="131"/>
                    <a:pt x="169" y="103"/>
                    <a:pt x="190" y="92"/>
                  </a:cubicBezTo>
                  <a:cubicBezTo>
                    <a:pt x="211" y="81"/>
                    <a:pt x="253" y="72"/>
                    <a:pt x="271" y="83"/>
                  </a:cubicBezTo>
                  <a:cubicBezTo>
                    <a:pt x="289" y="94"/>
                    <a:pt x="295" y="131"/>
                    <a:pt x="298" y="158"/>
                  </a:cubicBezTo>
                  <a:cubicBezTo>
                    <a:pt x="301" y="185"/>
                    <a:pt x="299" y="216"/>
                    <a:pt x="289" y="245"/>
                  </a:cubicBezTo>
                  <a:cubicBezTo>
                    <a:pt x="279" y="274"/>
                    <a:pt x="259" y="308"/>
                    <a:pt x="235" y="332"/>
                  </a:cubicBezTo>
                  <a:cubicBezTo>
                    <a:pt x="211" y="356"/>
                    <a:pt x="171" y="374"/>
                    <a:pt x="145" y="389"/>
                  </a:cubicBezTo>
                  <a:cubicBezTo>
                    <a:pt x="119" y="404"/>
                    <a:pt x="96" y="410"/>
                    <a:pt x="76" y="425"/>
                  </a:cubicBezTo>
                  <a:cubicBezTo>
                    <a:pt x="56" y="440"/>
                    <a:pt x="33" y="458"/>
                    <a:pt x="22" y="479"/>
                  </a:cubicBezTo>
                  <a:cubicBezTo>
                    <a:pt x="11" y="500"/>
                    <a:pt x="9" y="531"/>
                    <a:pt x="7" y="554"/>
                  </a:cubicBezTo>
                  <a:cubicBezTo>
                    <a:pt x="5" y="577"/>
                    <a:pt x="0" y="615"/>
                    <a:pt x="7" y="619"/>
                  </a:cubicBezTo>
                  <a:cubicBezTo>
                    <a:pt x="13" y="623"/>
                    <a:pt x="36" y="601"/>
                    <a:pt x="46" y="581"/>
                  </a:cubicBezTo>
                  <a:cubicBezTo>
                    <a:pt x="56" y="560"/>
                    <a:pt x="47" y="520"/>
                    <a:pt x="71" y="497"/>
                  </a:cubicBezTo>
                  <a:cubicBezTo>
                    <a:pt x="95" y="474"/>
                    <a:pt x="151" y="468"/>
                    <a:pt x="192" y="444"/>
                  </a:cubicBezTo>
                  <a:cubicBezTo>
                    <a:pt x="233" y="420"/>
                    <a:pt x="287" y="401"/>
                    <a:pt x="318" y="354"/>
                  </a:cubicBezTo>
                  <a:cubicBezTo>
                    <a:pt x="349" y="307"/>
                    <a:pt x="373" y="220"/>
                    <a:pt x="375" y="167"/>
                  </a:cubicBezTo>
                  <a:cubicBezTo>
                    <a:pt x="377" y="113"/>
                    <a:pt x="352" y="59"/>
                    <a:pt x="329" y="31"/>
                  </a:cubicBezTo>
                  <a:cubicBezTo>
                    <a:pt x="307" y="3"/>
                    <a:pt x="272" y="0"/>
                    <a:pt x="242" y="0"/>
                  </a:cubicBezTo>
                  <a:cubicBezTo>
                    <a:pt x="212" y="0"/>
                    <a:pt x="173" y="18"/>
                    <a:pt x="147" y="34"/>
                  </a:cubicBezTo>
                  <a:cubicBezTo>
                    <a:pt x="121" y="51"/>
                    <a:pt x="100" y="69"/>
                    <a:pt x="85" y="102"/>
                  </a:cubicBezTo>
                  <a:cubicBezTo>
                    <a:pt x="70" y="136"/>
                    <a:pt x="55" y="198"/>
                    <a:pt x="54" y="230"/>
                  </a:cubicBezTo>
                  <a:cubicBezTo>
                    <a:pt x="53" y="262"/>
                    <a:pt x="74" y="285"/>
                    <a:pt x="82" y="295"/>
                  </a:cubicBezTo>
                  <a:cubicBezTo>
                    <a:pt x="91" y="305"/>
                    <a:pt x="102" y="299"/>
                    <a:pt x="105" y="295"/>
                  </a:cubicBezTo>
                  <a:cubicBezTo>
                    <a:pt x="108" y="291"/>
                    <a:pt x="104" y="278"/>
                    <a:pt x="102" y="27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ffff"/>
                </a:gs>
                <a:gs pos="100000">
                  <a:srgbClr val="ffffff"/>
                </a:gs>
              </a:gsLst>
              <a:lin ang="19638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Freeform 958"/>
            <p:cNvSpPr/>
            <p:nvPr/>
          </p:nvSpPr>
          <p:spPr>
            <a:xfrm>
              <a:off x="3170160" y="5473440"/>
              <a:ext cx="695160" cy="1071360"/>
            </a:xfrm>
            <a:custGeom>
              <a:avLst/>
              <a:gdLst/>
              <a:ahLst/>
              <a:rect l="l" t="t" r="r" b="b"/>
              <a:pathLst>
                <a:path w="1732" h="2555">
                  <a:moveTo>
                    <a:pt x="396" y="280"/>
                  </a:moveTo>
                  <a:cubicBezTo>
                    <a:pt x="428" y="144"/>
                    <a:pt x="453" y="45"/>
                    <a:pt x="396" y="328"/>
                  </a:cubicBezTo>
                  <a:cubicBezTo>
                    <a:pt x="339" y="611"/>
                    <a:pt x="104" y="1627"/>
                    <a:pt x="52" y="1976"/>
                  </a:cubicBezTo>
                  <a:cubicBezTo>
                    <a:pt x="0" y="2325"/>
                    <a:pt x="19" y="2339"/>
                    <a:pt x="84" y="2424"/>
                  </a:cubicBezTo>
                  <a:cubicBezTo>
                    <a:pt x="149" y="2509"/>
                    <a:pt x="296" y="2477"/>
                    <a:pt x="444" y="2488"/>
                  </a:cubicBezTo>
                  <a:cubicBezTo>
                    <a:pt x="592" y="2499"/>
                    <a:pt x="780" y="2488"/>
                    <a:pt x="972" y="2488"/>
                  </a:cubicBezTo>
                  <a:cubicBezTo>
                    <a:pt x="1164" y="2488"/>
                    <a:pt x="1469" y="2555"/>
                    <a:pt x="1596" y="2488"/>
                  </a:cubicBezTo>
                  <a:cubicBezTo>
                    <a:pt x="1723" y="2421"/>
                    <a:pt x="1732" y="2272"/>
                    <a:pt x="1732" y="2088"/>
                  </a:cubicBezTo>
                  <a:cubicBezTo>
                    <a:pt x="1732" y="1904"/>
                    <a:pt x="1651" y="1669"/>
                    <a:pt x="1596" y="1384"/>
                  </a:cubicBezTo>
                  <a:cubicBezTo>
                    <a:pt x="1541" y="1099"/>
                    <a:pt x="1452" y="600"/>
                    <a:pt x="1404" y="376"/>
                  </a:cubicBezTo>
                  <a:cubicBezTo>
                    <a:pt x="1356" y="152"/>
                    <a:pt x="1332" y="80"/>
                    <a:pt x="1308" y="40"/>
                  </a:cubicBezTo>
                  <a:cubicBezTo>
                    <a:pt x="1284" y="0"/>
                    <a:pt x="1308" y="104"/>
                    <a:pt x="1260" y="136"/>
                  </a:cubicBezTo>
                  <a:cubicBezTo>
                    <a:pt x="1212" y="168"/>
                    <a:pt x="1108" y="216"/>
                    <a:pt x="1020" y="232"/>
                  </a:cubicBezTo>
                  <a:cubicBezTo>
                    <a:pt x="932" y="248"/>
                    <a:pt x="812" y="248"/>
                    <a:pt x="732" y="232"/>
                  </a:cubicBezTo>
                  <a:cubicBezTo>
                    <a:pt x="652" y="216"/>
                    <a:pt x="588" y="168"/>
                    <a:pt x="540" y="136"/>
                  </a:cubicBezTo>
                  <a:cubicBezTo>
                    <a:pt x="492" y="104"/>
                    <a:pt x="460" y="40"/>
                    <a:pt x="444" y="40"/>
                  </a:cubicBezTo>
                  <a:cubicBezTo>
                    <a:pt x="428" y="40"/>
                    <a:pt x="436" y="88"/>
                    <a:pt x="444" y="136"/>
                  </a:cubicBezTo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Oval 959"/>
            <p:cNvSpPr/>
            <p:nvPr/>
          </p:nvSpPr>
          <p:spPr>
            <a:xfrm>
              <a:off x="3317400" y="5445000"/>
              <a:ext cx="442440" cy="17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Oval 960"/>
            <p:cNvSpPr/>
            <p:nvPr/>
          </p:nvSpPr>
          <p:spPr>
            <a:xfrm>
              <a:off x="3338640" y="5415840"/>
              <a:ext cx="40032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Freeform 961"/>
            <p:cNvSpPr/>
            <p:nvPr/>
          </p:nvSpPr>
          <p:spPr>
            <a:xfrm>
              <a:off x="3465000" y="5357880"/>
              <a:ext cx="147240" cy="1260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388" h="349">
                  <a:moveTo>
                    <a:pt x="192" y="333"/>
                  </a:moveTo>
                  <a:cubicBezTo>
                    <a:pt x="160" y="333"/>
                    <a:pt x="106" y="342"/>
                    <a:pt x="96" y="333"/>
                  </a:cubicBezTo>
                  <a:cubicBezTo>
                    <a:pt x="86" y="324"/>
                    <a:pt x="129" y="303"/>
                    <a:pt x="129" y="279"/>
                  </a:cubicBezTo>
                  <a:cubicBezTo>
                    <a:pt x="129" y="255"/>
                    <a:pt x="118" y="220"/>
                    <a:pt x="96" y="189"/>
                  </a:cubicBezTo>
                  <a:cubicBezTo>
                    <a:pt x="74" y="158"/>
                    <a:pt x="0" y="122"/>
                    <a:pt x="0" y="93"/>
                  </a:cubicBezTo>
                  <a:cubicBezTo>
                    <a:pt x="0" y="64"/>
                    <a:pt x="47" y="28"/>
                    <a:pt x="93" y="15"/>
                  </a:cubicBezTo>
                  <a:cubicBezTo>
                    <a:pt x="139" y="2"/>
                    <a:pt x="230" y="0"/>
                    <a:pt x="279" y="15"/>
                  </a:cubicBezTo>
                  <a:cubicBezTo>
                    <a:pt x="328" y="30"/>
                    <a:pt x="388" y="76"/>
                    <a:pt x="387" y="105"/>
                  </a:cubicBezTo>
                  <a:cubicBezTo>
                    <a:pt x="386" y="134"/>
                    <a:pt x="297" y="167"/>
                    <a:pt x="273" y="189"/>
                  </a:cubicBezTo>
                  <a:cubicBezTo>
                    <a:pt x="249" y="211"/>
                    <a:pt x="238" y="213"/>
                    <a:pt x="240" y="237"/>
                  </a:cubicBezTo>
                  <a:cubicBezTo>
                    <a:pt x="242" y="261"/>
                    <a:pt x="296" y="317"/>
                    <a:pt x="288" y="333"/>
                  </a:cubicBezTo>
                  <a:cubicBezTo>
                    <a:pt x="280" y="349"/>
                    <a:pt x="224" y="333"/>
                    <a:pt x="192" y="333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54" name="Group 962"/>
            <p:cNvGrpSpPr/>
            <p:nvPr/>
          </p:nvGrpSpPr>
          <p:grpSpPr>
            <a:xfrm>
              <a:off x="2906640" y="5544720"/>
              <a:ext cx="421560" cy="677160"/>
              <a:chOff x="2906640" y="5544720"/>
              <a:chExt cx="421560" cy="677160"/>
            </a:xfrm>
          </p:grpSpPr>
          <p:sp>
            <p:nvSpPr>
              <p:cNvPr id="2655" name="Freeform 963"/>
              <p:cNvSpPr/>
              <p:nvPr/>
            </p:nvSpPr>
            <p:spPr>
              <a:xfrm rot="348600">
                <a:off x="2937960" y="5560920"/>
                <a:ext cx="358200" cy="644040"/>
              </a:xfrm>
              <a:custGeom>
                <a:avLst/>
                <a:gdLst/>
                <a:ahLst/>
                <a:rect l="l" t="t" r="r" b="b"/>
                <a:pathLst>
                  <a:path w="1106" h="1039">
                    <a:moveTo>
                      <a:pt x="874" y="1007"/>
                    </a:moveTo>
                    <a:cubicBezTo>
                      <a:pt x="866" y="1001"/>
                      <a:pt x="856" y="1038"/>
                      <a:pt x="824" y="967"/>
                    </a:cubicBezTo>
                    <a:cubicBezTo>
                      <a:pt x="792" y="896"/>
                      <a:pt x="760" y="703"/>
                      <a:pt x="680" y="583"/>
                    </a:cubicBezTo>
                    <a:cubicBezTo>
                      <a:pt x="600" y="463"/>
                      <a:pt x="448" y="319"/>
                      <a:pt x="344" y="247"/>
                    </a:cubicBezTo>
                    <a:cubicBezTo>
                      <a:pt x="240" y="175"/>
                      <a:pt x="112" y="180"/>
                      <a:pt x="56" y="151"/>
                    </a:cubicBezTo>
                    <a:cubicBezTo>
                      <a:pt x="0" y="122"/>
                      <a:pt x="12" y="98"/>
                      <a:pt x="10" y="75"/>
                    </a:cubicBezTo>
                    <a:cubicBezTo>
                      <a:pt x="8" y="52"/>
                      <a:pt x="22" y="22"/>
                      <a:pt x="46" y="11"/>
                    </a:cubicBezTo>
                    <a:cubicBezTo>
                      <a:pt x="70" y="0"/>
                      <a:pt x="94" y="0"/>
                      <a:pt x="152" y="7"/>
                    </a:cubicBezTo>
                    <a:cubicBezTo>
                      <a:pt x="210" y="14"/>
                      <a:pt x="304" y="31"/>
                      <a:pt x="392" y="55"/>
                    </a:cubicBezTo>
                    <a:cubicBezTo>
                      <a:pt x="480" y="79"/>
                      <a:pt x="604" y="116"/>
                      <a:pt x="680" y="151"/>
                    </a:cubicBezTo>
                    <a:cubicBezTo>
                      <a:pt x="756" y="186"/>
                      <a:pt x="792" y="207"/>
                      <a:pt x="848" y="263"/>
                    </a:cubicBezTo>
                    <a:cubicBezTo>
                      <a:pt x="904" y="319"/>
                      <a:pt x="974" y="421"/>
                      <a:pt x="1016" y="487"/>
                    </a:cubicBezTo>
                    <a:cubicBezTo>
                      <a:pt x="1058" y="553"/>
                      <a:pt x="1090" y="595"/>
                      <a:pt x="1098" y="659"/>
                    </a:cubicBezTo>
                    <a:cubicBezTo>
                      <a:pt x="1106" y="723"/>
                      <a:pt x="1086" y="812"/>
                      <a:pt x="1064" y="871"/>
                    </a:cubicBezTo>
                    <a:cubicBezTo>
                      <a:pt x="1042" y="930"/>
                      <a:pt x="1000" y="991"/>
                      <a:pt x="968" y="1015"/>
                    </a:cubicBezTo>
                    <a:cubicBezTo>
                      <a:pt x="936" y="1039"/>
                      <a:pt x="904" y="1027"/>
                      <a:pt x="872" y="1015"/>
                    </a:cubicBezTo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6" name="Oval 964"/>
              <p:cNvSpPr/>
              <p:nvPr/>
            </p:nvSpPr>
            <p:spPr>
              <a:xfrm rot="348600">
                <a:off x="2969280" y="5551200"/>
                <a:ext cx="30960" cy="889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57" name="Group 965"/>
            <p:cNvGrpSpPr/>
            <p:nvPr/>
          </p:nvGrpSpPr>
          <p:grpSpPr>
            <a:xfrm>
              <a:off x="3356280" y="5623920"/>
              <a:ext cx="462960" cy="492480"/>
              <a:chOff x="3356280" y="5623920"/>
              <a:chExt cx="462960" cy="492480"/>
            </a:xfrm>
          </p:grpSpPr>
          <p:sp>
            <p:nvSpPr>
              <p:cNvPr id="2658" name="Freeform 966"/>
              <p:cNvSpPr/>
              <p:nvPr/>
            </p:nvSpPr>
            <p:spPr>
              <a:xfrm flipH="1" rot="11166000">
                <a:off x="3589560" y="5811120"/>
                <a:ext cx="160200" cy="148680"/>
              </a:xfrm>
              <a:custGeom>
                <a:avLst/>
                <a:gdLst>
                  <a:gd name="textAreaLeft" fmla="*/ -360 w 160200"/>
                  <a:gd name="textAreaRight" fmla="*/ 160200 w 16020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2109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9" name="Freeform 967"/>
              <p:cNvSpPr/>
              <p:nvPr/>
            </p:nvSpPr>
            <p:spPr>
              <a:xfrm flipH="1" rot="15181200">
                <a:off x="3479040" y="5920560"/>
                <a:ext cx="223560" cy="106920"/>
              </a:xfrm>
              <a:custGeom>
                <a:avLst/>
                <a:gdLst>
                  <a:gd name="textAreaLeft" fmla="*/ -360 w 223560"/>
                  <a:gd name="textAreaRight" fmla="*/ 223560 w 22356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351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0" name="Freeform 968"/>
              <p:cNvSpPr/>
              <p:nvPr/>
            </p:nvSpPr>
            <p:spPr>
              <a:xfrm flipV="1" rot="8970000">
                <a:off x="3468240" y="5717880"/>
                <a:ext cx="245880" cy="360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1104" h="1160">
                    <a:moveTo>
                      <a:pt x="1104" y="0"/>
                    </a:moveTo>
                    <a:cubicBezTo>
                      <a:pt x="980" y="16"/>
                      <a:pt x="856" y="32"/>
                      <a:pt x="768" y="96"/>
                    </a:cubicBezTo>
                    <a:cubicBezTo>
                      <a:pt x="680" y="160"/>
                      <a:pt x="640" y="264"/>
                      <a:pt x="576" y="384"/>
                    </a:cubicBezTo>
                    <a:cubicBezTo>
                      <a:pt x="512" y="504"/>
                      <a:pt x="448" y="696"/>
                      <a:pt x="384" y="816"/>
                    </a:cubicBezTo>
                    <a:cubicBezTo>
                      <a:pt x="320" y="936"/>
                      <a:pt x="256" y="1048"/>
                      <a:pt x="192" y="1104"/>
                    </a:cubicBezTo>
                    <a:cubicBezTo>
                      <a:pt x="128" y="1160"/>
                      <a:pt x="64" y="1156"/>
                      <a:pt x="0" y="11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61" name="Group 969"/>
              <p:cNvGrpSpPr/>
              <p:nvPr/>
            </p:nvGrpSpPr>
            <p:grpSpPr>
              <a:xfrm>
                <a:off x="3555360" y="5816520"/>
                <a:ext cx="85320" cy="73080"/>
                <a:chOff x="3555360" y="5816520"/>
                <a:chExt cx="85320" cy="73080"/>
              </a:xfrm>
            </p:grpSpPr>
            <p:sp>
              <p:nvSpPr>
                <p:cNvPr id="2662" name="Oval 970"/>
                <p:cNvSpPr/>
                <p:nvPr/>
              </p:nvSpPr>
              <p:spPr>
                <a:xfrm flipV="1" rot="8970000">
                  <a:off x="3585600" y="5822640"/>
                  <a:ext cx="42840" cy="5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3" name="Line 971"/>
                <p:cNvSpPr/>
                <p:nvPr/>
              </p:nvSpPr>
              <p:spPr>
                <a:xfrm flipH="1" flipV="1">
                  <a:off x="3555360" y="5848560"/>
                  <a:ext cx="25920" cy="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64" name="Group 972"/>
              <p:cNvGrpSpPr/>
              <p:nvPr/>
            </p:nvGrpSpPr>
            <p:grpSpPr>
              <a:xfrm>
                <a:off x="3492000" y="5729400"/>
                <a:ext cx="98640" cy="78840"/>
                <a:chOff x="3492000" y="5729400"/>
                <a:chExt cx="98640" cy="78840"/>
              </a:xfrm>
            </p:grpSpPr>
            <p:sp>
              <p:nvSpPr>
                <p:cNvPr id="2665" name="Oval 973"/>
                <p:cNvSpPr/>
                <p:nvPr/>
              </p:nvSpPr>
              <p:spPr>
                <a:xfrm flipV="1" rot="7455600">
                  <a:off x="3524400" y="5733000"/>
                  <a:ext cx="47520" cy="7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6" name="Line 974"/>
                <p:cNvSpPr/>
                <p:nvPr/>
              </p:nvSpPr>
              <p:spPr>
                <a:xfrm flipH="1">
                  <a:off x="3492000" y="5778360"/>
                  <a:ext cx="28080" cy="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67" name="Group 975"/>
              <p:cNvGrpSpPr/>
              <p:nvPr/>
            </p:nvGrpSpPr>
            <p:grpSpPr>
              <a:xfrm>
                <a:off x="3726720" y="5950440"/>
                <a:ext cx="61560" cy="51840"/>
                <a:chOff x="3726720" y="5950440"/>
                <a:chExt cx="61560" cy="51840"/>
              </a:xfrm>
            </p:grpSpPr>
            <p:sp>
              <p:nvSpPr>
                <p:cNvPr id="2668" name="Oval 976"/>
                <p:cNvSpPr/>
                <p:nvPr/>
              </p:nvSpPr>
              <p:spPr>
                <a:xfrm flipV="1" rot="8326200">
                  <a:off x="3748320" y="5954040"/>
                  <a:ext cx="28440" cy="4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9" name="Line 977"/>
                <p:cNvSpPr/>
                <p:nvPr/>
              </p:nvSpPr>
              <p:spPr>
                <a:xfrm flipH="1">
                  <a:off x="3726720" y="5977080"/>
                  <a:ext cx="1800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70" name="Group 978"/>
              <p:cNvGrpSpPr/>
              <p:nvPr/>
            </p:nvGrpSpPr>
            <p:grpSpPr>
              <a:xfrm>
                <a:off x="3759840" y="5984280"/>
                <a:ext cx="59400" cy="52920"/>
                <a:chOff x="3759840" y="5984280"/>
                <a:chExt cx="59400" cy="52920"/>
              </a:xfrm>
            </p:grpSpPr>
            <p:sp>
              <p:nvSpPr>
                <p:cNvPr id="2671" name="Oval 979"/>
                <p:cNvSpPr/>
                <p:nvPr/>
              </p:nvSpPr>
              <p:spPr>
                <a:xfrm flipV="1" rot="8970000">
                  <a:off x="3781080" y="5987880"/>
                  <a:ext cx="2844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2" name="Line 980"/>
                <p:cNvSpPr/>
                <p:nvPr/>
              </p:nvSpPr>
              <p:spPr>
                <a:xfrm flipH="1" flipV="1">
                  <a:off x="3759840" y="6005520"/>
                  <a:ext cx="17640" cy="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73" name="Group 981"/>
              <p:cNvGrpSpPr/>
              <p:nvPr/>
            </p:nvGrpSpPr>
            <p:grpSpPr>
              <a:xfrm>
                <a:off x="3556440" y="5902560"/>
                <a:ext cx="66960" cy="83880"/>
                <a:chOff x="3556440" y="5902560"/>
                <a:chExt cx="66960" cy="83880"/>
              </a:xfrm>
            </p:grpSpPr>
            <p:sp>
              <p:nvSpPr>
                <p:cNvPr id="2674" name="Oval 982"/>
                <p:cNvSpPr/>
                <p:nvPr/>
              </p:nvSpPr>
              <p:spPr>
                <a:xfrm flipH="1" flipV="1" rot="8970000">
                  <a:off x="3568320" y="5920200"/>
                  <a:ext cx="42840" cy="5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5" name="Line 983"/>
                <p:cNvSpPr/>
                <p:nvPr/>
              </p:nvSpPr>
              <p:spPr>
                <a:xfrm flipV="1">
                  <a:off x="3601080" y="5902560"/>
                  <a:ext cx="10800" cy="23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76" name="Group 984"/>
              <p:cNvGrpSpPr/>
              <p:nvPr/>
            </p:nvGrpSpPr>
            <p:grpSpPr>
              <a:xfrm>
                <a:off x="3631320" y="5945040"/>
                <a:ext cx="66960" cy="83880"/>
                <a:chOff x="3631320" y="5945040"/>
                <a:chExt cx="66960" cy="83880"/>
              </a:xfrm>
            </p:grpSpPr>
            <p:sp>
              <p:nvSpPr>
                <p:cNvPr id="2677" name="Oval 985"/>
                <p:cNvSpPr/>
                <p:nvPr/>
              </p:nvSpPr>
              <p:spPr>
                <a:xfrm flipH="1" flipV="1" rot="8970000">
                  <a:off x="3643200" y="5962680"/>
                  <a:ext cx="42840" cy="5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8" name="Line 986"/>
                <p:cNvSpPr/>
                <p:nvPr/>
              </p:nvSpPr>
              <p:spPr>
                <a:xfrm flipV="1">
                  <a:off x="3675600" y="5945040"/>
                  <a:ext cx="10800" cy="23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79" name="Group 987"/>
              <p:cNvGrpSpPr/>
              <p:nvPr/>
            </p:nvGrpSpPr>
            <p:grpSpPr>
              <a:xfrm>
                <a:off x="3691800" y="5963760"/>
                <a:ext cx="38160" cy="64440"/>
                <a:chOff x="3691800" y="5963760"/>
                <a:chExt cx="38160" cy="64440"/>
              </a:xfrm>
            </p:grpSpPr>
            <p:sp>
              <p:nvSpPr>
                <p:cNvPr id="2680" name="Oval 988"/>
                <p:cNvSpPr/>
                <p:nvPr/>
              </p:nvSpPr>
              <p:spPr>
                <a:xfrm flipH="1" flipV="1" rot="6017400">
                  <a:off x="3690720" y="5989680"/>
                  <a:ext cx="39960" cy="3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1" name="Line 989"/>
                <p:cNvSpPr/>
                <p:nvPr/>
              </p:nvSpPr>
              <p:spPr>
                <a:xfrm flipH="1" flipV="1">
                  <a:off x="3702600" y="5963760"/>
                  <a:ext cx="43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2" name="Group 990"/>
              <p:cNvGrpSpPr/>
              <p:nvPr/>
            </p:nvGrpSpPr>
            <p:grpSpPr>
              <a:xfrm>
                <a:off x="3760920" y="6003360"/>
                <a:ext cx="46440" cy="69120"/>
                <a:chOff x="3760920" y="6003360"/>
                <a:chExt cx="46440" cy="69120"/>
              </a:xfrm>
            </p:grpSpPr>
            <p:sp>
              <p:nvSpPr>
                <p:cNvPr id="2683" name="Oval 991"/>
                <p:cNvSpPr/>
                <p:nvPr/>
              </p:nvSpPr>
              <p:spPr>
                <a:xfrm flipH="1" flipV="1" rot="4876800">
                  <a:off x="3762360" y="6027840"/>
                  <a:ext cx="47160" cy="3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4" name="Line 992"/>
                <p:cNvSpPr/>
                <p:nvPr/>
              </p:nvSpPr>
              <p:spPr>
                <a:xfrm flipH="1" flipV="1">
                  <a:off x="3760920" y="6003360"/>
                  <a:ext cx="12600" cy="21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5" name="Group 993"/>
              <p:cNvGrpSpPr/>
              <p:nvPr/>
            </p:nvGrpSpPr>
            <p:grpSpPr>
              <a:xfrm>
                <a:off x="3668400" y="5903640"/>
                <a:ext cx="87840" cy="73080"/>
                <a:chOff x="3668400" y="5903640"/>
                <a:chExt cx="87840" cy="73080"/>
              </a:xfrm>
            </p:grpSpPr>
            <p:sp>
              <p:nvSpPr>
                <p:cNvPr id="2686" name="Oval 994"/>
                <p:cNvSpPr/>
                <p:nvPr/>
              </p:nvSpPr>
              <p:spPr>
                <a:xfrm flipV="1" rot="8326200">
                  <a:off x="3698640" y="5909760"/>
                  <a:ext cx="42840" cy="5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7" name="Line 995"/>
                <p:cNvSpPr/>
                <p:nvPr/>
              </p:nvSpPr>
              <p:spPr>
                <a:xfrm flipH="1">
                  <a:off x="3668400" y="5942520"/>
                  <a:ext cx="25920" cy="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8" name="Group 996"/>
              <p:cNvGrpSpPr/>
              <p:nvPr/>
            </p:nvGrpSpPr>
            <p:grpSpPr>
              <a:xfrm>
                <a:off x="3723840" y="6003360"/>
                <a:ext cx="52200" cy="59040"/>
                <a:chOff x="3723840" y="6003360"/>
                <a:chExt cx="52200" cy="59040"/>
              </a:xfrm>
            </p:grpSpPr>
            <p:sp>
              <p:nvSpPr>
                <p:cNvPr id="2689" name="Oval 997"/>
                <p:cNvSpPr/>
                <p:nvPr/>
              </p:nvSpPr>
              <p:spPr>
                <a:xfrm flipH="1" flipV="1" rot="7105800">
                  <a:off x="3735000" y="6017400"/>
                  <a:ext cx="28800" cy="4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0" name="Line 998"/>
                <p:cNvSpPr/>
                <p:nvPr/>
              </p:nvSpPr>
              <p:spPr>
                <a:xfrm flipH="1" flipV="1">
                  <a:off x="3743640" y="6003360"/>
                  <a:ext cx="3240" cy="1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91" name="Group 999"/>
              <p:cNvGrpSpPr/>
              <p:nvPr/>
            </p:nvGrpSpPr>
            <p:grpSpPr>
              <a:xfrm>
                <a:off x="3467160" y="5823360"/>
                <a:ext cx="87120" cy="107640"/>
                <a:chOff x="3467160" y="5823360"/>
                <a:chExt cx="87120" cy="107640"/>
              </a:xfrm>
            </p:grpSpPr>
            <p:sp>
              <p:nvSpPr>
                <p:cNvPr id="2692" name="Oval 1000"/>
                <p:cNvSpPr/>
                <p:nvPr/>
              </p:nvSpPr>
              <p:spPr>
                <a:xfrm flipH="1" flipV="1" rot="8970000">
                  <a:off x="3482280" y="5846400"/>
                  <a:ext cx="5688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3" name="Line 1001"/>
                <p:cNvSpPr/>
                <p:nvPr/>
              </p:nvSpPr>
              <p:spPr>
                <a:xfrm flipV="1">
                  <a:off x="3525480" y="5823360"/>
                  <a:ext cx="15120" cy="30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94" name="Freeform 1002"/>
              <p:cNvSpPr/>
              <p:nvPr/>
            </p:nvSpPr>
            <p:spPr>
              <a:xfrm flipV="1" rot="19770000">
                <a:off x="3385800" y="5653800"/>
                <a:ext cx="160560" cy="1490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360 h 149040"/>
                  <a:gd name="textAreaBottom" fmla="*/ 149760 h 14904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95" name="Group 1003"/>
              <p:cNvGrpSpPr/>
              <p:nvPr/>
            </p:nvGrpSpPr>
            <p:grpSpPr>
              <a:xfrm>
                <a:off x="3356280" y="5807160"/>
                <a:ext cx="117000" cy="140760"/>
                <a:chOff x="3356280" y="5807160"/>
                <a:chExt cx="117000" cy="140760"/>
              </a:xfrm>
            </p:grpSpPr>
            <p:sp>
              <p:nvSpPr>
                <p:cNvPr id="2696" name="Oval 1004"/>
                <p:cNvSpPr/>
                <p:nvPr/>
              </p:nvSpPr>
              <p:spPr>
                <a:xfrm flipH="1" flipV="1" rot="7975800">
                  <a:off x="3380400" y="5841000"/>
                  <a:ext cx="67680" cy="9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7" name="Line 1005"/>
                <p:cNvSpPr/>
                <p:nvPr/>
              </p:nvSpPr>
              <p:spPr>
                <a:xfrm flipV="1">
                  <a:off x="3420000" y="5807160"/>
                  <a:ext cx="5400" cy="4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698" name="Group 1006"/>
            <p:cNvGrpSpPr/>
            <p:nvPr/>
          </p:nvGrpSpPr>
          <p:grpSpPr>
            <a:xfrm>
              <a:off x="3452760" y="6072120"/>
              <a:ext cx="380520" cy="340200"/>
              <a:chOff x="3452760" y="6072120"/>
              <a:chExt cx="380520" cy="340200"/>
            </a:xfrm>
          </p:grpSpPr>
          <p:sp>
            <p:nvSpPr>
              <p:cNvPr id="2699" name="Freeform 1007"/>
              <p:cNvSpPr/>
              <p:nvPr/>
            </p:nvSpPr>
            <p:spPr>
              <a:xfrm rot="11187600">
                <a:off x="3521160" y="6175080"/>
                <a:ext cx="119880" cy="10908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2109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Freeform 1008"/>
              <p:cNvSpPr/>
              <p:nvPr/>
            </p:nvSpPr>
            <p:spPr>
              <a:xfrm rot="7173000">
                <a:off x="3542760" y="6267600"/>
                <a:ext cx="162720" cy="7992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351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Freeform 1009"/>
              <p:cNvSpPr/>
              <p:nvPr/>
            </p:nvSpPr>
            <p:spPr>
              <a:xfrm flipH="1" flipV="1" rot="13383600">
                <a:off x="3544200" y="6122160"/>
                <a:ext cx="183960" cy="262080"/>
              </a:xfrm>
              <a:custGeom>
                <a:avLst/>
                <a:gdLst>
                  <a:gd name="textAreaLeft" fmla="*/ -360 w 183960"/>
                  <a:gd name="textAreaRight" fmla="*/ 183960 w 183960"/>
                  <a:gd name="textAreaTop" fmla="*/ 360 h 262080"/>
                  <a:gd name="textAreaBottom" fmla="*/ 262800 h 262080"/>
                </a:gdLst>
                <a:ahLst/>
                <a:rect l="textAreaLeft" t="textAreaTop" r="textAreaRight" b="textAreaBottom"/>
                <a:pathLst>
                  <a:path w="1104" h="1160">
                    <a:moveTo>
                      <a:pt x="1104" y="0"/>
                    </a:moveTo>
                    <a:cubicBezTo>
                      <a:pt x="980" y="16"/>
                      <a:pt x="856" y="32"/>
                      <a:pt x="768" y="96"/>
                    </a:cubicBezTo>
                    <a:cubicBezTo>
                      <a:pt x="680" y="160"/>
                      <a:pt x="640" y="264"/>
                      <a:pt x="576" y="384"/>
                    </a:cubicBezTo>
                    <a:cubicBezTo>
                      <a:pt x="512" y="504"/>
                      <a:pt x="448" y="696"/>
                      <a:pt x="384" y="816"/>
                    </a:cubicBezTo>
                    <a:cubicBezTo>
                      <a:pt x="320" y="936"/>
                      <a:pt x="256" y="1048"/>
                      <a:pt x="192" y="1104"/>
                    </a:cubicBezTo>
                    <a:cubicBezTo>
                      <a:pt x="128" y="1160"/>
                      <a:pt x="64" y="1156"/>
                      <a:pt x="0" y="11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02" name="Group 1010"/>
              <p:cNvGrpSpPr/>
              <p:nvPr/>
            </p:nvGrpSpPr>
            <p:grpSpPr>
              <a:xfrm>
                <a:off x="3605040" y="6191640"/>
                <a:ext cx="64440" cy="53280"/>
                <a:chOff x="3605040" y="6191640"/>
                <a:chExt cx="64440" cy="53280"/>
              </a:xfrm>
            </p:grpSpPr>
            <p:sp>
              <p:nvSpPr>
                <p:cNvPr id="2703" name="Oval 1011"/>
                <p:cNvSpPr/>
                <p:nvPr/>
              </p:nvSpPr>
              <p:spPr>
                <a:xfrm flipH="1" flipV="1" rot="13383600">
                  <a:off x="3615120" y="6196320"/>
                  <a:ext cx="32040" cy="4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4" name="Line 1012"/>
                <p:cNvSpPr/>
                <p:nvPr/>
              </p:nvSpPr>
              <p:spPr>
                <a:xfrm>
                  <a:off x="3650760" y="6221160"/>
                  <a:ext cx="18720" cy="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05" name="Group 1013"/>
              <p:cNvGrpSpPr/>
              <p:nvPr/>
            </p:nvGrpSpPr>
            <p:grpSpPr>
              <a:xfrm>
                <a:off x="3656160" y="6141600"/>
                <a:ext cx="68040" cy="52560"/>
                <a:chOff x="3656160" y="6141600"/>
                <a:chExt cx="68040" cy="52560"/>
              </a:xfrm>
            </p:grpSpPr>
            <p:sp>
              <p:nvSpPr>
                <p:cNvPr id="2706" name="Oval 1014"/>
                <p:cNvSpPr/>
                <p:nvPr/>
              </p:nvSpPr>
              <p:spPr>
                <a:xfrm flipH="1" flipV="1" rot="14898000">
                  <a:off x="3668400" y="6141960"/>
                  <a:ext cx="3564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7" name="Line 1015"/>
                <p:cNvSpPr/>
                <p:nvPr/>
              </p:nvSpPr>
              <p:spPr>
                <a:xfrm>
                  <a:off x="3705840" y="6179400"/>
                  <a:ext cx="18360" cy="11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08" name="Group 1016"/>
              <p:cNvGrpSpPr/>
              <p:nvPr/>
            </p:nvGrpSpPr>
            <p:grpSpPr>
              <a:xfrm>
                <a:off x="3481200" y="6262200"/>
                <a:ext cx="44640" cy="36000"/>
                <a:chOff x="3481200" y="6262200"/>
                <a:chExt cx="44640" cy="36000"/>
              </a:xfrm>
            </p:grpSpPr>
            <p:sp>
              <p:nvSpPr>
                <p:cNvPr id="2709" name="Oval 1017"/>
                <p:cNvSpPr/>
                <p:nvPr/>
              </p:nvSpPr>
              <p:spPr>
                <a:xfrm flipH="1" flipV="1" rot="14027400">
                  <a:off x="3489480" y="6264000"/>
                  <a:ext cx="21240" cy="3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0" name="Line 1018"/>
                <p:cNvSpPr/>
                <p:nvPr/>
              </p:nvSpPr>
              <p:spPr>
                <a:xfrm>
                  <a:off x="3513240" y="6283800"/>
                  <a:ext cx="12600" cy="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11" name="Group 1019"/>
              <p:cNvGrpSpPr/>
              <p:nvPr/>
            </p:nvGrpSpPr>
            <p:grpSpPr>
              <a:xfrm>
                <a:off x="3452760" y="6280200"/>
                <a:ext cx="45360" cy="38160"/>
                <a:chOff x="3452760" y="6280200"/>
                <a:chExt cx="45360" cy="38160"/>
              </a:xfrm>
            </p:grpSpPr>
            <p:sp>
              <p:nvSpPr>
                <p:cNvPr id="2712" name="Oval 1020"/>
                <p:cNvSpPr/>
                <p:nvPr/>
              </p:nvSpPr>
              <p:spPr>
                <a:xfrm flipH="1" flipV="1" rot="13383600">
                  <a:off x="3460680" y="6282720"/>
                  <a:ext cx="21240" cy="3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3" name="Line 1021"/>
                <p:cNvSpPr/>
                <p:nvPr/>
              </p:nvSpPr>
              <p:spPr>
                <a:xfrm>
                  <a:off x="3485160" y="6300360"/>
                  <a:ext cx="1296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14" name="Group 1022"/>
              <p:cNvGrpSpPr/>
              <p:nvPr/>
            </p:nvGrpSpPr>
            <p:grpSpPr>
              <a:xfrm>
                <a:off x="3602880" y="6252840"/>
                <a:ext cx="52920" cy="64080"/>
                <a:chOff x="3602880" y="6252840"/>
                <a:chExt cx="52920" cy="64080"/>
              </a:xfrm>
            </p:grpSpPr>
            <p:sp>
              <p:nvSpPr>
                <p:cNvPr id="2715" name="Oval 1023"/>
                <p:cNvSpPr/>
                <p:nvPr/>
              </p:nvSpPr>
              <p:spPr>
                <a:xfrm flipV="1" rot="13383600">
                  <a:off x="3612960" y="6268320"/>
                  <a:ext cx="32040" cy="4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6" name="Line 1024"/>
                <p:cNvSpPr/>
                <p:nvPr/>
              </p:nvSpPr>
              <p:spPr>
                <a:xfrm flipH="1" flipV="1">
                  <a:off x="3620520" y="6252840"/>
                  <a:ext cx="4320" cy="1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17" name="Group 1025"/>
              <p:cNvGrpSpPr/>
              <p:nvPr/>
            </p:nvGrpSpPr>
            <p:grpSpPr>
              <a:xfrm>
                <a:off x="3542040" y="6270840"/>
                <a:ext cx="52920" cy="64080"/>
                <a:chOff x="3542040" y="6270840"/>
                <a:chExt cx="52920" cy="64080"/>
              </a:xfrm>
            </p:grpSpPr>
            <p:sp>
              <p:nvSpPr>
                <p:cNvPr id="2718" name="Oval 1026"/>
                <p:cNvSpPr/>
                <p:nvPr/>
              </p:nvSpPr>
              <p:spPr>
                <a:xfrm flipV="1" rot="13383600">
                  <a:off x="3552120" y="6286320"/>
                  <a:ext cx="32040" cy="4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9" name="Line 1027"/>
                <p:cNvSpPr/>
                <p:nvPr/>
              </p:nvSpPr>
              <p:spPr>
                <a:xfrm flipH="1" flipV="1">
                  <a:off x="3560040" y="6270840"/>
                  <a:ext cx="4320" cy="1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20" name="Group 1028"/>
              <p:cNvGrpSpPr/>
              <p:nvPr/>
            </p:nvGrpSpPr>
            <p:grpSpPr>
              <a:xfrm>
                <a:off x="3521520" y="6281280"/>
                <a:ext cx="25560" cy="43560"/>
                <a:chOff x="3521520" y="6281280"/>
                <a:chExt cx="25560" cy="43560"/>
              </a:xfrm>
            </p:grpSpPr>
            <p:sp>
              <p:nvSpPr>
                <p:cNvPr id="2721" name="Oval 1029"/>
                <p:cNvSpPr/>
                <p:nvPr/>
              </p:nvSpPr>
              <p:spPr>
                <a:xfrm flipV="1" rot="16336200">
                  <a:off x="3519360" y="6297480"/>
                  <a:ext cx="29160" cy="2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2" name="Line 1030"/>
                <p:cNvSpPr/>
                <p:nvPr/>
              </p:nvSpPr>
              <p:spPr>
                <a:xfrm flipV="1">
                  <a:off x="3540600" y="6281280"/>
                  <a:ext cx="6480" cy="1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23" name="Group 1031"/>
              <p:cNvGrpSpPr/>
              <p:nvPr/>
            </p:nvGrpSpPr>
            <p:grpSpPr>
              <a:xfrm>
                <a:off x="3454920" y="6299640"/>
                <a:ext cx="43200" cy="47880"/>
                <a:chOff x="3454920" y="6299640"/>
                <a:chExt cx="43200" cy="47880"/>
              </a:xfrm>
            </p:grpSpPr>
            <p:sp>
              <p:nvSpPr>
                <p:cNvPr id="2724" name="Oval 1032"/>
                <p:cNvSpPr/>
                <p:nvPr/>
              </p:nvSpPr>
              <p:spPr>
                <a:xfrm flipV="1" rot="17476200">
                  <a:off x="3456000" y="6312960"/>
                  <a:ext cx="34200" cy="2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5" name="Line 1033"/>
                <p:cNvSpPr/>
                <p:nvPr/>
              </p:nvSpPr>
              <p:spPr>
                <a:xfrm flipV="1">
                  <a:off x="3485880" y="6299640"/>
                  <a:ext cx="12240" cy="13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26" name="Group 1034"/>
              <p:cNvGrpSpPr/>
              <p:nvPr/>
            </p:nvGrpSpPr>
            <p:grpSpPr>
              <a:xfrm>
                <a:off x="3510000" y="6235560"/>
                <a:ext cx="63000" cy="51120"/>
                <a:chOff x="3510000" y="6235560"/>
                <a:chExt cx="63000" cy="51120"/>
              </a:xfrm>
            </p:grpSpPr>
            <p:sp>
              <p:nvSpPr>
                <p:cNvPr id="2727" name="Oval 1035"/>
                <p:cNvSpPr/>
                <p:nvPr/>
              </p:nvSpPr>
              <p:spPr>
                <a:xfrm flipH="1" flipV="1" rot="14027400">
                  <a:off x="3520440" y="6239520"/>
                  <a:ext cx="32040" cy="4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8" name="Line 1036"/>
                <p:cNvSpPr/>
                <p:nvPr/>
              </p:nvSpPr>
              <p:spPr>
                <a:xfrm>
                  <a:off x="3555000" y="6267960"/>
                  <a:ext cx="18000" cy="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29" name="Group 1037"/>
              <p:cNvGrpSpPr/>
              <p:nvPr/>
            </p:nvGrpSpPr>
            <p:grpSpPr>
              <a:xfrm>
                <a:off x="3481560" y="6302520"/>
                <a:ext cx="36360" cy="39240"/>
                <a:chOff x="3481560" y="6302520"/>
                <a:chExt cx="36360" cy="39240"/>
              </a:xfrm>
            </p:grpSpPr>
            <p:sp>
              <p:nvSpPr>
                <p:cNvPr id="2730" name="Oval 1038"/>
                <p:cNvSpPr/>
                <p:nvPr/>
              </p:nvSpPr>
              <p:spPr>
                <a:xfrm flipV="1" rot="15247800">
                  <a:off x="3489120" y="6310800"/>
                  <a:ext cx="21240" cy="3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1" name="Line 1039"/>
                <p:cNvSpPr/>
                <p:nvPr/>
              </p:nvSpPr>
              <p:spPr>
                <a:xfrm flipV="1">
                  <a:off x="3504960" y="6302520"/>
                  <a:ext cx="4680" cy="1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32" name="Group 1040"/>
              <p:cNvGrpSpPr/>
              <p:nvPr/>
            </p:nvGrpSpPr>
            <p:grpSpPr>
              <a:xfrm>
                <a:off x="3663000" y="6207840"/>
                <a:ext cx="67680" cy="82800"/>
                <a:chOff x="3663000" y="6207840"/>
                <a:chExt cx="67680" cy="82800"/>
              </a:xfrm>
            </p:grpSpPr>
            <p:sp>
              <p:nvSpPr>
                <p:cNvPr id="2733" name="Oval 1041"/>
                <p:cNvSpPr/>
                <p:nvPr/>
              </p:nvSpPr>
              <p:spPr>
                <a:xfrm flipV="1" rot="13383600">
                  <a:off x="3675240" y="6229080"/>
                  <a:ext cx="42480" cy="5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4" name="Line 1042"/>
                <p:cNvSpPr/>
                <p:nvPr/>
              </p:nvSpPr>
              <p:spPr>
                <a:xfrm flipH="1" flipV="1">
                  <a:off x="3684240" y="6207840"/>
                  <a:ext cx="6480" cy="2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35" name="Freeform 1043"/>
              <p:cNvSpPr/>
              <p:nvPr/>
            </p:nvSpPr>
            <p:spPr>
              <a:xfrm flipH="1" flipV="1" rot="2583600">
                <a:off x="3692520" y="6098040"/>
                <a:ext cx="119880" cy="1083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-360 h 108360"/>
                  <a:gd name="textAreaBottom" fmla="*/ 108360 h 108360"/>
                </a:gdLst>
                <a:ahLst/>
                <a:rect l="textAreaLeft" t="textAreaTop" r="textAreaRight" b="textAreaBottom"/>
                <a:pathLst>
                  <a:path w="1025" h="808">
                    <a:moveTo>
                      <a:pt x="49" y="523"/>
                    </a:moveTo>
                    <a:cubicBezTo>
                      <a:pt x="57" y="531"/>
                      <a:pt x="42" y="535"/>
                      <a:pt x="49" y="571"/>
                    </a:cubicBezTo>
                    <a:cubicBezTo>
                      <a:pt x="56" y="607"/>
                      <a:pt x="53" y="735"/>
                      <a:pt x="89" y="739"/>
                    </a:cubicBezTo>
                    <a:cubicBezTo>
                      <a:pt x="125" y="743"/>
                      <a:pt x="228" y="616"/>
                      <a:pt x="265" y="595"/>
                    </a:cubicBezTo>
                    <a:cubicBezTo>
                      <a:pt x="302" y="574"/>
                      <a:pt x="310" y="579"/>
                      <a:pt x="313" y="611"/>
                    </a:cubicBezTo>
                    <a:cubicBezTo>
                      <a:pt x="316" y="643"/>
                      <a:pt x="252" y="766"/>
                      <a:pt x="281" y="787"/>
                    </a:cubicBezTo>
                    <a:cubicBezTo>
                      <a:pt x="310" y="808"/>
                      <a:pt x="441" y="758"/>
                      <a:pt x="489" y="739"/>
                    </a:cubicBezTo>
                    <a:cubicBezTo>
                      <a:pt x="537" y="720"/>
                      <a:pt x="548" y="675"/>
                      <a:pt x="569" y="675"/>
                    </a:cubicBezTo>
                    <a:cubicBezTo>
                      <a:pt x="590" y="675"/>
                      <a:pt x="568" y="740"/>
                      <a:pt x="617" y="739"/>
                    </a:cubicBezTo>
                    <a:cubicBezTo>
                      <a:pt x="666" y="738"/>
                      <a:pt x="800" y="679"/>
                      <a:pt x="865" y="667"/>
                    </a:cubicBezTo>
                    <a:cubicBezTo>
                      <a:pt x="930" y="655"/>
                      <a:pt x="993" y="675"/>
                      <a:pt x="1009" y="667"/>
                    </a:cubicBezTo>
                    <a:cubicBezTo>
                      <a:pt x="1025" y="659"/>
                      <a:pt x="984" y="652"/>
                      <a:pt x="961" y="619"/>
                    </a:cubicBezTo>
                    <a:cubicBezTo>
                      <a:pt x="938" y="586"/>
                      <a:pt x="882" y="511"/>
                      <a:pt x="873" y="467"/>
                    </a:cubicBezTo>
                    <a:cubicBezTo>
                      <a:pt x="864" y="423"/>
                      <a:pt x="905" y="387"/>
                      <a:pt x="905" y="355"/>
                    </a:cubicBezTo>
                    <a:cubicBezTo>
                      <a:pt x="905" y="323"/>
                      <a:pt x="916" y="272"/>
                      <a:pt x="873" y="275"/>
                    </a:cubicBezTo>
                    <a:cubicBezTo>
                      <a:pt x="830" y="278"/>
                      <a:pt x="684" y="376"/>
                      <a:pt x="649" y="371"/>
                    </a:cubicBezTo>
                    <a:cubicBezTo>
                      <a:pt x="614" y="366"/>
                      <a:pt x="668" y="275"/>
                      <a:pt x="665" y="243"/>
                    </a:cubicBezTo>
                    <a:cubicBezTo>
                      <a:pt x="662" y="211"/>
                      <a:pt x="638" y="200"/>
                      <a:pt x="633" y="179"/>
                    </a:cubicBezTo>
                    <a:cubicBezTo>
                      <a:pt x="628" y="158"/>
                      <a:pt x="690" y="106"/>
                      <a:pt x="633" y="115"/>
                    </a:cubicBezTo>
                    <a:cubicBezTo>
                      <a:pt x="576" y="124"/>
                      <a:pt x="326" y="224"/>
                      <a:pt x="289" y="235"/>
                    </a:cubicBezTo>
                    <a:cubicBezTo>
                      <a:pt x="252" y="246"/>
                      <a:pt x="397" y="196"/>
                      <a:pt x="409" y="179"/>
                    </a:cubicBezTo>
                    <a:cubicBezTo>
                      <a:pt x="421" y="162"/>
                      <a:pt x="380" y="155"/>
                      <a:pt x="361" y="131"/>
                    </a:cubicBezTo>
                    <a:cubicBezTo>
                      <a:pt x="342" y="107"/>
                      <a:pt x="350" y="0"/>
                      <a:pt x="297" y="35"/>
                    </a:cubicBezTo>
                    <a:cubicBezTo>
                      <a:pt x="244" y="70"/>
                      <a:pt x="82" y="258"/>
                      <a:pt x="41" y="339"/>
                    </a:cubicBezTo>
                    <a:cubicBezTo>
                      <a:pt x="0" y="420"/>
                      <a:pt x="47" y="485"/>
                      <a:pt x="49" y="5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36" name="Group 1044"/>
              <p:cNvGrpSpPr/>
              <p:nvPr/>
            </p:nvGrpSpPr>
            <p:grpSpPr>
              <a:xfrm>
                <a:off x="3721680" y="6215400"/>
                <a:ext cx="86400" cy="101520"/>
                <a:chOff x="3721680" y="6215400"/>
                <a:chExt cx="86400" cy="101520"/>
              </a:xfrm>
            </p:grpSpPr>
            <p:sp>
              <p:nvSpPr>
                <p:cNvPr id="2737" name="Oval 1045"/>
                <p:cNvSpPr/>
                <p:nvPr/>
              </p:nvSpPr>
              <p:spPr>
                <a:xfrm flipV="1" rot="14377800">
                  <a:off x="3739320" y="6241680"/>
                  <a:ext cx="50760" cy="7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1f497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8" name="Line 1046"/>
                <p:cNvSpPr/>
                <p:nvPr/>
              </p:nvSpPr>
              <p:spPr>
                <a:xfrm flipV="1">
                  <a:off x="3767760" y="6215400"/>
                  <a:ext cx="2520" cy="30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739" name="TextBox 112"/>
          <p:cNvSpPr/>
          <p:nvPr/>
        </p:nvSpPr>
        <p:spPr>
          <a:xfrm>
            <a:off x="684360" y="1571760"/>
            <a:ext cx="703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5 кг – 3 кг 500 г =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1 кг 500 г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есит вода в   половине сосу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1 кг 500 г · 2 =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3 кг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оды вмещает сосу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AutoShape 14">
            <a:hlinkClick r:id="rId1" action="ppaction://hlinksldjump"/>
          </p:cNvPr>
          <p:cNvSpPr/>
          <p:nvPr/>
        </p:nvSpPr>
        <p:spPr>
          <a:xfrm>
            <a:off x="7824960" y="6353280"/>
            <a:ext cx="1319040" cy="504720"/>
          </a:xfrm>
          <a:custGeom>
            <a:avLst/>
            <a:gdLst>
              <a:gd name="textAreaLeft" fmla="*/ 32400 w 1319040"/>
              <a:gd name="textAreaRight" fmla="*/ 1286640 w 1319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6425" h="21600">
                <a:moveTo>
                  <a:pt x="0" y="0"/>
                </a:moveTo>
                <a:lnTo>
                  <a:pt x="56425" y="0"/>
                </a:lnTo>
                <a:lnTo>
                  <a:pt x="56425" y="21600"/>
                </a:lnTo>
                <a:lnTo>
                  <a:pt x="0" y="21600"/>
                </a:lnTo>
                <a:close/>
              </a:path>
              <a:path fill="lightenLess" w="56425" h="21600">
                <a:moveTo>
                  <a:pt x="0" y="0"/>
                </a:moveTo>
                <a:lnTo>
                  <a:pt x="56425" y="0"/>
                </a:lnTo>
                <a:lnTo>
                  <a:pt x="55025" y="1400"/>
                </a:lnTo>
                <a:lnTo>
                  <a:pt x="1400" y="1400"/>
                </a:lnTo>
                <a:close/>
              </a:path>
              <a:path fill="darken" w="56425" h="21600">
                <a:moveTo>
                  <a:pt x="56425" y="0"/>
                </a:moveTo>
                <a:lnTo>
                  <a:pt x="56425" y="21600"/>
                </a:lnTo>
                <a:lnTo>
                  <a:pt x="55025" y="20200"/>
                </a:lnTo>
                <a:lnTo>
                  <a:pt x="55025" y="1400"/>
                </a:lnTo>
                <a:close/>
              </a:path>
              <a:path fill="darkenLess" w="56425" h="21600">
                <a:moveTo>
                  <a:pt x="56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5" y="20200"/>
                </a:lnTo>
                <a:close/>
              </a:path>
              <a:path fill="lighten" w="56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Наз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к вопро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2" name="Picture 6" descr=""/>
          <p:cNvPicPr/>
          <p:nvPr/>
        </p:nvPicPr>
        <p:blipFill>
          <a:blip r:embed="rId2"/>
          <a:stretch/>
        </p:blipFill>
        <p:spPr>
          <a:xfrm>
            <a:off x="885960" y="1628640"/>
            <a:ext cx="7589880" cy="37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"/>
          <p:cNvSpPr txBox="1"/>
          <p:nvPr/>
        </p:nvSpPr>
        <p:spPr>
          <a:xfrm>
            <a:off x="1999800" y="3786120"/>
            <a:ext cx="657252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ее числ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6 + 12 : 4 + 2) · 12 = 25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TextBox 5"/>
          <p:cNvSpPr/>
          <p:nvPr/>
        </p:nvSpPr>
        <p:spPr>
          <a:xfrm>
            <a:off x="785880" y="192888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е числ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6 + 12) : 4 + 2 · 12 = 3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AutoShape 14">
            <a:hlinkClick r:id="rId1" action="ppaction://hlinksldjump"/>
          </p:cNvPr>
          <p:cNvSpPr/>
          <p:nvPr/>
        </p:nvSpPr>
        <p:spPr>
          <a:xfrm>
            <a:off x="7824960" y="6353280"/>
            <a:ext cx="1319040" cy="504720"/>
          </a:xfrm>
          <a:custGeom>
            <a:avLst/>
            <a:gdLst>
              <a:gd name="textAreaLeft" fmla="*/ 32400 w 1319040"/>
              <a:gd name="textAreaRight" fmla="*/ 1286640 w 1319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6425" h="21600">
                <a:moveTo>
                  <a:pt x="0" y="0"/>
                </a:moveTo>
                <a:lnTo>
                  <a:pt x="56425" y="0"/>
                </a:lnTo>
                <a:lnTo>
                  <a:pt x="56425" y="21600"/>
                </a:lnTo>
                <a:lnTo>
                  <a:pt x="0" y="21600"/>
                </a:lnTo>
                <a:close/>
              </a:path>
              <a:path fill="lightenLess" w="56425" h="21600">
                <a:moveTo>
                  <a:pt x="0" y="0"/>
                </a:moveTo>
                <a:lnTo>
                  <a:pt x="56425" y="0"/>
                </a:lnTo>
                <a:lnTo>
                  <a:pt x="55025" y="1400"/>
                </a:lnTo>
                <a:lnTo>
                  <a:pt x="1400" y="1400"/>
                </a:lnTo>
                <a:close/>
              </a:path>
              <a:path fill="darken" w="56425" h="21600">
                <a:moveTo>
                  <a:pt x="56425" y="0"/>
                </a:moveTo>
                <a:lnTo>
                  <a:pt x="56425" y="21600"/>
                </a:lnTo>
                <a:lnTo>
                  <a:pt x="55025" y="20200"/>
                </a:lnTo>
                <a:lnTo>
                  <a:pt x="55025" y="1400"/>
                </a:lnTo>
                <a:close/>
              </a:path>
              <a:path fill="darkenLess" w="56425" h="21600">
                <a:moveTo>
                  <a:pt x="56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5" y="20200"/>
                </a:lnTo>
                <a:close/>
              </a:path>
              <a:path fill="lighten" w="56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Наз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к вопро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Text Box 36"/>
          <p:cNvSpPr/>
          <p:nvPr/>
        </p:nvSpPr>
        <p:spPr>
          <a:xfrm>
            <a:off x="2538360" y="385776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ее число: 988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Text Box 40"/>
          <p:cNvSpPr/>
          <p:nvPr/>
        </p:nvSpPr>
        <p:spPr>
          <a:xfrm>
            <a:off x="857160" y="221472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е число: 2035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AutoShape 14">
            <a:hlinkClick r:id="rId1" action="ppaction://hlinksldjump"/>
          </p:cNvPr>
          <p:cNvSpPr/>
          <p:nvPr/>
        </p:nvSpPr>
        <p:spPr>
          <a:xfrm>
            <a:off x="7824960" y="6353280"/>
            <a:ext cx="1319040" cy="504720"/>
          </a:xfrm>
          <a:custGeom>
            <a:avLst/>
            <a:gdLst>
              <a:gd name="textAreaLeft" fmla="*/ 32400 w 1319040"/>
              <a:gd name="textAreaRight" fmla="*/ 1286640 w 1319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6425" h="21600">
                <a:moveTo>
                  <a:pt x="0" y="0"/>
                </a:moveTo>
                <a:lnTo>
                  <a:pt x="56425" y="0"/>
                </a:lnTo>
                <a:lnTo>
                  <a:pt x="56425" y="21600"/>
                </a:lnTo>
                <a:lnTo>
                  <a:pt x="0" y="21600"/>
                </a:lnTo>
                <a:close/>
              </a:path>
              <a:path fill="lightenLess" w="56425" h="21600">
                <a:moveTo>
                  <a:pt x="0" y="0"/>
                </a:moveTo>
                <a:lnTo>
                  <a:pt x="56425" y="0"/>
                </a:lnTo>
                <a:lnTo>
                  <a:pt x="55025" y="1400"/>
                </a:lnTo>
                <a:lnTo>
                  <a:pt x="1400" y="1400"/>
                </a:lnTo>
                <a:close/>
              </a:path>
              <a:path fill="darken" w="56425" h="21600">
                <a:moveTo>
                  <a:pt x="56425" y="0"/>
                </a:moveTo>
                <a:lnTo>
                  <a:pt x="56425" y="21600"/>
                </a:lnTo>
                <a:lnTo>
                  <a:pt x="55025" y="20200"/>
                </a:lnTo>
                <a:lnTo>
                  <a:pt x="55025" y="1400"/>
                </a:lnTo>
                <a:close/>
              </a:path>
              <a:path fill="darkenLess" w="56425" h="21600">
                <a:moveTo>
                  <a:pt x="56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5" y="20200"/>
                </a:lnTo>
                <a:close/>
              </a:path>
              <a:path fill="lighten" w="56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Наз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к вопро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Заголовок 1"/>
          <p:cNvSpPr/>
          <p:nvPr/>
        </p:nvSpPr>
        <p:spPr>
          <a:xfrm>
            <a:off x="500040" y="357120"/>
            <a:ext cx="723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Arial"/>
                <a:ea typeface="Arial"/>
              </a:rPr>
              <a:t>Отве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Представление коман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11280" y="1628280"/>
            <a:ext cx="54007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торжественно вокруг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ите, как быстро смолкла реч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царице всех на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м сегодня с вами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лучайно ей такой поч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ей дано давать совет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хороший выполнить расч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стройки здания, рак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в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а в порядок ум привод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хорошие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говорят о ней в на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076720" y="3714840"/>
            <a:ext cx="3382920" cy="19227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Задание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Представляются команды (название, девиз, эмбле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о 4 бал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AutoShape 14">
            <a:hlinkClick r:id="rId1" action="ppaction://hlinksldjump"/>
          </p:cNvPr>
          <p:cNvSpPr/>
          <p:nvPr/>
        </p:nvSpPr>
        <p:spPr>
          <a:xfrm>
            <a:off x="7824960" y="6353280"/>
            <a:ext cx="1319040" cy="504720"/>
          </a:xfrm>
          <a:custGeom>
            <a:avLst/>
            <a:gdLst>
              <a:gd name="textAreaLeft" fmla="*/ 32400 w 1319040"/>
              <a:gd name="textAreaRight" fmla="*/ 1286640 w 1319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6425" h="21600">
                <a:moveTo>
                  <a:pt x="0" y="0"/>
                </a:moveTo>
                <a:lnTo>
                  <a:pt x="56425" y="0"/>
                </a:lnTo>
                <a:lnTo>
                  <a:pt x="56425" y="21600"/>
                </a:lnTo>
                <a:lnTo>
                  <a:pt x="0" y="21600"/>
                </a:lnTo>
                <a:close/>
              </a:path>
              <a:path fill="lightenLess" w="56425" h="21600">
                <a:moveTo>
                  <a:pt x="0" y="0"/>
                </a:moveTo>
                <a:lnTo>
                  <a:pt x="56425" y="0"/>
                </a:lnTo>
                <a:lnTo>
                  <a:pt x="55025" y="1400"/>
                </a:lnTo>
                <a:lnTo>
                  <a:pt x="1400" y="1400"/>
                </a:lnTo>
                <a:close/>
              </a:path>
              <a:path fill="darken" w="56425" h="21600">
                <a:moveTo>
                  <a:pt x="56425" y="0"/>
                </a:moveTo>
                <a:lnTo>
                  <a:pt x="56425" y="21600"/>
                </a:lnTo>
                <a:lnTo>
                  <a:pt x="55025" y="20200"/>
                </a:lnTo>
                <a:lnTo>
                  <a:pt x="55025" y="1400"/>
                </a:lnTo>
                <a:close/>
              </a:path>
              <a:path fill="darkenLess" w="56425" h="21600">
                <a:moveTo>
                  <a:pt x="56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5" y="20200"/>
                </a:lnTo>
                <a:close/>
              </a:path>
              <a:path fill="lighten" w="56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Наз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к вопро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Заголовок 1"/>
          <p:cNvSpPr/>
          <p:nvPr/>
        </p:nvSpPr>
        <p:spPr>
          <a:xfrm>
            <a:off x="500040" y="428760"/>
            <a:ext cx="72388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Arial"/>
                <a:ea typeface="Arial"/>
              </a:rPr>
              <a:t>Отве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3" name="Picture 2" descr=""/>
          <p:cNvPicPr/>
          <p:nvPr/>
        </p:nvPicPr>
        <p:blipFill>
          <a:blip r:embed="rId2"/>
          <a:stretch/>
        </p:blipFill>
        <p:spPr>
          <a:xfrm>
            <a:off x="1928880" y="1428840"/>
            <a:ext cx="485784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"/>
          <p:cNvSpPr txBox="1"/>
          <p:nvPr/>
        </p:nvSpPr>
        <p:spPr>
          <a:xfrm>
            <a:off x="457200" y="160920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AutoShape 14">
            <a:hlinkClick r:id="" action="ppaction://hlinkshowjump?jump=previousslide"/>
          </p:cNvPr>
          <p:cNvSpPr/>
          <p:nvPr/>
        </p:nvSpPr>
        <p:spPr>
          <a:xfrm>
            <a:off x="7824960" y="6353280"/>
            <a:ext cx="1319040" cy="504720"/>
          </a:xfrm>
          <a:custGeom>
            <a:avLst/>
            <a:gdLst>
              <a:gd name="textAreaLeft" fmla="*/ 32400 w 1319040"/>
              <a:gd name="textAreaRight" fmla="*/ 1286640 w 1319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6425" h="21600">
                <a:moveTo>
                  <a:pt x="0" y="0"/>
                </a:moveTo>
                <a:lnTo>
                  <a:pt x="56425" y="0"/>
                </a:lnTo>
                <a:lnTo>
                  <a:pt x="56425" y="21600"/>
                </a:lnTo>
                <a:lnTo>
                  <a:pt x="0" y="21600"/>
                </a:lnTo>
                <a:close/>
              </a:path>
              <a:path fill="lightenLess" w="56425" h="21600">
                <a:moveTo>
                  <a:pt x="0" y="0"/>
                </a:moveTo>
                <a:lnTo>
                  <a:pt x="56425" y="0"/>
                </a:lnTo>
                <a:lnTo>
                  <a:pt x="55025" y="1400"/>
                </a:lnTo>
                <a:lnTo>
                  <a:pt x="1400" y="1400"/>
                </a:lnTo>
                <a:close/>
              </a:path>
              <a:path fill="darken" w="56425" h="21600">
                <a:moveTo>
                  <a:pt x="56425" y="0"/>
                </a:moveTo>
                <a:lnTo>
                  <a:pt x="56425" y="21600"/>
                </a:lnTo>
                <a:lnTo>
                  <a:pt x="55025" y="20200"/>
                </a:lnTo>
                <a:lnTo>
                  <a:pt x="55025" y="1400"/>
                </a:lnTo>
                <a:close/>
              </a:path>
              <a:path fill="darkenLess" w="56425" h="21600">
                <a:moveTo>
                  <a:pt x="56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5" y="20200"/>
                </a:lnTo>
                <a:close/>
              </a:path>
              <a:path fill="lighten" w="56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Наз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к вопро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7" name="i-main-pic" descr="Картинка 15 из 553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428840"/>
            <a:ext cx="3643200" cy="3643200"/>
          </a:xfrm>
          <a:prstGeom prst="rect">
            <a:avLst/>
          </a:prstGeom>
          <a:ln w="0">
            <a:noFill/>
          </a:ln>
        </p:spPr>
      </p:pic>
      <p:sp>
        <p:nvSpPr>
          <p:cNvPr id="2758" name="Дуга 16"/>
          <p:cNvSpPr/>
          <p:nvPr/>
        </p:nvSpPr>
        <p:spPr>
          <a:xfrm rot="7534800">
            <a:off x="3343320" y="1061640"/>
            <a:ext cx="2571840" cy="1285920"/>
          </a:xfrm>
          <a:custGeom>
            <a:avLst/>
            <a:gdLst/>
            <a:ahLst/>
            <a:rect l="l" t="t" r="r" b="b"/>
            <a:pathLst>
              <a:path stroke="0" w="2571750" h="1285875">
                <a:moveTo>
                  <a:pt x="1085632" y="7844"/>
                </a:moveTo>
                <a:cubicBezTo>
                  <a:pt x="1348856" y="-12904"/>
                  <a:pt x="1618470" y="7748"/>
                  <a:pt x="1857198" y="66946"/>
                </a:cubicBezTo>
                <a:cubicBezTo>
                  <a:pt x="2533993" y="234773"/>
                  <a:pt x="2776990" y="656773"/>
                  <a:pt x="2382293" y="978849"/>
                </a:cubicBezTo>
                <a:cubicBezTo>
                  <a:pt x="2170934" y="1151319"/>
                  <a:pt x="1809569" y="1264002"/>
                  <a:pt x="1406818" y="1283026"/>
                </a:cubicBezTo>
                <a:lnTo>
                  <a:pt x="1285875" y="642938"/>
                </a:lnTo>
                <a:lnTo>
                  <a:pt x="1085632" y="7844"/>
                </a:lnTo>
                <a:close/>
              </a:path>
              <a:path fill="none" w="2571750" h="1285875">
                <a:moveTo>
                  <a:pt x="1085632" y="7844"/>
                </a:moveTo>
                <a:cubicBezTo>
                  <a:pt x="1348856" y="-12904"/>
                  <a:pt x="1618470" y="7748"/>
                  <a:pt x="1857198" y="66946"/>
                </a:cubicBezTo>
                <a:cubicBezTo>
                  <a:pt x="2533993" y="234773"/>
                  <a:pt x="2776990" y="656773"/>
                  <a:pt x="2382293" y="978849"/>
                </a:cubicBezTo>
                <a:cubicBezTo>
                  <a:pt x="2170934" y="1151319"/>
                  <a:pt x="1809569" y="1264002"/>
                  <a:pt x="1406818" y="1283026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9" name="Дуга 17"/>
          <p:cNvSpPr/>
          <p:nvPr/>
        </p:nvSpPr>
        <p:spPr>
          <a:xfrm rot="7534800">
            <a:off x="3134160" y="443160"/>
            <a:ext cx="2571840" cy="2881440"/>
          </a:xfrm>
          <a:custGeom>
            <a:avLst/>
            <a:gdLst/>
            <a:ahLst/>
            <a:rect l="l" t="t" r="r" b="b"/>
            <a:pathLst>
              <a:path stroke="0" w="2571750" h="2881312">
                <a:moveTo>
                  <a:pt x="964290" y="45780"/>
                </a:moveTo>
                <a:cubicBezTo>
                  <a:pt x="1601871" y="-138729"/>
                  <a:pt x="2260829" y="246229"/>
                  <a:pt x="2490792" y="937550"/>
                </a:cubicBezTo>
                <a:cubicBezTo>
                  <a:pt x="2694287" y="1549302"/>
                  <a:pt x="2505165" y="2237899"/>
                  <a:pt x="2029905" y="2615653"/>
                </a:cubicBezTo>
                <a:lnTo>
                  <a:pt x="1285875" y="1440656"/>
                </a:lnTo>
                <a:lnTo>
                  <a:pt x="964290" y="45780"/>
                </a:lnTo>
                <a:close/>
              </a:path>
              <a:path fill="none" w="2571750" h="2881312">
                <a:moveTo>
                  <a:pt x="964290" y="45780"/>
                </a:moveTo>
                <a:cubicBezTo>
                  <a:pt x="1601871" y="-138729"/>
                  <a:pt x="2260829" y="246229"/>
                  <a:pt x="2490792" y="937550"/>
                </a:cubicBezTo>
                <a:cubicBezTo>
                  <a:pt x="2694287" y="1549302"/>
                  <a:pt x="2505165" y="2237899"/>
                  <a:pt x="2029905" y="2615653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Дуга 18"/>
          <p:cNvSpPr/>
          <p:nvPr/>
        </p:nvSpPr>
        <p:spPr>
          <a:xfrm rot="6198000">
            <a:off x="3148200" y="342000"/>
            <a:ext cx="2571840" cy="3662280"/>
          </a:xfrm>
          <a:custGeom>
            <a:avLst/>
            <a:gdLst/>
            <a:ahLst/>
            <a:rect l="l" t="t" r="r" b="b"/>
            <a:pathLst>
              <a:path stroke="0" w="2571750" h="3662363">
                <a:moveTo>
                  <a:pt x="1866109" y="197027"/>
                </a:moveTo>
                <a:cubicBezTo>
                  <a:pt x="2311199" y="517524"/>
                  <a:pt x="2586002" y="1175642"/>
                  <a:pt x="2571182" y="1885591"/>
                </a:cubicBezTo>
                <a:cubicBezTo>
                  <a:pt x="2555653" y="2629530"/>
                  <a:pt x="2225483" y="3286078"/>
                  <a:pt x="1735904" y="3546555"/>
                </a:cubicBezTo>
                <a:lnTo>
                  <a:pt x="1285875" y="1831182"/>
                </a:lnTo>
                <a:lnTo>
                  <a:pt x="1866109" y="197027"/>
                </a:lnTo>
                <a:close/>
              </a:path>
              <a:path fill="none" w="2571750" h="3662363">
                <a:moveTo>
                  <a:pt x="1866109" y="197027"/>
                </a:moveTo>
                <a:cubicBezTo>
                  <a:pt x="2311199" y="517524"/>
                  <a:pt x="2586002" y="1175642"/>
                  <a:pt x="2571182" y="1885591"/>
                </a:cubicBezTo>
                <a:cubicBezTo>
                  <a:pt x="2555653" y="2629530"/>
                  <a:pt x="2225483" y="3286078"/>
                  <a:pt x="1735904" y="3546555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Дуга 19"/>
          <p:cNvSpPr/>
          <p:nvPr/>
        </p:nvSpPr>
        <p:spPr>
          <a:xfrm rot="18418800">
            <a:off x="2344680" y="3347640"/>
            <a:ext cx="2800440" cy="3511800"/>
          </a:xfrm>
          <a:custGeom>
            <a:avLst/>
            <a:gdLst/>
            <a:ahLst/>
            <a:rect l="l" t="t" r="r" b="b"/>
            <a:pathLst>
              <a:path stroke="0" w="2800350" h="3511550">
                <a:moveTo>
                  <a:pt x="1514052" y="5817"/>
                </a:moveTo>
                <a:cubicBezTo>
                  <a:pt x="2051300" y="60791"/>
                  <a:pt x="2515677" y="497612"/>
                  <a:pt x="2708098" y="1129008"/>
                </a:cubicBezTo>
                <a:cubicBezTo>
                  <a:pt x="2856317" y="1615363"/>
                  <a:pt x="2824754" y="2159124"/>
                  <a:pt x="2621932" y="2613438"/>
                </a:cubicBezTo>
                <a:lnTo>
                  <a:pt x="1400175" y="1755775"/>
                </a:lnTo>
                <a:lnTo>
                  <a:pt x="1514052" y="5817"/>
                </a:lnTo>
                <a:close/>
              </a:path>
              <a:path fill="none" w="2800350" h="3511550">
                <a:moveTo>
                  <a:pt x="1514052" y="5817"/>
                </a:moveTo>
                <a:cubicBezTo>
                  <a:pt x="2051300" y="60791"/>
                  <a:pt x="2515677" y="497612"/>
                  <a:pt x="2708098" y="1129008"/>
                </a:cubicBezTo>
                <a:cubicBezTo>
                  <a:pt x="2856317" y="1615363"/>
                  <a:pt x="2824754" y="2159124"/>
                  <a:pt x="2621932" y="2613438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Дуга 20"/>
          <p:cNvSpPr/>
          <p:nvPr/>
        </p:nvSpPr>
        <p:spPr>
          <a:xfrm rot="18016800">
            <a:off x="2274840" y="4363560"/>
            <a:ext cx="2571840" cy="1285920"/>
          </a:xfrm>
          <a:custGeom>
            <a:avLst/>
            <a:gdLst/>
            <a:ahLst/>
            <a:rect l="l" t="t" r="r" b="b"/>
            <a:pathLst>
              <a:path stroke="0" w="2571750" h="1285875">
                <a:moveTo>
                  <a:pt x="1203039" y="1335"/>
                </a:moveTo>
                <a:cubicBezTo>
                  <a:pt x="1720867" y="-15379"/>
                  <a:pt x="2208040" y="125166"/>
                  <a:pt x="2438263" y="357685"/>
                </a:cubicBezTo>
                <a:cubicBezTo>
                  <a:pt x="2816598" y="739793"/>
                  <a:pt x="2359847" y="1196839"/>
                  <a:pt x="1521553" y="1274985"/>
                </a:cubicBezTo>
                <a:lnTo>
                  <a:pt x="1285875" y="642938"/>
                </a:lnTo>
                <a:lnTo>
                  <a:pt x="1203039" y="1335"/>
                </a:lnTo>
                <a:close/>
              </a:path>
              <a:path fill="none" w="2571750" h="1285875">
                <a:moveTo>
                  <a:pt x="1203039" y="1335"/>
                </a:moveTo>
                <a:cubicBezTo>
                  <a:pt x="1720867" y="-15379"/>
                  <a:pt x="2208040" y="125166"/>
                  <a:pt x="2438263" y="357685"/>
                </a:cubicBezTo>
                <a:cubicBezTo>
                  <a:pt x="2816598" y="739793"/>
                  <a:pt x="2359847" y="1196839"/>
                  <a:pt x="1521553" y="1274985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000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Используемая литератур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"/>
          <p:cNvSpPr txBox="1"/>
          <p:nvPr/>
        </p:nvSpPr>
        <p:spPr>
          <a:xfrm>
            <a:off x="142920" y="1285560"/>
            <a:ext cx="7858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34040" indent="-44784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Васильченко К.В. «Путешествие в страну «Я». –Д.: Сталкер, 1998. – 448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4040" indent="-44784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Виленкин Н.Я., Чесноков А.С., Шварцбурд С.И.Математика: учебник для 5 класса.- М.: Мнемозина,2007.-280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4040" indent="-44784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Леман И.Увлекательная математика. Пер.с нем.– М.: Знание,  1985.-272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4040" indent="-44784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Нагибин Ф.Ф., Канин Е.С. Математическая шкатулка: Пособие для учащихся. –М.: Просвещение, 1984. -160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4040" indent="-44784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Шмырева Г.Г., Фуртат Н.Е. Сборник задач с экономическим содержанием. –В.:Владимирская школа, 1994.-116с.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4040" indent="-44784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Шуба М.Ю. Занимательные задания в обучении математике: </a:t>
            </a:r>
            <a:r>
              <a:rPr b="0" lang="en-US" sz="2000" spc="-1" strike="noStrike">
                <a:solidFill>
                  <a:srgbClr val="376092"/>
                </a:solidFill>
                <a:latin typeface="Arial"/>
                <a:ea typeface="Arial"/>
              </a:rPr>
              <a:t>       </a:t>
            </a:r>
            <a:r>
              <a:rPr b="0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Книга для учителя. – М.:Просвещение,1994.-222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238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Используемые  ресур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"/>
          <p:cNvSpPr txBox="1"/>
          <p:nvPr/>
        </p:nvSpPr>
        <p:spPr>
          <a:xfrm>
            <a:off x="611280" y="928440"/>
            <a:ext cx="7859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img.sunhome.ru/UsersGallery/Cards/155/25232105.jpg</a:t>
            </a:r>
            <a:r>
              <a:rPr b="0" lang="ru-RU" sz="19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briticat.ru/smail/butterflys/butterflys1.html</a:t>
            </a:r>
            <a:r>
              <a:rPr b="0" lang="en-US" sz="1900" spc="-1" strike="noStrike" u="sng">
                <a:solidFill>
                  <a:srgbClr val="376092"/>
                </a:solidFill>
                <a:uFillTx/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briticat.ru/smail/raznie2.htm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animashky.ru/index/0-11?2-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le-savchen.ucoz.ru/load/0-0-0-88-20</a:t>
            </a:r>
            <a:r>
              <a:rPr b="0" lang="ru-RU" sz="19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376092"/>
                </a:solidFill>
                <a:latin typeface="Arial"/>
                <a:ea typeface="Arial"/>
              </a:rPr>
              <a:t>Коллекция картинок ,автор Савченко Елена Михайловна</a:t>
            </a:r>
            <a:r>
              <a:rPr b="0" lang="en-US" sz="1900" spc="-1" strike="noStrike">
                <a:solidFill>
                  <a:srgbClr val="376092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76092"/>
                </a:solidFill>
                <a:latin typeface="Calibri"/>
              </a:rPr>
              <a:t>http://le-savchen.ucoz.ru/load/0-0-0-89-20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76092"/>
                </a:solidFill>
                <a:uFillTx/>
                <a:latin typeface="Arial"/>
                <a:ea typeface="Arial"/>
              </a:rPr>
              <a:t>http://briticat.ru/smail/raznie1.htm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76092"/>
                </a:solidFill>
                <a:uFillTx/>
                <a:latin typeface="Calibri"/>
              </a:rPr>
              <a:t>http://allday.ru/uploads/posts/1211126102_noty_vector_500.jp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76092"/>
                </a:solidFill>
                <a:uFillTx/>
                <a:latin typeface="Calibri"/>
              </a:rPr>
              <a:t>http://kalaratri.ucoz.ru/_pu/0/97954.jp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76092"/>
                </a:solidFill>
                <a:uFillTx/>
                <a:latin typeface="Calibri"/>
              </a:rPr>
              <a:t>http://barvihafilm.ru/wp-content/uploads/2009/11/konkurs.jp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76092"/>
                </a:solidFill>
                <a:uFillTx/>
                <a:latin typeface="Calibri"/>
              </a:rPr>
              <a:t>http://www.o-gifts.ru/getsmall.php?p=http://www.o-gifts.ru/img_tov/29733001.jpg&amp;x=480&amp;y=48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76092"/>
                </a:solidFill>
                <a:latin typeface="Arial"/>
                <a:ea typeface="Arial"/>
              </a:rPr>
              <a:t>http://pedsovet.su/_ld/328/05825331.jpg</a:t>
            </a:r>
            <a:r>
              <a:rPr b="0" lang="ru-RU" sz="1900" spc="-1" strike="noStrike">
                <a:solidFill>
                  <a:srgbClr val="376092"/>
                </a:solidFill>
                <a:latin typeface="Arial"/>
                <a:ea typeface="Arial"/>
              </a:rPr>
              <a:t> -фо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76092"/>
                </a:solidFill>
                <a:latin typeface="Arial"/>
                <a:ea typeface="Arial"/>
              </a:rPr>
              <a:t>http://pedsovet.su/_ld/291/86246411.jpg</a:t>
            </a:r>
            <a:r>
              <a:rPr b="0" lang="ru-RU" sz="1900" spc="-1" strike="noStrike">
                <a:solidFill>
                  <a:srgbClr val="376092"/>
                </a:solidFill>
                <a:latin typeface="Arial"/>
                <a:ea typeface="Arial"/>
              </a:rPr>
              <a:t> - фо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76092"/>
                </a:solidFill>
                <a:latin typeface="Arial"/>
                <a:ea typeface="Arial"/>
              </a:rPr>
              <a:t>http://img0.liveinternet.ru/images/attach/c/4/80/207/80207774_2222299_img3.jpg</a:t>
            </a:r>
            <a:r>
              <a:rPr b="0" lang="ru-RU" sz="1900" spc="-1" strike="noStrike">
                <a:solidFill>
                  <a:srgbClr val="376092"/>
                </a:solidFill>
                <a:latin typeface="Arial"/>
                <a:ea typeface="Arial"/>
              </a:rPr>
              <a:t> -числ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Заголовок 4"/>
          <p:cNvSpPr/>
          <p:nvPr/>
        </p:nvSpPr>
        <p:spPr>
          <a:xfrm>
            <a:off x="357120" y="3929040"/>
            <a:ext cx="7239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Управляющая кнопка: домой 6">
            <a:hlinkClick r:id="" action="ppaction://hlinkshowjump?jump=endshow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I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Найдите закономерность построения стро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400" y="1714680"/>
            <a:ext cx="74293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а Яга предложила Василисе Премудрой разгадать правило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торому составлен ряд, и вставить пропущенные чис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,  17,  37,  77,  157,  317,  6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42960" y="5000760"/>
            <a:ext cx="392904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йдите закономерн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бал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Овал 15"/>
          <p:cNvSpPr/>
          <p:nvPr/>
        </p:nvSpPr>
        <p:spPr>
          <a:xfrm>
            <a:off x="5508720" y="3486240"/>
            <a:ext cx="78588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 16"/>
          <p:cNvSpPr/>
          <p:nvPr/>
        </p:nvSpPr>
        <p:spPr>
          <a:xfrm>
            <a:off x="3583080" y="3500280"/>
            <a:ext cx="785880" cy="857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14">
            <a:hlinkClick r:id="rId1" action="ppaction://hlinksldjump"/>
          </p:cNvPr>
          <p:cNvSpPr/>
          <p:nvPr/>
        </p:nvSpPr>
        <p:spPr>
          <a:xfrm>
            <a:off x="6715080" y="6307200"/>
            <a:ext cx="1461960" cy="550800"/>
          </a:xfrm>
          <a:custGeom>
            <a:avLst/>
            <a:gdLst>
              <a:gd name="textAreaLeft" fmla="*/ 35640 w 1461960"/>
              <a:gd name="textAreaRight" fmla="*/ 1426320 w 146196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57308" h="21600">
                <a:moveTo>
                  <a:pt x="0" y="0"/>
                </a:moveTo>
                <a:lnTo>
                  <a:pt x="57308" y="0"/>
                </a:lnTo>
                <a:lnTo>
                  <a:pt x="57308" y="21600"/>
                </a:lnTo>
                <a:lnTo>
                  <a:pt x="0" y="21600"/>
                </a:lnTo>
                <a:close/>
              </a:path>
              <a:path fill="lightenLess" w="57308" h="21600">
                <a:moveTo>
                  <a:pt x="0" y="0"/>
                </a:moveTo>
                <a:lnTo>
                  <a:pt x="57308" y="0"/>
                </a:lnTo>
                <a:lnTo>
                  <a:pt x="55908" y="1400"/>
                </a:lnTo>
                <a:lnTo>
                  <a:pt x="1400" y="1400"/>
                </a:lnTo>
                <a:close/>
              </a:path>
              <a:path fill="darken" w="57308" h="21600">
                <a:moveTo>
                  <a:pt x="57308" y="0"/>
                </a:moveTo>
                <a:lnTo>
                  <a:pt x="57308" y="21600"/>
                </a:lnTo>
                <a:lnTo>
                  <a:pt x="55908" y="20200"/>
                </a:lnTo>
                <a:lnTo>
                  <a:pt x="55908" y="1400"/>
                </a:lnTo>
                <a:close/>
              </a:path>
              <a:path fill="darkenLess" w="57308" h="21600">
                <a:moveTo>
                  <a:pt x="57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08" y="20200"/>
                </a:lnTo>
                <a:close/>
              </a:path>
              <a:path fill="lighten" w="57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II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928880"/>
            <a:ext cx="75438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семье 5 сыновей и у каждого есть сестра. Сколько детей в этой семье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4">
            <a:hlinkClick r:id="rId1" action="ppaction://hlinksldjump"/>
          </p:cNvPr>
          <p:cNvSpPr/>
          <p:nvPr/>
        </p:nvSpPr>
        <p:spPr>
          <a:xfrm>
            <a:off x="6715080" y="6307200"/>
            <a:ext cx="1461960" cy="550800"/>
          </a:xfrm>
          <a:custGeom>
            <a:avLst/>
            <a:gdLst>
              <a:gd name="textAreaLeft" fmla="*/ 35640 w 1461960"/>
              <a:gd name="textAreaRight" fmla="*/ 1426320 w 146196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57308" h="21600">
                <a:moveTo>
                  <a:pt x="0" y="0"/>
                </a:moveTo>
                <a:lnTo>
                  <a:pt x="57308" y="0"/>
                </a:lnTo>
                <a:lnTo>
                  <a:pt x="57308" y="21600"/>
                </a:lnTo>
                <a:lnTo>
                  <a:pt x="0" y="21600"/>
                </a:lnTo>
                <a:close/>
              </a:path>
              <a:path fill="lightenLess" w="57308" h="21600">
                <a:moveTo>
                  <a:pt x="0" y="0"/>
                </a:moveTo>
                <a:lnTo>
                  <a:pt x="57308" y="0"/>
                </a:lnTo>
                <a:lnTo>
                  <a:pt x="55908" y="1400"/>
                </a:lnTo>
                <a:lnTo>
                  <a:pt x="1400" y="1400"/>
                </a:lnTo>
                <a:close/>
              </a:path>
              <a:path fill="darken" w="57308" h="21600">
                <a:moveTo>
                  <a:pt x="57308" y="0"/>
                </a:moveTo>
                <a:lnTo>
                  <a:pt x="57308" y="21600"/>
                </a:lnTo>
                <a:lnTo>
                  <a:pt x="55908" y="20200"/>
                </a:lnTo>
                <a:lnTo>
                  <a:pt x="55908" y="1400"/>
                </a:lnTo>
                <a:close/>
              </a:path>
              <a:path fill="darkenLess" w="57308" h="21600">
                <a:moveTo>
                  <a:pt x="57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08" y="20200"/>
                </a:lnTo>
                <a:close/>
              </a:path>
              <a:path fill="lighten" w="57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91" descr="afficher_image564"/>
          <p:cNvPicPr/>
          <p:nvPr/>
        </p:nvPicPr>
        <p:blipFill>
          <a:blip r:embed="rId2"/>
          <a:stretch/>
        </p:blipFill>
        <p:spPr>
          <a:xfrm>
            <a:off x="3786120" y="3571920"/>
            <a:ext cx="785880" cy="13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II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94880" y="1316160"/>
            <a:ext cx="7473960" cy="26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  одного  дерева  сняли 160 яблок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о второго - 5 мальчиков, каждый из которых, сидя на дереве, съел по 10 яблок. После этого со второго дерева сняли еще 94 ябло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яблок было на обоих деревья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14">
            <a:hlinkClick r:id="rId1" action="ppaction://hlinksldjump"/>
          </p:cNvPr>
          <p:cNvSpPr/>
          <p:nvPr/>
        </p:nvSpPr>
        <p:spPr>
          <a:xfrm>
            <a:off x="6715080" y="6307200"/>
            <a:ext cx="1461960" cy="550800"/>
          </a:xfrm>
          <a:custGeom>
            <a:avLst/>
            <a:gdLst>
              <a:gd name="textAreaLeft" fmla="*/ 35640 w 1461960"/>
              <a:gd name="textAreaRight" fmla="*/ 1426320 w 146196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57308" h="21600">
                <a:moveTo>
                  <a:pt x="0" y="0"/>
                </a:moveTo>
                <a:lnTo>
                  <a:pt x="57308" y="0"/>
                </a:lnTo>
                <a:lnTo>
                  <a:pt x="57308" y="21600"/>
                </a:lnTo>
                <a:lnTo>
                  <a:pt x="0" y="21600"/>
                </a:lnTo>
                <a:close/>
              </a:path>
              <a:path fill="lightenLess" w="57308" h="21600">
                <a:moveTo>
                  <a:pt x="0" y="0"/>
                </a:moveTo>
                <a:lnTo>
                  <a:pt x="57308" y="0"/>
                </a:lnTo>
                <a:lnTo>
                  <a:pt x="55908" y="1400"/>
                </a:lnTo>
                <a:lnTo>
                  <a:pt x="1400" y="1400"/>
                </a:lnTo>
                <a:close/>
              </a:path>
              <a:path fill="darken" w="57308" h="21600">
                <a:moveTo>
                  <a:pt x="57308" y="0"/>
                </a:moveTo>
                <a:lnTo>
                  <a:pt x="57308" y="21600"/>
                </a:lnTo>
                <a:lnTo>
                  <a:pt x="55908" y="20200"/>
                </a:lnTo>
                <a:lnTo>
                  <a:pt x="55908" y="1400"/>
                </a:lnTo>
                <a:close/>
              </a:path>
              <a:path fill="darkenLess" w="57308" h="21600">
                <a:moveTo>
                  <a:pt x="57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08" y="20200"/>
                </a:lnTo>
                <a:close/>
              </a:path>
              <a:path fill="lighten" w="57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1455"/>
          <p:cNvGrpSpPr/>
          <p:nvPr/>
        </p:nvGrpSpPr>
        <p:grpSpPr>
          <a:xfrm>
            <a:off x="479520" y="4324320"/>
            <a:ext cx="1555920" cy="1962360"/>
            <a:chOff x="479520" y="4324320"/>
            <a:chExt cx="1555920" cy="1962360"/>
          </a:xfrm>
        </p:grpSpPr>
        <p:grpSp>
          <p:nvGrpSpPr>
            <p:cNvPr id="119" name="Group 1456"/>
            <p:cNvGrpSpPr/>
            <p:nvPr/>
          </p:nvGrpSpPr>
          <p:grpSpPr>
            <a:xfrm>
              <a:off x="585360" y="4324320"/>
              <a:ext cx="1447200" cy="1962360"/>
              <a:chOff x="585360" y="4324320"/>
              <a:chExt cx="1447200" cy="1962360"/>
            </a:xfrm>
          </p:grpSpPr>
          <p:sp>
            <p:nvSpPr>
              <p:cNvPr id="120" name="Freeform 1457"/>
              <p:cNvSpPr/>
              <p:nvPr/>
            </p:nvSpPr>
            <p:spPr>
              <a:xfrm>
                <a:off x="1168200" y="5094000"/>
                <a:ext cx="113760" cy="119268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92680"/>
                  <a:gd name="textAreaBottom" fmla="*/ 1193040 h 1192680"/>
                </a:gdLst>
                <a:ahLst/>
                <a:rect l="textAreaLeft" t="textAreaTop" r="textAreaRight" b="textAreaBottom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1458"/>
              <p:cNvSpPr/>
              <p:nvPr/>
            </p:nvSpPr>
            <p:spPr>
              <a:xfrm>
                <a:off x="704880" y="4533840"/>
                <a:ext cx="1181160" cy="1145520"/>
              </a:xfrm>
              <a:custGeom>
                <a:avLst/>
                <a:gdLst>
                  <a:gd name="textAreaLeft" fmla="*/ 0 w 1181160"/>
                  <a:gd name="textAreaRight" fmla="*/ 1181520 w 1181160"/>
                  <a:gd name="textAreaTop" fmla="*/ 0 h 1145520"/>
                  <a:gd name="textAreaBottom" fmla="*/ 1145880 h 1145520"/>
                </a:gdLst>
                <a:ahLst/>
                <a:rect l="textAreaLeft" t="textAreaTop" r="textAreaRight" b="textAreaBottom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2" name="Group 1459"/>
              <p:cNvGrpSpPr/>
              <p:nvPr/>
            </p:nvGrpSpPr>
            <p:grpSpPr>
              <a:xfrm>
                <a:off x="1217880" y="5203800"/>
                <a:ext cx="340200" cy="242640"/>
                <a:chOff x="1217880" y="5203800"/>
                <a:chExt cx="340200" cy="242640"/>
              </a:xfrm>
            </p:grpSpPr>
            <p:sp>
              <p:nvSpPr>
                <p:cNvPr id="123" name="Freeform 1460"/>
                <p:cNvSpPr/>
                <p:nvPr/>
              </p:nvSpPr>
              <p:spPr>
                <a:xfrm rot="18155400">
                  <a:off x="1419840" y="5215680"/>
                  <a:ext cx="104040" cy="13716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4" name="Group 1461"/>
                <p:cNvGrpSpPr/>
                <p:nvPr/>
              </p:nvGrpSpPr>
              <p:grpSpPr>
                <a:xfrm>
                  <a:off x="1217880" y="5217480"/>
                  <a:ext cx="284040" cy="228960"/>
                  <a:chOff x="1217880" y="5217480"/>
                  <a:chExt cx="284040" cy="228960"/>
                </a:xfrm>
              </p:grpSpPr>
              <p:grpSp>
                <p:nvGrpSpPr>
                  <p:cNvPr id="125" name="Group 1462"/>
                  <p:cNvGrpSpPr/>
                  <p:nvPr/>
                </p:nvGrpSpPr>
                <p:grpSpPr>
                  <a:xfrm>
                    <a:off x="1217880" y="5217480"/>
                    <a:ext cx="284040" cy="228960"/>
                    <a:chOff x="1217880" y="5217480"/>
                    <a:chExt cx="284040" cy="228960"/>
                  </a:xfrm>
                </p:grpSpPr>
                <p:sp>
                  <p:nvSpPr>
                    <p:cNvPr id="126" name="Freeform 1463"/>
                    <p:cNvSpPr/>
                    <p:nvPr/>
                  </p:nvSpPr>
                  <p:spPr>
                    <a:xfrm rot="19953000">
                      <a:off x="1218600" y="5270400"/>
                      <a:ext cx="246960" cy="64080"/>
                    </a:xfrm>
                    <a:custGeom>
                      <a:avLst/>
                      <a:gdLst>
                        <a:gd name="textAreaLeft" fmla="*/ 0 w 246960"/>
                        <a:gd name="textAreaRight" fmla="*/ 247320 w 246960"/>
                        <a:gd name="textAreaTop" fmla="*/ 0 h 64080"/>
                        <a:gd name="textAreaBottom" fmla="*/ 64440 h 640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27" name="Freeform 1464"/>
                    <p:cNvSpPr/>
                    <p:nvPr/>
                  </p:nvSpPr>
                  <p:spPr>
                    <a:xfrm rot="19953000">
                      <a:off x="1243800" y="5308200"/>
                      <a:ext cx="252360" cy="84960"/>
                    </a:xfrm>
                    <a:custGeom>
                      <a:avLst/>
                      <a:gdLst>
                        <a:gd name="textAreaLeft" fmla="*/ 0 w 252360"/>
                        <a:gd name="textAreaRight" fmla="*/ 252720 w 252360"/>
                        <a:gd name="textAreaTop" fmla="*/ 0 h 84960"/>
                        <a:gd name="textAreaBottom" fmla="*/ 85320 h 8496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28" name="Freeform 1465"/>
                  <p:cNvSpPr/>
                  <p:nvPr/>
                </p:nvSpPr>
                <p:spPr>
                  <a:xfrm rot="19953000">
                    <a:off x="1424520" y="5276520"/>
                    <a:ext cx="25200" cy="601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60120"/>
                      <a:gd name="textAreaBottom" fmla="*/ 60480 h 601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" name="Freeform 1466"/>
                  <p:cNvSpPr/>
                  <p:nvPr/>
                </p:nvSpPr>
                <p:spPr>
                  <a:xfrm rot="19953000">
                    <a:off x="1393200" y="5292360"/>
                    <a:ext cx="25200" cy="601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60120"/>
                      <a:gd name="textAreaBottom" fmla="*/ 60480 h 601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" name="Freeform 1467"/>
                  <p:cNvSpPr/>
                  <p:nvPr/>
                </p:nvSpPr>
                <p:spPr>
                  <a:xfrm rot="19953000">
                    <a:off x="1361520" y="5317920"/>
                    <a:ext cx="20880" cy="3816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" name="Freeform 1468"/>
                  <p:cNvSpPr/>
                  <p:nvPr/>
                </p:nvSpPr>
                <p:spPr>
                  <a:xfrm rot="19953000">
                    <a:off x="1362600" y="5267160"/>
                    <a:ext cx="32400" cy="2988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29880"/>
                      <a:gd name="textAreaBottom" fmla="*/ 30240 h 298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2" name="Freeform 1469"/>
                  <p:cNvSpPr/>
                  <p:nvPr/>
                </p:nvSpPr>
                <p:spPr>
                  <a:xfrm rot="19953000">
                    <a:off x="1386360" y="5250240"/>
                    <a:ext cx="34920" cy="3348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33" name="Group 1470"/>
              <p:cNvGrpSpPr/>
              <p:nvPr/>
            </p:nvGrpSpPr>
            <p:grpSpPr>
              <a:xfrm>
                <a:off x="774720" y="5442480"/>
                <a:ext cx="340200" cy="242640"/>
                <a:chOff x="774720" y="5442480"/>
                <a:chExt cx="340200" cy="242640"/>
              </a:xfrm>
            </p:grpSpPr>
            <p:sp>
              <p:nvSpPr>
                <p:cNvPr id="134" name="Freeform 1471"/>
                <p:cNvSpPr/>
                <p:nvPr/>
              </p:nvSpPr>
              <p:spPr>
                <a:xfrm rot="18155400">
                  <a:off x="976680" y="5454360"/>
                  <a:ext cx="104040" cy="13716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5" name="Group 1472"/>
                <p:cNvGrpSpPr/>
                <p:nvPr/>
              </p:nvGrpSpPr>
              <p:grpSpPr>
                <a:xfrm>
                  <a:off x="774720" y="5456160"/>
                  <a:ext cx="284040" cy="228960"/>
                  <a:chOff x="774720" y="5456160"/>
                  <a:chExt cx="284040" cy="228960"/>
                </a:xfrm>
              </p:grpSpPr>
              <p:grpSp>
                <p:nvGrpSpPr>
                  <p:cNvPr id="136" name="Group 1473"/>
                  <p:cNvGrpSpPr/>
                  <p:nvPr/>
                </p:nvGrpSpPr>
                <p:grpSpPr>
                  <a:xfrm>
                    <a:off x="774720" y="5456160"/>
                    <a:ext cx="284040" cy="228960"/>
                    <a:chOff x="774720" y="5456160"/>
                    <a:chExt cx="284040" cy="228960"/>
                  </a:xfrm>
                </p:grpSpPr>
                <p:sp>
                  <p:nvSpPr>
                    <p:cNvPr id="137" name="Freeform 1474"/>
                    <p:cNvSpPr/>
                    <p:nvPr/>
                  </p:nvSpPr>
                  <p:spPr>
                    <a:xfrm rot="19953000">
                      <a:off x="775440" y="5509080"/>
                      <a:ext cx="246960" cy="64080"/>
                    </a:xfrm>
                    <a:custGeom>
                      <a:avLst/>
                      <a:gdLst>
                        <a:gd name="textAreaLeft" fmla="*/ 0 w 246960"/>
                        <a:gd name="textAreaRight" fmla="*/ 247320 w 246960"/>
                        <a:gd name="textAreaTop" fmla="*/ 0 h 64080"/>
                        <a:gd name="textAreaBottom" fmla="*/ 64440 h 640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38" name="Freeform 1475"/>
                    <p:cNvSpPr/>
                    <p:nvPr/>
                  </p:nvSpPr>
                  <p:spPr>
                    <a:xfrm rot="19953000">
                      <a:off x="800640" y="5546880"/>
                      <a:ext cx="252360" cy="84960"/>
                    </a:xfrm>
                    <a:custGeom>
                      <a:avLst/>
                      <a:gdLst>
                        <a:gd name="textAreaLeft" fmla="*/ 0 w 252360"/>
                        <a:gd name="textAreaRight" fmla="*/ 252720 w 252360"/>
                        <a:gd name="textAreaTop" fmla="*/ 0 h 84960"/>
                        <a:gd name="textAreaBottom" fmla="*/ 85320 h 8496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39" name="Freeform 1476"/>
                  <p:cNvSpPr/>
                  <p:nvPr/>
                </p:nvSpPr>
                <p:spPr>
                  <a:xfrm rot="19953000">
                    <a:off x="981360" y="5515200"/>
                    <a:ext cx="25200" cy="601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60120"/>
                      <a:gd name="textAreaBottom" fmla="*/ 60480 h 601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0" name="Freeform 1477"/>
                  <p:cNvSpPr/>
                  <p:nvPr/>
                </p:nvSpPr>
                <p:spPr>
                  <a:xfrm rot="19953000">
                    <a:off x="950040" y="5531040"/>
                    <a:ext cx="25200" cy="601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60120"/>
                      <a:gd name="textAreaBottom" fmla="*/ 60480 h 601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1" name="Freeform 1478"/>
                  <p:cNvSpPr/>
                  <p:nvPr/>
                </p:nvSpPr>
                <p:spPr>
                  <a:xfrm rot="19953000">
                    <a:off x="918360" y="5556600"/>
                    <a:ext cx="20880" cy="3816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2" name="Freeform 1479"/>
                  <p:cNvSpPr/>
                  <p:nvPr/>
                </p:nvSpPr>
                <p:spPr>
                  <a:xfrm rot="19953000">
                    <a:off x="919440" y="5505840"/>
                    <a:ext cx="32400" cy="2988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29880"/>
                      <a:gd name="textAreaBottom" fmla="*/ 30240 h 298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3" name="Freeform 1480"/>
                  <p:cNvSpPr/>
                  <p:nvPr/>
                </p:nvSpPr>
                <p:spPr>
                  <a:xfrm rot="19953000">
                    <a:off x="943200" y="5488920"/>
                    <a:ext cx="34920" cy="3348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44" name="Group 1481"/>
              <p:cNvGrpSpPr/>
              <p:nvPr/>
            </p:nvGrpSpPr>
            <p:grpSpPr>
              <a:xfrm>
                <a:off x="595080" y="5158080"/>
                <a:ext cx="175320" cy="353880"/>
                <a:chOff x="595080" y="5158080"/>
                <a:chExt cx="175320" cy="353880"/>
              </a:xfrm>
            </p:grpSpPr>
            <p:sp>
              <p:nvSpPr>
                <p:cNvPr id="145" name="Freeform 1482"/>
                <p:cNvSpPr/>
                <p:nvPr/>
              </p:nvSpPr>
              <p:spPr>
                <a:xfrm rot="13840800">
                  <a:off x="634320" y="5168160"/>
                  <a:ext cx="96480" cy="14760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46" name="Group 1483"/>
                <p:cNvGrpSpPr/>
                <p:nvPr/>
              </p:nvGrpSpPr>
              <p:grpSpPr>
                <a:xfrm>
                  <a:off x="603360" y="5223600"/>
                  <a:ext cx="162000" cy="288360"/>
                  <a:chOff x="603360" y="5223600"/>
                  <a:chExt cx="162000" cy="288360"/>
                </a:xfrm>
              </p:grpSpPr>
              <p:grpSp>
                <p:nvGrpSpPr>
                  <p:cNvPr id="147" name="Group 1484"/>
                  <p:cNvGrpSpPr/>
                  <p:nvPr/>
                </p:nvGrpSpPr>
                <p:grpSpPr>
                  <a:xfrm>
                    <a:off x="603360" y="5223600"/>
                    <a:ext cx="162000" cy="288360"/>
                    <a:chOff x="603360" y="5223600"/>
                    <a:chExt cx="162000" cy="288360"/>
                  </a:xfrm>
                </p:grpSpPr>
                <p:sp>
                  <p:nvSpPr>
                    <p:cNvPr id="148" name="Freeform 1485"/>
                    <p:cNvSpPr/>
                    <p:nvPr/>
                  </p:nvSpPr>
                  <p:spPr>
                    <a:xfrm rot="15638400">
                      <a:off x="521280" y="5345640"/>
                      <a:ext cx="266040" cy="59760"/>
                    </a:xfrm>
                    <a:custGeom>
                      <a:avLst/>
                      <a:gdLst>
                        <a:gd name="textAreaLeft" fmla="*/ 0 w 266040"/>
                        <a:gd name="textAreaRight" fmla="*/ 266400 w 266040"/>
                        <a:gd name="textAreaTop" fmla="*/ 0 h 59760"/>
                        <a:gd name="textAreaBottom" fmla="*/ 60120 h 597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9" name="Freeform 1486"/>
                    <p:cNvSpPr/>
                    <p:nvPr/>
                  </p:nvSpPr>
                  <p:spPr>
                    <a:xfrm rot="15638400">
                      <a:off x="568440" y="5324760"/>
                      <a:ext cx="271800" cy="78840"/>
                    </a:xfrm>
                    <a:custGeom>
                      <a:avLst/>
                      <a:gdLst>
                        <a:gd name="textAreaLeft" fmla="*/ 0 w 271800"/>
                        <a:gd name="textAreaRight" fmla="*/ 272160 w 271800"/>
                        <a:gd name="textAreaTop" fmla="*/ 0 h 78840"/>
                        <a:gd name="textAreaBottom" fmla="*/ 79200 h 7884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50" name="Freeform 1487"/>
                  <p:cNvSpPr/>
                  <p:nvPr/>
                </p:nvSpPr>
                <p:spPr>
                  <a:xfrm rot="15638400">
                    <a:off x="669600" y="5253120"/>
                    <a:ext cx="27000" cy="558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" name="Freeform 1488"/>
                  <p:cNvSpPr/>
                  <p:nvPr/>
                </p:nvSpPr>
                <p:spPr>
                  <a:xfrm rot="15638400">
                    <a:off x="675360" y="5289840"/>
                    <a:ext cx="27000" cy="558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" name="Freeform 1489"/>
                  <p:cNvSpPr/>
                  <p:nvPr/>
                </p:nvSpPr>
                <p:spPr>
                  <a:xfrm rot="15638400">
                    <a:off x="681840" y="5339880"/>
                    <a:ext cx="22320" cy="35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35640"/>
                      <a:gd name="textAreaBottom" fmla="*/ 36000 h 35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" name="Freeform 1490"/>
                  <p:cNvSpPr/>
                  <p:nvPr/>
                </p:nvSpPr>
                <p:spPr>
                  <a:xfrm rot="15638400">
                    <a:off x="627840" y="5317560"/>
                    <a:ext cx="34920" cy="2772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27720"/>
                      <a:gd name="textAreaBottom" fmla="*/ 28080 h 27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" name="Freeform 1491"/>
                  <p:cNvSpPr/>
                  <p:nvPr/>
                </p:nvSpPr>
                <p:spPr>
                  <a:xfrm rot="15638400">
                    <a:off x="620280" y="5284800"/>
                    <a:ext cx="37440" cy="3096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960"/>
                      <a:gd name="textAreaBottom" fmla="*/ 31320 h 30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55" name="Group 1492"/>
              <p:cNvGrpSpPr/>
              <p:nvPr/>
            </p:nvGrpSpPr>
            <p:grpSpPr>
              <a:xfrm>
                <a:off x="585360" y="4763160"/>
                <a:ext cx="232560" cy="313920"/>
                <a:chOff x="585360" y="4763160"/>
                <a:chExt cx="232560" cy="313920"/>
              </a:xfrm>
            </p:grpSpPr>
            <p:sp>
              <p:nvSpPr>
                <p:cNvPr id="156" name="Freeform 1493"/>
                <p:cNvSpPr/>
                <p:nvPr/>
              </p:nvSpPr>
              <p:spPr>
                <a:xfrm rot="15604200">
                  <a:off x="689040" y="4757400"/>
                  <a:ext cx="104400" cy="13716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57" name="Group 1494"/>
                <p:cNvGrpSpPr/>
                <p:nvPr/>
              </p:nvGrpSpPr>
              <p:grpSpPr>
                <a:xfrm>
                  <a:off x="585360" y="4800600"/>
                  <a:ext cx="208800" cy="276480"/>
                  <a:chOff x="585360" y="4800600"/>
                  <a:chExt cx="208800" cy="276480"/>
                </a:xfrm>
              </p:grpSpPr>
              <p:grpSp>
                <p:nvGrpSpPr>
                  <p:cNvPr id="158" name="Group 1495"/>
                  <p:cNvGrpSpPr/>
                  <p:nvPr/>
                </p:nvGrpSpPr>
                <p:grpSpPr>
                  <a:xfrm>
                    <a:off x="585360" y="4800600"/>
                    <a:ext cx="208800" cy="276480"/>
                    <a:chOff x="585360" y="4800600"/>
                    <a:chExt cx="208800" cy="276480"/>
                  </a:xfrm>
                </p:grpSpPr>
                <p:sp>
                  <p:nvSpPr>
                    <p:cNvPr id="159" name="Freeform 1496"/>
                    <p:cNvSpPr/>
                    <p:nvPr/>
                  </p:nvSpPr>
                  <p:spPr>
                    <a:xfrm rot="17401800">
                      <a:off x="534240" y="4895280"/>
                      <a:ext cx="246960" cy="64440"/>
                    </a:xfrm>
                    <a:custGeom>
                      <a:avLst/>
                      <a:gdLst>
                        <a:gd name="textAreaLeft" fmla="*/ 0 w 246960"/>
                        <a:gd name="textAreaRight" fmla="*/ 247320 w 246960"/>
                        <a:gd name="textAreaTop" fmla="*/ 0 h 64440"/>
                        <a:gd name="textAreaBottom" fmla="*/ 64800 h 644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0" name="Freeform 1497"/>
                    <p:cNvSpPr/>
                    <p:nvPr/>
                  </p:nvSpPr>
                  <p:spPr>
                    <a:xfrm rot="17401800">
                      <a:off x="584280" y="4901040"/>
                      <a:ext cx="252360" cy="85320"/>
                    </a:xfrm>
                    <a:custGeom>
                      <a:avLst/>
                      <a:gdLst>
                        <a:gd name="textAreaLeft" fmla="*/ 0 w 252360"/>
                        <a:gd name="textAreaRight" fmla="*/ 252720 w 252360"/>
                        <a:gd name="textAreaTop" fmla="*/ 0 h 85320"/>
                        <a:gd name="textAreaBottom" fmla="*/ 85320 h 853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61" name="Freeform 1498"/>
                  <p:cNvSpPr/>
                  <p:nvPr/>
                </p:nvSpPr>
                <p:spPr>
                  <a:xfrm rot="17401800">
                    <a:off x="717480" y="4836240"/>
                    <a:ext cx="25200" cy="601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60120"/>
                      <a:gd name="textAreaBottom" fmla="*/ 60480 h 601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" name="Freeform 1499"/>
                  <p:cNvSpPr/>
                  <p:nvPr/>
                </p:nvSpPr>
                <p:spPr>
                  <a:xfrm rot="17401800">
                    <a:off x="705960" y="4868640"/>
                    <a:ext cx="25200" cy="601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60120"/>
                      <a:gd name="textAreaBottom" fmla="*/ 60480 h 601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" name="Freeform 1500"/>
                  <p:cNvSpPr/>
                  <p:nvPr/>
                </p:nvSpPr>
                <p:spPr>
                  <a:xfrm rot="17401800">
                    <a:off x="693000" y="4913640"/>
                    <a:ext cx="20880" cy="3852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" name="Freeform 1501"/>
                  <p:cNvSpPr/>
                  <p:nvPr/>
                </p:nvSpPr>
                <p:spPr>
                  <a:xfrm rot="17401800">
                    <a:off x="654480" y="4872600"/>
                    <a:ext cx="32400" cy="2988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29880"/>
                      <a:gd name="textAreaBottom" fmla="*/ 30240 h 298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" name="Freeform 1502"/>
                  <p:cNvSpPr/>
                  <p:nvPr/>
                </p:nvSpPr>
                <p:spPr>
                  <a:xfrm rot="17401800">
                    <a:off x="661680" y="4842720"/>
                    <a:ext cx="34920" cy="3348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66" name="Group 1503"/>
              <p:cNvGrpSpPr/>
              <p:nvPr/>
            </p:nvGrpSpPr>
            <p:grpSpPr>
              <a:xfrm>
                <a:off x="1428480" y="4454280"/>
                <a:ext cx="289080" cy="300240"/>
                <a:chOff x="1428480" y="4454280"/>
                <a:chExt cx="289080" cy="300240"/>
              </a:xfrm>
            </p:grpSpPr>
            <p:sp>
              <p:nvSpPr>
                <p:cNvPr id="167" name="Freeform 1504"/>
                <p:cNvSpPr/>
                <p:nvPr/>
              </p:nvSpPr>
              <p:spPr>
                <a:xfrm rot="444000">
                  <a:off x="1611720" y="4601160"/>
                  <a:ext cx="96480" cy="14760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68" name="Group 1505"/>
                <p:cNvGrpSpPr/>
                <p:nvPr/>
              </p:nvGrpSpPr>
              <p:grpSpPr>
                <a:xfrm>
                  <a:off x="1428480" y="4454280"/>
                  <a:ext cx="284760" cy="260640"/>
                  <a:chOff x="1428480" y="4454280"/>
                  <a:chExt cx="284760" cy="260640"/>
                </a:xfrm>
              </p:grpSpPr>
              <p:grpSp>
                <p:nvGrpSpPr>
                  <p:cNvPr id="169" name="Group 1506"/>
                  <p:cNvGrpSpPr/>
                  <p:nvPr/>
                </p:nvGrpSpPr>
                <p:grpSpPr>
                  <a:xfrm>
                    <a:off x="1428480" y="4454280"/>
                    <a:ext cx="284760" cy="260640"/>
                    <a:chOff x="1428480" y="4454280"/>
                    <a:chExt cx="284760" cy="260640"/>
                  </a:xfrm>
                </p:grpSpPr>
                <p:sp>
                  <p:nvSpPr>
                    <p:cNvPr id="170" name="Freeform 1507"/>
                    <p:cNvSpPr/>
                    <p:nvPr/>
                  </p:nvSpPr>
                  <p:spPr>
                    <a:xfrm rot="2241600">
                      <a:off x="1456200" y="4528800"/>
                      <a:ext cx="266040" cy="59760"/>
                    </a:xfrm>
                    <a:custGeom>
                      <a:avLst/>
                      <a:gdLst>
                        <a:gd name="textAreaLeft" fmla="*/ 0 w 266040"/>
                        <a:gd name="textAreaRight" fmla="*/ 266400 w 266040"/>
                        <a:gd name="textAreaTop" fmla="*/ 0 h 59760"/>
                        <a:gd name="textAreaBottom" fmla="*/ 60120 h 597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Freeform 1508"/>
                    <p:cNvSpPr/>
                    <p:nvPr/>
                  </p:nvSpPr>
                  <p:spPr>
                    <a:xfrm rot="2241600">
                      <a:off x="1424520" y="4561560"/>
                      <a:ext cx="271800" cy="78840"/>
                    </a:xfrm>
                    <a:custGeom>
                      <a:avLst/>
                      <a:gdLst>
                        <a:gd name="textAreaLeft" fmla="*/ 0 w 271800"/>
                        <a:gd name="textAreaRight" fmla="*/ 272160 w 271800"/>
                        <a:gd name="textAreaTop" fmla="*/ 0 h 78840"/>
                        <a:gd name="textAreaBottom" fmla="*/ 79200 h 7884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72" name="Freeform 1509"/>
                  <p:cNvSpPr/>
                  <p:nvPr/>
                </p:nvSpPr>
                <p:spPr>
                  <a:xfrm rot="2241600">
                    <a:off x="1619640" y="4619160"/>
                    <a:ext cx="27000" cy="558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3" name="Freeform 1510"/>
                  <p:cNvSpPr/>
                  <p:nvPr/>
                </p:nvSpPr>
                <p:spPr>
                  <a:xfrm rot="2241600">
                    <a:off x="1589760" y="4596480"/>
                    <a:ext cx="27000" cy="558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" name="Freeform 1511"/>
                  <p:cNvSpPr/>
                  <p:nvPr/>
                </p:nvSpPr>
                <p:spPr>
                  <a:xfrm rot="2241600">
                    <a:off x="1561680" y="4580280"/>
                    <a:ext cx="22320" cy="35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35640"/>
                      <a:gd name="textAreaBottom" fmla="*/ 36000 h 35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" name="Freeform 1512"/>
                  <p:cNvSpPr/>
                  <p:nvPr/>
                </p:nvSpPr>
                <p:spPr>
                  <a:xfrm rot="2241600">
                    <a:off x="1608480" y="4570560"/>
                    <a:ext cx="34920" cy="2772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27720"/>
                      <a:gd name="textAreaBottom" fmla="*/ 28080 h 27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6" name="Freeform 1513"/>
                  <p:cNvSpPr/>
                  <p:nvPr/>
                </p:nvSpPr>
                <p:spPr>
                  <a:xfrm rot="2241600">
                    <a:off x="1632960" y="4587120"/>
                    <a:ext cx="37440" cy="3096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960"/>
                      <a:gd name="textAreaBottom" fmla="*/ 31320 h 30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77" name="Group 1514"/>
              <p:cNvGrpSpPr/>
              <p:nvPr/>
            </p:nvGrpSpPr>
            <p:grpSpPr>
              <a:xfrm>
                <a:off x="1207080" y="4324320"/>
                <a:ext cx="289080" cy="300240"/>
                <a:chOff x="1207080" y="4324320"/>
                <a:chExt cx="289080" cy="300240"/>
              </a:xfrm>
            </p:grpSpPr>
            <p:sp>
              <p:nvSpPr>
                <p:cNvPr id="178" name="Freeform 1515"/>
                <p:cNvSpPr/>
                <p:nvPr/>
              </p:nvSpPr>
              <p:spPr>
                <a:xfrm rot="444000">
                  <a:off x="1390320" y="4471200"/>
                  <a:ext cx="96480" cy="14760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9" name="Group 1516"/>
                <p:cNvGrpSpPr/>
                <p:nvPr/>
              </p:nvGrpSpPr>
              <p:grpSpPr>
                <a:xfrm>
                  <a:off x="1207080" y="4324320"/>
                  <a:ext cx="284760" cy="260640"/>
                  <a:chOff x="1207080" y="4324320"/>
                  <a:chExt cx="284760" cy="260640"/>
                </a:xfrm>
              </p:grpSpPr>
              <p:grpSp>
                <p:nvGrpSpPr>
                  <p:cNvPr id="180" name="Group 1517"/>
                  <p:cNvGrpSpPr/>
                  <p:nvPr/>
                </p:nvGrpSpPr>
                <p:grpSpPr>
                  <a:xfrm>
                    <a:off x="1207080" y="4324320"/>
                    <a:ext cx="284760" cy="260640"/>
                    <a:chOff x="1207080" y="4324320"/>
                    <a:chExt cx="284760" cy="260640"/>
                  </a:xfrm>
                </p:grpSpPr>
                <p:sp>
                  <p:nvSpPr>
                    <p:cNvPr id="181" name="Freeform 1518"/>
                    <p:cNvSpPr/>
                    <p:nvPr/>
                  </p:nvSpPr>
                  <p:spPr>
                    <a:xfrm rot="2241600">
                      <a:off x="1234800" y="4398840"/>
                      <a:ext cx="266040" cy="59760"/>
                    </a:xfrm>
                    <a:custGeom>
                      <a:avLst/>
                      <a:gdLst>
                        <a:gd name="textAreaLeft" fmla="*/ 0 w 266040"/>
                        <a:gd name="textAreaRight" fmla="*/ 266400 w 266040"/>
                        <a:gd name="textAreaTop" fmla="*/ 0 h 59760"/>
                        <a:gd name="textAreaBottom" fmla="*/ 60120 h 597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2" name="Freeform 1519"/>
                    <p:cNvSpPr/>
                    <p:nvPr/>
                  </p:nvSpPr>
                  <p:spPr>
                    <a:xfrm rot="2241600">
                      <a:off x="1203120" y="4431600"/>
                      <a:ext cx="271800" cy="78840"/>
                    </a:xfrm>
                    <a:custGeom>
                      <a:avLst/>
                      <a:gdLst>
                        <a:gd name="textAreaLeft" fmla="*/ 0 w 271800"/>
                        <a:gd name="textAreaRight" fmla="*/ 272160 w 271800"/>
                        <a:gd name="textAreaTop" fmla="*/ 0 h 78840"/>
                        <a:gd name="textAreaBottom" fmla="*/ 79200 h 7884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83" name="Freeform 1520"/>
                  <p:cNvSpPr/>
                  <p:nvPr/>
                </p:nvSpPr>
                <p:spPr>
                  <a:xfrm rot="2241600">
                    <a:off x="1398240" y="4489200"/>
                    <a:ext cx="27000" cy="558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Freeform 1521"/>
                  <p:cNvSpPr/>
                  <p:nvPr/>
                </p:nvSpPr>
                <p:spPr>
                  <a:xfrm rot="2241600">
                    <a:off x="1368360" y="4466520"/>
                    <a:ext cx="27000" cy="558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" name="Freeform 1522"/>
                  <p:cNvSpPr/>
                  <p:nvPr/>
                </p:nvSpPr>
                <p:spPr>
                  <a:xfrm rot="2241600">
                    <a:off x="1340280" y="4450320"/>
                    <a:ext cx="22320" cy="35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35640"/>
                      <a:gd name="textAreaBottom" fmla="*/ 36000 h 35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" name="Freeform 1523"/>
                  <p:cNvSpPr/>
                  <p:nvPr/>
                </p:nvSpPr>
                <p:spPr>
                  <a:xfrm rot="2241600">
                    <a:off x="1387080" y="4440600"/>
                    <a:ext cx="34920" cy="2772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27720"/>
                      <a:gd name="textAreaBottom" fmla="*/ 28080 h 27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" name="Freeform 1524"/>
                  <p:cNvSpPr/>
                  <p:nvPr/>
                </p:nvSpPr>
                <p:spPr>
                  <a:xfrm rot="2241600">
                    <a:off x="1411560" y="4457160"/>
                    <a:ext cx="37440" cy="3096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960"/>
                      <a:gd name="textAreaBottom" fmla="*/ 31320 h 30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88" name="Group 1525"/>
              <p:cNvGrpSpPr/>
              <p:nvPr/>
            </p:nvGrpSpPr>
            <p:grpSpPr>
              <a:xfrm>
                <a:off x="864720" y="4389120"/>
                <a:ext cx="289080" cy="300240"/>
                <a:chOff x="864720" y="4389120"/>
                <a:chExt cx="289080" cy="300240"/>
              </a:xfrm>
            </p:grpSpPr>
            <p:sp>
              <p:nvSpPr>
                <p:cNvPr id="189" name="Freeform 1526"/>
                <p:cNvSpPr/>
                <p:nvPr/>
              </p:nvSpPr>
              <p:spPr>
                <a:xfrm rot="444000">
                  <a:off x="1047960" y="4536000"/>
                  <a:ext cx="96480" cy="14760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0" name="Group 1527"/>
                <p:cNvGrpSpPr/>
                <p:nvPr/>
              </p:nvGrpSpPr>
              <p:grpSpPr>
                <a:xfrm>
                  <a:off x="864720" y="4389120"/>
                  <a:ext cx="284760" cy="260640"/>
                  <a:chOff x="864720" y="4389120"/>
                  <a:chExt cx="284760" cy="260640"/>
                </a:xfrm>
              </p:grpSpPr>
              <p:grpSp>
                <p:nvGrpSpPr>
                  <p:cNvPr id="191" name="Group 1528"/>
                  <p:cNvGrpSpPr/>
                  <p:nvPr/>
                </p:nvGrpSpPr>
                <p:grpSpPr>
                  <a:xfrm>
                    <a:off x="864720" y="4389120"/>
                    <a:ext cx="284760" cy="260640"/>
                    <a:chOff x="864720" y="4389120"/>
                    <a:chExt cx="284760" cy="260640"/>
                  </a:xfrm>
                </p:grpSpPr>
                <p:sp>
                  <p:nvSpPr>
                    <p:cNvPr id="192" name="Freeform 1529"/>
                    <p:cNvSpPr/>
                    <p:nvPr/>
                  </p:nvSpPr>
                  <p:spPr>
                    <a:xfrm rot="2241600">
                      <a:off x="892440" y="4463640"/>
                      <a:ext cx="266040" cy="59760"/>
                    </a:xfrm>
                    <a:custGeom>
                      <a:avLst/>
                      <a:gdLst>
                        <a:gd name="textAreaLeft" fmla="*/ 0 w 266040"/>
                        <a:gd name="textAreaRight" fmla="*/ 266400 w 266040"/>
                        <a:gd name="textAreaTop" fmla="*/ 0 h 59760"/>
                        <a:gd name="textAreaBottom" fmla="*/ 60120 h 597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3" name="Freeform 1530"/>
                    <p:cNvSpPr/>
                    <p:nvPr/>
                  </p:nvSpPr>
                  <p:spPr>
                    <a:xfrm rot="2241600">
                      <a:off x="860760" y="4496400"/>
                      <a:ext cx="271800" cy="78840"/>
                    </a:xfrm>
                    <a:custGeom>
                      <a:avLst/>
                      <a:gdLst>
                        <a:gd name="textAreaLeft" fmla="*/ 0 w 271800"/>
                        <a:gd name="textAreaRight" fmla="*/ 272160 w 271800"/>
                        <a:gd name="textAreaTop" fmla="*/ 0 h 78840"/>
                        <a:gd name="textAreaBottom" fmla="*/ 79200 h 7884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94" name="Freeform 1531"/>
                  <p:cNvSpPr/>
                  <p:nvPr/>
                </p:nvSpPr>
                <p:spPr>
                  <a:xfrm rot="2241600">
                    <a:off x="1055880" y="4554000"/>
                    <a:ext cx="27000" cy="558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Freeform 1532"/>
                  <p:cNvSpPr/>
                  <p:nvPr/>
                </p:nvSpPr>
                <p:spPr>
                  <a:xfrm rot="2241600">
                    <a:off x="1026000" y="4531320"/>
                    <a:ext cx="27000" cy="558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55800"/>
                      <a:gd name="textAreaBottom" fmla="*/ 56160 h 55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Freeform 1533"/>
                  <p:cNvSpPr/>
                  <p:nvPr/>
                </p:nvSpPr>
                <p:spPr>
                  <a:xfrm rot="2241600">
                    <a:off x="997920" y="4515120"/>
                    <a:ext cx="22320" cy="35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35640"/>
                      <a:gd name="textAreaBottom" fmla="*/ 36000 h 35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Freeform 1534"/>
                  <p:cNvSpPr/>
                  <p:nvPr/>
                </p:nvSpPr>
                <p:spPr>
                  <a:xfrm rot="2241600">
                    <a:off x="1044720" y="4505400"/>
                    <a:ext cx="34920" cy="2772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27720"/>
                      <a:gd name="textAreaBottom" fmla="*/ 28080 h 27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Freeform 1535"/>
                  <p:cNvSpPr/>
                  <p:nvPr/>
                </p:nvSpPr>
                <p:spPr>
                  <a:xfrm rot="2241600">
                    <a:off x="1069200" y="4521960"/>
                    <a:ext cx="37440" cy="3096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960"/>
                      <a:gd name="textAreaBottom" fmla="*/ 31320 h 30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99" name="Group 1536"/>
              <p:cNvGrpSpPr/>
              <p:nvPr/>
            </p:nvGrpSpPr>
            <p:grpSpPr>
              <a:xfrm>
                <a:off x="1773720" y="4827240"/>
                <a:ext cx="258840" cy="293760"/>
                <a:chOff x="1773720" y="4827240"/>
                <a:chExt cx="258840" cy="293760"/>
              </a:xfrm>
            </p:grpSpPr>
            <p:sp>
              <p:nvSpPr>
                <p:cNvPr id="200" name="Freeform 1537"/>
                <p:cNvSpPr/>
                <p:nvPr/>
              </p:nvSpPr>
              <p:spPr>
                <a:xfrm flipV="1" rot="16192200">
                  <a:off x="1789920" y="4810320"/>
                  <a:ext cx="104400" cy="13716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-360 h 137160"/>
                    <a:gd name="textAreaBottom" fmla="*/ 137160 h 1371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01" name="Group 1538"/>
                <p:cNvGrpSpPr/>
                <p:nvPr/>
              </p:nvGrpSpPr>
              <p:grpSpPr>
                <a:xfrm>
                  <a:off x="1793160" y="4841640"/>
                  <a:ext cx="239400" cy="279360"/>
                  <a:chOff x="1793160" y="4841640"/>
                  <a:chExt cx="239400" cy="279360"/>
                </a:xfrm>
              </p:grpSpPr>
              <p:grpSp>
                <p:nvGrpSpPr>
                  <p:cNvPr id="202" name="Group 1539"/>
                  <p:cNvGrpSpPr/>
                  <p:nvPr/>
                </p:nvGrpSpPr>
                <p:grpSpPr>
                  <a:xfrm>
                    <a:off x="1793160" y="4841640"/>
                    <a:ext cx="239400" cy="279360"/>
                    <a:chOff x="1793160" y="4841640"/>
                    <a:chExt cx="239400" cy="279360"/>
                  </a:xfrm>
                </p:grpSpPr>
                <p:sp>
                  <p:nvSpPr>
                    <p:cNvPr id="203" name="Freeform 1540"/>
                    <p:cNvSpPr/>
                    <p:nvPr/>
                  </p:nvSpPr>
                  <p:spPr>
                    <a:xfrm flipV="1" rot="14394600">
                      <a:off x="1819080" y="4931640"/>
                      <a:ext cx="246960" cy="64440"/>
                    </a:xfrm>
                    <a:custGeom>
                      <a:avLst/>
                      <a:gdLst>
                        <a:gd name="textAreaLeft" fmla="*/ 0 w 246960"/>
                        <a:gd name="textAreaRight" fmla="*/ 247320 w 246960"/>
                        <a:gd name="textAreaTop" fmla="*/ -360 h 64440"/>
                        <a:gd name="textAreaBottom" fmla="*/ 64440 h 644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4" name="Freeform 1541"/>
                    <p:cNvSpPr/>
                    <p:nvPr/>
                  </p:nvSpPr>
                  <p:spPr>
                    <a:xfrm flipV="1" rot="14394600">
                      <a:off x="1767240" y="4947120"/>
                      <a:ext cx="252360" cy="85680"/>
                    </a:xfrm>
                    <a:custGeom>
                      <a:avLst/>
                      <a:gdLst>
                        <a:gd name="textAreaLeft" fmla="*/ 0 w 252360"/>
                        <a:gd name="textAreaRight" fmla="*/ 252720 w 252360"/>
                        <a:gd name="textAreaTop" fmla="*/ 360 h 85680"/>
                        <a:gd name="textAreaBottom" fmla="*/ 86400 h 856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05" name="Freeform 1542"/>
                  <p:cNvSpPr/>
                  <p:nvPr/>
                </p:nvSpPr>
                <p:spPr>
                  <a:xfrm flipV="1" rot="14394600">
                    <a:off x="1847520" y="488628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Freeform 1543"/>
                  <p:cNvSpPr/>
                  <p:nvPr/>
                </p:nvSpPr>
                <p:spPr>
                  <a:xfrm flipV="1" rot="14394600">
                    <a:off x="1864800" y="491616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7" name="Freeform 1544"/>
                  <p:cNvSpPr/>
                  <p:nvPr/>
                </p:nvSpPr>
                <p:spPr>
                  <a:xfrm flipV="1" rot="14394600">
                    <a:off x="1888200" y="4958640"/>
                    <a:ext cx="20880" cy="3852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-360 h 38520"/>
                      <a:gd name="textAreaBottom" fmla="*/ 38520 h 385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8" name="Freeform 1545"/>
                  <p:cNvSpPr/>
                  <p:nvPr/>
                </p:nvSpPr>
                <p:spPr>
                  <a:xfrm flipV="1" rot="14394600">
                    <a:off x="1906560" y="4911840"/>
                    <a:ext cx="32400" cy="2988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-360 h 29880"/>
                      <a:gd name="textAreaBottom" fmla="*/ 29880 h 298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9" name="Freeform 1546"/>
                  <p:cNvSpPr/>
                  <p:nvPr/>
                </p:nvSpPr>
                <p:spPr>
                  <a:xfrm flipV="1" rot="14394600">
                    <a:off x="1891800" y="4884120"/>
                    <a:ext cx="34920" cy="3348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-360 h 33480"/>
                      <a:gd name="textAreaBottom" fmla="*/ 33480 h 334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10" name="Group 1547"/>
              <p:cNvGrpSpPr/>
              <p:nvPr/>
            </p:nvGrpSpPr>
            <p:grpSpPr>
              <a:xfrm>
                <a:off x="1719360" y="5298120"/>
                <a:ext cx="258840" cy="293760"/>
                <a:chOff x="1719360" y="5298120"/>
                <a:chExt cx="258840" cy="293760"/>
              </a:xfrm>
            </p:grpSpPr>
            <p:sp>
              <p:nvSpPr>
                <p:cNvPr id="211" name="Freeform 1548"/>
                <p:cNvSpPr/>
                <p:nvPr/>
              </p:nvSpPr>
              <p:spPr>
                <a:xfrm flipV="1" rot="16192200">
                  <a:off x="1735560" y="5281200"/>
                  <a:ext cx="104400" cy="13716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-360 h 137160"/>
                    <a:gd name="textAreaBottom" fmla="*/ 137160 h 1371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12" name="Group 1549"/>
                <p:cNvGrpSpPr/>
                <p:nvPr/>
              </p:nvGrpSpPr>
              <p:grpSpPr>
                <a:xfrm>
                  <a:off x="1738800" y="5312520"/>
                  <a:ext cx="239400" cy="279360"/>
                  <a:chOff x="1738800" y="5312520"/>
                  <a:chExt cx="239400" cy="279360"/>
                </a:xfrm>
              </p:grpSpPr>
              <p:grpSp>
                <p:nvGrpSpPr>
                  <p:cNvPr id="213" name="Group 1550"/>
                  <p:cNvGrpSpPr/>
                  <p:nvPr/>
                </p:nvGrpSpPr>
                <p:grpSpPr>
                  <a:xfrm>
                    <a:off x="1738800" y="5312520"/>
                    <a:ext cx="239400" cy="279360"/>
                    <a:chOff x="1738800" y="5312520"/>
                    <a:chExt cx="239400" cy="279360"/>
                  </a:xfrm>
                </p:grpSpPr>
                <p:sp>
                  <p:nvSpPr>
                    <p:cNvPr id="214" name="Freeform 1551"/>
                    <p:cNvSpPr/>
                    <p:nvPr/>
                  </p:nvSpPr>
                  <p:spPr>
                    <a:xfrm flipV="1" rot="14394600">
                      <a:off x="1764720" y="5402520"/>
                      <a:ext cx="246960" cy="64440"/>
                    </a:xfrm>
                    <a:custGeom>
                      <a:avLst/>
                      <a:gdLst>
                        <a:gd name="textAreaLeft" fmla="*/ 0 w 246960"/>
                        <a:gd name="textAreaRight" fmla="*/ 247320 w 246960"/>
                        <a:gd name="textAreaTop" fmla="*/ -360 h 64440"/>
                        <a:gd name="textAreaBottom" fmla="*/ 64440 h 644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5" name="Freeform 1552"/>
                    <p:cNvSpPr/>
                    <p:nvPr/>
                  </p:nvSpPr>
                  <p:spPr>
                    <a:xfrm flipV="1" rot="14394600">
                      <a:off x="1712880" y="5418000"/>
                      <a:ext cx="252360" cy="85680"/>
                    </a:xfrm>
                    <a:custGeom>
                      <a:avLst/>
                      <a:gdLst>
                        <a:gd name="textAreaLeft" fmla="*/ 0 w 252360"/>
                        <a:gd name="textAreaRight" fmla="*/ 252720 w 252360"/>
                        <a:gd name="textAreaTop" fmla="*/ 360 h 85680"/>
                        <a:gd name="textAreaBottom" fmla="*/ 86400 h 856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6" name="Freeform 1553"/>
                  <p:cNvSpPr/>
                  <p:nvPr/>
                </p:nvSpPr>
                <p:spPr>
                  <a:xfrm flipV="1" rot="14394600">
                    <a:off x="1793160" y="535716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" name="Freeform 1554"/>
                  <p:cNvSpPr/>
                  <p:nvPr/>
                </p:nvSpPr>
                <p:spPr>
                  <a:xfrm flipV="1" rot="14394600">
                    <a:off x="1810440" y="538704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" name="Freeform 1555"/>
                  <p:cNvSpPr/>
                  <p:nvPr/>
                </p:nvSpPr>
                <p:spPr>
                  <a:xfrm flipV="1" rot="14394600">
                    <a:off x="1833840" y="5429520"/>
                    <a:ext cx="20880" cy="3852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-360 h 38520"/>
                      <a:gd name="textAreaBottom" fmla="*/ 38520 h 385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" name="Freeform 1556"/>
                  <p:cNvSpPr/>
                  <p:nvPr/>
                </p:nvSpPr>
                <p:spPr>
                  <a:xfrm flipV="1" rot="14394600">
                    <a:off x="1852200" y="5382720"/>
                    <a:ext cx="32400" cy="2988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-360 h 29880"/>
                      <a:gd name="textAreaBottom" fmla="*/ 29880 h 298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" name="Freeform 1557"/>
                  <p:cNvSpPr/>
                  <p:nvPr/>
                </p:nvSpPr>
                <p:spPr>
                  <a:xfrm flipV="1" rot="14394600">
                    <a:off x="1837440" y="5355000"/>
                    <a:ext cx="34920" cy="3348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-360 h 33480"/>
                      <a:gd name="textAreaBottom" fmla="*/ 33480 h 334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21" name="Group 1558"/>
              <p:cNvGrpSpPr/>
              <p:nvPr/>
            </p:nvGrpSpPr>
            <p:grpSpPr>
              <a:xfrm>
                <a:off x="1537920" y="4842720"/>
                <a:ext cx="258840" cy="293760"/>
                <a:chOff x="1537920" y="4842720"/>
                <a:chExt cx="258840" cy="293760"/>
              </a:xfrm>
            </p:grpSpPr>
            <p:sp>
              <p:nvSpPr>
                <p:cNvPr id="222" name="Freeform 1559"/>
                <p:cNvSpPr/>
                <p:nvPr/>
              </p:nvSpPr>
              <p:spPr>
                <a:xfrm flipV="1" rot="16192200">
                  <a:off x="1554120" y="4825800"/>
                  <a:ext cx="104400" cy="13716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-360 h 137160"/>
                    <a:gd name="textAreaBottom" fmla="*/ 137160 h 1371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3" name="Group 1560"/>
                <p:cNvGrpSpPr/>
                <p:nvPr/>
              </p:nvGrpSpPr>
              <p:grpSpPr>
                <a:xfrm>
                  <a:off x="1557360" y="4857120"/>
                  <a:ext cx="239400" cy="279360"/>
                  <a:chOff x="1557360" y="4857120"/>
                  <a:chExt cx="239400" cy="279360"/>
                </a:xfrm>
              </p:grpSpPr>
              <p:grpSp>
                <p:nvGrpSpPr>
                  <p:cNvPr id="224" name="Group 1561"/>
                  <p:cNvGrpSpPr/>
                  <p:nvPr/>
                </p:nvGrpSpPr>
                <p:grpSpPr>
                  <a:xfrm>
                    <a:off x="1557360" y="4857120"/>
                    <a:ext cx="239400" cy="279360"/>
                    <a:chOff x="1557360" y="4857120"/>
                    <a:chExt cx="239400" cy="279360"/>
                  </a:xfrm>
                </p:grpSpPr>
                <p:sp>
                  <p:nvSpPr>
                    <p:cNvPr id="225" name="Freeform 1562"/>
                    <p:cNvSpPr/>
                    <p:nvPr/>
                  </p:nvSpPr>
                  <p:spPr>
                    <a:xfrm flipV="1" rot="14394600">
                      <a:off x="1583280" y="4947120"/>
                      <a:ext cx="246960" cy="64440"/>
                    </a:xfrm>
                    <a:custGeom>
                      <a:avLst/>
                      <a:gdLst>
                        <a:gd name="textAreaLeft" fmla="*/ 0 w 246960"/>
                        <a:gd name="textAreaRight" fmla="*/ 247320 w 246960"/>
                        <a:gd name="textAreaTop" fmla="*/ -360 h 64440"/>
                        <a:gd name="textAreaBottom" fmla="*/ 64440 h 644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6" name="Freeform 1563"/>
                    <p:cNvSpPr/>
                    <p:nvPr/>
                  </p:nvSpPr>
                  <p:spPr>
                    <a:xfrm flipV="1" rot="14394600">
                      <a:off x="1531440" y="4962600"/>
                      <a:ext cx="252360" cy="85680"/>
                    </a:xfrm>
                    <a:custGeom>
                      <a:avLst/>
                      <a:gdLst>
                        <a:gd name="textAreaLeft" fmla="*/ 0 w 252360"/>
                        <a:gd name="textAreaRight" fmla="*/ 252720 w 252360"/>
                        <a:gd name="textAreaTop" fmla="*/ 360 h 85680"/>
                        <a:gd name="textAreaBottom" fmla="*/ 86400 h 856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27" name="Freeform 1564"/>
                  <p:cNvSpPr/>
                  <p:nvPr/>
                </p:nvSpPr>
                <p:spPr>
                  <a:xfrm flipV="1" rot="14394600">
                    <a:off x="1611720" y="490176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" name="Freeform 1565"/>
                  <p:cNvSpPr/>
                  <p:nvPr/>
                </p:nvSpPr>
                <p:spPr>
                  <a:xfrm flipV="1" rot="14394600">
                    <a:off x="1629000" y="493164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" name="Freeform 1566"/>
                  <p:cNvSpPr/>
                  <p:nvPr/>
                </p:nvSpPr>
                <p:spPr>
                  <a:xfrm flipV="1" rot="14394600">
                    <a:off x="1652400" y="4974120"/>
                    <a:ext cx="20880" cy="3852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-360 h 38520"/>
                      <a:gd name="textAreaBottom" fmla="*/ 38520 h 385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" name="Freeform 1567"/>
                  <p:cNvSpPr/>
                  <p:nvPr/>
                </p:nvSpPr>
                <p:spPr>
                  <a:xfrm flipV="1" rot="14394600">
                    <a:off x="1670760" y="4927320"/>
                    <a:ext cx="32400" cy="2988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-360 h 29880"/>
                      <a:gd name="textAreaBottom" fmla="*/ 29880 h 298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" name="Freeform 1568"/>
                  <p:cNvSpPr/>
                  <p:nvPr/>
                </p:nvSpPr>
                <p:spPr>
                  <a:xfrm flipV="1" rot="14394600">
                    <a:off x="1656000" y="4899600"/>
                    <a:ext cx="34920" cy="3348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-360 h 33480"/>
                      <a:gd name="textAreaBottom" fmla="*/ 33480 h 334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32" name="Group 1569"/>
              <p:cNvGrpSpPr/>
              <p:nvPr/>
            </p:nvGrpSpPr>
            <p:grpSpPr>
              <a:xfrm>
                <a:off x="853560" y="4734000"/>
                <a:ext cx="258120" cy="293040"/>
                <a:chOff x="853560" y="4734000"/>
                <a:chExt cx="258120" cy="293040"/>
              </a:xfrm>
            </p:grpSpPr>
            <p:sp>
              <p:nvSpPr>
                <p:cNvPr id="233" name="Freeform 1570"/>
                <p:cNvSpPr/>
                <p:nvPr/>
              </p:nvSpPr>
              <p:spPr>
                <a:xfrm flipV="1" rot="16192200">
                  <a:off x="870120" y="4717440"/>
                  <a:ext cx="104040" cy="13716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-360 h 137160"/>
                    <a:gd name="textAreaBottom" fmla="*/ 137160 h 1371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34" name="Group 1571"/>
                <p:cNvGrpSpPr/>
                <p:nvPr/>
              </p:nvGrpSpPr>
              <p:grpSpPr>
                <a:xfrm>
                  <a:off x="872640" y="4748400"/>
                  <a:ext cx="239040" cy="278640"/>
                  <a:chOff x="872640" y="4748400"/>
                  <a:chExt cx="239040" cy="278640"/>
                </a:xfrm>
              </p:grpSpPr>
              <p:grpSp>
                <p:nvGrpSpPr>
                  <p:cNvPr id="235" name="Group 1572"/>
                  <p:cNvGrpSpPr/>
                  <p:nvPr/>
                </p:nvGrpSpPr>
                <p:grpSpPr>
                  <a:xfrm>
                    <a:off x="872640" y="4748400"/>
                    <a:ext cx="239040" cy="278640"/>
                    <a:chOff x="872640" y="4748400"/>
                    <a:chExt cx="239040" cy="278640"/>
                  </a:xfrm>
                </p:grpSpPr>
                <p:sp>
                  <p:nvSpPr>
                    <p:cNvPr id="236" name="Freeform 1573"/>
                    <p:cNvSpPr/>
                    <p:nvPr/>
                  </p:nvSpPr>
                  <p:spPr>
                    <a:xfrm flipV="1" rot="14394600">
                      <a:off x="898560" y="4838760"/>
                      <a:ext cx="246960" cy="64080"/>
                    </a:xfrm>
                    <a:custGeom>
                      <a:avLst/>
                      <a:gdLst>
                        <a:gd name="textAreaLeft" fmla="*/ 0 w 246960"/>
                        <a:gd name="textAreaRight" fmla="*/ 247320 w 246960"/>
                        <a:gd name="textAreaTop" fmla="*/ 360 h 64080"/>
                        <a:gd name="textAreaBottom" fmla="*/ 64800 h 640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7" name="Freeform 1574"/>
                    <p:cNvSpPr/>
                    <p:nvPr/>
                  </p:nvSpPr>
                  <p:spPr>
                    <a:xfrm flipV="1" rot="14394600">
                      <a:off x="846360" y="4853160"/>
                      <a:ext cx="252360" cy="85320"/>
                    </a:xfrm>
                    <a:custGeom>
                      <a:avLst/>
                      <a:gdLst>
                        <a:gd name="textAreaLeft" fmla="*/ 0 w 252360"/>
                        <a:gd name="textAreaRight" fmla="*/ 252720 w 252360"/>
                        <a:gd name="textAreaTop" fmla="*/ 0 h 85320"/>
                        <a:gd name="textAreaBottom" fmla="*/ 85320 h 853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38" name="Freeform 1575"/>
                  <p:cNvSpPr/>
                  <p:nvPr/>
                </p:nvSpPr>
                <p:spPr>
                  <a:xfrm flipV="1" rot="14394600">
                    <a:off x="927000" y="479268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" name="Freeform 1576"/>
                  <p:cNvSpPr/>
                  <p:nvPr/>
                </p:nvSpPr>
                <p:spPr>
                  <a:xfrm flipV="1" rot="14394600">
                    <a:off x="944280" y="482292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" name="Freeform 1577"/>
                  <p:cNvSpPr/>
                  <p:nvPr/>
                </p:nvSpPr>
                <p:spPr>
                  <a:xfrm flipV="1" rot="14394600">
                    <a:off x="967680" y="4864680"/>
                    <a:ext cx="20880" cy="3816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360 h 38160"/>
                      <a:gd name="textAreaBottom" fmla="*/ 38880 h 3816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" name="Freeform 1578"/>
                  <p:cNvSpPr/>
                  <p:nvPr/>
                </p:nvSpPr>
                <p:spPr>
                  <a:xfrm flipV="1" rot="14394600">
                    <a:off x="986040" y="4818600"/>
                    <a:ext cx="32400" cy="2988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-360 h 29880"/>
                      <a:gd name="textAreaBottom" fmla="*/ 29880 h 298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" name="Freeform 1579"/>
                  <p:cNvSpPr/>
                  <p:nvPr/>
                </p:nvSpPr>
                <p:spPr>
                  <a:xfrm flipV="1" rot="14394600">
                    <a:off x="971280" y="4790880"/>
                    <a:ext cx="34920" cy="3348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-360 h 33480"/>
                      <a:gd name="textAreaBottom" fmla="*/ 33480 h 334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43" name="Group 1580"/>
              <p:cNvGrpSpPr/>
              <p:nvPr/>
            </p:nvGrpSpPr>
            <p:grpSpPr>
              <a:xfrm>
                <a:off x="933840" y="5081040"/>
                <a:ext cx="258840" cy="293760"/>
                <a:chOff x="933840" y="5081040"/>
                <a:chExt cx="258840" cy="293760"/>
              </a:xfrm>
            </p:grpSpPr>
            <p:sp>
              <p:nvSpPr>
                <p:cNvPr id="244" name="Freeform 1581"/>
                <p:cNvSpPr/>
                <p:nvPr/>
              </p:nvSpPr>
              <p:spPr>
                <a:xfrm flipV="1" rot="16192200">
                  <a:off x="950040" y="5064120"/>
                  <a:ext cx="104400" cy="13716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-360 h 137160"/>
                    <a:gd name="textAreaBottom" fmla="*/ 137160 h 1371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45" name="Group 1582"/>
                <p:cNvGrpSpPr/>
                <p:nvPr/>
              </p:nvGrpSpPr>
              <p:grpSpPr>
                <a:xfrm>
                  <a:off x="953280" y="5095440"/>
                  <a:ext cx="239400" cy="279360"/>
                  <a:chOff x="953280" y="5095440"/>
                  <a:chExt cx="239400" cy="279360"/>
                </a:xfrm>
              </p:grpSpPr>
              <p:grpSp>
                <p:nvGrpSpPr>
                  <p:cNvPr id="246" name="Group 1583"/>
                  <p:cNvGrpSpPr/>
                  <p:nvPr/>
                </p:nvGrpSpPr>
                <p:grpSpPr>
                  <a:xfrm>
                    <a:off x="953280" y="5095440"/>
                    <a:ext cx="239400" cy="279360"/>
                    <a:chOff x="953280" y="5095440"/>
                    <a:chExt cx="239400" cy="279360"/>
                  </a:xfrm>
                </p:grpSpPr>
                <p:sp>
                  <p:nvSpPr>
                    <p:cNvPr id="247" name="Freeform 1584"/>
                    <p:cNvSpPr/>
                    <p:nvPr/>
                  </p:nvSpPr>
                  <p:spPr>
                    <a:xfrm flipV="1" rot="14394600">
                      <a:off x="979200" y="5185440"/>
                      <a:ext cx="246960" cy="64440"/>
                    </a:xfrm>
                    <a:custGeom>
                      <a:avLst/>
                      <a:gdLst>
                        <a:gd name="textAreaLeft" fmla="*/ 0 w 246960"/>
                        <a:gd name="textAreaRight" fmla="*/ 247320 w 246960"/>
                        <a:gd name="textAreaTop" fmla="*/ -360 h 64440"/>
                        <a:gd name="textAreaBottom" fmla="*/ 64440 h 644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" name="Freeform 1585"/>
                    <p:cNvSpPr/>
                    <p:nvPr/>
                  </p:nvSpPr>
                  <p:spPr>
                    <a:xfrm flipV="1" rot="14394600">
                      <a:off x="927360" y="5200920"/>
                      <a:ext cx="252360" cy="85680"/>
                    </a:xfrm>
                    <a:custGeom>
                      <a:avLst/>
                      <a:gdLst>
                        <a:gd name="textAreaLeft" fmla="*/ 0 w 252360"/>
                        <a:gd name="textAreaRight" fmla="*/ 252720 w 252360"/>
                        <a:gd name="textAreaTop" fmla="*/ 360 h 85680"/>
                        <a:gd name="textAreaBottom" fmla="*/ 86400 h 856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49" name="Freeform 1586"/>
                  <p:cNvSpPr/>
                  <p:nvPr/>
                </p:nvSpPr>
                <p:spPr>
                  <a:xfrm flipV="1" rot="14394600">
                    <a:off x="1007640" y="514008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" name="Freeform 1587"/>
                  <p:cNvSpPr/>
                  <p:nvPr/>
                </p:nvSpPr>
                <p:spPr>
                  <a:xfrm flipV="1" rot="14394600">
                    <a:off x="1024920" y="516996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1" name="Freeform 1588"/>
                  <p:cNvSpPr/>
                  <p:nvPr/>
                </p:nvSpPr>
                <p:spPr>
                  <a:xfrm flipV="1" rot="14394600">
                    <a:off x="1048320" y="5212440"/>
                    <a:ext cx="20880" cy="3852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-360 h 38520"/>
                      <a:gd name="textAreaBottom" fmla="*/ 38520 h 385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2" name="Freeform 1589"/>
                  <p:cNvSpPr/>
                  <p:nvPr/>
                </p:nvSpPr>
                <p:spPr>
                  <a:xfrm flipV="1" rot="14394600">
                    <a:off x="1066680" y="5165640"/>
                    <a:ext cx="32400" cy="2988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-360 h 29880"/>
                      <a:gd name="textAreaBottom" fmla="*/ 29880 h 298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3" name="Freeform 1590"/>
                  <p:cNvSpPr/>
                  <p:nvPr/>
                </p:nvSpPr>
                <p:spPr>
                  <a:xfrm flipV="1" rot="14394600">
                    <a:off x="1051920" y="5137920"/>
                    <a:ext cx="34920" cy="3348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-360 h 33480"/>
                      <a:gd name="textAreaBottom" fmla="*/ 33480 h 334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54" name="Group 1591"/>
              <p:cNvGrpSpPr/>
              <p:nvPr/>
            </p:nvGrpSpPr>
            <p:grpSpPr>
              <a:xfrm>
                <a:off x="1292400" y="5608800"/>
                <a:ext cx="282960" cy="316800"/>
                <a:chOff x="1292400" y="5608800"/>
                <a:chExt cx="282960" cy="316800"/>
              </a:xfrm>
            </p:grpSpPr>
            <p:sp>
              <p:nvSpPr>
                <p:cNvPr id="255" name="Freeform 1592"/>
                <p:cNvSpPr/>
                <p:nvPr/>
              </p:nvSpPr>
              <p:spPr>
                <a:xfrm flipV="1" rot="20859000">
                  <a:off x="1464120" y="5616720"/>
                  <a:ext cx="96480" cy="14796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-360 h 147960"/>
                    <a:gd name="textAreaBottom" fmla="*/ 147960 h 1479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6" name="Group 1593"/>
                <p:cNvGrpSpPr/>
                <p:nvPr/>
              </p:nvGrpSpPr>
              <p:grpSpPr>
                <a:xfrm>
                  <a:off x="1292400" y="5653440"/>
                  <a:ext cx="278280" cy="272160"/>
                  <a:chOff x="1292400" y="5653440"/>
                  <a:chExt cx="278280" cy="272160"/>
                </a:xfrm>
              </p:grpSpPr>
              <p:grpSp>
                <p:nvGrpSpPr>
                  <p:cNvPr id="257" name="Group 1594"/>
                  <p:cNvGrpSpPr/>
                  <p:nvPr/>
                </p:nvGrpSpPr>
                <p:grpSpPr>
                  <a:xfrm>
                    <a:off x="1292400" y="5653440"/>
                    <a:ext cx="278280" cy="272160"/>
                    <a:chOff x="1292400" y="5653440"/>
                    <a:chExt cx="278280" cy="272160"/>
                  </a:xfrm>
                </p:grpSpPr>
                <p:sp>
                  <p:nvSpPr>
                    <p:cNvPr id="258" name="Freeform 1595"/>
                    <p:cNvSpPr/>
                    <p:nvPr/>
                  </p:nvSpPr>
                  <p:spPr>
                    <a:xfrm flipV="1" rot="19061400">
                      <a:off x="1319040" y="5783760"/>
                      <a:ext cx="266040" cy="59760"/>
                    </a:xfrm>
                    <a:custGeom>
                      <a:avLst/>
                      <a:gdLst>
                        <a:gd name="textAreaLeft" fmla="*/ 0 w 266040"/>
                        <a:gd name="textAreaRight" fmla="*/ 266400 w 266040"/>
                        <a:gd name="textAreaTop" fmla="*/ 360 h 59760"/>
                        <a:gd name="textAreaBottom" fmla="*/ 60480 h 597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9" name="Freeform 1596"/>
                    <p:cNvSpPr/>
                    <p:nvPr/>
                  </p:nvSpPr>
                  <p:spPr>
                    <a:xfrm flipV="1" rot="19061400">
                      <a:off x="1283400" y="5734440"/>
                      <a:ext cx="271800" cy="78840"/>
                    </a:xfrm>
                    <a:custGeom>
                      <a:avLst/>
                      <a:gdLst>
                        <a:gd name="textAreaLeft" fmla="*/ 0 w 271800"/>
                        <a:gd name="textAreaRight" fmla="*/ 272160 w 271800"/>
                        <a:gd name="textAreaTop" fmla="*/ -360 h 78840"/>
                        <a:gd name="textAreaBottom" fmla="*/ 78840 h 7884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60" name="Freeform 1597"/>
                  <p:cNvSpPr/>
                  <p:nvPr/>
                </p:nvSpPr>
                <p:spPr>
                  <a:xfrm flipV="1" rot="19061400">
                    <a:off x="1474560" y="5693400"/>
                    <a:ext cx="26640" cy="55800"/>
                  </a:xfrm>
                  <a:custGeom>
                    <a:avLst/>
                    <a:gdLst>
                      <a:gd name="textAreaLeft" fmla="*/ 0 w 26640"/>
                      <a:gd name="textAreaRight" fmla="*/ 27000 w 26640"/>
                      <a:gd name="textAreaTop" fmla="*/ -360 h 55800"/>
                      <a:gd name="textAreaBottom" fmla="*/ 55800 h 55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" name="Freeform 1598"/>
                  <p:cNvSpPr/>
                  <p:nvPr/>
                </p:nvSpPr>
                <p:spPr>
                  <a:xfrm flipV="1" rot="19061400">
                    <a:off x="1446840" y="5718240"/>
                    <a:ext cx="26640" cy="55800"/>
                  </a:xfrm>
                  <a:custGeom>
                    <a:avLst/>
                    <a:gdLst>
                      <a:gd name="textAreaLeft" fmla="*/ 0 w 26640"/>
                      <a:gd name="textAreaRight" fmla="*/ 27000 w 26640"/>
                      <a:gd name="textAreaTop" fmla="*/ -360 h 55800"/>
                      <a:gd name="textAreaBottom" fmla="*/ 55800 h 558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" name="Freeform 1599"/>
                  <p:cNvSpPr/>
                  <p:nvPr/>
                </p:nvSpPr>
                <p:spPr>
                  <a:xfrm flipV="1" rot="19061400">
                    <a:off x="1420920" y="5757480"/>
                    <a:ext cx="22320" cy="35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-360 h 35640"/>
                      <a:gd name="textAreaBottom" fmla="*/ 35640 h 35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" name="Freeform 1600"/>
                  <p:cNvSpPr/>
                  <p:nvPr/>
                </p:nvSpPr>
                <p:spPr>
                  <a:xfrm flipV="1" rot="19061400">
                    <a:off x="1468800" y="5770800"/>
                    <a:ext cx="34920" cy="2772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-360 h 27720"/>
                      <a:gd name="textAreaBottom" fmla="*/ 27720 h 2772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" name="Freeform 1601"/>
                  <p:cNvSpPr/>
                  <p:nvPr/>
                </p:nvSpPr>
                <p:spPr>
                  <a:xfrm flipV="1" rot="19061400">
                    <a:off x="1491480" y="5748480"/>
                    <a:ext cx="37440" cy="3096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360 h 30960"/>
                      <a:gd name="textAreaBottom" fmla="*/ 31680 h 309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5" name="Group 1602"/>
              <p:cNvGrpSpPr/>
              <p:nvPr/>
            </p:nvGrpSpPr>
            <p:grpSpPr>
              <a:xfrm>
                <a:off x="1558440" y="5644800"/>
                <a:ext cx="258120" cy="293040"/>
                <a:chOff x="1558440" y="5644800"/>
                <a:chExt cx="258120" cy="293040"/>
              </a:xfrm>
            </p:grpSpPr>
            <p:sp>
              <p:nvSpPr>
                <p:cNvPr id="266" name="Freeform 1603"/>
                <p:cNvSpPr/>
                <p:nvPr/>
              </p:nvSpPr>
              <p:spPr>
                <a:xfrm flipV="1" rot="16192200">
                  <a:off x="1575000" y="5628240"/>
                  <a:ext cx="104040" cy="13716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-360 h 137160"/>
                    <a:gd name="textAreaBottom" fmla="*/ 137160 h 1371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7" name="Group 1604"/>
                <p:cNvGrpSpPr/>
                <p:nvPr/>
              </p:nvGrpSpPr>
              <p:grpSpPr>
                <a:xfrm>
                  <a:off x="1577520" y="5659200"/>
                  <a:ext cx="239040" cy="278640"/>
                  <a:chOff x="1577520" y="5659200"/>
                  <a:chExt cx="239040" cy="278640"/>
                </a:xfrm>
              </p:grpSpPr>
              <p:grpSp>
                <p:nvGrpSpPr>
                  <p:cNvPr id="268" name="Group 1605"/>
                  <p:cNvGrpSpPr/>
                  <p:nvPr/>
                </p:nvGrpSpPr>
                <p:grpSpPr>
                  <a:xfrm>
                    <a:off x="1577520" y="5659200"/>
                    <a:ext cx="239040" cy="278640"/>
                    <a:chOff x="1577520" y="5659200"/>
                    <a:chExt cx="239040" cy="278640"/>
                  </a:xfrm>
                </p:grpSpPr>
                <p:sp>
                  <p:nvSpPr>
                    <p:cNvPr id="269" name="Freeform 1606"/>
                    <p:cNvSpPr/>
                    <p:nvPr/>
                  </p:nvSpPr>
                  <p:spPr>
                    <a:xfrm flipV="1" rot="14394600">
                      <a:off x="1603440" y="5749560"/>
                      <a:ext cx="246960" cy="64080"/>
                    </a:xfrm>
                    <a:custGeom>
                      <a:avLst/>
                      <a:gdLst>
                        <a:gd name="textAreaLeft" fmla="*/ 0 w 246960"/>
                        <a:gd name="textAreaRight" fmla="*/ 247320 w 246960"/>
                        <a:gd name="textAreaTop" fmla="*/ 360 h 64080"/>
                        <a:gd name="textAreaBottom" fmla="*/ 64800 h 640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" name="Freeform 1607"/>
                    <p:cNvSpPr/>
                    <p:nvPr/>
                  </p:nvSpPr>
                  <p:spPr>
                    <a:xfrm flipV="1" rot="14394600">
                      <a:off x="1551240" y="5763960"/>
                      <a:ext cx="252360" cy="85320"/>
                    </a:xfrm>
                    <a:custGeom>
                      <a:avLst/>
                      <a:gdLst>
                        <a:gd name="textAreaLeft" fmla="*/ 0 w 252360"/>
                        <a:gd name="textAreaRight" fmla="*/ 252720 w 252360"/>
                        <a:gd name="textAreaTop" fmla="*/ 0 h 85320"/>
                        <a:gd name="textAreaBottom" fmla="*/ 85320 h 8532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71" name="Freeform 1608"/>
                  <p:cNvSpPr/>
                  <p:nvPr/>
                </p:nvSpPr>
                <p:spPr>
                  <a:xfrm flipV="1" rot="14394600">
                    <a:off x="1631880" y="570348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" name="Freeform 1609"/>
                  <p:cNvSpPr/>
                  <p:nvPr/>
                </p:nvSpPr>
                <p:spPr>
                  <a:xfrm flipV="1" rot="14394600">
                    <a:off x="1649160" y="573372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3" name="Freeform 1610"/>
                  <p:cNvSpPr/>
                  <p:nvPr/>
                </p:nvSpPr>
                <p:spPr>
                  <a:xfrm flipV="1" rot="14394600">
                    <a:off x="1672560" y="5775480"/>
                    <a:ext cx="20880" cy="3816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360 h 38160"/>
                      <a:gd name="textAreaBottom" fmla="*/ 38880 h 3816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4" name="Freeform 1611"/>
                  <p:cNvSpPr/>
                  <p:nvPr/>
                </p:nvSpPr>
                <p:spPr>
                  <a:xfrm flipV="1" rot="14394600">
                    <a:off x="1690920" y="5729400"/>
                    <a:ext cx="32400" cy="2988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-360 h 29880"/>
                      <a:gd name="textAreaBottom" fmla="*/ 29880 h 298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5" name="Freeform 1612"/>
                  <p:cNvSpPr/>
                  <p:nvPr/>
                </p:nvSpPr>
                <p:spPr>
                  <a:xfrm flipV="1" rot="14394600">
                    <a:off x="1676160" y="5701680"/>
                    <a:ext cx="34920" cy="3348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-360 h 33480"/>
                      <a:gd name="textAreaBottom" fmla="*/ 33480 h 334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76" name="Group 1613"/>
              <p:cNvGrpSpPr/>
              <p:nvPr/>
            </p:nvGrpSpPr>
            <p:grpSpPr>
              <a:xfrm>
                <a:off x="913680" y="5623200"/>
                <a:ext cx="258840" cy="293760"/>
                <a:chOff x="913680" y="5623200"/>
                <a:chExt cx="258840" cy="293760"/>
              </a:xfrm>
            </p:grpSpPr>
            <p:sp>
              <p:nvSpPr>
                <p:cNvPr id="277" name="Freeform 1614"/>
                <p:cNvSpPr/>
                <p:nvPr/>
              </p:nvSpPr>
              <p:spPr>
                <a:xfrm flipV="1" rot="16192200">
                  <a:off x="929880" y="5606280"/>
                  <a:ext cx="104400" cy="13716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-360 h 137160"/>
                    <a:gd name="textAreaBottom" fmla="*/ 137160 h 1371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78" name="Group 1615"/>
                <p:cNvGrpSpPr/>
                <p:nvPr/>
              </p:nvGrpSpPr>
              <p:grpSpPr>
                <a:xfrm>
                  <a:off x="933120" y="5637600"/>
                  <a:ext cx="239400" cy="279360"/>
                  <a:chOff x="933120" y="5637600"/>
                  <a:chExt cx="239400" cy="279360"/>
                </a:xfrm>
              </p:grpSpPr>
              <p:grpSp>
                <p:nvGrpSpPr>
                  <p:cNvPr id="279" name="Group 1616"/>
                  <p:cNvGrpSpPr/>
                  <p:nvPr/>
                </p:nvGrpSpPr>
                <p:grpSpPr>
                  <a:xfrm>
                    <a:off x="933120" y="5637600"/>
                    <a:ext cx="239400" cy="279360"/>
                    <a:chOff x="933120" y="5637600"/>
                    <a:chExt cx="239400" cy="279360"/>
                  </a:xfrm>
                </p:grpSpPr>
                <p:sp>
                  <p:nvSpPr>
                    <p:cNvPr id="280" name="Freeform 1617"/>
                    <p:cNvSpPr/>
                    <p:nvPr/>
                  </p:nvSpPr>
                  <p:spPr>
                    <a:xfrm flipV="1" rot="14394600">
                      <a:off x="959040" y="5727600"/>
                      <a:ext cx="246960" cy="64440"/>
                    </a:xfrm>
                    <a:custGeom>
                      <a:avLst/>
                      <a:gdLst>
                        <a:gd name="textAreaLeft" fmla="*/ 0 w 246960"/>
                        <a:gd name="textAreaRight" fmla="*/ 247320 w 246960"/>
                        <a:gd name="textAreaTop" fmla="*/ -360 h 64440"/>
                        <a:gd name="textAreaBottom" fmla="*/ 64440 h 644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81" name="Freeform 1618"/>
                    <p:cNvSpPr/>
                    <p:nvPr/>
                  </p:nvSpPr>
                  <p:spPr>
                    <a:xfrm flipV="1" rot="14394600">
                      <a:off x="907200" y="5743080"/>
                      <a:ext cx="252360" cy="85680"/>
                    </a:xfrm>
                    <a:custGeom>
                      <a:avLst/>
                      <a:gdLst>
                        <a:gd name="textAreaLeft" fmla="*/ 0 w 252360"/>
                        <a:gd name="textAreaRight" fmla="*/ 252720 w 252360"/>
                        <a:gd name="textAreaTop" fmla="*/ 360 h 85680"/>
                        <a:gd name="textAreaBottom" fmla="*/ 86400 h 856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82" name="Freeform 1619"/>
                  <p:cNvSpPr/>
                  <p:nvPr/>
                </p:nvSpPr>
                <p:spPr>
                  <a:xfrm flipV="1" rot="14394600">
                    <a:off x="987480" y="568224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3" name="Freeform 1620"/>
                  <p:cNvSpPr/>
                  <p:nvPr/>
                </p:nvSpPr>
                <p:spPr>
                  <a:xfrm flipV="1" rot="14394600">
                    <a:off x="1004760" y="5712120"/>
                    <a:ext cx="25200" cy="6048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360 h 60480"/>
                      <a:gd name="textAreaBottom" fmla="*/ 61200 h 6048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4" name="Freeform 1621"/>
                  <p:cNvSpPr/>
                  <p:nvPr/>
                </p:nvSpPr>
                <p:spPr>
                  <a:xfrm flipV="1" rot="14394600">
                    <a:off x="1028160" y="5754600"/>
                    <a:ext cx="20880" cy="3852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-360 h 38520"/>
                      <a:gd name="textAreaBottom" fmla="*/ 38520 h 385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5" name="Freeform 1622"/>
                  <p:cNvSpPr/>
                  <p:nvPr/>
                </p:nvSpPr>
                <p:spPr>
                  <a:xfrm flipV="1" rot="14394600">
                    <a:off x="1046520" y="5707800"/>
                    <a:ext cx="32400" cy="2988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-360 h 29880"/>
                      <a:gd name="textAreaBottom" fmla="*/ 29880 h 298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6" name="Freeform 1623"/>
                  <p:cNvSpPr/>
                  <p:nvPr/>
                </p:nvSpPr>
                <p:spPr>
                  <a:xfrm flipV="1" rot="14394600">
                    <a:off x="1031760" y="5680080"/>
                    <a:ext cx="34920" cy="3348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-360 h 33480"/>
                      <a:gd name="textAreaBottom" fmla="*/ 33480 h 334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87" name="Group 1624"/>
            <p:cNvGrpSpPr/>
            <p:nvPr/>
          </p:nvGrpSpPr>
          <p:grpSpPr>
            <a:xfrm>
              <a:off x="552600" y="4706280"/>
              <a:ext cx="172800" cy="133920"/>
              <a:chOff x="552600" y="4706280"/>
              <a:chExt cx="172800" cy="133920"/>
            </a:xfrm>
          </p:grpSpPr>
          <p:sp>
            <p:nvSpPr>
              <p:cNvPr id="288" name="Freeform 1625"/>
              <p:cNvSpPr/>
              <p:nvPr/>
            </p:nvSpPr>
            <p:spPr>
              <a:xfrm rot="3443400">
                <a:off x="567360" y="4727880"/>
                <a:ext cx="101160" cy="907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3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1626"/>
              <p:cNvSpPr/>
              <p:nvPr/>
            </p:nvSpPr>
            <p:spPr>
              <a:xfrm flipH="1" rot="3444000">
                <a:off x="605160" y="4751640"/>
                <a:ext cx="59040" cy="56160"/>
              </a:xfrm>
              <a:custGeom>
                <a:avLst/>
                <a:gdLst>
                  <a:gd name="textAreaLeft" fmla="*/ 360 w 59040"/>
                  <a:gd name="textAreaRight" fmla="*/ 59760 w 590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3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1627"/>
              <p:cNvSpPr/>
              <p:nvPr/>
            </p:nvSpPr>
            <p:spPr>
              <a:xfrm rot="3443400">
                <a:off x="590040" y="4796280"/>
                <a:ext cx="6840" cy="39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91" name="Group 1628"/>
              <p:cNvGrpSpPr/>
              <p:nvPr/>
            </p:nvGrpSpPr>
            <p:grpSpPr>
              <a:xfrm>
                <a:off x="623520" y="4708800"/>
                <a:ext cx="101880" cy="69480"/>
                <a:chOff x="623520" y="4708800"/>
                <a:chExt cx="101880" cy="69480"/>
              </a:xfrm>
            </p:grpSpPr>
            <p:sp>
              <p:nvSpPr>
                <p:cNvPr id="292" name="Freeform 1629"/>
                <p:cNvSpPr/>
                <p:nvPr/>
              </p:nvSpPr>
              <p:spPr>
                <a:xfrm flipH="1" rot="3444600">
                  <a:off x="633960" y="4710960"/>
                  <a:ext cx="28800" cy="4176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93" name="Group 1630"/>
                <p:cNvGrpSpPr/>
                <p:nvPr/>
              </p:nvGrpSpPr>
              <p:grpSpPr>
                <a:xfrm>
                  <a:off x="640440" y="4711680"/>
                  <a:ext cx="84960" cy="66600"/>
                  <a:chOff x="640440" y="4711680"/>
                  <a:chExt cx="84960" cy="66600"/>
                </a:xfrm>
              </p:grpSpPr>
              <p:grpSp>
                <p:nvGrpSpPr>
                  <p:cNvPr id="294" name="Group 1631"/>
                  <p:cNvGrpSpPr/>
                  <p:nvPr/>
                </p:nvGrpSpPr>
                <p:grpSpPr>
                  <a:xfrm>
                    <a:off x="640440" y="4711680"/>
                    <a:ext cx="84960" cy="66600"/>
                    <a:chOff x="640440" y="4711680"/>
                    <a:chExt cx="84960" cy="66600"/>
                  </a:xfrm>
                </p:grpSpPr>
                <p:sp>
                  <p:nvSpPr>
                    <p:cNvPr id="295" name="Freeform 1632"/>
                    <p:cNvSpPr/>
                    <p:nvPr/>
                  </p:nvSpPr>
                  <p:spPr>
                    <a:xfrm flipH="1" rot="1647000">
                      <a:off x="649440" y="4727880"/>
                      <a:ext cx="75600" cy="18000"/>
                    </a:xfrm>
                    <a:custGeom>
                      <a:avLst/>
                      <a:gdLst>
                        <a:gd name="textAreaLeft" fmla="*/ 360 w 75600"/>
                        <a:gd name="textAreaRight" fmla="*/ 76320 w 75600"/>
                        <a:gd name="textAreaTop" fmla="*/ 0 h 18000"/>
                        <a:gd name="textAreaBottom" fmla="*/ 18360 h 180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96" name="Freeform 1633"/>
                    <p:cNvSpPr/>
                    <p:nvPr/>
                  </p:nvSpPr>
                  <p:spPr>
                    <a:xfrm flipH="1" rot="1647000">
                      <a:off x="641160" y="4737960"/>
                      <a:ext cx="77040" cy="2340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97" name="Freeform 1634"/>
                  <p:cNvSpPr/>
                  <p:nvPr/>
                </p:nvSpPr>
                <p:spPr>
                  <a:xfrm flipH="1" rot="1647000">
                    <a:off x="655560" y="472860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8" name="Freeform 1635"/>
                  <p:cNvSpPr/>
                  <p:nvPr/>
                </p:nvSpPr>
                <p:spPr>
                  <a:xfrm flipH="1" rot="1647000">
                    <a:off x="665280" y="473328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9" name="Freeform 1636"/>
                  <p:cNvSpPr/>
                  <p:nvPr/>
                </p:nvSpPr>
                <p:spPr>
                  <a:xfrm flipH="1" rot="1647000">
                    <a:off x="675720" y="4741200"/>
                    <a:ext cx="6120" cy="1044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0" name="Freeform 1637"/>
                  <p:cNvSpPr/>
                  <p:nvPr/>
                </p:nvSpPr>
                <p:spPr>
                  <a:xfrm flipH="1" rot="1647000">
                    <a:off x="671760" y="4726800"/>
                    <a:ext cx="9720" cy="82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1" name="Freeform 1638"/>
                  <p:cNvSpPr/>
                  <p:nvPr/>
                </p:nvSpPr>
                <p:spPr>
                  <a:xfrm flipH="1" rot="1647000">
                    <a:off x="663480" y="4721760"/>
                    <a:ext cx="10440" cy="900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02" name="Group 1639"/>
            <p:cNvGrpSpPr/>
            <p:nvPr/>
          </p:nvGrpSpPr>
          <p:grpSpPr>
            <a:xfrm>
              <a:off x="1168920" y="4706280"/>
              <a:ext cx="172440" cy="133920"/>
              <a:chOff x="1168920" y="4706280"/>
              <a:chExt cx="172440" cy="133920"/>
            </a:xfrm>
          </p:grpSpPr>
          <p:sp>
            <p:nvSpPr>
              <p:cNvPr id="303" name="Freeform 1640"/>
              <p:cNvSpPr/>
              <p:nvPr/>
            </p:nvSpPr>
            <p:spPr>
              <a:xfrm flipH="1" rot="18156600">
                <a:off x="1225080" y="472788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3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1641"/>
              <p:cNvSpPr/>
              <p:nvPr/>
            </p:nvSpPr>
            <p:spPr>
              <a:xfrm rot="18156000">
                <a:off x="1229040" y="4751640"/>
                <a:ext cx="59040" cy="561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3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1642"/>
              <p:cNvSpPr/>
              <p:nvPr/>
            </p:nvSpPr>
            <p:spPr>
              <a:xfrm flipH="1" rot="18156600">
                <a:off x="1297080" y="4796280"/>
                <a:ext cx="6840" cy="324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06" name="Group 1643"/>
              <p:cNvGrpSpPr/>
              <p:nvPr/>
            </p:nvGrpSpPr>
            <p:grpSpPr>
              <a:xfrm>
                <a:off x="1168920" y="4708800"/>
                <a:ext cx="101520" cy="69480"/>
                <a:chOff x="1168920" y="4708800"/>
                <a:chExt cx="101520" cy="69480"/>
              </a:xfrm>
            </p:grpSpPr>
            <p:sp>
              <p:nvSpPr>
                <p:cNvPr id="307" name="Freeform 1644"/>
                <p:cNvSpPr/>
                <p:nvPr/>
              </p:nvSpPr>
              <p:spPr>
                <a:xfrm rot="18155400">
                  <a:off x="1230840" y="471096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08" name="Group 1645"/>
                <p:cNvGrpSpPr/>
                <p:nvPr/>
              </p:nvGrpSpPr>
              <p:grpSpPr>
                <a:xfrm>
                  <a:off x="1168920" y="4711680"/>
                  <a:ext cx="84960" cy="66600"/>
                  <a:chOff x="1168920" y="4711680"/>
                  <a:chExt cx="84960" cy="66600"/>
                </a:xfrm>
              </p:grpSpPr>
              <p:grpSp>
                <p:nvGrpSpPr>
                  <p:cNvPr id="309" name="Group 1646"/>
                  <p:cNvGrpSpPr/>
                  <p:nvPr/>
                </p:nvGrpSpPr>
                <p:grpSpPr>
                  <a:xfrm>
                    <a:off x="1168920" y="4711680"/>
                    <a:ext cx="84960" cy="66600"/>
                    <a:chOff x="1168920" y="4711680"/>
                    <a:chExt cx="84960" cy="66600"/>
                  </a:xfrm>
                </p:grpSpPr>
                <p:sp>
                  <p:nvSpPr>
                    <p:cNvPr id="310" name="Freeform 1647"/>
                    <p:cNvSpPr/>
                    <p:nvPr/>
                  </p:nvSpPr>
                  <p:spPr>
                    <a:xfrm rot="19953000">
                      <a:off x="1168560" y="472788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1" name="Freeform 1648"/>
                    <p:cNvSpPr/>
                    <p:nvPr/>
                  </p:nvSpPr>
                  <p:spPr>
                    <a:xfrm rot="19953000">
                      <a:off x="1175400" y="473832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12" name="Freeform 1649"/>
                  <p:cNvSpPr/>
                  <p:nvPr/>
                </p:nvSpPr>
                <p:spPr>
                  <a:xfrm rot="19953000">
                    <a:off x="1230840" y="472860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3" name="Freeform 1650"/>
                  <p:cNvSpPr/>
                  <p:nvPr/>
                </p:nvSpPr>
                <p:spPr>
                  <a:xfrm rot="19953000">
                    <a:off x="1221120" y="473328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4" name="Freeform 1651"/>
                  <p:cNvSpPr/>
                  <p:nvPr/>
                </p:nvSpPr>
                <p:spPr>
                  <a:xfrm rot="19953000">
                    <a:off x="1211400" y="474120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5" name="Freeform 1652"/>
                  <p:cNvSpPr/>
                  <p:nvPr/>
                </p:nvSpPr>
                <p:spPr>
                  <a:xfrm rot="19953000">
                    <a:off x="1212480" y="472680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6" name="Freeform 1653"/>
                  <p:cNvSpPr/>
                  <p:nvPr/>
                </p:nvSpPr>
                <p:spPr>
                  <a:xfrm rot="19953000">
                    <a:off x="1220040" y="472140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17" name="Group 1654"/>
            <p:cNvGrpSpPr/>
            <p:nvPr/>
          </p:nvGrpSpPr>
          <p:grpSpPr>
            <a:xfrm>
              <a:off x="1643400" y="5584680"/>
              <a:ext cx="172800" cy="133920"/>
              <a:chOff x="1643400" y="5584680"/>
              <a:chExt cx="172800" cy="133920"/>
            </a:xfrm>
          </p:grpSpPr>
          <p:sp>
            <p:nvSpPr>
              <p:cNvPr id="318" name="Freeform 1655"/>
              <p:cNvSpPr/>
              <p:nvPr/>
            </p:nvSpPr>
            <p:spPr>
              <a:xfrm flipH="1" rot="18156600">
                <a:off x="1699920" y="560628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4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1656"/>
              <p:cNvSpPr/>
              <p:nvPr/>
            </p:nvSpPr>
            <p:spPr>
              <a:xfrm rot="18156000">
                <a:off x="1703880" y="5630040"/>
                <a:ext cx="59040" cy="561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4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1657"/>
              <p:cNvSpPr/>
              <p:nvPr/>
            </p:nvSpPr>
            <p:spPr>
              <a:xfrm flipH="1" rot="18156600">
                <a:off x="1770840" y="5674680"/>
                <a:ext cx="6840" cy="396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21" name="Group 1658"/>
              <p:cNvGrpSpPr/>
              <p:nvPr/>
            </p:nvGrpSpPr>
            <p:grpSpPr>
              <a:xfrm>
                <a:off x="1643400" y="5587200"/>
                <a:ext cx="101520" cy="69480"/>
                <a:chOff x="1643400" y="5587200"/>
                <a:chExt cx="101520" cy="69480"/>
              </a:xfrm>
            </p:grpSpPr>
            <p:sp>
              <p:nvSpPr>
                <p:cNvPr id="322" name="Freeform 1659"/>
                <p:cNvSpPr/>
                <p:nvPr/>
              </p:nvSpPr>
              <p:spPr>
                <a:xfrm rot="18155400">
                  <a:off x="1705320" y="558936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23" name="Group 1660"/>
                <p:cNvGrpSpPr/>
                <p:nvPr/>
              </p:nvGrpSpPr>
              <p:grpSpPr>
                <a:xfrm>
                  <a:off x="1643400" y="5590080"/>
                  <a:ext cx="84960" cy="66600"/>
                  <a:chOff x="1643400" y="5590080"/>
                  <a:chExt cx="84960" cy="66600"/>
                </a:xfrm>
              </p:grpSpPr>
              <p:grpSp>
                <p:nvGrpSpPr>
                  <p:cNvPr id="324" name="Group 1661"/>
                  <p:cNvGrpSpPr/>
                  <p:nvPr/>
                </p:nvGrpSpPr>
                <p:grpSpPr>
                  <a:xfrm>
                    <a:off x="1643400" y="5590080"/>
                    <a:ext cx="84960" cy="66600"/>
                    <a:chOff x="1643400" y="5590080"/>
                    <a:chExt cx="84960" cy="66600"/>
                  </a:xfrm>
                </p:grpSpPr>
                <p:sp>
                  <p:nvSpPr>
                    <p:cNvPr id="325" name="Freeform 1662"/>
                    <p:cNvSpPr/>
                    <p:nvPr/>
                  </p:nvSpPr>
                  <p:spPr>
                    <a:xfrm rot="19953000">
                      <a:off x="1643040" y="560628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6" name="Freeform 1663"/>
                    <p:cNvSpPr/>
                    <p:nvPr/>
                  </p:nvSpPr>
                  <p:spPr>
                    <a:xfrm rot="19953000">
                      <a:off x="1649880" y="561672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27" name="Freeform 1664"/>
                  <p:cNvSpPr/>
                  <p:nvPr/>
                </p:nvSpPr>
                <p:spPr>
                  <a:xfrm rot="19953000">
                    <a:off x="1705320" y="560700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8" name="Freeform 1665"/>
                  <p:cNvSpPr/>
                  <p:nvPr/>
                </p:nvSpPr>
                <p:spPr>
                  <a:xfrm rot="19953000">
                    <a:off x="1695600" y="561168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9" name="Freeform 1666"/>
                  <p:cNvSpPr/>
                  <p:nvPr/>
                </p:nvSpPr>
                <p:spPr>
                  <a:xfrm rot="19953000">
                    <a:off x="1685880" y="561960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0" name="Freeform 1667"/>
                  <p:cNvSpPr/>
                  <p:nvPr/>
                </p:nvSpPr>
                <p:spPr>
                  <a:xfrm rot="19953000">
                    <a:off x="1686960" y="560520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1" name="Freeform 1668"/>
                  <p:cNvSpPr/>
                  <p:nvPr/>
                </p:nvSpPr>
                <p:spPr>
                  <a:xfrm rot="19953000">
                    <a:off x="1694520" y="559980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32" name="Group 1669"/>
            <p:cNvGrpSpPr/>
            <p:nvPr/>
          </p:nvGrpSpPr>
          <p:grpSpPr>
            <a:xfrm>
              <a:off x="1680120" y="4596480"/>
              <a:ext cx="172800" cy="133920"/>
              <a:chOff x="1680120" y="4596480"/>
              <a:chExt cx="172800" cy="133920"/>
            </a:xfrm>
          </p:grpSpPr>
          <p:sp>
            <p:nvSpPr>
              <p:cNvPr id="333" name="Freeform 1670"/>
              <p:cNvSpPr/>
              <p:nvPr/>
            </p:nvSpPr>
            <p:spPr>
              <a:xfrm flipH="1" rot="18156600">
                <a:off x="1736640" y="461808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4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1671"/>
              <p:cNvSpPr/>
              <p:nvPr/>
            </p:nvSpPr>
            <p:spPr>
              <a:xfrm rot="18156000">
                <a:off x="1740600" y="4641840"/>
                <a:ext cx="59040" cy="561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4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1672"/>
              <p:cNvSpPr/>
              <p:nvPr/>
            </p:nvSpPr>
            <p:spPr>
              <a:xfrm flipH="1" rot="18156600">
                <a:off x="1807560" y="4686480"/>
                <a:ext cx="6840" cy="396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36" name="Group 1673"/>
              <p:cNvGrpSpPr/>
              <p:nvPr/>
            </p:nvGrpSpPr>
            <p:grpSpPr>
              <a:xfrm>
                <a:off x="1680120" y="4599000"/>
                <a:ext cx="101520" cy="69480"/>
                <a:chOff x="1680120" y="4599000"/>
                <a:chExt cx="101520" cy="69480"/>
              </a:xfrm>
            </p:grpSpPr>
            <p:sp>
              <p:nvSpPr>
                <p:cNvPr id="337" name="Freeform 1674"/>
                <p:cNvSpPr/>
                <p:nvPr/>
              </p:nvSpPr>
              <p:spPr>
                <a:xfrm rot="18155400">
                  <a:off x="1742040" y="460116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38" name="Group 1675"/>
                <p:cNvGrpSpPr/>
                <p:nvPr/>
              </p:nvGrpSpPr>
              <p:grpSpPr>
                <a:xfrm>
                  <a:off x="1680120" y="4601880"/>
                  <a:ext cx="84960" cy="66600"/>
                  <a:chOff x="1680120" y="4601880"/>
                  <a:chExt cx="84960" cy="66600"/>
                </a:xfrm>
              </p:grpSpPr>
              <p:grpSp>
                <p:nvGrpSpPr>
                  <p:cNvPr id="339" name="Group 1676"/>
                  <p:cNvGrpSpPr/>
                  <p:nvPr/>
                </p:nvGrpSpPr>
                <p:grpSpPr>
                  <a:xfrm>
                    <a:off x="1680120" y="4601880"/>
                    <a:ext cx="84960" cy="66600"/>
                    <a:chOff x="1680120" y="4601880"/>
                    <a:chExt cx="84960" cy="66600"/>
                  </a:xfrm>
                </p:grpSpPr>
                <p:sp>
                  <p:nvSpPr>
                    <p:cNvPr id="340" name="Freeform 1677"/>
                    <p:cNvSpPr/>
                    <p:nvPr/>
                  </p:nvSpPr>
                  <p:spPr>
                    <a:xfrm rot="19953000">
                      <a:off x="1679760" y="461808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41" name="Freeform 1678"/>
                    <p:cNvSpPr/>
                    <p:nvPr/>
                  </p:nvSpPr>
                  <p:spPr>
                    <a:xfrm rot="19953000">
                      <a:off x="1686600" y="462852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42" name="Freeform 1679"/>
                  <p:cNvSpPr/>
                  <p:nvPr/>
                </p:nvSpPr>
                <p:spPr>
                  <a:xfrm rot="19953000">
                    <a:off x="1742040" y="461880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3" name="Freeform 1680"/>
                  <p:cNvSpPr/>
                  <p:nvPr/>
                </p:nvSpPr>
                <p:spPr>
                  <a:xfrm rot="19953000">
                    <a:off x="1732320" y="462348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4" name="Freeform 1681"/>
                  <p:cNvSpPr/>
                  <p:nvPr/>
                </p:nvSpPr>
                <p:spPr>
                  <a:xfrm rot="19953000">
                    <a:off x="1722600" y="463140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5" name="Freeform 1682"/>
                  <p:cNvSpPr/>
                  <p:nvPr/>
                </p:nvSpPr>
                <p:spPr>
                  <a:xfrm rot="19953000">
                    <a:off x="1723680" y="461700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6" name="Freeform 1683"/>
                  <p:cNvSpPr/>
                  <p:nvPr/>
                </p:nvSpPr>
                <p:spPr>
                  <a:xfrm rot="19953000">
                    <a:off x="1731240" y="461160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47" name="Group 1684"/>
            <p:cNvGrpSpPr/>
            <p:nvPr/>
          </p:nvGrpSpPr>
          <p:grpSpPr>
            <a:xfrm>
              <a:off x="1862640" y="4779720"/>
              <a:ext cx="172800" cy="133920"/>
              <a:chOff x="1862640" y="4779720"/>
              <a:chExt cx="172800" cy="133920"/>
            </a:xfrm>
          </p:grpSpPr>
          <p:sp>
            <p:nvSpPr>
              <p:cNvPr id="348" name="Freeform 1685"/>
              <p:cNvSpPr/>
              <p:nvPr/>
            </p:nvSpPr>
            <p:spPr>
              <a:xfrm flipH="1" rot="18156600">
                <a:off x="1919160" y="480132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4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1686"/>
              <p:cNvSpPr/>
              <p:nvPr/>
            </p:nvSpPr>
            <p:spPr>
              <a:xfrm rot="18156000">
                <a:off x="1923840" y="4824720"/>
                <a:ext cx="58680" cy="56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5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1687"/>
              <p:cNvSpPr/>
              <p:nvPr/>
            </p:nvSpPr>
            <p:spPr>
              <a:xfrm flipH="1" rot="18156600">
                <a:off x="1990080" y="4869360"/>
                <a:ext cx="6840" cy="396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51" name="Group 1688"/>
              <p:cNvGrpSpPr/>
              <p:nvPr/>
            </p:nvGrpSpPr>
            <p:grpSpPr>
              <a:xfrm>
                <a:off x="1862640" y="4782240"/>
                <a:ext cx="101520" cy="69480"/>
                <a:chOff x="1862640" y="4782240"/>
                <a:chExt cx="101520" cy="69480"/>
              </a:xfrm>
            </p:grpSpPr>
            <p:sp>
              <p:nvSpPr>
                <p:cNvPr id="352" name="Freeform 1689"/>
                <p:cNvSpPr/>
                <p:nvPr/>
              </p:nvSpPr>
              <p:spPr>
                <a:xfrm rot="18155400">
                  <a:off x="1924560" y="478440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53" name="Group 1690"/>
                <p:cNvGrpSpPr/>
                <p:nvPr/>
              </p:nvGrpSpPr>
              <p:grpSpPr>
                <a:xfrm>
                  <a:off x="1862640" y="4785120"/>
                  <a:ext cx="84960" cy="66600"/>
                  <a:chOff x="1862640" y="4785120"/>
                  <a:chExt cx="84960" cy="66600"/>
                </a:xfrm>
              </p:grpSpPr>
              <p:grpSp>
                <p:nvGrpSpPr>
                  <p:cNvPr id="354" name="Group 1691"/>
                  <p:cNvGrpSpPr/>
                  <p:nvPr/>
                </p:nvGrpSpPr>
                <p:grpSpPr>
                  <a:xfrm>
                    <a:off x="1862640" y="4785120"/>
                    <a:ext cx="84960" cy="66600"/>
                    <a:chOff x="1862640" y="4785120"/>
                    <a:chExt cx="84960" cy="66600"/>
                  </a:xfrm>
                </p:grpSpPr>
                <p:sp>
                  <p:nvSpPr>
                    <p:cNvPr id="355" name="Freeform 1692"/>
                    <p:cNvSpPr/>
                    <p:nvPr/>
                  </p:nvSpPr>
                  <p:spPr>
                    <a:xfrm rot="19953000">
                      <a:off x="1862280" y="480132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56" name="Freeform 1693"/>
                    <p:cNvSpPr/>
                    <p:nvPr/>
                  </p:nvSpPr>
                  <p:spPr>
                    <a:xfrm rot="19953000">
                      <a:off x="1869120" y="481176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57" name="Freeform 1694"/>
                  <p:cNvSpPr/>
                  <p:nvPr/>
                </p:nvSpPr>
                <p:spPr>
                  <a:xfrm rot="19953000">
                    <a:off x="1924560" y="480204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8" name="Freeform 1695"/>
                  <p:cNvSpPr/>
                  <p:nvPr/>
                </p:nvSpPr>
                <p:spPr>
                  <a:xfrm rot="19953000">
                    <a:off x="1914840" y="480672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9" name="Freeform 1696"/>
                  <p:cNvSpPr/>
                  <p:nvPr/>
                </p:nvSpPr>
                <p:spPr>
                  <a:xfrm rot="19953000">
                    <a:off x="1905120" y="481464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0" name="Freeform 1697"/>
                  <p:cNvSpPr/>
                  <p:nvPr/>
                </p:nvSpPr>
                <p:spPr>
                  <a:xfrm rot="19953000">
                    <a:off x="1906200" y="480024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1" name="Freeform 1698"/>
                  <p:cNvSpPr/>
                  <p:nvPr/>
                </p:nvSpPr>
                <p:spPr>
                  <a:xfrm rot="19953000">
                    <a:off x="1913760" y="479484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62" name="Group 1699"/>
            <p:cNvGrpSpPr/>
            <p:nvPr/>
          </p:nvGrpSpPr>
          <p:grpSpPr>
            <a:xfrm>
              <a:off x="1387800" y="4706280"/>
              <a:ext cx="172440" cy="133920"/>
              <a:chOff x="1387800" y="4706280"/>
              <a:chExt cx="172440" cy="133920"/>
            </a:xfrm>
          </p:grpSpPr>
          <p:sp>
            <p:nvSpPr>
              <p:cNvPr id="363" name="Freeform 1700"/>
              <p:cNvSpPr/>
              <p:nvPr/>
            </p:nvSpPr>
            <p:spPr>
              <a:xfrm flipH="1" rot="18156600">
                <a:off x="1443960" y="472788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5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1701"/>
              <p:cNvSpPr/>
              <p:nvPr/>
            </p:nvSpPr>
            <p:spPr>
              <a:xfrm rot="18156000">
                <a:off x="1447920" y="4751640"/>
                <a:ext cx="59040" cy="561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5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702"/>
              <p:cNvSpPr/>
              <p:nvPr/>
            </p:nvSpPr>
            <p:spPr>
              <a:xfrm flipH="1" rot="18156600">
                <a:off x="1515960" y="4796280"/>
                <a:ext cx="6840" cy="324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66" name="Group 1703"/>
              <p:cNvGrpSpPr/>
              <p:nvPr/>
            </p:nvGrpSpPr>
            <p:grpSpPr>
              <a:xfrm>
                <a:off x="1387800" y="4708800"/>
                <a:ext cx="101520" cy="69480"/>
                <a:chOff x="1387800" y="4708800"/>
                <a:chExt cx="101520" cy="69480"/>
              </a:xfrm>
            </p:grpSpPr>
            <p:sp>
              <p:nvSpPr>
                <p:cNvPr id="367" name="Freeform 1704"/>
                <p:cNvSpPr/>
                <p:nvPr/>
              </p:nvSpPr>
              <p:spPr>
                <a:xfrm rot="18155400">
                  <a:off x="1449720" y="471096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68" name="Group 1705"/>
                <p:cNvGrpSpPr/>
                <p:nvPr/>
              </p:nvGrpSpPr>
              <p:grpSpPr>
                <a:xfrm>
                  <a:off x="1387800" y="4711680"/>
                  <a:ext cx="84960" cy="66600"/>
                  <a:chOff x="1387800" y="4711680"/>
                  <a:chExt cx="84960" cy="66600"/>
                </a:xfrm>
              </p:grpSpPr>
              <p:grpSp>
                <p:nvGrpSpPr>
                  <p:cNvPr id="369" name="Group 1706"/>
                  <p:cNvGrpSpPr/>
                  <p:nvPr/>
                </p:nvGrpSpPr>
                <p:grpSpPr>
                  <a:xfrm>
                    <a:off x="1387800" y="4711680"/>
                    <a:ext cx="84960" cy="66600"/>
                    <a:chOff x="1387800" y="4711680"/>
                    <a:chExt cx="84960" cy="66600"/>
                  </a:xfrm>
                </p:grpSpPr>
                <p:sp>
                  <p:nvSpPr>
                    <p:cNvPr id="370" name="Freeform 1707"/>
                    <p:cNvSpPr/>
                    <p:nvPr/>
                  </p:nvSpPr>
                  <p:spPr>
                    <a:xfrm rot="19953000">
                      <a:off x="1387440" y="472788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71" name="Freeform 1708"/>
                    <p:cNvSpPr/>
                    <p:nvPr/>
                  </p:nvSpPr>
                  <p:spPr>
                    <a:xfrm rot="19953000">
                      <a:off x="1394280" y="473832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72" name="Freeform 1709"/>
                  <p:cNvSpPr/>
                  <p:nvPr/>
                </p:nvSpPr>
                <p:spPr>
                  <a:xfrm rot="19953000">
                    <a:off x="1449720" y="472860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3" name="Freeform 1710"/>
                  <p:cNvSpPr/>
                  <p:nvPr/>
                </p:nvSpPr>
                <p:spPr>
                  <a:xfrm rot="19953000">
                    <a:off x="1440000" y="473328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4" name="Freeform 1711"/>
                  <p:cNvSpPr/>
                  <p:nvPr/>
                </p:nvSpPr>
                <p:spPr>
                  <a:xfrm rot="19953000">
                    <a:off x="1430280" y="474120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5" name="Freeform 1712"/>
                  <p:cNvSpPr/>
                  <p:nvPr/>
                </p:nvSpPr>
                <p:spPr>
                  <a:xfrm rot="19953000">
                    <a:off x="1431360" y="472680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6" name="Freeform 1713"/>
                  <p:cNvSpPr/>
                  <p:nvPr/>
                </p:nvSpPr>
                <p:spPr>
                  <a:xfrm rot="19953000">
                    <a:off x="1438920" y="472140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77" name="Group 1714"/>
            <p:cNvGrpSpPr/>
            <p:nvPr/>
          </p:nvGrpSpPr>
          <p:grpSpPr>
            <a:xfrm>
              <a:off x="1278360" y="4889520"/>
              <a:ext cx="172440" cy="133920"/>
              <a:chOff x="1278360" y="4889520"/>
              <a:chExt cx="172440" cy="133920"/>
            </a:xfrm>
          </p:grpSpPr>
          <p:sp>
            <p:nvSpPr>
              <p:cNvPr id="378" name="Freeform 1715"/>
              <p:cNvSpPr/>
              <p:nvPr/>
            </p:nvSpPr>
            <p:spPr>
              <a:xfrm flipH="1" rot="18156600">
                <a:off x="1334520" y="491112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5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1716"/>
              <p:cNvSpPr/>
              <p:nvPr/>
            </p:nvSpPr>
            <p:spPr>
              <a:xfrm rot="18156000">
                <a:off x="1339200" y="4934520"/>
                <a:ext cx="58680" cy="56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5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1717"/>
              <p:cNvSpPr/>
              <p:nvPr/>
            </p:nvSpPr>
            <p:spPr>
              <a:xfrm flipH="1" rot="18156600">
                <a:off x="1406520" y="4979160"/>
                <a:ext cx="6840" cy="324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81" name="Group 1718"/>
              <p:cNvGrpSpPr/>
              <p:nvPr/>
            </p:nvGrpSpPr>
            <p:grpSpPr>
              <a:xfrm>
                <a:off x="1278360" y="4892040"/>
                <a:ext cx="101520" cy="69480"/>
                <a:chOff x="1278360" y="4892040"/>
                <a:chExt cx="101520" cy="69480"/>
              </a:xfrm>
            </p:grpSpPr>
            <p:sp>
              <p:nvSpPr>
                <p:cNvPr id="382" name="Freeform 1719"/>
                <p:cNvSpPr/>
                <p:nvPr/>
              </p:nvSpPr>
              <p:spPr>
                <a:xfrm rot="18155400">
                  <a:off x="1340280" y="489420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83" name="Group 1720"/>
                <p:cNvGrpSpPr/>
                <p:nvPr/>
              </p:nvGrpSpPr>
              <p:grpSpPr>
                <a:xfrm>
                  <a:off x="1278360" y="4894920"/>
                  <a:ext cx="84960" cy="66600"/>
                  <a:chOff x="1278360" y="4894920"/>
                  <a:chExt cx="84960" cy="66600"/>
                </a:xfrm>
              </p:grpSpPr>
              <p:grpSp>
                <p:nvGrpSpPr>
                  <p:cNvPr id="384" name="Group 1721"/>
                  <p:cNvGrpSpPr/>
                  <p:nvPr/>
                </p:nvGrpSpPr>
                <p:grpSpPr>
                  <a:xfrm>
                    <a:off x="1278360" y="4894920"/>
                    <a:ext cx="84960" cy="66600"/>
                    <a:chOff x="1278360" y="4894920"/>
                    <a:chExt cx="84960" cy="66600"/>
                  </a:xfrm>
                </p:grpSpPr>
                <p:sp>
                  <p:nvSpPr>
                    <p:cNvPr id="385" name="Freeform 1722"/>
                    <p:cNvSpPr/>
                    <p:nvPr/>
                  </p:nvSpPr>
                  <p:spPr>
                    <a:xfrm rot="19953000">
                      <a:off x="1278000" y="491112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86" name="Freeform 1723"/>
                    <p:cNvSpPr/>
                    <p:nvPr/>
                  </p:nvSpPr>
                  <p:spPr>
                    <a:xfrm rot="19953000">
                      <a:off x="1284840" y="492156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87" name="Freeform 1724"/>
                  <p:cNvSpPr/>
                  <p:nvPr/>
                </p:nvSpPr>
                <p:spPr>
                  <a:xfrm rot="19953000">
                    <a:off x="1340280" y="491184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8" name="Freeform 1725"/>
                  <p:cNvSpPr/>
                  <p:nvPr/>
                </p:nvSpPr>
                <p:spPr>
                  <a:xfrm rot="19953000">
                    <a:off x="1330560" y="491652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9" name="Freeform 1726"/>
                  <p:cNvSpPr/>
                  <p:nvPr/>
                </p:nvSpPr>
                <p:spPr>
                  <a:xfrm rot="19953000">
                    <a:off x="1320840" y="492444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0" name="Freeform 1727"/>
                  <p:cNvSpPr/>
                  <p:nvPr/>
                </p:nvSpPr>
                <p:spPr>
                  <a:xfrm rot="19953000">
                    <a:off x="1321920" y="491004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1" name="Freeform 1728"/>
                  <p:cNvSpPr/>
                  <p:nvPr/>
                </p:nvSpPr>
                <p:spPr>
                  <a:xfrm rot="19953000">
                    <a:off x="1329480" y="490464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92" name="Group 1729"/>
            <p:cNvGrpSpPr/>
            <p:nvPr/>
          </p:nvGrpSpPr>
          <p:grpSpPr>
            <a:xfrm>
              <a:off x="1570320" y="5109120"/>
              <a:ext cx="172800" cy="133920"/>
              <a:chOff x="1570320" y="5109120"/>
              <a:chExt cx="172800" cy="133920"/>
            </a:xfrm>
          </p:grpSpPr>
          <p:sp>
            <p:nvSpPr>
              <p:cNvPr id="393" name="Freeform 1730"/>
              <p:cNvSpPr/>
              <p:nvPr/>
            </p:nvSpPr>
            <p:spPr>
              <a:xfrm flipH="1" rot="18156600">
                <a:off x="1626840" y="513072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6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1731"/>
              <p:cNvSpPr/>
              <p:nvPr/>
            </p:nvSpPr>
            <p:spPr>
              <a:xfrm rot="18156000">
                <a:off x="1631520" y="5154120"/>
                <a:ext cx="58680" cy="56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6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1732"/>
              <p:cNvSpPr/>
              <p:nvPr/>
            </p:nvSpPr>
            <p:spPr>
              <a:xfrm flipH="1" rot="18156600">
                <a:off x="1697760" y="5198760"/>
                <a:ext cx="6840" cy="396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96" name="Group 1733"/>
              <p:cNvGrpSpPr/>
              <p:nvPr/>
            </p:nvGrpSpPr>
            <p:grpSpPr>
              <a:xfrm>
                <a:off x="1570320" y="5111640"/>
                <a:ext cx="101520" cy="69480"/>
                <a:chOff x="1570320" y="5111640"/>
                <a:chExt cx="101520" cy="69480"/>
              </a:xfrm>
            </p:grpSpPr>
            <p:sp>
              <p:nvSpPr>
                <p:cNvPr id="397" name="Freeform 1734"/>
                <p:cNvSpPr/>
                <p:nvPr/>
              </p:nvSpPr>
              <p:spPr>
                <a:xfrm rot="18155400">
                  <a:off x="1632240" y="511380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98" name="Group 1735"/>
                <p:cNvGrpSpPr/>
                <p:nvPr/>
              </p:nvGrpSpPr>
              <p:grpSpPr>
                <a:xfrm>
                  <a:off x="1570320" y="5114520"/>
                  <a:ext cx="84960" cy="66600"/>
                  <a:chOff x="1570320" y="5114520"/>
                  <a:chExt cx="84960" cy="66600"/>
                </a:xfrm>
              </p:grpSpPr>
              <p:grpSp>
                <p:nvGrpSpPr>
                  <p:cNvPr id="399" name="Group 1736"/>
                  <p:cNvGrpSpPr/>
                  <p:nvPr/>
                </p:nvGrpSpPr>
                <p:grpSpPr>
                  <a:xfrm>
                    <a:off x="1570320" y="5114520"/>
                    <a:ext cx="84960" cy="66600"/>
                    <a:chOff x="1570320" y="5114520"/>
                    <a:chExt cx="84960" cy="66600"/>
                  </a:xfrm>
                </p:grpSpPr>
                <p:sp>
                  <p:nvSpPr>
                    <p:cNvPr id="400" name="Freeform 1737"/>
                    <p:cNvSpPr/>
                    <p:nvPr/>
                  </p:nvSpPr>
                  <p:spPr>
                    <a:xfrm rot="19953000">
                      <a:off x="1569960" y="513072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1" name="Freeform 1738"/>
                    <p:cNvSpPr/>
                    <p:nvPr/>
                  </p:nvSpPr>
                  <p:spPr>
                    <a:xfrm rot="19953000">
                      <a:off x="1576800" y="514116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02" name="Freeform 1739"/>
                  <p:cNvSpPr/>
                  <p:nvPr/>
                </p:nvSpPr>
                <p:spPr>
                  <a:xfrm rot="19953000">
                    <a:off x="1632240" y="513144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3" name="Freeform 1740"/>
                  <p:cNvSpPr/>
                  <p:nvPr/>
                </p:nvSpPr>
                <p:spPr>
                  <a:xfrm rot="19953000">
                    <a:off x="1622520" y="513612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4" name="Freeform 1741"/>
                  <p:cNvSpPr/>
                  <p:nvPr/>
                </p:nvSpPr>
                <p:spPr>
                  <a:xfrm rot="19953000">
                    <a:off x="1612800" y="514404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5" name="Freeform 1742"/>
                  <p:cNvSpPr/>
                  <p:nvPr/>
                </p:nvSpPr>
                <p:spPr>
                  <a:xfrm rot="19953000">
                    <a:off x="1613880" y="512964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6" name="Freeform 1743"/>
                  <p:cNvSpPr/>
                  <p:nvPr/>
                </p:nvSpPr>
                <p:spPr>
                  <a:xfrm rot="19953000">
                    <a:off x="1621440" y="512424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07" name="Group 1744"/>
            <p:cNvGrpSpPr/>
            <p:nvPr/>
          </p:nvGrpSpPr>
          <p:grpSpPr>
            <a:xfrm>
              <a:off x="1095840" y="4487040"/>
              <a:ext cx="172800" cy="133920"/>
              <a:chOff x="1095840" y="4487040"/>
              <a:chExt cx="172800" cy="133920"/>
            </a:xfrm>
          </p:grpSpPr>
          <p:sp>
            <p:nvSpPr>
              <p:cNvPr id="408" name="Freeform 1745"/>
              <p:cNvSpPr/>
              <p:nvPr/>
            </p:nvSpPr>
            <p:spPr>
              <a:xfrm flipH="1" rot="18156600">
                <a:off x="1152360" y="450864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6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746"/>
              <p:cNvSpPr/>
              <p:nvPr/>
            </p:nvSpPr>
            <p:spPr>
              <a:xfrm rot="18156000">
                <a:off x="1156320" y="4532400"/>
                <a:ext cx="59040" cy="561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6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747"/>
              <p:cNvSpPr/>
              <p:nvPr/>
            </p:nvSpPr>
            <p:spPr>
              <a:xfrm flipH="1" rot="18156600">
                <a:off x="1223280" y="4577040"/>
                <a:ext cx="6840" cy="396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1" name="Group 1748"/>
              <p:cNvGrpSpPr/>
              <p:nvPr/>
            </p:nvGrpSpPr>
            <p:grpSpPr>
              <a:xfrm>
                <a:off x="1095840" y="4489560"/>
                <a:ext cx="101520" cy="69480"/>
                <a:chOff x="1095840" y="4489560"/>
                <a:chExt cx="101520" cy="69480"/>
              </a:xfrm>
            </p:grpSpPr>
            <p:sp>
              <p:nvSpPr>
                <p:cNvPr id="412" name="Freeform 1749"/>
                <p:cNvSpPr/>
                <p:nvPr/>
              </p:nvSpPr>
              <p:spPr>
                <a:xfrm rot="18155400">
                  <a:off x="1157760" y="449172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13" name="Group 1750"/>
                <p:cNvGrpSpPr/>
                <p:nvPr/>
              </p:nvGrpSpPr>
              <p:grpSpPr>
                <a:xfrm>
                  <a:off x="1095840" y="4492440"/>
                  <a:ext cx="84960" cy="66600"/>
                  <a:chOff x="1095840" y="4492440"/>
                  <a:chExt cx="84960" cy="66600"/>
                </a:xfrm>
              </p:grpSpPr>
              <p:grpSp>
                <p:nvGrpSpPr>
                  <p:cNvPr id="414" name="Group 1751"/>
                  <p:cNvGrpSpPr/>
                  <p:nvPr/>
                </p:nvGrpSpPr>
                <p:grpSpPr>
                  <a:xfrm>
                    <a:off x="1095840" y="4492440"/>
                    <a:ext cx="84960" cy="66600"/>
                    <a:chOff x="1095840" y="4492440"/>
                    <a:chExt cx="84960" cy="66600"/>
                  </a:xfrm>
                </p:grpSpPr>
                <p:sp>
                  <p:nvSpPr>
                    <p:cNvPr id="415" name="Freeform 1752"/>
                    <p:cNvSpPr/>
                    <p:nvPr/>
                  </p:nvSpPr>
                  <p:spPr>
                    <a:xfrm rot="19953000">
                      <a:off x="1095480" y="450864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16" name="Freeform 1753"/>
                    <p:cNvSpPr/>
                    <p:nvPr/>
                  </p:nvSpPr>
                  <p:spPr>
                    <a:xfrm rot="19953000">
                      <a:off x="1102320" y="451908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17" name="Freeform 1754"/>
                  <p:cNvSpPr/>
                  <p:nvPr/>
                </p:nvSpPr>
                <p:spPr>
                  <a:xfrm rot="19953000">
                    <a:off x="1157760" y="450936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8" name="Freeform 1755"/>
                  <p:cNvSpPr/>
                  <p:nvPr/>
                </p:nvSpPr>
                <p:spPr>
                  <a:xfrm rot="19953000">
                    <a:off x="1148040" y="451404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9" name="Freeform 1756"/>
                  <p:cNvSpPr/>
                  <p:nvPr/>
                </p:nvSpPr>
                <p:spPr>
                  <a:xfrm rot="19953000">
                    <a:off x="1138320" y="452196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0" name="Freeform 1757"/>
                  <p:cNvSpPr/>
                  <p:nvPr/>
                </p:nvSpPr>
                <p:spPr>
                  <a:xfrm rot="19953000">
                    <a:off x="1139400" y="450756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1" name="Freeform 1758"/>
                  <p:cNvSpPr/>
                  <p:nvPr/>
                </p:nvSpPr>
                <p:spPr>
                  <a:xfrm rot="19953000">
                    <a:off x="1146960" y="450216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22" name="Group 1759"/>
            <p:cNvGrpSpPr/>
            <p:nvPr/>
          </p:nvGrpSpPr>
          <p:grpSpPr>
            <a:xfrm>
              <a:off x="1826280" y="5218920"/>
              <a:ext cx="172440" cy="133920"/>
              <a:chOff x="1826280" y="5218920"/>
              <a:chExt cx="172440" cy="133920"/>
            </a:xfrm>
          </p:grpSpPr>
          <p:sp>
            <p:nvSpPr>
              <p:cNvPr id="423" name="Freeform 1760"/>
              <p:cNvSpPr/>
              <p:nvPr/>
            </p:nvSpPr>
            <p:spPr>
              <a:xfrm flipH="1" rot="18156600">
                <a:off x="1882440" y="524052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6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1761"/>
              <p:cNvSpPr/>
              <p:nvPr/>
            </p:nvSpPr>
            <p:spPr>
              <a:xfrm rot="18156000">
                <a:off x="1887120" y="5263920"/>
                <a:ext cx="58680" cy="56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7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1762"/>
              <p:cNvSpPr/>
              <p:nvPr/>
            </p:nvSpPr>
            <p:spPr>
              <a:xfrm flipH="1" rot="18156600">
                <a:off x="1954440" y="5308560"/>
                <a:ext cx="6840" cy="324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26" name="Group 1763"/>
              <p:cNvGrpSpPr/>
              <p:nvPr/>
            </p:nvGrpSpPr>
            <p:grpSpPr>
              <a:xfrm>
                <a:off x="1826280" y="5221440"/>
                <a:ext cx="101520" cy="69480"/>
                <a:chOff x="1826280" y="5221440"/>
                <a:chExt cx="101520" cy="69480"/>
              </a:xfrm>
            </p:grpSpPr>
            <p:sp>
              <p:nvSpPr>
                <p:cNvPr id="427" name="Freeform 1764"/>
                <p:cNvSpPr/>
                <p:nvPr/>
              </p:nvSpPr>
              <p:spPr>
                <a:xfrm rot="18155400">
                  <a:off x="1888200" y="522360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28" name="Group 1765"/>
                <p:cNvGrpSpPr/>
                <p:nvPr/>
              </p:nvGrpSpPr>
              <p:grpSpPr>
                <a:xfrm>
                  <a:off x="1826280" y="5224320"/>
                  <a:ext cx="84960" cy="66600"/>
                  <a:chOff x="1826280" y="5224320"/>
                  <a:chExt cx="84960" cy="66600"/>
                </a:xfrm>
              </p:grpSpPr>
              <p:grpSp>
                <p:nvGrpSpPr>
                  <p:cNvPr id="429" name="Group 1766"/>
                  <p:cNvGrpSpPr/>
                  <p:nvPr/>
                </p:nvGrpSpPr>
                <p:grpSpPr>
                  <a:xfrm>
                    <a:off x="1826280" y="5224320"/>
                    <a:ext cx="84960" cy="66600"/>
                    <a:chOff x="1826280" y="5224320"/>
                    <a:chExt cx="84960" cy="66600"/>
                  </a:xfrm>
                </p:grpSpPr>
                <p:sp>
                  <p:nvSpPr>
                    <p:cNvPr id="430" name="Freeform 1767"/>
                    <p:cNvSpPr/>
                    <p:nvPr/>
                  </p:nvSpPr>
                  <p:spPr>
                    <a:xfrm rot="19953000">
                      <a:off x="1825920" y="524052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1" name="Freeform 1768"/>
                    <p:cNvSpPr/>
                    <p:nvPr/>
                  </p:nvSpPr>
                  <p:spPr>
                    <a:xfrm rot="19953000">
                      <a:off x="1832760" y="525096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32" name="Freeform 1769"/>
                  <p:cNvSpPr/>
                  <p:nvPr/>
                </p:nvSpPr>
                <p:spPr>
                  <a:xfrm rot="19953000">
                    <a:off x="1888200" y="524124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3" name="Freeform 1770"/>
                  <p:cNvSpPr/>
                  <p:nvPr/>
                </p:nvSpPr>
                <p:spPr>
                  <a:xfrm rot="19953000">
                    <a:off x="1878480" y="524592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4" name="Freeform 1771"/>
                  <p:cNvSpPr/>
                  <p:nvPr/>
                </p:nvSpPr>
                <p:spPr>
                  <a:xfrm rot="19953000">
                    <a:off x="1868760" y="525384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5" name="Freeform 1772"/>
                  <p:cNvSpPr/>
                  <p:nvPr/>
                </p:nvSpPr>
                <p:spPr>
                  <a:xfrm rot="19953000">
                    <a:off x="1869840" y="523944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6" name="Freeform 1773"/>
                  <p:cNvSpPr/>
                  <p:nvPr/>
                </p:nvSpPr>
                <p:spPr>
                  <a:xfrm rot="19953000">
                    <a:off x="1877400" y="523404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37" name="Group 1774"/>
            <p:cNvGrpSpPr/>
            <p:nvPr/>
          </p:nvGrpSpPr>
          <p:grpSpPr>
            <a:xfrm>
              <a:off x="803520" y="4999320"/>
              <a:ext cx="172800" cy="133920"/>
              <a:chOff x="803520" y="4999320"/>
              <a:chExt cx="172800" cy="133920"/>
            </a:xfrm>
          </p:grpSpPr>
          <p:sp>
            <p:nvSpPr>
              <p:cNvPr id="438" name="Freeform 1775"/>
              <p:cNvSpPr/>
              <p:nvPr/>
            </p:nvSpPr>
            <p:spPr>
              <a:xfrm flipH="1" rot="18156600">
                <a:off x="860040" y="502092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7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1776"/>
              <p:cNvSpPr/>
              <p:nvPr/>
            </p:nvSpPr>
            <p:spPr>
              <a:xfrm rot="18156000">
                <a:off x="864720" y="5044320"/>
                <a:ext cx="58680" cy="56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7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1777"/>
              <p:cNvSpPr/>
              <p:nvPr/>
            </p:nvSpPr>
            <p:spPr>
              <a:xfrm flipH="1" rot="18156600">
                <a:off x="930960" y="5088960"/>
                <a:ext cx="6840" cy="396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41" name="Group 1778"/>
              <p:cNvGrpSpPr/>
              <p:nvPr/>
            </p:nvGrpSpPr>
            <p:grpSpPr>
              <a:xfrm>
                <a:off x="803520" y="5001840"/>
                <a:ext cx="101520" cy="69480"/>
                <a:chOff x="803520" y="5001840"/>
                <a:chExt cx="101520" cy="69480"/>
              </a:xfrm>
            </p:grpSpPr>
            <p:sp>
              <p:nvSpPr>
                <p:cNvPr id="442" name="Freeform 1779"/>
                <p:cNvSpPr/>
                <p:nvPr/>
              </p:nvSpPr>
              <p:spPr>
                <a:xfrm rot="18155400">
                  <a:off x="865440" y="500400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43" name="Group 1780"/>
                <p:cNvGrpSpPr/>
                <p:nvPr/>
              </p:nvGrpSpPr>
              <p:grpSpPr>
                <a:xfrm>
                  <a:off x="803520" y="5004720"/>
                  <a:ext cx="84960" cy="66600"/>
                  <a:chOff x="803520" y="5004720"/>
                  <a:chExt cx="84960" cy="66600"/>
                </a:xfrm>
              </p:grpSpPr>
              <p:grpSp>
                <p:nvGrpSpPr>
                  <p:cNvPr id="444" name="Group 1781"/>
                  <p:cNvGrpSpPr/>
                  <p:nvPr/>
                </p:nvGrpSpPr>
                <p:grpSpPr>
                  <a:xfrm>
                    <a:off x="803520" y="5004720"/>
                    <a:ext cx="84960" cy="66600"/>
                    <a:chOff x="803520" y="5004720"/>
                    <a:chExt cx="84960" cy="66600"/>
                  </a:xfrm>
                </p:grpSpPr>
                <p:sp>
                  <p:nvSpPr>
                    <p:cNvPr id="445" name="Freeform 1782"/>
                    <p:cNvSpPr/>
                    <p:nvPr/>
                  </p:nvSpPr>
                  <p:spPr>
                    <a:xfrm rot="19953000">
                      <a:off x="803160" y="502092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46" name="Freeform 1783"/>
                    <p:cNvSpPr/>
                    <p:nvPr/>
                  </p:nvSpPr>
                  <p:spPr>
                    <a:xfrm rot="19953000">
                      <a:off x="810000" y="503136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47" name="Freeform 1784"/>
                  <p:cNvSpPr/>
                  <p:nvPr/>
                </p:nvSpPr>
                <p:spPr>
                  <a:xfrm rot="19953000">
                    <a:off x="865440" y="502164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8" name="Freeform 1785"/>
                  <p:cNvSpPr/>
                  <p:nvPr/>
                </p:nvSpPr>
                <p:spPr>
                  <a:xfrm rot="19953000">
                    <a:off x="855720" y="502632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9" name="Freeform 1786"/>
                  <p:cNvSpPr/>
                  <p:nvPr/>
                </p:nvSpPr>
                <p:spPr>
                  <a:xfrm rot="19953000">
                    <a:off x="846000" y="503424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0" name="Freeform 1787"/>
                  <p:cNvSpPr/>
                  <p:nvPr/>
                </p:nvSpPr>
                <p:spPr>
                  <a:xfrm rot="19953000">
                    <a:off x="847080" y="501984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51" name="Freeform 1788"/>
                  <p:cNvSpPr/>
                  <p:nvPr/>
                </p:nvSpPr>
                <p:spPr>
                  <a:xfrm rot="19953000">
                    <a:off x="854640" y="501444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52" name="Group 1789"/>
            <p:cNvGrpSpPr/>
            <p:nvPr/>
          </p:nvGrpSpPr>
          <p:grpSpPr>
            <a:xfrm>
              <a:off x="1132200" y="4999320"/>
              <a:ext cx="172800" cy="133920"/>
              <a:chOff x="1132200" y="4999320"/>
              <a:chExt cx="172800" cy="133920"/>
            </a:xfrm>
          </p:grpSpPr>
          <p:sp>
            <p:nvSpPr>
              <p:cNvPr id="453" name="Freeform 1790"/>
              <p:cNvSpPr/>
              <p:nvPr/>
            </p:nvSpPr>
            <p:spPr>
              <a:xfrm flipH="1" rot="18156600">
                <a:off x="1188720" y="502092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7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791"/>
              <p:cNvSpPr/>
              <p:nvPr/>
            </p:nvSpPr>
            <p:spPr>
              <a:xfrm rot="18156000">
                <a:off x="1193400" y="5044320"/>
                <a:ext cx="58680" cy="56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7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792"/>
              <p:cNvSpPr/>
              <p:nvPr/>
            </p:nvSpPr>
            <p:spPr>
              <a:xfrm flipH="1" rot="18156600">
                <a:off x="1259640" y="5088960"/>
                <a:ext cx="6840" cy="396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56" name="Group 1793"/>
              <p:cNvGrpSpPr/>
              <p:nvPr/>
            </p:nvGrpSpPr>
            <p:grpSpPr>
              <a:xfrm>
                <a:off x="1132200" y="5001840"/>
                <a:ext cx="101520" cy="69480"/>
                <a:chOff x="1132200" y="5001840"/>
                <a:chExt cx="101520" cy="69480"/>
              </a:xfrm>
            </p:grpSpPr>
            <p:sp>
              <p:nvSpPr>
                <p:cNvPr id="457" name="Freeform 1794"/>
                <p:cNvSpPr/>
                <p:nvPr/>
              </p:nvSpPr>
              <p:spPr>
                <a:xfrm rot="18155400">
                  <a:off x="1194120" y="500400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58" name="Group 1795"/>
                <p:cNvGrpSpPr/>
                <p:nvPr/>
              </p:nvGrpSpPr>
              <p:grpSpPr>
                <a:xfrm>
                  <a:off x="1132200" y="5004720"/>
                  <a:ext cx="84960" cy="66600"/>
                  <a:chOff x="1132200" y="5004720"/>
                  <a:chExt cx="84960" cy="66600"/>
                </a:xfrm>
              </p:grpSpPr>
              <p:grpSp>
                <p:nvGrpSpPr>
                  <p:cNvPr id="459" name="Group 1796"/>
                  <p:cNvGrpSpPr/>
                  <p:nvPr/>
                </p:nvGrpSpPr>
                <p:grpSpPr>
                  <a:xfrm>
                    <a:off x="1132200" y="5004720"/>
                    <a:ext cx="84960" cy="66600"/>
                    <a:chOff x="1132200" y="5004720"/>
                    <a:chExt cx="84960" cy="66600"/>
                  </a:xfrm>
                </p:grpSpPr>
                <p:sp>
                  <p:nvSpPr>
                    <p:cNvPr id="460" name="Freeform 1797"/>
                    <p:cNvSpPr/>
                    <p:nvPr/>
                  </p:nvSpPr>
                  <p:spPr>
                    <a:xfrm rot="19953000">
                      <a:off x="1131840" y="502092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61" name="Freeform 1798"/>
                    <p:cNvSpPr/>
                    <p:nvPr/>
                  </p:nvSpPr>
                  <p:spPr>
                    <a:xfrm rot="19953000">
                      <a:off x="1138680" y="503136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62" name="Freeform 1799"/>
                  <p:cNvSpPr/>
                  <p:nvPr/>
                </p:nvSpPr>
                <p:spPr>
                  <a:xfrm rot="19953000">
                    <a:off x="1194120" y="502164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3" name="Freeform 1800"/>
                  <p:cNvSpPr/>
                  <p:nvPr/>
                </p:nvSpPr>
                <p:spPr>
                  <a:xfrm rot="19953000">
                    <a:off x="1184400" y="502632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4" name="Freeform 1801"/>
                  <p:cNvSpPr/>
                  <p:nvPr/>
                </p:nvSpPr>
                <p:spPr>
                  <a:xfrm rot="19953000">
                    <a:off x="1174680" y="503424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5" name="Freeform 1802"/>
                  <p:cNvSpPr/>
                  <p:nvPr/>
                </p:nvSpPr>
                <p:spPr>
                  <a:xfrm rot="19953000">
                    <a:off x="1175760" y="501984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6" name="Freeform 1803"/>
                  <p:cNvSpPr/>
                  <p:nvPr/>
                </p:nvSpPr>
                <p:spPr>
                  <a:xfrm rot="19953000">
                    <a:off x="1183320" y="501444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67" name="Group 1804"/>
            <p:cNvGrpSpPr/>
            <p:nvPr/>
          </p:nvGrpSpPr>
          <p:grpSpPr>
            <a:xfrm>
              <a:off x="1059120" y="5365080"/>
              <a:ext cx="172440" cy="133920"/>
              <a:chOff x="1059120" y="5365080"/>
              <a:chExt cx="172440" cy="133920"/>
            </a:xfrm>
          </p:grpSpPr>
          <p:sp>
            <p:nvSpPr>
              <p:cNvPr id="468" name="Freeform 1805"/>
              <p:cNvSpPr/>
              <p:nvPr/>
            </p:nvSpPr>
            <p:spPr>
              <a:xfrm flipH="1" rot="18156600">
                <a:off x="1115280" y="538668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8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1806"/>
              <p:cNvSpPr/>
              <p:nvPr/>
            </p:nvSpPr>
            <p:spPr>
              <a:xfrm rot="18156000">
                <a:off x="1119240" y="5410440"/>
                <a:ext cx="59040" cy="561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8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1807"/>
              <p:cNvSpPr/>
              <p:nvPr/>
            </p:nvSpPr>
            <p:spPr>
              <a:xfrm flipH="1" rot="18156600">
                <a:off x="1187280" y="5455080"/>
                <a:ext cx="6840" cy="324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71" name="Group 1808"/>
              <p:cNvGrpSpPr/>
              <p:nvPr/>
            </p:nvGrpSpPr>
            <p:grpSpPr>
              <a:xfrm>
                <a:off x="1059120" y="5367600"/>
                <a:ext cx="101520" cy="69480"/>
                <a:chOff x="1059120" y="5367600"/>
                <a:chExt cx="101520" cy="69480"/>
              </a:xfrm>
            </p:grpSpPr>
            <p:sp>
              <p:nvSpPr>
                <p:cNvPr id="472" name="Freeform 1809"/>
                <p:cNvSpPr/>
                <p:nvPr/>
              </p:nvSpPr>
              <p:spPr>
                <a:xfrm rot="18155400">
                  <a:off x="1121040" y="536976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73" name="Group 1810"/>
                <p:cNvGrpSpPr/>
                <p:nvPr/>
              </p:nvGrpSpPr>
              <p:grpSpPr>
                <a:xfrm>
                  <a:off x="1059120" y="5370480"/>
                  <a:ext cx="84960" cy="66600"/>
                  <a:chOff x="1059120" y="5370480"/>
                  <a:chExt cx="84960" cy="66600"/>
                </a:xfrm>
              </p:grpSpPr>
              <p:grpSp>
                <p:nvGrpSpPr>
                  <p:cNvPr id="474" name="Group 1811"/>
                  <p:cNvGrpSpPr/>
                  <p:nvPr/>
                </p:nvGrpSpPr>
                <p:grpSpPr>
                  <a:xfrm>
                    <a:off x="1059120" y="5370480"/>
                    <a:ext cx="84960" cy="66600"/>
                    <a:chOff x="1059120" y="5370480"/>
                    <a:chExt cx="84960" cy="66600"/>
                  </a:xfrm>
                </p:grpSpPr>
                <p:sp>
                  <p:nvSpPr>
                    <p:cNvPr id="475" name="Freeform 1812"/>
                    <p:cNvSpPr/>
                    <p:nvPr/>
                  </p:nvSpPr>
                  <p:spPr>
                    <a:xfrm rot="19953000">
                      <a:off x="1058760" y="538668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76" name="Freeform 1813"/>
                    <p:cNvSpPr/>
                    <p:nvPr/>
                  </p:nvSpPr>
                  <p:spPr>
                    <a:xfrm rot="19953000">
                      <a:off x="1065600" y="539712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77" name="Freeform 1814"/>
                  <p:cNvSpPr/>
                  <p:nvPr/>
                </p:nvSpPr>
                <p:spPr>
                  <a:xfrm rot="19953000">
                    <a:off x="1121040" y="538740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8" name="Freeform 1815"/>
                  <p:cNvSpPr/>
                  <p:nvPr/>
                </p:nvSpPr>
                <p:spPr>
                  <a:xfrm rot="19953000">
                    <a:off x="1111320" y="539208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9" name="Freeform 1816"/>
                  <p:cNvSpPr/>
                  <p:nvPr/>
                </p:nvSpPr>
                <p:spPr>
                  <a:xfrm rot="19953000">
                    <a:off x="1101600" y="540000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0" name="Freeform 1817"/>
                  <p:cNvSpPr/>
                  <p:nvPr/>
                </p:nvSpPr>
                <p:spPr>
                  <a:xfrm rot="19953000">
                    <a:off x="1102680" y="538560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1" name="Freeform 1818"/>
                  <p:cNvSpPr/>
                  <p:nvPr/>
                </p:nvSpPr>
                <p:spPr>
                  <a:xfrm rot="19953000">
                    <a:off x="1110240" y="538020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82" name="Group 1819"/>
            <p:cNvGrpSpPr/>
            <p:nvPr/>
          </p:nvGrpSpPr>
          <p:grpSpPr>
            <a:xfrm>
              <a:off x="1387800" y="5365080"/>
              <a:ext cx="172440" cy="133920"/>
              <a:chOff x="1387800" y="5365080"/>
              <a:chExt cx="172440" cy="133920"/>
            </a:xfrm>
          </p:grpSpPr>
          <p:sp>
            <p:nvSpPr>
              <p:cNvPr id="483" name="Freeform 1820"/>
              <p:cNvSpPr/>
              <p:nvPr/>
            </p:nvSpPr>
            <p:spPr>
              <a:xfrm flipH="1" rot="18156600">
                <a:off x="1443960" y="538668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8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1821"/>
              <p:cNvSpPr/>
              <p:nvPr/>
            </p:nvSpPr>
            <p:spPr>
              <a:xfrm rot="18156000">
                <a:off x="1447920" y="5410440"/>
                <a:ext cx="59040" cy="561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8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1822"/>
              <p:cNvSpPr/>
              <p:nvPr/>
            </p:nvSpPr>
            <p:spPr>
              <a:xfrm flipH="1" rot="18156600">
                <a:off x="1515960" y="5455080"/>
                <a:ext cx="6840" cy="324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86" name="Group 1823"/>
              <p:cNvGrpSpPr/>
              <p:nvPr/>
            </p:nvGrpSpPr>
            <p:grpSpPr>
              <a:xfrm>
                <a:off x="1387800" y="5367600"/>
                <a:ext cx="101520" cy="69480"/>
                <a:chOff x="1387800" y="5367600"/>
                <a:chExt cx="101520" cy="69480"/>
              </a:xfrm>
            </p:grpSpPr>
            <p:sp>
              <p:nvSpPr>
                <p:cNvPr id="487" name="Freeform 1824"/>
                <p:cNvSpPr/>
                <p:nvPr/>
              </p:nvSpPr>
              <p:spPr>
                <a:xfrm rot="18155400">
                  <a:off x="1449720" y="536976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88" name="Group 1825"/>
                <p:cNvGrpSpPr/>
                <p:nvPr/>
              </p:nvGrpSpPr>
              <p:grpSpPr>
                <a:xfrm>
                  <a:off x="1387800" y="5370480"/>
                  <a:ext cx="84960" cy="66600"/>
                  <a:chOff x="1387800" y="5370480"/>
                  <a:chExt cx="84960" cy="66600"/>
                </a:xfrm>
              </p:grpSpPr>
              <p:grpSp>
                <p:nvGrpSpPr>
                  <p:cNvPr id="489" name="Group 1826"/>
                  <p:cNvGrpSpPr/>
                  <p:nvPr/>
                </p:nvGrpSpPr>
                <p:grpSpPr>
                  <a:xfrm>
                    <a:off x="1387800" y="5370480"/>
                    <a:ext cx="84960" cy="66600"/>
                    <a:chOff x="1387800" y="5370480"/>
                    <a:chExt cx="84960" cy="66600"/>
                  </a:xfrm>
                </p:grpSpPr>
                <p:sp>
                  <p:nvSpPr>
                    <p:cNvPr id="490" name="Freeform 1827"/>
                    <p:cNvSpPr/>
                    <p:nvPr/>
                  </p:nvSpPr>
                  <p:spPr>
                    <a:xfrm rot="19953000">
                      <a:off x="1387440" y="538668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91" name="Freeform 1828"/>
                    <p:cNvSpPr/>
                    <p:nvPr/>
                  </p:nvSpPr>
                  <p:spPr>
                    <a:xfrm rot="19953000">
                      <a:off x="1394280" y="539712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92" name="Freeform 1829"/>
                  <p:cNvSpPr/>
                  <p:nvPr/>
                </p:nvSpPr>
                <p:spPr>
                  <a:xfrm rot="19953000">
                    <a:off x="1449720" y="538740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3" name="Freeform 1830"/>
                  <p:cNvSpPr/>
                  <p:nvPr/>
                </p:nvSpPr>
                <p:spPr>
                  <a:xfrm rot="19953000">
                    <a:off x="1440000" y="539208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4" name="Freeform 1831"/>
                  <p:cNvSpPr/>
                  <p:nvPr/>
                </p:nvSpPr>
                <p:spPr>
                  <a:xfrm rot="19953000">
                    <a:off x="1430280" y="540000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5" name="Freeform 1832"/>
                  <p:cNvSpPr/>
                  <p:nvPr/>
                </p:nvSpPr>
                <p:spPr>
                  <a:xfrm rot="19953000">
                    <a:off x="1431360" y="538560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6" name="Freeform 1833"/>
                  <p:cNvSpPr/>
                  <p:nvPr/>
                </p:nvSpPr>
                <p:spPr>
                  <a:xfrm rot="19953000">
                    <a:off x="1438920" y="538020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97" name="Group 1834"/>
            <p:cNvGrpSpPr/>
            <p:nvPr/>
          </p:nvGrpSpPr>
          <p:grpSpPr>
            <a:xfrm>
              <a:off x="1351440" y="5072400"/>
              <a:ext cx="172800" cy="133920"/>
              <a:chOff x="1351440" y="5072400"/>
              <a:chExt cx="172800" cy="133920"/>
            </a:xfrm>
          </p:grpSpPr>
          <p:sp>
            <p:nvSpPr>
              <p:cNvPr id="498" name="Freeform 1835"/>
              <p:cNvSpPr/>
              <p:nvPr/>
            </p:nvSpPr>
            <p:spPr>
              <a:xfrm flipH="1" rot="18156600">
                <a:off x="1407960" y="509400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8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1836"/>
              <p:cNvSpPr/>
              <p:nvPr/>
            </p:nvSpPr>
            <p:spPr>
              <a:xfrm rot="18156000">
                <a:off x="1412640" y="5117400"/>
                <a:ext cx="58680" cy="56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9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1837"/>
              <p:cNvSpPr/>
              <p:nvPr/>
            </p:nvSpPr>
            <p:spPr>
              <a:xfrm flipH="1" rot="18156600">
                <a:off x="1478880" y="5162040"/>
                <a:ext cx="6840" cy="396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01" name="Group 1838"/>
              <p:cNvGrpSpPr/>
              <p:nvPr/>
            </p:nvGrpSpPr>
            <p:grpSpPr>
              <a:xfrm>
                <a:off x="1351440" y="5074920"/>
                <a:ext cx="101520" cy="69480"/>
                <a:chOff x="1351440" y="5074920"/>
                <a:chExt cx="101520" cy="69480"/>
              </a:xfrm>
            </p:grpSpPr>
            <p:sp>
              <p:nvSpPr>
                <p:cNvPr id="502" name="Freeform 1839"/>
                <p:cNvSpPr/>
                <p:nvPr/>
              </p:nvSpPr>
              <p:spPr>
                <a:xfrm rot="18155400">
                  <a:off x="1413360" y="507708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03" name="Group 1840"/>
                <p:cNvGrpSpPr/>
                <p:nvPr/>
              </p:nvGrpSpPr>
              <p:grpSpPr>
                <a:xfrm>
                  <a:off x="1351440" y="5077800"/>
                  <a:ext cx="84960" cy="66600"/>
                  <a:chOff x="1351440" y="5077800"/>
                  <a:chExt cx="84960" cy="66600"/>
                </a:xfrm>
              </p:grpSpPr>
              <p:grpSp>
                <p:nvGrpSpPr>
                  <p:cNvPr id="504" name="Group 1841"/>
                  <p:cNvGrpSpPr/>
                  <p:nvPr/>
                </p:nvGrpSpPr>
                <p:grpSpPr>
                  <a:xfrm>
                    <a:off x="1351440" y="5077800"/>
                    <a:ext cx="84960" cy="66600"/>
                    <a:chOff x="1351440" y="5077800"/>
                    <a:chExt cx="84960" cy="66600"/>
                  </a:xfrm>
                </p:grpSpPr>
                <p:sp>
                  <p:nvSpPr>
                    <p:cNvPr id="505" name="Freeform 1842"/>
                    <p:cNvSpPr/>
                    <p:nvPr/>
                  </p:nvSpPr>
                  <p:spPr>
                    <a:xfrm rot="19953000">
                      <a:off x="1351080" y="509400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06" name="Freeform 1843"/>
                    <p:cNvSpPr/>
                    <p:nvPr/>
                  </p:nvSpPr>
                  <p:spPr>
                    <a:xfrm rot="19953000">
                      <a:off x="1357920" y="510444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07" name="Freeform 1844"/>
                  <p:cNvSpPr/>
                  <p:nvPr/>
                </p:nvSpPr>
                <p:spPr>
                  <a:xfrm rot="19953000">
                    <a:off x="1413360" y="509472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8" name="Freeform 1845"/>
                  <p:cNvSpPr/>
                  <p:nvPr/>
                </p:nvSpPr>
                <p:spPr>
                  <a:xfrm rot="19953000">
                    <a:off x="1403640" y="509940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9" name="Freeform 1846"/>
                  <p:cNvSpPr/>
                  <p:nvPr/>
                </p:nvSpPr>
                <p:spPr>
                  <a:xfrm rot="19953000">
                    <a:off x="1393920" y="510732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0" name="Freeform 1847"/>
                  <p:cNvSpPr/>
                  <p:nvPr/>
                </p:nvSpPr>
                <p:spPr>
                  <a:xfrm rot="19953000">
                    <a:off x="1395000" y="509292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1" name="Freeform 1848"/>
                  <p:cNvSpPr/>
                  <p:nvPr/>
                </p:nvSpPr>
                <p:spPr>
                  <a:xfrm rot="19953000">
                    <a:off x="1402560" y="508752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512" name="Group 1849"/>
            <p:cNvGrpSpPr/>
            <p:nvPr/>
          </p:nvGrpSpPr>
          <p:grpSpPr>
            <a:xfrm>
              <a:off x="479520" y="5182200"/>
              <a:ext cx="172440" cy="133920"/>
              <a:chOff x="479520" y="5182200"/>
              <a:chExt cx="172440" cy="133920"/>
            </a:xfrm>
          </p:grpSpPr>
          <p:sp>
            <p:nvSpPr>
              <p:cNvPr id="513" name="Freeform 1850"/>
              <p:cNvSpPr/>
              <p:nvPr/>
            </p:nvSpPr>
            <p:spPr>
              <a:xfrm rot="3443400">
                <a:off x="494280" y="5203800"/>
                <a:ext cx="101160" cy="907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9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1851"/>
              <p:cNvSpPr/>
              <p:nvPr/>
            </p:nvSpPr>
            <p:spPr>
              <a:xfrm flipH="1" rot="3444000">
                <a:off x="532080" y="5227200"/>
                <a:ext cx="58680" cy="56160"/>
              </a:xfrm>
              <a:custGeom>
                <a:avLst/>
                <a:gdLst>
                  <a:gd name="textAreaLeft" fmla="*/ -360 w 58680"/>
                  <a:gd name="textAreaRight" fmla="*/ 5868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9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1852"/>
              <p:cNvSpPr/>
              <p:nvPr/>
            </p:nvSpPr>
            <p:spPr>
              <a:xfrm rot="3443400">
                <a:off x="516600" y="5271840"/>
                <a:ext cx="6840" cy="3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6" name="Group 1853"/>
              <p:cNvGrpSpPr/>
              <p:nvPr/>
            </p:nvGrpSpPr>
            <p:grpSpPr>
              <a:xfrm>
                <a:off x="550080" y="5184720"/>
                <a:ext cx="101880" cy="69480"/>
                <a:chOff x="550080" y="5184720"/>
                <a:chExt cx="101880" cy="69480"/>
              </a:xfrm>
            </p:grpSpPr>
            <p:sp>
              <p:nvSpPr>
                <p:cNvPr id="517" name="Freeform 1854"/>
                <p:cNvSpPr/>
                <p:nvPr/>
              </p:nvSpPr>
              <p:spPr>
                <a:xfrm flipH="1" rot="3444600">
                  <a:off x="560520" y="5186880"/>
                  <a:ext cx="28800" cy="4176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18" name="Group 1855"/>
                <p:cNvGrpSpPr/>
                <p:nvPr/>
              </p:nvGrpSpPr>
              <p:grpSpPr>
                <a:xfrm>
                  <a:off x="567000" y="5187600"/>
                  <a:ext cx="84960" cy="66600"/>
                  <a:chOff x="567000" y="5187600"/>
                  <a:chExt cx="84960" cy="66600"/>
                </a:xfrm>
              </p:grpSpPr>
              <p:grpSp>
                <p:nvGrpSpPr>
                  <p:cNvPr id="519" name="Group 1856"/>
                  <p:cNvGrpSpPr/>
                  <p:nvPr/>
                </p:nvGrpSpPr>
                <p:grpSpPr>
                  <a:xfrm>
                    <a:off x="567000" y="5187600"/>
                    <a:ext cx="84960" cy="66600"/>
                    <a:chOff x="567000" y="5187600"/>
                    <a:chExt cx="84960" cy="66600"/>
                  </a:xfrm>
                </p:grpSpPr>
                <p:sp>
                  <p:nvSpPr>
                    <p:cNvPr id="520" name="Freeform 1857"/>
                    <p:cNvSpPr/>
                    <p:nvPr/>
                  </p:nvSpPr>
                  <p:spPr>
                    <a:xfrm flipH="1" rot="1647000">
                      <a:off x="576000" y="5203800"/>
                      <a:ext cx="75600" cy="18000"/>
                    </a:xfrm>
                    <a:custGeom>
                      <a:avLst/>
                      <a:gdLst>
                        <a:gd name="textAreaLeft" fmla="*/ 360 w 75600"/>
                        <a:gd name="textAreaRight" fmla="*/ 76320 w 75600"/>
                        <a:gd name="textAreaTop" fmla="*/ 0 h 18000"/>
                        <a:gd name="textAreaBottom" fmla="*/ 18360 h 180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21" name="Freeform 1858"/>
                    <p:cNvSpPr/>
                    <p:nvPr/>
                  </p:nvSpPr>
                  <p:spPr>
                    <a:xfrm flipH="1" rot="1647000">
                      <a:off x="567720" y="5213880"/>
                      <a:ext cx="77040" cy="2340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22" name="Freeform 1859"/>
                  <p:cNvSpPr/>
                  <p:nvPr/>
                </p:nvSpPr>
                <p:spPr>
                  <a:xfrm flipH="1" rot="1647000">
                    <a:off x="582120" y="520452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3" name="Freeform 1860"/>
                  <p:cNvSpPr/>
                  <p:nvPr/>
                </p:nvSpPr>
                <p:spPr>
                  <a:xfrm flipH="1" rot="1647000">
                    <a:off x="591840" y="520920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4" name="Freeform 1861"/>
                  <p:cNvSpPr/>
                  <p:nvPr/>
                </p:nvSpPr>
                <p:spPr>
                  <a:xfrm flipH="1" rot="1647000">
                    <a:off x="602280" y="5217120"/>
                    <a:ext cx="6120" cy="1044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5" name="Freeform 1862"/>
                  <p:cNvSpPr/>
                  <p:nvPr/>
                </p:nvSpPr>
                <p:spPr>
                  <a:xfrm flipH="1" rot="1647000">
                    <a:off x="598320" y="5202720"/>
                    <a:ext cx="9720" cy="82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6" name="Freeform 1863"/>
                  <p:cNvSpPr/>
                  <p:nvPr/>
                </p:nvSpPr>
                <p:spPr>
                  <a:xfrm flipH="1" rot="1647000">
                    <a:off x="590040" y="5197680"/>
                    <a:ext cx="10440" cy="900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527" name="Group 1864"/>
            <p:cNvGrpSpPr/>
            <p:nvPr/>
          </p:nvGrpSpPr>
          <p:grpSpPr>
            <a:xfrm>
              <a:off x="735120" y="5292000"/>
              <a:ext cx="172800" cy="133920"/>
              <a:chOff x="735120" y="5292000"/>
              <a:chExt cx="172800" cy="133920"/>
            </a:xfrm>
          </p:grpSpPr>
          <p:sp>
            <p:nvSpPr>
              <p:cNvPr id="528" name="Freeform 1865"/>
              <p:cNvSpPr/>
              <p:nvPr/>
            </p:nvSpPr>
            <p:spPr>
              <a:xfrm rot="3443400">
                <a:off x="749880" y="5313600"/>
                <a:ext cx="101160" cy="907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9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1866"/>
              <p:cNvSpPr/>
              <p:nvPr/>
            </p:nvSpPr>
            <p:spPr>
              <a:xfrm flipH="1" rot="3444000">
                <a:off x="787680" y="5337000"/>
                <a:ext cx="58680" cy="56160"/>
              </a:xfrm>
              <a:custGeom>
                <a:avLst/>
                <a:gdLst>
                  <a:gd name="textAreaLeft" fmla="*/ -360 w 58680"/>
                  <a:gd name="textAreaRight" fmla="*/ 5868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9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1867"/>
              <p:cNvSpPr/>
              <p:nvPr/>
            </p:nvSpPr>
            <p:spPr>
              <a:xfrm rot="3443400">
                <a:off x="772560" y="5381640"/>
                <a:ext cx="6840" cy="39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1" name="Group 1868"/>
              <p:cNvGrpSpPr/>
              <p:nvPr/>
            </p:nvGrpSpPr>
            <p:grpSpPr>
              <a:xfrm>
                <a:off x="806040" y="5294520"/>
                <a:ext cx="101880" cy="69480"/>
                <a:chOff x="806040" y="5294520"/>
                <a:chExt cx="101880" cy="69480"/>
              </a:xfrm>
            </p:grpSpPr>
            <p:sp>
              <p:nvSpPr>
                <p:cNvPr id="532" name="Freeform 1869"/>
                <p:cNvSpPr/>
                <p:nvPr/>
              </p:nvSpPr>
              <p:spPr>
                <a:xfrm flipH="1" rot="3444600">
                  <a:off x="816480" y="5296680"/>
                  <a:ext cx="28800" cy="4176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33" name="Group 1870"/>
                <p:cNvGrpSpPr/>
                <p:nvPr/>
              </p:nvGrpSpPr>
              <p:grpSpPr>
                <a:xfrm>
                  <a:off x="822960" y="5297400"/>
                  <a:ext cx="84960" cy="66600"/>
                  <a:chOff x="822960" y="5297400"/>
                  <a:chExt cx="84960" cy="66600"/>
                </a:xfrm>
              </p:grpSpPr>
              <p:grpSp>
                <p:nvGrpSpPr>
                  <p:cNvPr id="534" name="Group 1871"/>
                  <p:cNvGrpSpPr/>
                  <p:nvPr/>
                </p:nvGrpSpPr>
                <p:grpSpPr>
                  <a:xfrm>
                    <a:off x="822960" y="5297400"/>
                    <a:ext cx="84960" cy="66600"/>
                    <a:chOff x="822960" y="5297400"/>
                    <a:chExt cx="84960" cy="66600"/>
                  </a:xfrm>
                </p:grpSpPr>
                <p:sp>
                  <p:nvSpPr>
                    <p:cNvPr id="535" name="Freeform 1872"/>
                    <p:cNvSpPr/>
                    <p:nvPr/>
                  </p:nvSpPr>
                  <p:spPr>
                    <a:xfrm flipH="1" rot="1647000">
                      <a:off x="831960" y="5313600"/>
                      <a:ext cx="75600" cy="18000"/>
                    </a:xfrm>
                    <a:custGeom>
                      <a:avLst/>
                      <a:gdLst>
                        <a:gd name="textAreaLeft" fmla="*/ 360 w 75600"/>
                        <a:gd name="textAreaRight" fmla="*/ 76320 w 75600"/>
                        <a:gd name="textAreaTop" fmla="*/ 0 h 18000"/>
                        <a:gd name="textAreaBottom" fmla="*/ 18360 h 180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36" name="Freeform 1873"/>
                    <p:cNvSpPr/>
                    <p:nvPr/>
                  </p:nvSpPr>
                  <p:spPr>
                    <a:xfrm flipH="1" rot="1647000">
                      <a:off x="823680" y="5323680"/>
                      <a:ext cx="77040" cy="2340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37" name="Freeform 1874"/>
                  <p:cNvSpPr/>
                  <p:nvPr/>
                </p:nvSpPr>
                <p:spPr>
                  <a:xfrm flipH="1" rot="1647000">
                    <a:off x="838080" y="531432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8" name="Freeform 1875"/>
                  <p:cNvSpPr/>
                  <p:nvPr/>
                </p:nvSpPr>
                <p:spPr>
                  <a:xfrm flipH="1" rot="1647000">
                    <a:off x="847800" y="531900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9" name="Freeform 1876"/>
                  <p:cNvSpPr/>
                  <p:nvPr/>
                </p:nvSpPr>
                <p:spPr>
                  <a:xfrm flipH="1" rot="1647000">
                    <a:off x="858240" y="5326920"/>
                    <a:ext cx="6120" cy="1044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0" name="Freeform 1877"/>
                  <p:cNvSpPr/>
                  <p:nvPr/>
                </p:nvSpPr>
                <p:spPr>
                  <a:xfrm flipH="1" rot="1647000">
                    <a:off x="854280" y="5312520"/>
                    <a:ext cx="9720" cy="82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1" name="Freeform 1878"/>
                  <p:cNvSpPr/>
                  <p:nvPr/>
                </p:nvSpPr>
                <p:spPr>
                  <a:xfrm flipH="1" rot="1647000">
                    <a:off x="846000" y="5307480"/>
                    <a:ext cx="10440" cy="900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542" name="Group 1879"/>
            <p:cNvGrpSpPr/>
            <p:nvPr/>
          </p:nvGrpSpPr>
          <p:grpSpPr>
            <a:xfrm>
              <a:off x="771840" y="5657760"/>
              <a:ext cx="172800" cy="133920"/>
              <a:chOff x="771840" y="5657760"/>
              <a:chExt cx="172800" cy="133920"/>
            </a:xfrm>
          </p:grpSpPr>
          <p:sp>
            <p:nvSpPr>
              <p:cNvPr id="543" name="Freeform 1880"/>
              <p:cNvSpPr/>
              <p:nvPr/>
            </p:nvSpPr>
            <p:spPr>
              <a:xfrm rot="3443400">
                <a:off x="786600" y="5679360"/>
                <a:ext cx="101160" cy="907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0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1881"/>
              <p:cNvSpPr/>
              <p:nvPr/>
            </p:nvSpPr>
            <p:spPr>
              <a:xfrm flipH="1" rot="3444000">
                <a:off x="824400" y="5702760"/>
                <a:ext cx="58680" cy="56160"/>
              </a:xfrm>
              <a:custGeom>
                <a:avLst/>
                <a:gdLst>
                  <a:gd name="textAreaLeft" fmla="*/ -360 w 58680"/>
                  <a:gd name="textAreaRight" fmla="*/ 5868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0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1882"/>
              <p:cNvSpPr/>
              <p:nvPr/>
            </p:nvSpPr>
            <p:spPr>
              <a:xfrm rot="3443400">
                <a:off x="809280" y="5747400"/>
                <a:ext cx="6840" cy="39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6" name="Group 1883"/>
              <p:cNvGrpSpPr/>
              <p:nvPr/>
            </p:nvGrpSpPr>
            <p:grpSpPr>
              <a:xfrm>
                <a:off x="842760" y="5660280"/>
                <a:ext cx="101880" cy="69480"/>
                <a:chOff x="842760" y="5660280"/>
                <a:chExt cx="101880" cy="69480"/>
              </a:xfrm>
            </p:grpSpPr>
            <p:sp>
              <p:nvSpPr>
                <p:cNvPr id="547" name="Freeform 1884"/>
                <p:cNvSpPr/>
                <p:nvPr/>
              </p:nvSpPr>
              <p:spPr>
                <a:xfrm flipH="1" rot="3444600">
                  <a:off x="853200" y="5662440"/>
                  <a:ext cx="28800" cy="4176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48" name="Group 1885"/>
                <p:cNvGrpSpPr/>
                <p:nvPr/>
              </p:nvGrpSpPr>
              <p:grpSpPr>
                <a:xfrm>
                  <a:off x="859680" y="5663160"/>
                  <a:ext cx="84960" cy="66600"/>
                  <a:chOff x="859680" y="5663160"/>
                  <a:chExt cx="84960" cy="66600"/>
                </a:xfrm>
              </p:grpSpPr>
              <p:grpSp>
                <p:nvGrpSpPr>
                  <p:cNvPr id="549" name="Group 1886"/>
                  <p:cNvGrpSpPr/>
                  <p:nvPr/>
                </p:nvGrpSpPr>
                <p:grpSpPr>
                  <a:xfrm>
                    <a:off x="859680" y="5663160"/>
                    <a:ext cx="84960" cy="66600"/>
                    <a:chOff x="859680" y="5663160"/>
                    <a:chExt cx="84960" cy="66600"/>
                  </a:xfrm>
                </p:grpSpPr>
                <p:sp>
                  <p:nvSpPr>
                    <p:cNvPr id="550" name="Freeform 1887"/>
                    <p:cNvSpPr/>
                    <p:nvPr/>
                  </p:nvSpPr>
                  <p:spPr>
                    <a:xfrm flipH="1" rot="1647000">
                      <a:off x="868680" y="5679360"/>
                      <a:ext cx="75600" cy="18000"/>
                    </a:xfrm>
                    <a:custGeom>
                      <a:avLst/>
                      <a:gdLst>
                        <a:gd name="textAreaLeft" fmla="*/ 360 w 75600"/>
                        <a:gd name="textAreaRight" fmla="*/ 76320 w 75600"/>
                        <a:gd name="textAreaTop" fmla="*/ 0 h 18000"/>
                        <a:gd name="textAreaBottom" fmla="*/ 18360 h 180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51" name="Freeform 1888"/>
                    <p:cNvSpPr/>
                    <p:nvPr/>
                  </p:nvSpPr>
                  <p:spPr>
                    <a:xfrm flipH="1" rot="1647000">
                      <a:off x="860400" y="5689440"/>
                      <a:ext cx="77040" cy="2340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52" name="Freeform 1889"/>
                  <p:cNvSpPr/>
                  <p:nvPr/>
                </p:nvSpPr>
                <p:spPr>
                  <a:xfrm flipH="1" rot="1647000">
                    <a:off x="874800" y="568008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3" name="Freeform 1890"/>
                  <p:cNvSpPr/>
                  <p:nvPr/>
                </p:nvSpPr>
                <p:spPr>
                  <a:xfrm flipH="1" rot="1647000">
                    <a:off x="884520" y="568476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4" name="Freeform 1891"/>
                  <p:cNvSpPr/>
                  <p:nvPr/>
                </p:nvSpPr>
                <p:spPr>
                  <a:xfrm flipH="1" rot="1647000">
                    <a:off x="894960" y="5692680"/>
                    <a:ext cx="6120" cy="1044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5" name="Freeform 1892"/>
                  <p:cNvSpPr/>
                  <p:nvPr/>
                </p:nvSpPr>
                <p:spPr>
                  <a:xfrm flipH="1" rot="1647000">
                    <a:off x="891000" y="5678280"/>
                    <a:ext cx="9720" cy="82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6" name="Freeform 1893"/>
                  <p:cNvSpPr/>
                  <p:nvPr/>
                </p:nvSpPr>
                <p:spPr>
                  <a:xfrm flipH="1" rot="1647000">
                    <a:off x="882720" y="5673240"/>
                    <a:ext cx="10440" cy="900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557" name="Group 1894"/>
            <p:cNvGrpSpPr/>
            <p:nvPr/>
          </p:nvGrpSpPr>
          <p:grpSpPr>
            <a:xfrm>
              <a:off x="771840" y="4633200"/>
              <a:ext cx="172800" cy="133920"/>
              <a:chOff x="771840" y="4633200"/>
              <a:chExt cx="172800" cy="133920"/>
            </a:xfrm>
          </p:grpSpPr>
          <p:sp>
            <p:nvSpPr>
              <p:cNvPr id="558" name="Freeform 1895"/>
              <p:cNvSpPr/>
              <p:nvPr/>
            </p:nvSpPr>
            <p:spPr>
              <a:xfrm rot="3443400">
                <a:off x="786600" y="4654800"/>
                <a:ext cx="101160" cy="907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0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1896"/>
              <p:cNvSpPr/>
              <p:nvPr/>
            </p:nvSpPr>
            <p:spPr>
              <a:xfrm flipH="1" rot="3444000">
                <a:off x="824400" y="4678200"/>
                <a:ext cx="58680" cy="56160"/>
              </a:xfrm>
              <a:custGeom>
                <a:avLst/>
                <a:gdLst>
                  <a:gd name="textAreaLeft" fmla="*/ -360 w 58680"/>
                  <a:gd name="textAreaRight" fmla="*/ 5868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0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1897"/>
              <p:cNvSpPr/>
              <p:nvPr/>
            </p:nvSpPr>
            <p:spPr>
              <a:xfrm rot="3443400">
                <a:off x="809280" y="4722840"/>
                <a:ext cx="6840" cy="39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1" name="Group 1898"/>
              <p:cNvGrpSpPr/>
              <p:nvPr/>
            </p:nvGrpSpPr>
            <p:grpSpPr>
              <a:xfrm>
                <a:off x="842760" y="4635720"/>
                <a:ext cx="101880" cy="69480"/>
                <a:chOff x="842760" y="4635720"/>
                <a:chExt cx="101880" cy="69480"/>
              </a:xfrm>
            </p:grpSpPr>
            <p:sp>
              <p:nvSpPr>
                <p:cNvPr id="562" name="Freeform 1899"/>
                <p:cNvSpPr/>
                <p:nvPr/>
              </p:nvSpPr>
              <p:spPr>
                <a:xfrm flipH="1" rot="3444600">
                  <a:off x="853200" y="4637880"/>
                  <a:ext cx="28800" cy="4176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63" name="Group 1900"/>
                <p:cNvGrpSpPr/>
                <p:nvPr/>
              </p:nvGrpSpPr>
              <p:grpSpPr>
                <a:xfrm>
                  <a:off x="859680" y="4638600"/>
                  <a:ext cx="84960" cy="66600"/>
                  <a:chOff x="859680" y="4638600"/>
                  <a:chExt cx="84960" cy="66600"/>
                </a:xfrm>
              </p:grpSpPr>
              <p:grpSp>
                <p:nvGrpSpPr>
                  <p:cNvPr id="564" name="Group 1901"/>
                  <p:cNvGrpSpPr/>
                  <p:nvPr/>
                </p:nvGrpSpPr>
                <p:grpSpPr>
                  <a:xfrm>
                    <a:off x="859680" y="4638600"/>
                    <a:ext cx="84960" cy="66600"/>
                    <a:chOff x="859680" y="4638600"/>
                    <a:chExt cx="84960" cy="66600"/>
                  </a:xfrm>
                </p:grpSpPr>
                <p:sp>
                  <p:nvSpPr>
                    <p:cNvPr id="565" name="Freeform 1902"/>
                    <p:cNvSpPr/>
                    <p:nvPr/>
                  </p:nvSpPr>
                  <p:spPr>
                    <a:xfrm flipH="1" rot="1647000">
                      <a:off x="868680" y="4654800"/>
                      <a:ext cx="75600" cy="18000"/>
                    </a:xfrm>
                    <a:custGeom>
                      <a:avLst/>
                      <a:gdLst>
                        <a:gd name="textAreaLeft" fmla="*/ 360 w 75600"/>
                        <a:gd name="textAreaRight" fmla="*/ 76320 w 75600"/>
                        <a:gd name="textAreaTop" fmla="*/ 0 h 18000"/>
                        <a:gd name="textAreaBottom" fmla="*/ 18360 h 180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6" name="Freeform 1903"/>
                    <p:cNvSpPr/>
                    <p:nvPr/>
                  </p:nvSpPr>
                  <p:spPr>
                    <a:xfrm flipH="1" rot="1647000">
                      <a:off x="860400" y="4664880"/>
                      <a:ext cx="77040" cy="2340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67" name="Freeform 1904"/>
                  <p:cNvSpPr/>
                  <p:nvPr/>
                </p:nvSpPr>
                <p:spPr>
                  <a:xfrm flipH="1" rot="1647000">
                    <a:off x="874800" y="465552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8" name="Freeform 1905"/>
                  <p:cNvSpPr/>
                  <p:nvPr/>
                </p:nvSpPr>
                <p:spPr>
                  <a:xfrm flipH="1" rot="1647000">
                    <a:off x="884520" y="466020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9" name="Freeform 1906"/>
                  <p:cNvSpPr/>
                  <p:nvPr/>
                </p:nvSpPr>
                <p:spPr>
                  <a:xfrm flipH="1" rot="1647000">
                    <a:off x="894960" y="4668120"/>
                    <a:ext cx="6120" cy="1044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0" name="Freeform 1907"/>
                  <p:cNvSpPr/>
                  <p:nvPr/>
                </p:nvSpPr>
                <p:spPr>
                  <a:xfrm flipH="1" rot="1647000">
                    <a:off x="891000" y="4653720"/>
                    <a:ext cx="9720" cy="82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1" name="Freeform 1908"/>
                  <p:cNvSpPr/>
                  <p:nvPr/>
                </p:nvSpPr>
                <p:spPr>
                  <a:xfrm flipH="1" rot="1647000">
                    <a:off x="882720" y="4648680"/>
                    <a:ext cx="10440" cy="900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572" name="Group 1909"/>
            <p:cNvGrpSpPr/>
            <p:nvPr/>
          </p:nvGrpSpPr>
          <p:grpSpPr>
            <a:xfrm>
              <a:off x="1136520" y="5145480"/>
              <a:ext cx="172440" cy="133920"/>
              <a:chOff x="1136520" y="5145480"/>
              <a:chExt cx="172440" cy="133920"/>
            </a:xfrm>
          </p:grpSpPr>
          <p:sp>
            <p:nvSpPr>
              <p:cNvPr id="573" name="Freeform 1910"/>
              <p:cNvSpPr/>
              <p:nvPr/>
            </p:nvSpPr>
            <p:spPr>
              <a:xfrm rot="3443400">
                <a:off x="1151280" y="5167080"/>
                <a:ext cx="101160" cy="907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0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1911"/>
              <p:cNvSpPr/>
              <p:nvPr/>
            </p:nvSpPr>
            <p:spPr>
              <a:xfrm flipH="1" rot="3444000">
                <a:off x="1189080" y="5190840"/>
                <a:ext cx="59040" cy="56160"/>
              </a:xfrm>
              <a:custGeom>
                <a:avLst/>
                <a:gdLst>
                  <a:gd name="textAreaLeft" fmla="*/ 360 w 59040"/>
                  <a:gd name="textAreaRight" fmla="*/ 59760 w 590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1912"/>
              <p:cNvSpPr/>
              <p:nvPr/>
            </p:nvSpPr>
            <p:spPr>
              <a:xfrm rot="3443400">
                <a:off x="1173600" y="5235480"/>
                <a:ext cx="6840" cy="3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6" name="Group 1913"/>
              <p:cNvGrpSpPr/>
              <p:nvPr/>
            </p:nvGrpSpPr>
            <p:grpSpPr>
              <a:xfrm>
                <a:off x="1207080" y="5148000"/>
                <a:ext cx="101880" cy="69480"/>
                <a:chOff x="1207080" y="5148000"/>
                <a:chExt cx="101880" cy="69480"/>
              </a:xfrm>
            </p:grpSpPr>
            <p:sp>
              <p:nvSpPr>
                <p:cNvPr id="577" name="Freeform 1914"/>
                <p:cNvSpPr/>
                <p:nvPr/>
              </p:nvSpPr>
              <p:spPr>
                <a:xfrm flipH="1" rot="3444600">
                  <a:off x="1217520" y="5150160"/>
                  <a:ext cx="28800" cy="4176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78" name="Group 1915"/>
                <p:cNvGrpSpPr/>
                <p:nvPr/>
              </p:nvGrpSpPr>
              <p:grpSpPr>
                <a:xfrm>
                  <a:off x="1224000" y="5150880"/>
                  <a:ext cx="84960" cy="66600"/>
                  <a:chOff x="1224000" y="5150880"/>
                  <a:chExt cx="84960" cy="66600"/>
                </a:xfrm>
              </p:grpSpPr>
              <p:grpSp>
                <p:nvGrpSpPr>
                  <p:cNvPr id="579" name="Group 1916"/>
                  <p:cNvGrpSpPr/>
                  <p:nvPr/>
                </p:nvGrpSpPr>
                <p:grpSpPr>
                  <a:xfrm>
                    <a:off x="1224000" y="5150880"/>
                    <a:ext cx="84960" cy="66600"/>
                    <a:chOff x="1224000" y="5150880"/>
                    <a:chExt cx="84960" cy="66600"/>
                  </a:xfrm>
                </p:grpSpPr>
                <p:sp>
                  <p:nvSpPr>
                    <p:cNvPr id="580" name="Freeform 1917"/>
                    <p:cNvSpPr/>
                    <p:nvPr/>
                  </p:nvSpPr>
                  <p:spPr>
                    <a:xfrm flipH="1" rot="1647000">
                      <a:off x="1233000" y="5167080"/>
                      <a:ext cx="75600" cy="18000"/>
                    </a:xfrm>
                    <a:custGeom>
                      <a:avLst/>
                      <a:gdLst>
                        <a:gd name="textAreaLeft" fmla="*/ 360 w 75600"/>
                        <a:gd name="textAreaRight" fmla="*/ 76320 w 75600"/>
                        <a:gd name="textAreaTop" fmla="*/ 0 h 18000"/>
                        <a:gd name="textAreaBottom" fmla="*/ 18360 h 180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1" name="Freeform 1918"/>
                    <p:cNvSpPr/>
                    <p:nvPr/>
                  </p:nvSpPr>
                  <p:spPr>
                    <a:xfrm flipH="1" rot="1647000">
                      <a:off x="1224720" y="5177160"/>
                      <a:ext cx="77040" cy="2340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82" name="Freeform 1919"/>
                  <p:cNvSpPr/>
                  <p:nvPr/>
                </p:nvSpPr>
                <p:spPr>
                  <a:xfrm flipH="1" rot="1647000">
                    <a:off x="1239120" y="516780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3" name="Freeform 1920"/>
                  <p:cNvSpPr/>
                  <p:nvPr/>
                </p:nvSpPr>
                <p:spPr>
                  <a:xfrm flipH="1" rot="1647000">
                    <a:off x="1248840" y="517248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4" name="Freeform 1921"/>
                  <p:cNvSpPr/>
                  <p:nvPr/>
                </p:nvSpPr>
                <p:spPr>
                  <a:xfrm flipH="1" rot="1647000">
                    <a:off x="1259280" y="5180400"/>
                    <a:ext cx="6120" cy="1044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5" name="Freeform 1922"/>
                  <p:cNvSpPr/>
                  <p:nvPr/>
                </p:nvSpPr>
                <p:spPr>
                  <a:xfrm flipH="1" rot="1647000">
                    <a:off x="1255320" y="5166000"/>
                    <a:ext cx="9720" cy="82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6" name="Freeform 1923"/>
                  <p:cNvSpPr/>
                  <p:nvPr/>
                </p:nvSpPr>
                <p:spPr>
                  <a:xfrm flipH="1" rot="1647000">
                    <a:off x="1247040" y="5160960"/>
                    <a:ext cx="10440" cy="900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587" name="Group 1924"/>
            <p:cNvGrpSpPr/>
            <p:nvPr/>
          </p:nvGrpSpPr>
          <p:grpSpPr>
            <a:xfrm>
              <a:off x="1283040" y="5584680"/>
              <a:ext cx="172800" cy="133920"/>
              <a:chOff x="1283040" y="5584680"/>
              <a:chExt cx="172800" cy="133920"/>
            </a:xfrm>
          </p:grpSpPr>
          <p:sp>
            <p:nvSpPr>
              <p:cNvPr id="588" name="Freeform 1925"/>
              <p:cNvSpPr/>
              <p:nvPr/>
            </p:nvSpPr>
            <p:spPr>
              <a:xfrm rot="3443400">
                <a:off x="1297800" y="5606280"/>
                <a:ext cx="101160" cy="907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1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1926"/>
              <p:cNvSpPr/>
              <p:nvPr/>
            </p:nvSpPr>
            <p:spPr>
              <a:xfrm flipH="1" rot="3444000">
                <a:off x="1335600" y="5630040"/>
                <a:ext cx="59040" cy="56160"/>
              </a:xfrm>
              <a:custGeom>
                <a:avLst/>
                <a:gdLst>
                  <a:gd name="textAreaLeft" fmla="*/ 360 w 59040"/>
                  <a:gd name="textAreaRight" fmla="*/ 59760 w 590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1927"/>
              <p:cNvSpPr/>
              <p:nvPr/>
            </p:nvSpPr>
            <p:spPr>
              <a:xfrm rot="3443400">
                <a:off x="1320480" y="5674680"/>
                <a:ext cx="6840" cy="39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91" name="Group 1928"/>
              <p:cNvGrpSpPr/>
              <p:nvPr/>
            </p:nvGrpSpPr>
            <p:grpSpPr>
              <a:xfrm>
                <a:off x="1353960" y="5587200"/>
                <a:ext cx="101880" cy="69480"/>
                <a:chOff x="1353960" y="5587200"/>
                <a:chExt cx="101880" cy="69480"/>
              </a:xfrm>
            </p:grpSpPr>
            <p:sp>
              <p:nvSpPr>
                <p:cNvPr id="592" name="Freeform 1929"/>
                <p:cNvSpPr/>
                <p:nvPr/>
              </p:nvSpPr>
              <p:spPr>
                <a:xfrm flipH="1" rot="3444600">
                  <a:off x="1364400" y="5589360"/>
                  <a:ext cx="28800" cy="4176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93" name="Group 1930"/>
                <p:cNvGrpSpPr/>
                <p:nvPr/>
              </p:nvGrpSpPr>
              <p:grpSpPr>
                <a:xfrm>
                  <a:off x="1370880" y="5590080"/>
                  <a:ext cx="84960" cy="66600"/>
                  <a:chOff x="1370880" y="5590080"/>
                  <a:chExt cx="84960" cy="66600"/>
                </a:xfrm>
              </p:grpSpPr>
              <p:grpSp>
                <p:nvGrpSpPr>
                  <p:cNvPr id="594" name="Group 1931"/>
                  <p:cNvGrpSpPr/>
                  <p:nvPr/>
                </p:nvGrpSpPr>
                <p:grpSpPr>
                  <a:xfrm>
                    <a:off x="1370880" y="5590080"/>
                    <a:ext cx="84960" cy="66600"/>
                    <a:chOff x="1370880" y="5590080"/>
                    <a:chExt cx="84960" cy="66600"/>
                  </a:xfrm>
                </p:grpSpPr>
                <p:sp>
                  <p:nvSpPr>
                    <p:cNvPr id="595" name="Freeform 1932"/>
                    <p:cNvSpPr/>
                    <p:nvPr/>
                  </p:nvSpPr>
                  <p:spPr>
                    <a:xfrm flipH="1" rot="1647000">
                      <a:off x="1379880" y="5606280"/>
                      <a:ext cx="75600" cy="18000"/>
                    </a:xfrm>
                    <a:custGeom>
                      <a:avLst/>
                      <a:gdLst>
                        <a:gd name="textAreaLeft" fmla="*/ 360 w 75600"/>
                        <a:gd name="textAreaRight" fmla="*/ 76320 w 75600"/>
                        <a:gd name="textAreaTop" fmla="*/ 0 h 18000"/>
                        <a:gd name="textAreaBottom" fmla="*/ 18360 h 180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6" name="Freeform 1933"/>
                    <p:cNvSpPr/>
                    <p:nvPr/>
                  </p:nvSpPr>
                  <p:spPr>
                    <a:xfrm flipH="1" rot="1647000">
                      <a:off x="1371600" y="5616360"/>
                      <a:ext cx="77040" cy="2340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97" name="Freeform 1934"/>
                  <p:cNvSpPr/>
                  <p:nvPr/>
                </p:nvSpPr>
                <p:spPr>
                  <a:xfrm flipH="1" rot="1647000">
                    <a:off x="1386000" y="560700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8" name="Freeform 1935"/>
                  <p:cNvSpPr/>
                  <p:nvPr/>
                </p:nvSpPr>
                <p:spPr>
                  <a:xfrm flipH="1" rot="1647000">
                    <a:off x="1395720" y="561168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9" name="Freeform 1936"/>
                  <p:cNvSpPr/>
                  <p:nvPr/>
                </p:nvSpPr>
                <p:spPr>
                  <a:xfrm flipH="1" rot="1647000">
                    <a:off x="1406160" y="5619600"/>
                    <a:ext cx="6120" cy="1044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0" name="Freeform 1937"/>
                  <p:cNvSpPr/>
                  <p:nvPr/>
                </p:nvSpPr>
                <p:spPr>
                  <a:xfrm flipH="1" rot="1647000">
                    <a:off x="1402200" y="5605200"/>
                    <a:ext cx="9720" cy="82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1" name="Freeform 1938"/>
                  <p:cNvSpPr/>
                  <p:nvPr/>
                </p:nvSpPr>
                <p:spPr>
                  <a:xfrm flipH="1" rot="1647000">
                    <a:off x="1393920" y="5600160"/>
                    <a:ext cx="10440" cy="900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602" name="Group 1939"/>
            <p:cNvGrpSpPr/>
            <p:nvPr/>
          </p:nvGrpSpPr>
          <p:grpSpPr>
            <a:xfrm>
              <a:off x="954360" y="4669920"/>
              <a:ext cx="172800" cy="133920"/>
              <a:chOff x="954360" y="4669920"/>
              <a:chExt cx="172800" cy="133920"/>
            </a:xfrm>
          </p:grpSpPr>
          <p:sp>
            <p:nvSpPr>
              <p:cNvPr id="603" name="Freeform 1940"/>
              <p:cNvSpPr/>
              <p:nvPr/>
            </p:nvSpPr>
            <p:spPr>
              <a:xfrm rot="3443400">
                <a:off x="969120" y="4691520"/>
                <a:ext cx="101160" cy="907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1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941"/>
              <p:cNvSpPr/>
              <p:nvPr/>
            </p:nvSpPr>
            <p:spPr>
              <a:xfrm flipH="1" rot="3444000">
                <a:off x="1006920" y="4714920"/>
                <a:ext cx="58680" cy="56160"/>
              </a:xfrm>
              <a:custGeom>
                <a:avLst/>
                <a:gdLst>
                  <a:gd name="textAreaLeft" fmla="*/ -360 w 58680"/>
                  <a:gd name="textAreaRight" fmla="*/ 5868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1942"/>
              <p:cNvSpPr/>
              <p:nvPr/>
            </p:nvSpPr>
            <p:spPr>
              <a:xfrm rot="3443400">
                <a:off x="991800" y="4759560"/>
                <a:ext cx="6840" cy="39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06" name="Group 1943"/>
              <p:cNvGrpSpPr/>
              <p:nvPr/>
            </p:nvGrpSpPr>
            <p:grpSpPr>
              <a:xfrm>
                <a:off x="1025280" y="4672440"/>
                <a:ext cx="101880" cy="69480"/>
                <a:chOff x="1025280" y="4672440"/>
                <a:chExt cx="101880" cy="69480"/>
              </a:xfrm>
            </p:grpSpPr>
            <p:sp>
              <p:nvSpPr>
                <p:cNvPr id="607" name="Freeform 1944"/>
                <p:cNvSpPr/>
                <p:nvPr/>
              </p:nvSpPr>
              <p:spPr>
                <a:xfrm flipH="1" rot="3444600">
                  <a:off x="1035720" y="4674600"/>
                  <a:ext cx="28800" cy="4176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08" name="Group 1945"/>
                <p:cNvGrpSpPr/>
                <p:nvPr/>
              </p:nvGrpSpPr>
              <p:grpSpPr>
                <a:xfrm>
                  <a:off x="1042200" y="4675320"/>
                  <a:ext cx="84960" cy="66600"/>
                  <a:chOff x="1042200" y="4675320"/>
                  <a:chExt cx="84960" cy="66600"/>
                </a:xfrm>
              </p:grpSpPr>
              <p:grpSp>
                <p:nvGrpSpPr>
                  <p:cNvPr id="609" name="Group 1946"/>
                  <p:cNvGrpSpPr/>
                  <p:nvPr/>
                </p:nvGrpSpPr>
                <p:grpSpPr>
                  <a:xfrm>
                    <a:off x="1042200" y="4675320"/>
                    <a:ext cx="84960" cy="66600"/>
                    <a:chOff x="1042200" y="4675320"/>
                    <a:chExt cx="84960" cy="66600"/>
                  </a:xfrm>
                </p:grpSpPr>
                <p:sp>
                  <p:nvSpPr>
                    <p:cNvPr id="610" name="Freeform 1947"/>
                    <p:cNvSpPr/>
                    <p:nvPr/>
                  </p:nvSpPr>
                  <p:spPr>
                    <a:xfrm flipH="1" rot="1647000">
                      <a:off x="1051200" y="4691520"/>
                      <a:ext cx="75600" cy="18000"/>
                    </a:xfrm>
                    <a:custGeom>
                      <a:avLst/>
                      <a:gdLst>
                        <a:gd name="textAreaLeft" fmla="*/ 360 w 75600"/>
                        <a:gd name="textAreaRight" fmla="*/ 76320 w 75600"/>
                        <a:gd name="textAreaTop" fmla="*/ 0 h 18000"/>
                        <a:gd name="textAreaBottom" fmla="*/ 18360 h 180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11" name="Freeform 1948"/>
                    <p:cNvSpPr/>
                    <p:nvPr/>
                  </p:nvSpPr>
                  <p:spPr>
                    <a:xfrm flipH="1" rot="1647000">
                      <a:off x="1042920" y="4701600"/>
                      <a:ext cx="77040" cy="2340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12" name="Freeform 1949"/>
                  <p:cNvSpPr/>
                  <p:nvPr/>
                </p:nvSpPr>
                <p:spPr>
                  <a:xfrm flipH="1" rot="1647000">
                    <a:off x="1057320" y="469224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3" name="Freeform 1950"/>
                  <p:cNvSpPr/>
                  <p:nvPr/>
                </p:nvSpPr>
                <p:spPr>
                  <a:xfrm flipH="1" rot="1647000">
                    <a:off x="1067040" y="469692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4" name="Freeform 1951"/>
                  <p:cNvSpPr/>
                  <p:nvPr/>
                </p:nvSpPr>
                <p:spPr>
                  <a:xfrm flipH="1" rot="1647000">
                    <a:off x="1077480" y="4704840"/>
                    <a:ext cx="6120" cy="1044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5" name="Freeform 1952"/>
                  <p:cNvSpPr/>
                  <p:nvPr/>
                </p:nvSpPr>
                <p:spPr>
                  <a:xfrm flipH="1" rot="1647000">
                    <a:off x="1073520" y="4690440"/>
                    <a:ext cx="9720" cy="82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6" name="Freeform 1953"/>
                  <p:cNvSpPr/>
                  <p:nvPr/>
                </p:nvSpPr>
                <p:spPr>
                  <a:xfrm flipH="1" rot="1647000">
                    <a:off x="1065240" y="4685400"/>
                    <a:ext cx="10440" cy="900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617" name="Group 1954"/>
            <p:cNvGrpSpPr/>
            <p:nvPr/>
          </p:nvGrpSpPr>
          <p:grpSpPr>
            <a:xfrm>
              <a:off x="588960" y="5035680"/>
              <a:ext cx="172440" cy="133920"/>
              <a:chOff x="588960" y="5035680"/>
              <a:chExt cx="172440" cy="133920"/>
            </a:xfrm>
          </p:grpSpPr>
          <p:sp>
            <p:nvSpPr>
              <p:cNvPr id="618" name="Freeform 1955"/>
              <p:cNvSpPr/>
              <p:nvPr/>
            </p:nvSpPr>
            <p:spPr>
              <a:xfrm rot="3443400">
                <a:off x="603720" y="5057280"/>
                <a:ext cx="101160" cy="907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2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1956"/>
              <p:cNvSpPr/>
              <p:nvPr/>
            </p:nvSpPr>
            <p:spPr>
              <a:xfrm flipH="1" rot="3444000">
                <a:off x="641520" y="5081040"/>
                <a:ext cx="59040" cy="56160"/>
              </a:xfrm>
              <a:custGeom>
                <a:avLst/>
                <a:gdLst>
                  <a:gd name="textAreaLeft" fmla="*/ 360 w 59040"/>
                  <a:gd name="textAreaRight" fmla="*/ 59760 w 590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1957"/>
              <p:cNvSpPr/>
              <p:nvPr/>
            </p:nvSpPr>
            <p:spPr>
              <a:xfrm rot="3443400">
                <a:off x="626040" y="5125680"/>
                <a:ext cx="6840" cy="3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1" name="Group 1958"/>
              <p:cNvGrpSpPr/>
              <p:nvPr/>
            </p:nvGrpSpPr>
            <p:grpSpPr>
              <a:xfrm>
                <a:off x="659520" y="5038200"/>
                <a:ext cx="101880" cy="69480"/>
                <a:chOff x="659520" y="5038200"/>
                <a:chExt cx="101880" cy="69480"/>
              </a:xfrm>
            </p:grpSpPr>
            <p:sp>
              <p:nvSpPr>
                <p:cNvPr id="622" name="Freeform 1959"/>
                <p:cNvSpPr/>
                <p:nvPr/>
              </p:nvSpPr>
              <p:spPr>
                <a:xfrm flipH="1" rot="3444600">
                  <a:off x="669960" y="5040360"/>
                  <a:ext cx="28800" cy="4176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3" name="Group 1960"/>
                <p:cNvGrpSpPr/>
                <p:nvPr/>
              </p:nvGrpSpPr>
              <p:grpSpPr>
                <a:xfrm>
                  <a:off x="676440" y="5041080"/>
                  <a:ext cx="84960" cy="66600"/>
                  <a:chOff x="676440" y="5041080"/>
                  <a:chExt cx="84960" cy="66600"/>
                </a:xfrm>
              </p:grpSpPr>
              <p:grpSp>
                <p:nvGrpSpPr>
                  <p:cNvPr id="624" name="Group 1961"/>
                  <p:cNvGrpSpPr/>
                  <p:nvPr/>
                </p:nvGrpSpPr>
                <p:grpSpPr>
                  <a:xfrm>
                    <a:off x="676440" y="5041080"/>
                    <a:ext cx="84960" cy="66600"/>
                    <a:chOff x="676440" y="5041080"/>
                    <a:chExt cx="84960" cy="66600"/>
                  </a:xfrm>
                </p:grpSpPr>
                <p:sp>
                  <p:nvSpPr>
                    <p:cNvPr id="625" name="Freeform 1962"/>
                    <p:cNvSpPr/>
                    <p:nvPr/>
                  </p:nvSpPr>
                  <p:spPr>
                    <a:xfrm flipH="1" rot="1647000">
                      <a:off x="685440" y="5057280"/>
                      <a:ext cx="75600" cy="18000"/>
                    </a:xfrm>
                    <a:custGeom>
                      <a:avLst/>
                      <a:gdLst>
                        <a:gd name="textAreaLeft" fmla="*/ 360 w 75600"/>
                        <a:gd name="textAreaRight" fmla="*/ 76320 w 75600"/>
                        <a:gd name="textAreaTop" fmla="*/ 0 h 18000"/>
                        <a:gd name="textAreaBottom" fmla="*/ 18360 h 180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26" name="Freeform 1963"/>
                    <p:cNvSpPr/>
                    <p:nvPr/>
                  </p:nvSpPr>
                  <p:spPr>
                    <a:xfrm flipH="1" rot="1647000">
                      <a:off x="677160" y="5067360"/>
                      <a:ext cx="77040" cy="2340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27" name="Freeform 1964"/>
                  <p:cNvSpPr/>
                  <p:nvPr/>
                </p:nvSpPr>
                <p:spPr>
                  <a:xfrm flipH="1" rot="1647000">
                    <a:off x="691560" y="505800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1965"/>
                  <p:cNvSpPr/>
                  <p:nvPr/>
                </p:nvSpPr>
                <p:spPr>
                  <a:xfrm flipH="1" rot="1647000">
                    <a:off x="701280" y="506268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1966"/>
                  <p:cNvSpPr/>
                  <p:nvPr/>
                </p:nvSpPr>
                <p:spPr>
                  <a:xfrm flipH="1" rot="1647000">
                    <a:off x="711720" y="5070600"/>
                    <a:ext cx="6120" cy="1044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1967"/>
                  <p:cNvSpPr/>
                  <p:nvPr/>
                </p:nvSpPr>
                <p:spPr>
                  <a:xfrm flipH="1" rot="1647000">
                    <a:off x="707760" y="5056200"/>
                    <a:ext cx="9720" cy="82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1" name="Freeform 1968"/>
                  <p:cNvSpPr/>
                  <p:nvPr/>
                </p:nvSpPr>
                <p:spPr>
                  <a:xfrm flipH="1" rot="1647000">
                    <a:off x="699480" y="5051160"/>
                    <a:ext cx="10440" cy="900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632" name="Group 1969"/>
            <p:cNvGrpSpPr/>
            <p:nvPr/>
          </p:nvGrpSpPr>
          <p:grpSpPr>
            <a:xfrm>
              <a:off x="1465200" y="5547960"/>
              <a:ext cx="172440" cy="133920"/>
              <a:chOff x="1465200" y="5547960"/>
              <a:chExt cx="172440" cy="133920"/>
            </a:xfrm>
          </p:grpSpPr>
          <p:sp>
            <p:nvSpPr>
              <p:cNvPr id="633" name="Freeform 1970"/>
              <p:cNvSpPr/>
              <p:nvPr/>
            </p:nvSpPr>
            <p:spPr>
              <a:xfrm rot="3443400">
                <a:off x="1479960" y="5569560"/>
                <a:ext cx="101160" cy="907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1971"/>
              <p:cNvSpPr/>
              <p:nvPr/>
            </p:nvSpPr>
            <p:spPr>
              <a:xfrm flipH="1" rot="3444000">
                <a:off x="1517760" y="5592960"/>
                <a:ext cx="58680" cy="56160"/>
              </a:xfrm>
              <a:custGeom>
                <a:avLst/>
                <a:gdLst>
                  <a:gd name="textAreaLeft" fmla="*/ -360 w 58680"/>
                  <a:gd name="textAreaRight" fmla="*/ 5868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1972"/>
              <p:cNvSpPr/>
              <p:nvPr/>
            </p:nvSpPr>
            <p:spPr>
              <a:xfrm rot="3443400">
                <a:off x="1502280" y="5637600"/>
                <a:ext cx="6840" cy="3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6" name="Group 1973"/>
              <p:cNvGrpSpPr/>
              <p:nvPr/>
            </p:nvGrpSpPr>
            <p:grpSpPr>
              <a:xfrm>
                <a:off x="1535760" y="5550480"/>
                <a:ext cx="101880" cy="69480"/>
                <a:chOff x="1535760" y="5550480"/>
                <a:chExt cx="101880" cy="69480"/>
              </a:xfrm>
            </p:grpSpPr>
            <p:sp>
              <p:nvSpPr>
                <p:cNvPr id="637" name="Freeform 1974"/>
                <p:cNvSpPr/>
                <p:nvPr/>
              </p:nvSpPr>
              <p:spPr>
                <a:xfrm flipH="1" rot="3444600">
                  <a:off x="1546200" y="5552640"/>
                  <a:ext cx="28800" cy="4176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38" name="Group 1975"/>
                <p:cNvGrpSpPr/>
                <p:nvPr/>
              </p:nvGrpSpPr>
              <p:grpSpPr>
                <a:xfrm>
                  <a:off x="1552680" y="5553360"/>
                  <a:ext cx="84960" cy="66600"/>
                  <a:chOff x="1552680" y="5553360"/>
                  <a:chExt cx="84960" cy="66600"/>
                </a:xfrm>
              </p:grpSpPr>
              <p:grpSp>
                <p:nvGrpSpPr>
                  <p:cNvPr id="639" name="Group 1976"/>
                  <p:cNvGrpSpPr/>
                  <p:nvPr/>
                </p:nvGrpSpPr>
                <p:grpSpPr>
                  <a:xfrm>
                    <a:off x="1552680" y="5553360"/>
                    <a:ext cx="84960" cy="66600"/>
                    <a:chOff x="1552680" y="5553360"/>
                    <a:chExt cx="84960" cy="66600"/>
                  </a:xfrm>
                </p:grpSpPr>
                <p:sp>
                  <p:nvSpPr>
                    <p:cNvPr id="640" name="Freeform 1977"/>
                    <p:cNvSpPr/>
                    <p:nvPr/>
                  </p:nvSpPr>
                  <p:spPr>
                    <a:xfrm flipH="1" rot="1647000">
                      <a:off x="1561680" y="5569560"/>
                      <a:ext cx="75600" cy="18000"/>
                    </a:xfrm>
                    <a:custGeom>
                      <a:avLst/>
                      <a:gdLst>
                        <a:gd name="textAreaLeft" fmla="*/ 360 w 75600"/>
                        <a:gd name="textAreaRight" fmla="*/ 76320 w 75600"/>
                        <a:gd name="textAreaTop" fmla="*/ 0 h 18000"/>
                        <a:gd name="textAreaBottom" fmla="*/ 18360 h 180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41" name="Freeform 1978"/>
                    <p:cNvSpPr/>
                    <p:nvPr/>
                  </p:nvSpPr>
                  <p:spPr>
                    <a:xfrm flipH="1" rot="1647000">
                      <a:off x="1553400" y="5579640"/>
                      <a:ext cx="77040" cy="2340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42" name="Freeform 1979"/>
                  <p:cNvSpPr/>
                  <p:nvPr/>
                </p:nvSpPr>
                <p:spPr>
                  <a:xfrm flipH="1" rot="1647000">
                    <a:off x="1567800" y="557028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3" name="Freeform 1980"/>
                  <p:cNvSpPr/>
                  <p:nvPr/>
                </p:nvSpPr>
                <p:spPr>
                  <a:xfrm flipH="1" rot="1647000">
                    <a:off x="1577520" y="5574960"/>
                    <a:ext cx="7560" cy="16560"/>
                  </a:xfrm>
                  <a:custGeom>
                    <a:avLst/>
                    <a:gdLst>
                      <a:gd name="textAreaLeft" fmla="*/ -360 w 7560"/>
                      <a:gd name="textAreaRight" fmla="*/ 756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4" name="Freeform 1981"/>
                  <p:cNvSpPr/>
                  <p:nvPr/>
                </p:nvSpPr>
                <p:spPr>
                  <a:xfrm flipH="1" rot="1647000">
                    <a:off x="1587960" y="5582880"/>
                    <a:ext cx="6120" cy="10440"/>
                  </a:xfrm>
                  <a:custGeom>
                    <a:avLst/>
                    <a:gdLst>
                      <a:gd name="textAreaLeft" fmla="*/ -360 w 6120"/>
                      <a:gd name="textAreaRight" fmla="*/ 612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5" name="Freeform 1982"/>
                  <p:cNvSpPr/>
                  <p:nvPr/>
                </p:nvSpPr>
                <p:spPr>
                  <a:xfrm flipH="1" rot="1647000">
                    <a:off x="1584000" y="5568480"/>
                    <a:ext cx="9720" cy="8280"/>
                  </a:xfrm>
                  <a:custGeom>
                    <a:avLst/>
                    <a:gdLst>
                      <a:gd name="textAreaLeft" fmla="*/ -360 w 9720"/>
                      <a:gd name="textAreaRight" fmla="*/ 972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6" name="Freeform 1983"/>
                  <p:cNvSpPr/>
                  <p:nvPr/>
                </p:nvSpPr>
                <p:spPr>
                  <a:xfrm flipH="1" rot="1647000">
                    <a:off x="1575720" y="5563440"/>
                    <a:ext cx="10440" cy="9000"/>
                  </a:xfrm>
                  <a:custGeom>
                    <a:avLst/>
                    <a:gdLst>
                      <a:gd name="textAreaLeft" fmla="*/ -360 w 10440"/>
                      <a:gd name="textAreaRight" fmla="*/ 1044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647" name="Group 1984"/>
            <p:cNvGrpSpPr/>
            <p:nvPr/>
          </p:nvGrpSpPr>
          <p:grpSpPr>
            <a:xfrm>
              <a:off x="1095840" y="5621040"/>
              <a:ext cx="172800" cy="133920"/>
              <a:chOff x="1095840" y="5621040"/>
              <a:chExt cx="172800" cy="133920"/>
            </a:xfrm>
          </p:grpSpPr>
          <p:sp>
            <p:nvSpPr>
              <p:cNvPr id="648" name="Freeform 1985"/>
              <p:cNvSpPr/>
              <p:nvPr/>
            </p:nvSpPr>
            <p:spPr>
              <a:xfrm flipH="1" rot="18156600">
                <a:off x="1152360" y="5642640"/>
                <a:ext cx="101160" cy="90720"/>
              </a:xfrm>
              <a:custGeom>
                <a:avLst/>
                <a:gdLst>
                  <a:gd name="textAreaLeft" fmla="*/ -360 w 101160"/>
                  <a:gd name="textAreaRight" fmla="*/ 101160 w 101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2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1986"/>
              <p:cNvSpPr/>
              <p:nvPr/>
            </p:nvSpPr>
            <p:spPr>
              <a:xfrm rot="18156000">
                <a:off x="1157040" y="5666040"/>
                <a:ext cx="58680" cy="56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1987"/>
              <p:cNvSpPr/>
              <p:nvPr/>
            </p:nvSpPr>
            <p:spPr>
              <a:xfrm flipH="1" rot="18156600">
                <a:off x="1223280" y="5710680"/>
                <a:ext cx="6840" cy="3960"/>
              </a:xfrm>
              <a:custGeom>
                <a:avLst/>
                <a:gdLst>
                  <a:gd name="textAreaLeft" fmla="*/ -360 w 6840"/>
                  <a:gd name="textAreaRight" fmla="*/ 6840 w 6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1" name="Group 1988"/>
              <p:cNvGrpSpPr/>
              <p:nvPr/>
            </p:nvGrpSpPr>
            <p:grpSpPr>
              <a:xfrm>
                <a:off x="1095840" y="5623560"/>
                <a:ext cx="101520" cy="69480"/>
                <a:chOff x="1095840" y="5623560"/>
                <a:chExt cx="101520" cy="69480"/>
              </a:xfrm>
            </p:grpSpPr>
            <p:sp>
              <p:nvSpPr>
                <p:cNvPr id="652" name="Freeform 1989"/>
                <p:cNvSpPr/>
                <p:nvPr/>
              </p:nvSpPr>
              <p:spPr>
                <a:xfrm rot="18155400">
                  <a:off x="1157760" y="5625720"/>
                  <a:ext cx="28440" cy="417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53" name="Group 1990"/>
                <p:cNvGrpSpPr/>
                <p:nvPr/>
              </p:nvGrpSpPr>
              <p:grpSpPr>
                <a:xfrm>
                  <a:off x="1095840" y="5626440"/>
                  <a:ext cx="84960" cy="66600"/>
                  <a:chOff x="1095840" y="5626440"/>
                  <a:chExt cx="84960" cy="66600"/>
                </a:xfrm>
              </p:grpSpPr>
              <p:grpSp>
                <p:nvGrpSpPr>
                  <p:cNvPr id="654" name="Group 1991"/>
                  <p:cNvGrpSpPr/>
                  <p:nvPr/>
                </p:nvGrpSpPr>
                <p:grpSpPr>
                  <a:xfrm>
                    <a:off x="1095840" y="5626440"/>
                    <a:ext cx="84960" cy="66600"/>
                    <a:chOff x="1095840" y="5626440"/>
                    <a:chExt cx="84960" cy="66600"/>
                  </a:xfrm>
                </p:grpSpPr>
                <p:sp>
                  <p:nvSpPr>
                    <p:cNvPr id="655" name="Freeform 1992"/>
                    <p:cNvSpPr/>
                    <p:nvPr/>
                  </p:nvSpPr>
                  <p:spPr>
                    <a:xfrm rot="19953000">
                      <a:off x="1095480" y="5642640"/>
                      <a:ext cx="75600" cy="17640"/>
                    </a:xfrm>
                    <a:custGeom>
                      <a:avLst/>
                      <a:gdLst>
                        <a:gd name="textAreaLeft" fmla="*/ 0 w 75600"/>
                        <a:gd name="textAreaRight" fmla="*/ 75960 w 7560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6" name="Freeform 1993"/>
                    <p:cNvSpPr/>
                    <p:nvPr/>
                  </p:nvSpPr>
                  <p:spPr>
                    <a:xfrm rot="19953000">
                      <a:off x="1102320" y="5653080"/>
                      <a:ext cx="77040" cy="23400"/>
                    </a:xfrm>
                    <a:custGeom>
                      <a:avLst/>
                      <a:gdLst>
                        <a:gd name="textAreaLeft" fmla="*/ 0 w 77040"/>
                        <a:gd name="textAreaRight" fmla="*/ 77400 w 7704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57" name="Freeform 1994"/>
                  <p:cNvSpPr/>
                  <p:nvPr/>
                </p:nvSpPr>
                <p:spPr>
                  <a:xfrm rot="19953000">
                    <a:off x="1157760" y="564336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8" name="Freeform 1995"/>
                  <p:cNvSpPr/>
                  <p:nvPr/>
                </p:nvSpPr>
                <p:spPr>
                  <a:xfrm rot="19953000">
                    <a:off x="1148040" y="5648040"/>
                    <a:ext cx="7560" cy="1656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16560"/>
                      <a:gd name="textAreaBottom" fmla="*/ 16920 h 165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9" name="Freeform 1996"/>
                  <p:cNvSpPr/>
                  <p:nvPr/>
                </p:nvSpPr>
                <p:spPr>
                  <a:xfrm rot="19953000">
                    <a:off x="1138320" y="5655960"/>
                    <a:ext cx="6120" cy="104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0" name="Freeform 1997"/>
                  <p:cNvSpPr/>
                  <p:nvPr/>
                </p:nvSpPr>
                <p:spPr>
                  <a:xfrm rot="19953000">
                    <a:off x="1139400" y="5641560"/>
                    <a:ext cx="9720" cy="828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1" name="Freeform 1998"/>
                  <p:cNvSpPr/>
                  <p:nvPr/>
                </p:nvSpPr>
                <p:spPr>
                  <a:xfrm rot="19953000">
                    <a:off x="1146960" y="5636160"/>
                    <a:ext cx="10440" cy="9000"/>
                  </a:xfrm>
                  <a:custGeom>
                    <a:avLst/>
                    <a:gdLst>
                      <a:gd name="textAreaLeft" fmla="*/ 0 w 10440"/>
                      <a:gd name="textAreaRight" fmla="*/ 10800 w 1044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662" name="Group 1455"/>
          <p:cNvGrpSpPr/>
          <p:nvPr/>
        </p:nvGrpSpPr>
        <p:grpSpPr>
          <a:xfrm>
            <a:off x="2202840" y="4924800"/>
            <a:ext cx="889560" cy="1591920"/>
            <a:chOff x="2202840" y="4924800"/>
            <a:chExt cx="889560" cy="1591920"/>
          </a:xfrm>
        </p:grpSpPr>
        <p:grpSp>
          <p:nvGrpSpPr>
            <p:cNvPr id="663" name="Group 1456"/>
            <p:cNvGrpSpPr/>
            <p:nvPr/>
          </p:nvGrpSpPr>
          <p:grpSpPr>
            <a:xfrm>
              <a:off x="2257200" y="4924800"/>
              <a:ext cx="835200" cy="1591920"/>
              <a:chOff x="2257200" y="4924800"/>
              <a:chExt cx="835200" cy="1591920"/>
            </a:xfrm>
          </p:grpSpPr>
          <p:sp>
            <p:nvSpPr>
              <p:cNvPr id="664" name="Freeform 1457"/>
              <p:cNvSpPr/>
              <p:nvPr/>
            </p:nvSpPr>
            <p:spPr>
              <a:xfrm>
                <a:off x="2596320" y="5542920"/>
                <a:ext cx="63720" cy="9738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973800"/>
                  <a:gd name="textAreaBottom" fmla="*/ 973800 h 973800"/>
                </a:gdLst>
                <a:ahLst/>
                <a:rect l="textAreaLeft" t="textAreaTop" r="textAreaRight" b="textAreaBottom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3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1458"/>
              <p:cNvSpPr/>
              <p:nvPr/>
            </p:nvSpPr>
            <p:spPr>
              <a:xfrm>
                <a:off x="2336400" y="5085360"/>
                <a:ext cx="662400" cy="935280"/>
              </a:xfrm>
              <a:custGeom>
                <a:avLst/>
                <a:gdLst>
                  <a:gd name="textAreaLeft" fmla="*/ 0 w 662400"/>
                  <a:gd name="textAreaRight" fmla="*/ 662760 w 662400"/>
                  <a:gd name="textAreaTop" fmla="*/ 0 h 935280"/>
                  <a:gd name="textAreaBottom" fmla="*/ 935640 h 935280"/>
                </a:gdLst>
                <a:ahLst/>
                <a:rect l="textAreaLeft" t="textAreaTop" r="textAreaRight" b="textAreaBottom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6" name="Group 1459"/>
              <p:cNvGrpSpPr/>
              <p:nvPr/>
            </p:nvGrpSpPr>
            <p:grpSpPr>
              <a:xfrm>
                <a:off x="2615040" y="5638680"/>
                <a:ext cx="208440" cy="178560"/>
                <a:chOff x="2615040" y="5638680"/>
                <a:chExt cx="208440" cy="178560"/>
              </a:xfrm>
            </p:grpSpPr>
            <p:sp>
              <p:nvSpPr>
                <p:cNvPr id="667" name="Freeform 1460"/>
                <p:cNvSpPr/>
                <p:nvPr/>
              </p:nvSpPr>
              <p:spPr>
                <a:xfrm rot="18155400">
                  <a:off x="2725560" y="5656680"/>
                  <a:ext cx="84960" cy="766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68" name="Group 1461"/>
                <p:cNvGrpSpPr/>
                <p:nvPr/>
              </p:nvGrpSpPr>
              <p:grpSpPr>
                <a:xfrm>
                  <a:off x="2615040" y="5659200"/>
                  <a:ext cx="174600" cy="158040"/>
                  <a:chOff x="2615040" y="5659200"/>
                  <a:chExt cx="174600" cy="158040"/>
                </a:xfrm>
              </p:grpSpPr>
              <p:grpSp>
                <p:nvGrpSpPr>
                  <p:cNvPr id="669" name="Group 1462"/>
                  <p:cNvGrpSpPr/>
                  <p:nvPr/>
                </p:nvGrpSpPr>
                <p:grpSpPr>
                  <a:xfrm>
                    <a:off x="2615040" y="5659200"/>
                    <a:ext cx="174600" cy="158040"/>
                    <a:chOff x="2615040" y="5659200"/>
                    <a:chExt cx="174600" cy="158040"/>
                  </a:xfrm>
                </p:grpSpPr>
                <p:sp>
                  <p:nvSpPr>
                    <p:cNvPr id="670" name="Freeform 1463"/>
                    <p:cNvSpPr/>
                    <p:nvPr/>
                  </p:nvSpPr>
                  <p:spPr>
                    <a:xfrm rot="19953000">
                      <a:off x="2619000" y="5688000"/>
                      <a:ext cx="138600" cy="52560"/>
                    </a:xfrm>
                    <a:custGeom>
                      <a:avLst/>
                      <a:gdLst>
                        <a:gd name="textAreaLeft" fmla="*/ 0 w 138600"/>
                        <a:gd name="textAreaRight" fmla="*/ 138960 w 138600"/>
                        <a:gd name="textAreaTop" fmla="*/ 0 h 52560"/>
                        <a:gd name="textAreaBottom" fmla="*/ 52920 h 525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71" name="Freeform 1464"/>
                    <p:cNvSpPr/>
                    <p:nvPr/>
                  </p:nvSpPr>
                  <p:spPr>
                    <a:xfrm rot="19953000">
                      <a:off x="2639880" y="5718960"/>
                      <a:ext cx="141480" cy="694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69480"/>
                        <a:gd name="textAreaBottom" fmla="*/ 69840 h 694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72" name="Freeform 1465"/>
                  <p:cNvSpPr/>
                  <p:nvPr/>
                </p:nvSpPr>
                <p:spPr>
                  <a:xfrm rot="19953000">
                    <a:off x="2740320" y="5702400"/>
                    <a:ext cx="14040" cy="4896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3" name="Freeform 1466"/>
                  <p:cNvSpPr/>
                  <p:nvPr/>
                </p:nvSpPr>
                <p:spPr>
                  <a:xfrm rot="19953000">
                    <a:off x="2723040" y="5711400"/>
                    <a:ext cx="14040" cy="4896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4" name="Freeform 1467"/>
                  <p:cNvSpPr/>
                  <p:nvPr/>
                </p:nvSpPr>
                <p:spPr>
                  <a:xfrm rot="19953000">
                    <a:off x="2704680" y="5728320"/>
                    <a:ext cx="11520" cy="31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5" name="Freeform 1468"/>
                  <p:cNvSpPr/>
                  <p:nvPr/>
                </p:nvSpPr>
                <p:spPr>
                  <a:xfrm rot="19953000">
                    <a:off x="2699640" y="5690160"/>
                    <a:ext cx="18000" cy="2448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6" name="Freeform 1469"/>
                  <p:cNvSpPr/>
                  <p:nvPr/>
                </p:nvSpPr>
                <p:spPr>
                  <a:xfrm rot="19953000">
                    <a:off x="2712960" y="5680080"/>
                    <a:ext cx="19440" cy="2736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677" name="Group 1470"/>
              <p:cNvGrpSpPr/>
              <p:nvPr/>
            </p:nvGrpSpPr>
            <p:grpSpPr>
              <a:xfrm>
                <a:off x="2366640" y="5833440"/>
                <a:ext cx="208440" cy="178560"/>
                <a:chOff x="2366640" y="5833440"/>
                <a:chExt cx="208440" cy="178560"/>
              </a:xfrm>
            </p:grpSpPr>
            <p:sp>
              <p:nvSpPr>
                <p:cNvPr id="678" name="Freeform 1471"/>
                <p:cNvSpPr/>
                <p:nvPr/>
              </p:nvSpPr>
              <p:spPr>
                <a:xfrm rot="18155400">
                  <a:off x="2477160" y="5851440"/>
                  <a:ext cx="84960" cy="766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79" name="Group 1472"/>
                <p:cNvGrpSpPr/>
                <p:nvPr/>
              </p:nvGrpSpPr>
              <p:grpSpPr>
                <a:xfrm>
                  <a:off x="2366640" y="5853960"/>
                  <a:ext cx="174600" cy="158040"/>
                  <a:chOff x="2366640" y="5853960"/>
                  <a:chExt cx="174600" cy="158040"/>
                </a:xfrm>
              </p:grpSpPr>
              <p:grpSp>
                <p:nvGrpSpPr>
                  <p:cNvPr id="680" name="Group 1473"/>
                  <p:cNvGrpSpPr/>
                  <p:nvPr/>
                </p:nvGrpSpPr>
                <p:grpSpPr>
                  <a:xfrm>
                    <a:off x="2366640" y="5853960"/>
                    <a:ext cx="174600" cy="158040"/>
                    <a:chOff x="2366640" y="5853960"/>
                    <a:chExt cx="174600" cy="158040"/>
                  </a:xfrm>
                </p:grpSpPr>
                <p:sp>
                  <p:nvSpPr>
                    <p:cNvPr id="681" name="Freeform 1474"/>
                    <p:cNvSpPr/>
                    <p:nvPr/>
                  </p:nvSpPr>
                  <p:spPr>
                    <a:xfrm rot="19953000">
                      <a:off x="2370600" y="5882760"/>
                      <a:ext cx="138600" cy="52560"/>
                    </a:xfrm>
                    <a:custGeom>
                      <a:avLst/>
                      <a:gdLst>
                        <a:gd name="textAreaLeft" fmla="*/ 0 w 138600"/>
                        <a:gd name="textAreaRight" fmla="*/ 138960 w 138600"/>
                        <a:gd name="textAreaTop" fmla="*/ 0 h 52560"/>
                        <a:gd name="textAreaBottom" fmla="*/ 52920 h 525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2" name="Freeform 1475"/>
                    <p:cNvSpPr/>
                    <p:nvPr/>
                  </p:nvSpPr>
                  <p:spPr>
                    <a:xfrm rot="19953000">
                      <a:off x="2391480" y="5913720"/>
                      <a:ext cx="141480" cy="694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69480"/>
                        <a:gd name="textAreaBottom" fmla="*/ 69840 h 694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83" name="Freeform 1476"/>
                  <p:cNvSpPr/>
                  <p:nvPr/>
                </p:nvSpPr>
                <p:spPr>
                  <a:xfrm rot="19953000">
                    <a:off x="2491920" y="5897160"/>
                    <a:ext cx="14040" cy="4896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4" name="Freeform 1477"/>
                  <p:cNvSpPr/>
                  <p:nvPr/>
                </p:nvSpPr>
                <p:spPr>
                  <a:xfrm rot="19953000">
                    <a:off x="2474640" y="5906160"/>
                    <a:ext cx="14040" cy="4896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Freeform 1478"/>
                  <p:cNvSpPr/>
                  <p:nvPr/>
                </p:nvSpPr>
                <p:spPr>
                  <a:xfrm rot="19953000">
                    <a:off x="2456280" y="5923080"/>
                    <a:ext cx="11520" cy="31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Freeform 1479"/>
                  <p:cNvSpPr/>
                  <p:nvPr/>
                </p:nvSpPr>
                <p:spPr>
                  <a:xfrm rot="19953000">
                    <a:off x="2451240" y="5884920"/>
                    <a:ext cx="18000" cy="2448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Freeform 1480"/>
                  <p:cNvSpPr/>
                  <p:nvPr/>
                </p:nvSpPr>
                <p:spPr>
                  <a:xfrm rot="19953000">
                    <a:off x="2464560" y="5874840"/>
                    <a:ext cx="19440" cy="2736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688" name="Group 1481"/>
              <p:cNvGrpSpPr/>
              <p:nvPr/>
            </p:nvGrpSpPr>
            <p:grpSpPr>
              <a:xfrm>
                <a:off x="2270880" y="5609520"/>
                <a:ext cx="127440" cy="269280"/>
                <a:chOff x="2270880" y="5609520"/>
                <a:chExt cx="127440" cy="269280"/>
              </a:xfrm>
            </p:grpSpPr>
            <p:sp>
              <p:nvSpPr>
                <p:cNvPr id="689" name="Freeform 1482"/>
                <p:cNvSpPr/>
                <p:nvPr/>
              </p:nvSpPr>
              <p:spPr>
                <a:xfrm rot="13840800">
                  <a:off x="2307600" y="5608080"/>
                  <a:ext cx="54000" cy="1206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90" name="Group 1483"/>
                <p:cNvGrpSpPr/>
                <p:nvPr/>
              </p:nvGrpSpPr>
              <p:grpSpPr>
                <a:xfrm>
                  <a:off x="2271240" y="5649120"/>
                  <a:ext cx="101880" cy="229680"/>
                  <a:chOff x="2271240" y="5649120"/>
                  <a:chExt cx="101880" cy="229680"/>
                </a:xfrm>
              </p:grpSpPr>
              <p:grpSp>
                <p:nvGrpSpPr>
                  <p:cNvPr id="691" name="Group 1484"/>
                  <p:cNvGrpSpPr/>
                  <p:nvPr/>
                </p:nvGrpSpPr>
                <p:grpSpPr>
                  <a:xfrm>
                    <a:off x="2271240" y="5649120"/>
                    <a:ext cx="101880" cy="229680"/>
                    <a:chOff x="2271240" y="5649120"/>
                    <a:chExt cx="101880" cy="229680"/>
                  </a:xfrm>
                </p:grpSpPr>
                <p:sp>
                  <p:nvSpPr>
                    <p:cNvPr id="692" name="Freeform 1485"/>
                    <p:cNvSpPr/>
                    <p:nvPr/>
                  </p:nvSpPr>
                  <p:spPr>
                    <a:xfrm rot="15638400">
                      <a:off x="2196720" y="5752080"/>
                      <a:ext cx="217080" cy="33480"/>
                    </a:xfrm>
                    <a:custGeom>
                      <a:avLst/>
                      <a:gdLst>
                        <a:gd name="textAreaLeft" fmla="*/ 0 w 217080"/>
                        <a:gd name="textAreaRight" fmla="*/ 217440 w 217080"/>
                        <a:gd name="textAreaTop" fmla="*/ 0 h 33480"/>
                        <a:gd name="textAreaBottom" fmla="*/ 33840 h 334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3" name="Freeform 1486"/>
                    <p:cNvSpPr/>
                    <p:nvPr/>
                  </p:nvSpPr>
                  <p:spPr>
                    <a:xfrm rot="15638400">
                      <a:off x="2222280" y="5739840"/>
                      <a:ext cx="221760" cy="44280"/>
                    </a:xfrm>
                    <a:custGeom>
                      <a:avLst/>
                      <a:gdLst>
                        <a:gd name="textAreaLeft" fmla="*/ 0 w 221760"/>
                        <a:gd name="textAreaRight" fmla="*/ 222120 w 221760"/>
                        <a:gd name="textAreaTop" fmla="*/ 0 h 44280"/>
                        <a:gd name="textAreaBottom" fmla="*/ 44640 h 442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94" name="Freeform 1487"/>
                  <p:cNvSpPr/>
                  <p:nvPr/>
                </p:nvSpPr>
                <p:spPr>
                  <a:xfrm rot="15638400">
                    <a:off x="2306520" y="5677920"/>
                    <a:ext cx="21960" cy="3132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5" name="Freeform 1488"/>
                  <p:cNvSpPr/>
                  <p:nvPr/>
                </p:nvSpPr>
                <p:spPr>
                  <a:xfrm rot="15638400">
                    <a:off x="2311560" y="5708160"/>
                    <a:ext cx="21960" cy="3132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6" name="Freeform 1489"/>
                  <p:cNvSpPr/>
                  <p:nvPr/>
                </p:nvSpPr>
                <p:spPr>
                  <a:xfrm rot="15638400">
                    <a:off x="2317320" y="5746320"/>
                    <a:ext cx="18360" cy="1980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7" name="Freeform 1490"/>
                  <p:cNvSpPr/>
                  <p:nvPr/>
                </p:nvSpPr>
                <p:spPr>
                  <a:xfrm rot="15638400">
                    <a:off x="2284560" y="572544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8" name="Freeform 1491"/>
                  <p:cNvSpPr/>
                  <p:nvPr/>
                </p:nvSpPr>
                <p:spPr>
                  <a:xfrm rot="15638400">
                    <a:off x="2278080" y="5699160"/>
                    <a:ext cx="30600" cy="1728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699" name="Group 1492"/>
              <p:cNvGrpSpPr/>
              <p:nvPr/>
            </p:nvGrpSpPr>
            <p:grpSpPr>
              <a:xfrm>
                <a:off x="2257200" y="5286600"/>
                <a:ext cx="148320" cy="208800"/>
                <a:chOff x="2257200" y="5286600"/>
                <a:chExt cx="148320" cy="208800"/>
              </a:xfrm>
            </p:grpSpPr>
            <p:sp>
              <p:nvSpPr>
                <p:cNvPr id="700" name="Freeform 1493"/>
                <p:cNvSpPr/>
                <p:nvPr/>
              </p:nvSpPr>
              <p:spPr>
                <a:xfrm rot="15604200">
                  <a:off x="2308680" y="5296320"/>
                  <a:ext cx="84960" cy="766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01" name="Group 1494"/>
                <p:cNvGrpSpPr/>
                <p:nvPr/>
              </p:nvGrpSpPr>
              <p:grpSpPr>
                <a:xfrm>
                  <a:off x="2257200" y="5328720"/>
                  <a:ext cx="148320" cy="166680"/>
                  <a:chOff x="2257200" y="5328720"/>
                  <a:chExt cx="148320" cy="166680"/>
                </a:xfrm>
              </p:grpSpPr>
              <p:grpSp>
                <p:nvGrpSpPr>
                  <p:cNvPr id="702" name="Group 1495"/>
                  <p:cNvGrpSpPr/>
                  <p:nvPr/>
                </p:nvGrpSpPr>
                <p:grpSpPr>
                  <a:xfrm>
                    <a:off x="2257200" y="5328720"/>
                    <a:ext cx="148320" cy="166680"/>
                    <a:chOff x="2257200" y="5328720"/>
                    <a:chExt cx="148320" cy="166680"/>
                  </a:xfrm>
                </p:grpSpPr>
                <p:sp>
                  <p:nvSpPr>
                    <p:cNvPr id="703" name="Freeform 1496"/>
                    <p:cNvSpPr/>
                    <p:nvPr/>
                  </p:nvSpPr>
                  <p:spPr>
                    <a:xfrm rot="17401800">
                      <a:off x="2236320" y="5376600"/>
                      <a:ext cx="138600" cy="52560"/>
                    </a:xfrm>
                    <a:custGeom>
                      <a:avLst/>
                      <a:gdLst>
                        <a:gd name="textAreaLeft" fmla="*/ 0 w 138600"/>
                        <a:gd name="textAreaRight" fmla="*/ 138960 w 138600"/>
                        <a:gd name="textAreaTop" fmla="*/ 0 h 52560"/>
                        <a:gd name="textAreaBottom" fmla="*/ 52920 h 525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04" name="Freeform 1497"/>
                    <p:cNvSpPr/>
                    <p:nvPr/>
                  </p:nvSpPr>
                  <p:spPr>
                    <a:xfrm rot="17401800">
                      <a:off x="2277720" y="5382000"/>
                      <a:ext cx="141480" cy="694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69480"/>
                        <a:gd name="textAreaBottom" fmla="*/ 69840 h 694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05" name="Freeform 1498"/>
                  <p:cNvSpPr/>
                  <p:nvPr/>
                </p:nvSpPr>
                <p:spPr>
                  <a:xfrm rot="17401800">
                    <a:off x="2350800" y="5347800"/>
                    <a:ext cx="14040" cy="4896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6" name="Freeform 1499"/>
                  <p:cNvSpPr/>
                  <p:nvPr/>
                </p:nvSpPr>
                <p:spPr>
                  <a:xfrm rot="17401800">
                    <a:off x="2343960" y="5366160"/>
                    <a:ext cx="14040" cy="4896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7" name="Freeform 1500"/>
                  <p:cNvSpPr/>
                  <p:nvPr/>
                </p:nvSpPr>
                <p:spPr>
                  <a:xfrm rot="17401800">
                    <a:off x="2336040" y="5394240"/>
                    <a:ext cx="11520" cy="31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8" name="Freeform 1501"/>
                  <p:cNvSpPr/>
                  <p:nvPr/>
                </p:nvSpPr>
                <p:spPr>
                  <a:xfrm rot="17401800">
                    <a:off x="2303640" y="5368320"/>
                    <a:ext cx="18000" cy="2448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9" name="Freeform 1502"/>
                  <p:cNvSpPr/>
                  <p:nvPr/>
                </p:nvSpPr>
                <p:spPr>
                  <a:xfrm rot="17401800">
                    <a:off x="2306880" y="5350680"/>
                    <a:ext cx="19440" cy="2736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10" name="Group 1503"/>
              <p:cNvGrpSpPr/>
              <p:nvPr/>
            </p:nvGrpSpPr>
            <p:grpSpPr>
              <a:xfrm>
                <a:off x="2712600" y="5031000"/>
                <a:ext cx="213840" cy="235800"/>
                <a:chOff x="2712600" y="5031000"/>
                <a:chExt cx="213840" cy="235800"/>
              </a:xfrm>
            </p:grpSpPr>
            <p:sp>
              <p:nvSpPr>
                <p:cNvPr id="711" name="Freeform 1504"/>
                <p:cNvSpPr/>
                <p:nvPr/>
              </p:nvSpPr>
              <p:spPr>
                <a:xfrm rot="444000">
                  <a:off x="2850480" y="5142960"/>
                  <a:ext cx="54360" cy="12060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12" name="Group 1505"/>
                <p:cNvGrpSpPr/>
                <p:nvPr/>
              </p:nvGrpSpPr>
              <p:grpSpPr>
                <a:xfrm>
                  <a:off x="2712600" y="5031000"/>
                  <a:ext cx="213840" cy="188640"/>
                  <a:chOff x="2712600" y="5031000"/>
                  <a:chExt cx="213840" cy="188640"/>
                </a:xfrm>
              </p:grpSpPr>
              <p:grpSp>
                <p:nvGrpSpPr>
                  <p:cNvPr id="713" name="Group 1506"/>
                  <p:cNvGrpSpPr/>
                  <p:nvPr/>
                </p:nvGrpSpPr>
                <p:grpSpPr>
                  <a:xfrm>
                    <a:off x="2712600" y="5031000"/>
                    <a:ext cx="213840" cy="188640"/>
                    <a:chOff x="2712600" y="5031000"/>
                    <a:chExt cx="213840" cy="188640"/>
                  </a:xfrm>
                </p:grpSpPr>
                <p:sp>
                  <p:nvSpPr>
                    <p:cNvPr id="714" name="Freeform 1507"/>
                    <p:cNvSpPr/>
                    <p:nvPr/>
                  </p:nvSpPr>
                  <p:spPr>
                    <a:xfrm rot="2241600">
                      <a:off x="2721240" y="5093280"/>
                      <a:ext cx="217080" cy="33480"/>
                    </a:xfrm>
                    <a:custGeom>
                      <a:avLst/>
                      <a:gdLst>
                        <a:gd name="textAreaLeft" fmla="*/ 0 w 217080"/>
                        <a:gd name="textAreaRight" fmla="*/ 217440 w 217080"/>
                        <a:gd name="textAreaTop" fmla="*/ 0 h 33480"/>
                        <a:gd name="textAreaBottom" fmla="*/ 33840 h 334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15" name="Freeform 1508"/>
                    <p:cNvSpPr/>
                    <p:nvPr/>
                  </p:nvSpPr>
                  <p:spPr>
                    <a:xfrm rot="2241600">
                      <a:off x="2703240" y="5112360"/>
                      <a:ext cx="221760" cy="44280"/>
                    </a:xfrm>
                    <a:custGeom>
                      <a:avLst/>
                      <a:gdLst>
                        <a:gd name="textAreaLeft" fmla="*/ 0 w 221760"/>
                        <a:gd name="textAreaRight" fmla="*/ 222120 w 221760"/>
                        <a:gd name="textAreaTop" fmla="*/ 0 h 44280"/>
                        <a:gd name="textAreaBottom" fmla="*/ 44640 h 442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16" name="Freeform 1509"/>
                  <p:cNvSpPr/>
                  <p:nvPr/>
                </p:nvSpPr>
                <p:spPr>
                  <a:xfrm rot="2241600">
                    <a:off x="2861640" y="5157720"/>
                    <a:ext cx="21960" cy="3132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7" name="Freeform 1510"/>
                  <p:cNvSpPr/>
                  <p:nvPr/>
                </p:nvSpPr>
                <p:spPr>
                  <a:xfrm rot="2241600">
                    <a:off x="2837160" y="5139360"/>
                    <a:ext cx="21960" cy="3132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8" name="Freeform 1511"/>
                  <p:cNvSpPr/>
                  <p:nvPr/>
                </p:nvSpPr>
                <p:spPr>
                  <a:xfrm rot="2241600">
                    <a:off x="2814120" y="5123880"/>
                    <a:ext cx="18360" cy="1980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9" name="Freeform 1512"/>
                  <p:cNvSpPr/>
                  <p:nvPr/>
                </p:nvSpPr>
                <p:spPr>
                  <a:xfrm rot="2241600">
                    <a:off x="2845080" y="51238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0" name="Freeform 1513"/>
                  <p:cNvSpPr/>
                  <p:nvPr/>
                </p:nvSpPr>
                <p:spPr>
                  <a:xfrm rot="2241600">
                    <a:off x="2865240" y="5137560"/>
                    <a:ext cx="30600" cy="1728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21" name="Group 1514"/>
              <p:cNvGrpSpPr/>
              <p:nvPr/>
            </p:nvGrpSpPr>
            <p:grpSpPr>
              <a:xfrm>
                <a:off x="2588400" y="4924800"/>
                <a:ext cx="213840" cy="235800"/>
                <a:chOff x="2588400" y="4924800"/>
                <a:chExt cx="213840" cy="235800"/>
              </a:xfrm>
            </p:grpSpPr>
            <p:sp>
              <p:nvSpPr>
                <p:cNvPr id="722" name="Freeform 1515"/>
                <p:cNvSpPr/>
                <p:nvPr/>
              </p:nvSpPr>
              <p:spPr>
                <a:xfrm rot="444000">
                  <a:off x="2726280" y="5036760"/>
                  <a:ext cx="54360" cy="12060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23" name="Group 1516"/>
                <p:cNvGrpSpPr/>
                <p:nvPr/>
              </p:nvGrpSpPr>
              <p:grpSpPr>
                <a:xfrm>
                  <a:off x="2588400" y="4924800"/>
                  <a:ext cx="213840" cy="188640"/>
                  <a:chOff x="2588400" y="4924800"/>
                  <a:chExt cx="213840" cy="188640"/>
                </a:xfrm>
              </p:grpSpPr>
              <p:grpSp>
                <p:nvGrpSpPr>
                  <p:cNvPr id="724" name="Group 1517"/>
                  <p:cNvGrpSpPr/>
                  <p:nvPr/>
                </p:nvGrpSpPr>
                <p:grpSpPr>
                  <a:xfrm>
                    <a:off x="2588400" y="4924800"/>
                    <a:ext cx="213840" cy="188640"/>
                    <a:chOff x="2588400" y="4924800"/>
                    <a:chExt cx="213840" cy="188640"/>
                  </a:xfrm>
                </p:grpSpPr>
                <p:sp>
                  <p:nvSpPr>
                    <p:cNvPr id="725" name="Freeform 1518"/>
                    <p:cNvSpPr/>
                    <p:nvPr/>
                  </p:nvSpPr>
                  <p:spPr>
                    <a:xfrm rot="2241600">
                      <a:off x="2597040" y="4987080"/>
                      <a:ext cx="217080" cy="33480"/>
                    </a:xfrm>
                    <a:custGeom>
                      <a:avLst/>
                      <a:gdLst>
                        <a:gd name="textAreaLeft" fmla="*/ 0 w 217080"/>
                        <a:gd name="textAreaRight" fmla="*/ 217440 w 217080"/>
                        <a:gd name="textAreaTop" fmla="*/ 0 h 33480"/>
                        <a:gd name="textAreaBottom" fmla="*/ 33840 h 334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26" name="Freeform 1519"/>
                    <p:cNvSpPr/>
                    <p:nvPr/>
                  </p:nvSpPr>
                  <p:spPr>
                    <a:xfrm rot="2241600">
                      <a:off x="2579040" y="5006160"/>
                      <a:ext cx="221760" cy="44280"/>
                    </a:xfrm>
                    <a:custGeom>
                      <a:avLst/>
                      <a:gdLst>
                        <a:gd name="textAreaLeft" fmla="*/ 0 w 221760"/>
                        <a:gd name="textAreaRight" fmla="*/ 222120 w 221760"/>
                        <a:gd name="textAreaTop" fmla="*/ 0 h 44280"/>
                        <a:gd name="textAreaBottom" fmla="*/ 44640 h 442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27" name="Freeform 1520"/>
                  <p:cNvSpPr/>
                  <p:nvPr/>
                </p:nvSpPr>
                <p:spPr>
                  <a:xfrm rot="2241600">
                    <a:off x="2737440" y="5051520"/>
                    <a:ext cx="21960" cy="3132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8" name="Freeform 1521"/>
                  <p:cNvSpPr/>
                  <p:nvPr/>
                </p:nvSpPr>
                <p:spPr>
                  <a:xfrm rot="2241600">
                    <a:off x="2712960" y="5033160"/>
                    <a:ext cx="21960" cy="3132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9" name="Freeform 1522"/>
                  <p:cNvSpPr/>
                  <p:nvPr/>
                </p:nvSpPr>
                <p:spPr>
                  <a:xfrm rot="2241600">
                    <a:off x="2689920" y="5017680"/>
                    <a:ext cx="18360" cy="1980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0" name="Freeform 1523"/>
                  <p:cNvSpPr/>
                  <p:nvPr/>
                </p:nvSpPr>
                <p:spPr>
                  <a:xfrm rot="2241600">
                    <a:off x="2720880" y="5017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1" name="Freeform 1524"/>
                  <p:cNvSpPr/>
                  <p:nvPr/>
                </p:nvSpPr>
                <p:spPr>
                  <a:xfrm rot="2241600">
                    <a:off x="2741040" y="5031360"/>
                    <a:ext cx="30600" cy="1728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32" name="Group 1525"/>
              <p:cNvGrpSpPr/>
              <p:nvPr/>
            </p:nvGrpSpPr>
            <p:grpSpPr>
              <a:xfrm>
                <a:off x="2395800" y="4978080"/>
                <a:ext cx="213840" cy="235440"/>
                <a:chOff x="2395800" y="4978080"/>
                <a:chExt cx="213840" cy="235440"/>
              </a:xfrm>
            </p:grpSpPr>
            <p:sp>
              <p:nvSpPr>
                <p:cNvPr id="733" name="Freeform 1526"/>
                <p:cNvSpPr/>
                <p:nvPr/>
              </p:nvSpPr>
              <p:spPr>
                <a:xfrm rot="444000">
                  <a:off x="2533680" y="5089680"/>
                  <a:ext cx="54000" cy="1206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34" name="Group 1527"/>
                <p:cNvGrpSpPr/>
                <p:nvPr/>
              </p:nvGrpSpPr>
              <p:grpSpPr>
                <a:xfrm>
                  <a:off x="2395800" y="4978080"/>
                  <a:ext cx="213840" cy="188280"/>
                  <a:chOff x="2395800" y="4978080"/>
                  <a:chExt cx="213840" cy="188280"/>
                </a:xfrm>
              </p:grpSpPr>
              <p:grpSp>
                <p:nvGrpSpPr>
                  <p:cNvPr id="735" name="Group 1528"/>
                  <p:cNvGrpSpPr/>
                  <p:nvPr/>
                </p:nvGrpSpPr>
                <p:grpSpPr>
                  <a:xfrm>
                    <a:off x="2395800" y="4978080"/>
                    <a:ext cx="213840" cy="188280"/>
                    <a:chOff x="2395800" y="4978080"/>
                    <a:chExt cx="213840" cy="188280"/>
                  </a:xfrm>
                </p:grpSpPr>
                <p:sp>
                  <p:nvSpPr>
                    <p:cNvPr id="736" name="Freeform 1529"/>
                    <p:cNvSpPr/>
                    <p:nvPr/>
                  </p:nvSpPr>
                  <p:spPr>
                    <a:xfrm rot="2241600">
                      <a:off x="2404440" y="5040360"/>
                      <a:ext cx="217080" cy="33480"/>
                    </a:xfrm>
                    <a:custGeom>
                      <a:avLst/>
                      <a:gdLst>
                        <a:gd name="textAreaLeft" fmla="*/ 0 w 217080"/>
                        <a:gd name="textAreaRight" fmla="*/ 217440 w 217080"/>
                        <a:gd name="textAreaTop" fmla="*/ 0 h 33480"/>
                        <a:gd name="textAreaBottom" fmla="*/ 33840 h 334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37" name="Freeform 1530"/>
                    <p:cNvSpPr/>
                    <p:nvPr/>
                  </p:nvSpPr>
                  <p:spPr>
                    <a:xfrm rot="2241600">
                      <a:off x="2386440" y="5059080"/>
                      <a:ext cx="221760" cy="44280"/>
                    </a:xfrm>
                    <a:custGeom>
                      <a:avLst/>
                      <a:gdLst>
                        <a:gd name="textAreaLeft" fmla="*/ 0 w 221760"/>
                        <a:gd name="textAreaRight" fmla="*/ 222120 w 221760"/>
                        <a:gd name="textAreaTop" fmla="*/ 0 h 44280"/>
                        <a:gd name="textAreaBottom" fmla="*/ 44640 h 442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38" name="Freeform 1531"/>
                  <p:cNvSpPr/>
                  <p:nvPr/>
                </p:nvSpPr>
                <p:spPr>
                  <a:xfrm rot="2241600">
                    <a:off x="2544840" y="5104440"/>
                    <a:ext cx="21960" cy="3132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9" name="Freeform 1532"/>
                  <p:cNvSpPr/>
                  <p:nvPr/>
                </p:nvSpPr>
                <p:spPr>
                  <a:xfrm rot="2241600">
                    <a:off x="2520360" y="5086080"/>
                    <a:ext cx="21960" cy="3132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0" name="Freeform 1533"/>
                  <p:cNvSpPr/>
                  <p:nvPr/>
                </p:nvSpPr>
                <p:spPr>
                  <a:xfrm rot="2241600">
                    <a:off x="2497320" y="5070600"/>
                    <a:ext cx="18360" cy="1980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19800"/>
                      <a:gd name="textAreaBottom" fmla="*/ 20160 h 198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1" name="Freeform 1534"/>
                  <p:cNvSpPr/>
                  <p:nvPr/>
                </p:nvSpPr>
                <p:spPr>
                  <a:xfrm rot="2241600">
                    <a:off x="2528280" y="507060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2" name="Freeform 1535"/>
                  <p:cNvSpPr/>
                  <p:nvPr/>
                </p:nvSpPr>
                <p:spPr>
                  <a:xfrm rot="2241600">
                    <a:off x="2548440" y="5084640"/>
                    <a:ext cx="30600" cy="1728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43" name="Group 1536"/>
              <p:cNvGrpSpPr/>
              <p:nvPr/>
            </p:nvGrpSpPr>
            <p:grpSpPr>
              <a:xfrm>
                <a:off x="2929680" y="5332680"/>
                <a:ext cx="162720" cy="201240"/>
                <a:chOff x="2929680" y="5332680"/>
                <a:chExt cx="162720" cy="201240"/>
              </a:xfrm>
            </p:grpSpPr>
            <p:sp>
              <p:nvSpPr>
                <p:cNvPr id="744" name="Freeform 1537"/>
                <p:cNvSpPr/>
                <p:nvPr/>
              </p:nvSpPr>
              <p:spPr>
                <a:xfrm flipV="1" rot="16192200">
                  <a:off x="2935800" y="5336640"/>
                  <a:ext cx="84960" cy="766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-360 h 76680"/>
                    <a:gd name="textAreaBottom" fmla="*/ 76680 h 766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45" name="Group 1538"/>
                <p:cNvGrpSpPr/>
                <p:nvPr/>
              </p:nvGrpSpPr>
              <p:grpSpPr>
                <a:xfrm>
                  <a:off x="2929680" y="5360760"/>
                  <a:ext cx="162720" cy="173160"/>
                  <a:chOff x="2929680" y="5360760"/>
                  <a:chExt cx="162720" cy="173160"/>
                </a:xfrm>
              </p:grpSpPr>
              <p:grpSp>
                <p:nvGrpSpPr>
                  <p:cNvPr id="746" name="Group 1539"/>
                  <p:cNvGrpSpPr/>
                  <p:nvPr/>
                </p:nvGrpSpPr>
                <p:grpSpPr>
                  <a:xfrm>
                    <a:off x="2929680" y="5360760"/>
                    <a:ext cx="162720" cy="173160"/>
                    <a:chOff x="2929680" y="5360760"/>
                    <a:chExt cx="162720" cy="173160"/>
                  </a:xfrm>
                </p:grpSpPr>
                <p:sp>
                  <p:nvSpPr>
                    <p:cNvPr id="747" name="Freeform 1540"/>
                    <p:cNvSpPr/>
                    <p:nvPr/>
                  </p:nvSpPr>
                  <p:spPr>
                    <a:xfrm flipV="1" rot="14394600">
                      <a:off x="2965320" y="5407200"/>
                      <a:ext cx="138600" cy="52560"/>
                    </a:xfrm>
                    <a:custGeom>
                      <a:avLst/>
                      <a:gdLst>
                        <a:gd name="textAreaLeft" fmla="*/ 0 w 138600"/>
                        <a:gd name="textAreaRight" fmla="*/ 138960 w 138600"/>
                        <a:gd name="textAreaTop" fmla="*/ 360 h 52560"/>
                        <a:gd name="textAreaBottom" fmla="*/ 53280 h 525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48" name="Freeform 1541"/>
                    <p:cNvSpPr/>
                    <p:nvPr/>
                  </p:nvSpPr>
                  <p:spPr>
                    <a:xfrm flipV="1" rot="14394600">
                      <a:off x="2924280" y="5420160"/>
                      <a:ext cx="141480" cy="694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-360 h 69480"/>
                        <a:gd name="textAreaBottom" fmla="*/ 69480 h 694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49" name="Freeform 1542"/>
                  <p:cNvSpPr/>
                  <p:nvPr/>
                </p:nvSpPr>
                <p:spPr>
                  <a:xfrm flipV="1" rot="14394600">
                    <a:off x="2971440" y="538848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0" name="Freeform 1543"/>
                  <p:cNvSpPr/>
                  <p:nvPr/>
                </p:nvSpPr>
                <p:spPr>
                  <a:xfrm flipV="1" rot="14394600">
                    <a:off x="2981160" y="540540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1" name="Freeform 1544"/>
                  <p:cNvSpPr/>
                  <p:nvPr/>
                </p:nvSpPr>
                <p:spPr>
                  <a:xfrm flipV="1" rot="14394600">
                    <a:off x="2994480" y="5430960"/>
                    <a:ext cx="11520" cy="31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-360 h 31320"/>
                      <a:gd name="textAreaBottom" fmla="*/ 31320 h 313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2" name="Freeform 1545"/>
                  <p:cNvSpPr/>
                  <p:nvPr/>
                </p:nvSpPr>
                <p:spPr>
                  <a:xfrm flipV="1" rot="14394600">
                    <a:off x="3015000" y="5400360"/>
                    <a:ext cx="18000" cy="2448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360 h 24480"/>
                      <a:gd name="textAreaBottom" fmla="*/ 25200 h 24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3" name="Freeform 1546"/>
                  <p:cNvSpPr/>
                  <p:nvPr/>
                </p:nvSpPr>
                <p:spPr>
                  <a:xfrm flipV="1" rot="14394600">
                    <a:off x="3007080" y="5383800"/>
                    <a:ext cx="19440" cy="2736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360 h 27360"/>
                      <a:gd name="textAreaBottom" fmla="*/ 28080 h 273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54" name="Group 1547"/>
              <p:cNvGrpSpPr/>
              <p:nvPr/>
            </p:nvGrpSpPr>
            <p:grpSpPr>
              <a:xfrm>
                <a:off x="2899080" y="5717160"/>
                <a:ext cx="162720" cy="201240"/>
                <a:chOff x="2899080" y="5717160"/>
                <a:chExt cx="162720" cy="201240"/>
              </a:xfrm>
            </p:grpSpPr>
            <p:sp>
              <p:nvSpPr>
                <p:cNvPr id="755" name="Freeform 1548"/>
                <p:cNvSpPr/>
                <p:nvPr/>
              </p:nvSpPr>
              <p:spPr>
                <a:xfrm flipV="1" rot="16192200">
                  <a:off x="2905200" y="5721120"/>
                  <a:ext cx="84960" cy="766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-360 h 76680"/>
                    <a:gd name="textAreaBottom" fmla="*/ 76680 h 766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56" name="Group 1549"/>
                <p:cNvGrpSpPr/>
                <p:nvPr/>
              </p:nvGrpSpPr>
              <p:grpSpPr>
                <a:xfrm>
                  <a:off x="2899080" y="5745240"/>
                  <a:ext cx="162720" cy="173160"/>
                  <a:chOff x="2899080" y="5745240"/>
                  <a:chExt cx="162720" cy="173160"/>
                </a:xfrm>
              </p:grpSpPr>
              <p:grpSp>
                <p:nvGrpSpPr>
                  <p:cNvPr id="757" name="Group 1550"/>
                  <p:cNvGrpSpPr/>
                  <p:nvPr/>
                </p:nvGrpSpPr>
                <p:grpSpPr>
                  <a:xfrm>
                    <a:off x="2899080" y="5745240"/>
                    <a:ext cx="162720" cy="173160"/>
                    <a:chOff x="2899080" y="5745240"/>
                    <a:chExt cx="162720" cy="173160"/>
                  </a:xfrm>
                </p:grpSpPr>
                <p:sp>
                  <p:nvSpPr>
                    <p:cNvPr id="758" name="Freeform 1551"/>
                    <p:cNvSpPr/>
                    <p:nvPr/>
                  </p:nvSpPr>
                  <p:spPr>
                    <a:xfrm flipV="1" rot="14394600">
                      <a:off x="2934720" y="5791680"/>
                      <a:ext cx="138600" cy="52560"/>
                    </a:xfrm>
                    <a:custGeom>
                      <a:avLst/>
                      <a:gdLst>
                        <a:gd name="textAreaLeft" fmla="*/ 0 w 138600"/>
                        <a:gd name="textAreaRight" fmla="*/ 138960 w 138600"/>
                        <a:gd name="textAreaTop" fmla="*/ 360 h 52560"/>
                        <a:gd name="textAreaBottom" fmla="*/ 53280 h 525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59" name="Freeform 1552"/>
                    <p:cNvSpPr/>
                    <p:nvPr/>
                  </p:nvSpPr>
                  <p:spPr>
                    <a:xfrm flipV="1" rot="14394600">
                      <a:off x="2893680" y="5804640"/>
                      <a:ext cx="141480" cy="694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-360 h 69480"/>
                        <a:gd name="textAreaBottom" fmla="*/ 69480 h 694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60" name="Freeform 1553"/>
                  <p:cNvSpPr/>
                  <p:nvPr/>
                </p:nvSpPr>
                <p:spPr>
                  <a:xfrm flipV="1" rot="14394600">
                    <a:off x="2940840" y="577296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1" name="Freeform 1554"/>
                  <p:cNvSpPr/>
                  <p:nvPr/>
                </p:nvSpPr>
                <p:spPr>
                  <a:xfrm flipV="1" rot="14394600">
                    <a:off x="2950560" y="578988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2" name="Freeform 1555"/>
                  <p:cNvSpPr/>
                  <p:nvPr/>
                </p:nvSpPr>
                <p:spPr>
                  <a:xfrm flipV="1" rot="14394600">
                    <a:off x="2963880" y="5815440"/>
                    <a:ext cx="11520" cy="31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-360 h 31320"/>
                      <a:gd name="textAreaBottom" fmla="*/ 31320 h 313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3" name="Freeform 1556"/>
                  <p:cNvSpPr/>
                  <p:nvPr/>
                </p:nvSpPr>
                <p:spPr>
                  <a:xfrm flipV="1" rot="14394600">
                    <a:off x="2984400" y="5784840"/>
                    <a:ext cx="18000" cy="2448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360 h 24480"/>
                      <a:gd name="textAreaBottom" fmla="*/ 25200 h 24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4" name="Freeform 1557"/>
                  <p:cNvSpPr/>
                  <p:nvPr/>
                </p:nvSpPr>
                <p:spPr>
                  <a:xfrm flipV="1" rot="14394600">
                    <a:off x="2976480" y="5768280"/>
                    <a:ext cx="19440" cy="2736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360 h 27360"/>
                      <a:gd name="textAreaBottom" fmla="*/ 28080 h 273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65" name="Group 1558"/>
              <p:cNvGrpSpPr/>
              <p:nvPr/>
            </p:nvGrpSpPr>
            <p:grpSpPr>
              <a:xfrm>
                <a:off x="2797560" y="5345280"/>
                <a:ext cx="162720" cy="201240"/>
                <a:chOff x="2797560" y="5345280"/>
                <a:chExt cx="162720" cy="201240"/>
              </a:xfrm>
            </p:grpSpPr>
            <p:sp>
              <p:nvSpPr>
                <p:cNvPr id="766" name="Freeform 1559"/>
                <p:cNvSpPr/>
                <p:nvPr/>
              </p:nvSpPr>
              <p:spPr>
                <a:xfrm flipV="1" rot="16192200">
                  <a:off x="2803680" y="5349240"/>
                  <a:ext cx="84960" cy="766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-360 h 76680"/>
                    <a:gd name="textAreaBottom" fmla="*/ 76680 h 766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67" name="Group 1560"/>
                <p:cNvGrpSpPr/>
                <p:nvPr/>
              </p:nvGrpSpPr>
              <p:grpSpPr>
                <a:xfrm>
                  <a:off x="2797560" y="5373360"/>
                  <a:ext cx="162720" cy="173160"/>
                  <a:chOff x="2797560" y="5373360"/>
                  <a:chExt cx="162720" cy="173160"/>
                </a:xfrm>
              </p:grpSpPr>
              <p:grpSp>
                <p:nvGrpSpPr>
                  <p:cNvPr id="768" name="Group 1561"/>
                  <p:cNvGrpSpPr/>
                  <p:nvPr/>
                </p:nvGrpSpPr>
                <p:grpSpPr>
                  <a:xfrm>
                    <a:off x="2797560" y="5373360"/>
                    <a:ext cx="162720" cy="173160"/>
                    <a:chOff x="2797560" y="5373360"/>
                    <a:chExt cx="162720" cy="173160"/>
                  </a:xfrm>
                </p:grpSpPr>
                <p:sp>
                  <p:nvSpPr>
                    <p:cNvPr id="769" name="Freeform 1562"/>
                    <p:cNvSpPr/>
                    <p:nvPr/>
                  </p:nvSpPr>
                  <p:spPr>
                    <a:xfrm flipV="1" rot="14394600">
                      <a:off x="2833200" y="5419800"/>
                      <a:ext cx="138600" cy="52560"/>
                    </a:xfrm>
                    <a:custGeom>
                      <a:avLst/>
                      <a:gdLst>
                        <a:gd name="textAreaLeft" fmla="*/ 0 w 138600"/>
                        <a:gd name="textAreaRight" fmla="*/ 138960 w 138600"/>
                        <a:gd name="textAreaTop" fmla="*/ 360 h 52560"/>
                        <a:gd name="textAreaBottom" fmla="*/ 53280 h 525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70" name="Freeform 1563"/>
                    <p:cNvSpPr/>
                    <p:nvPr/>
                  </p:nvSpPr>
                  <p:spPr>
                    <a:xfrm flipV="1" rot="14394600">
                      <a:off x="2792160" y="5432760"/>
                      <a:ext cx="141480" cy="694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-360 h 69480"/>
                        <a:gd name="textAreaBottom" fmla="*/ 69480 h 694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71" name="Freeform 1564"/>
                  <p:cNvSpPr/>
                  <p:nvPr/>
                </p:nvSpPr>
                <p:spPr>
                  <a:xfrm flipV="1" rot="14394600">
                    <a:off x="2839320" y="540108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2" name="Freeform 1565"/>
                  <p:cNvSpPr/>
                  <p:nvPr/>
                </p:nvSpPr>
                <p:spPr>
                  <a:xfrm flipV="1" rot="14394600">
                    <a:off x="2849040" y="541800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3" name="Freeform 1566"/>
                  <p:cNvSpPr/>
                  <p:nvPr/>
                </p:nvSpPr>
                <p:spPr>
                  <a:xfrm flipV="1" rot="14394600">
                    <a:off x="2862360" y="5443560"/>
                    <a:ext cx="11520" cy="31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-360 h 31320"/>
                      <a:gd name="textAreaBottom" fmla="*/ 31320 h 313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4" name="Freeform 1567"/>
                  <p:cNvSpPr/>
                  <p:nvPr/>
                </p:nvSpPr>
                <p:spPr>
                  <a:xfrm flipV="1" rot="14394600">
                    <a:off x="2882880" y="5412960"/>
                    <a:ext cx="18000" cy="2448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360 h 24480"/>
                      <a:gd name="textAreaBottom" fmla="*/ 25200 h 24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5" name="Freeform 1568"/>
                  <p:cNvSpPr/>
                  <p:nvPr/>
                </p:nvSpPr>
                <p:spPr>
                  <a:xfrm flipV="1" rot="14394600">
                    <a:off x="2874960" y="5396400"/>
                    <a:ext cx="19440" cy="2736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360 h 27360"/>
                      <a:gd name="textAreaBottom" fmla="*/ 28080 h 273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76" name="Group 1569"/>
              <p:cNvGrpSpPr/>
              <p:nvPr/>
            </p:nvGrpSpPr>
            <p:grpSpPr>
              <a:xfrm>
                <a:off x="2413080" y="5256720"/>
                <a:ext cx="162720" cy="201240"/>
                <a:chOff x="2413080" y="5256720"/>
                <a:chExt cx="162720" cy="201240"/>
              </a:xfrm>
            </p:grpSpPr>
            <p:sp>
              <p:nvSpPr>
                <p:cNvPr id="777" name="Freeform 1570"/>
                <p:cNvSpPr/>
                <p:nvPr/>
              </p:nvSpPr>
              <p:spPr>
                <a:xfrm flipV="1" rot="16192200">
                  <a:off x="2419200" y="5260680"/>
                  <a:ext cx="84960" cy="766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-360 h 76680"/>
                    <a:gd name="textAreaBottom" fmla="*/ 76680 h 766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78" name="Group 1571"/>
                <p:cNvGrpSpPr/>
                <p:nvPr/>
              </p:nvGrpSpPr>
              <p:grpSpPr>
                <a:xfrm>
                  <a:off x="2413080" y="5284800"/>
                  <a:ext cx="162720" cy="173160"/>
                  <a:chOff x="2413080" y="5284800"/>
                  <a:chExt cx="162720" cy="173160"/>
                </a:xfrm>
              </p:grpSpPr>
              <p:grpSp>
                <p:nvGrpSpPr>
                  <p:cNvPr id="779" name="Group 1572"/>
                  <p:cNvGrpSpPr/>
                  <p:nvPr/>
                </p:nvGrpSpPr>
                <p:grpSpPr>
                  <a:xfrm>
                    <a:off x="2413080" y="5284800"/>
                    <a:ext cx="162720" cy="173160"/>
                    <a:chOff x="2413080" y="5284800"/>
                    <a:chExt cx="162720" cy="173160"/>
                  </a:xfrm>
                </p:grpSpPr>
                <p:sp>
                  <p:nvSpPr>
                    <p:cNvPr id="780" name="Freeform 1573"/>
                    <p:cNvSpPr/>
                    <p:nvPr/>
                  </p:nvSpPr>
                  <p:spPr>
                    <a:xfrm flipV="1" rot="14394600">
                      <a:off x="2448720" y="5331240"/>
                      <a:ext cx="138600" cy="52560"/>
                    </a:xfrm>
                    <a:custGeom>
                      <a:avLst/>
                      <a:gdLst>
                        <a:gd name="textAreaLeft" fmla="*/ 0 w 138600"/>
                        <a:gd name="textAreaRight" fmla="*/ 138960 w 138600"/>
                        <a:gd name="textAreaTop" fmla="*/ 360 h 52560"/>
                        <a:gd name="textAreaBottom" fmla="*/ 53280 h 525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81" name="Freeform 1574"/>
                    <p:cNvSpPr/>
                    <p:nvPr/>
                  </p:nvSpPr>
                  <p:spPr>
                    <a:xfrm flipV="1" rot="14394600">
                      <a:off x="2407680" y="5344200"/>
                      <a:ext cx="141480" cy="694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-360 h 69480"/>
                        <a:gd name="textAreaBottom" fmla="*/ 69480 h 694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82" name="Freeform 1575"/>
                  <p:cNvSpPr/>
                  <p:nvPr/>
                </p:nvSpPr>
                <p:spPr>
                  <a:xfrm flipV="1" rot="14394600">
                    <a:off x="2455200" y="531252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3" name="Freeform 1576"/>
                  <p:cNvSpPr/>
                  <p:nvPr/>
                </p:nvSpPr>
                <p:spPr>
                  <a:xfrm flipV="1" rot="14394600">
                    <a:off x="2464920" y="532944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4" name="Freeform 1577"/>
                  <p:cNvSpPr/>
                  <p:nvPr/>
                </p:nvSpPr>
                <p:spPr>
                  <a:xfrm flipV="1" rot="14394600">
                    <a:off x="2478240" y="5355000"/>
                    <a:ext cx="11520" cy="31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-360 h 31320"/>
                      <a:gd name="textAreaBottom" fmla="*/ 31320 h 313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5" name="Freeform 1578"/>
                  <p:cNvSpPr/>
                  <p:nvPr/>
                </p:nvSpPr>
                <p:spPr>
                  <a:xfrm flipV="1" rot="14394600">
                    <a:off x="2498760" y="5324400"/>
                    <a:ext cx="18000" cy="2448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360 h 24480"/>
                      <a:gd name="textAreaBottom" fmla="*/ 25200 h 24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6" name="Freeform 1579"/>
                  <p:cNvSpPr/>
                  <p:nvPr/>
                </p:nvSpPr>
                <p:spPr>
                  <a:xfrm flipV="1" rot="14394600">
                    <a:off x="2490840" y="5307840"/>
                    <a:ext cx="19440" cy="2736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360 h 27360"/>
                      <a:gd name="textAreaBottom" fmla="*/ 28080 h 273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87" name="Group 1580"/>
              <p:cNvGrpSpPr/>
              <p:nvPr/>
            </p:nvGrpSpPr>
            <p:grpSpPr>
              <a:xfrm>
                <a:off x="2458800" y="5540040"/>
                <a:ext cx="162720" cy="201240"/>
                <a:chOff x="2458800" y="5540040"/>
                <a:chExt cx="162720" cy="201240"/>
              </a:xfrm>
            </p:grpSpPr>
            <p:sp>
              <p:nvSpPr>
                <p:cNvPr id="788" name="Freeform 1581"/>
                <p:cNvSpPr/>
                <p:nvPr/>
              </p:nvSpPr>
              <p:spPr>
                <a:xfrm flipV="1" rot="16192200">
                  <a:off x="2464920" y="5544000"/>
                  <a:ext cx="84960" cy="766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-360 h 76680"/>
                    <a:gd name="textAreaBottom" fmla="*/ 76680 h 766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89" name="Group 1582"/>
                <p:cNvGrpSpPr/>
                <p:nvPr/>
              </p:nvGrpSpPr>
              <p:grpSpPr>
                <a:xfrm>
                  <a:off x="2458800" y="5568120"/>
                  <a:ext cx="162720" cy="173160"/>
                  <a:chOff x="2458800" y="5568120"/>
                  <a:chExt cx="162720" cy="173160"/>
                </a:xfrm>
              </p:grpSpPr>
              <p:grpSp>
                <p:nvGrpSpPr>
                  <p:cNvPr id="790" name="Group 1583"/>
                  <p:cNvGrpSpPr/>
                  <p:nvPr/>
                </p:nvGrpSpPr>
                <p:grpSpPr>
                  <a:xfrm>
                    <a:off x="2458800" y="5568120"/>
                    <a:ext cx="162720" cy="173160"/>
                    <a:chOff x="2458800" y="5568120"/>
                    <a:chExt cx="162720" cy="173160"/>
                  </a:xfrm>
                </p:grpSpPr>
                <p:sp>
                  <p:nvSpPr>
                    <p:cNvPr id="791" name="Freeform 1584"/>
                    <p:cNvSpPr/>
                    <p:nvPr/>
                  </p:nvSpPr>
                  <p:spPr>
                    <a:xfrm flipV="1" rot="14394600">
                      <a:off x="2494440" y="5614560"/>
                      <a:ext cx="138600" cy="52560"/>
                    </a:xfrm>
                    <a:custGeom>
                      <a:avLst/>
                      <a:gdLst>
                        <a:gd name="textAreaLeft" fmla="*/ 0 w 138600"/>
                        <a:gd name="textAreaRight" fmla="*/ 138960 w 138600"/>
                        <a:gd name="textAreaTop" fmla="*/ 360 h 52560"/>
                        <a:gd name="textAreaBottom" fmla="*/ 53280 h 525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92" name="Freeform 1585"/>
                    <p:cNvSpPr/>
                    <p:nvPr/>
                  </p:nvSpPr>
                  <p:spPr>
                    <a:xfrm flipV="1" rot="14394600">
                      <a:off x="2453400" y="5627520"/>
                      <a:ext cx="141480" cy="694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-360 h 69480"/>
                        <a:gd name="textAreaBottom" fmla="*/ 69480 h 694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93" name="Freeform 1586"/>
                  <p:cNvSpPr/>
                  <p:nvPr/>
                </p:nvSpPr>
                <p:spPr>
                  <a:xfrm flipV="1" rot="14394600">
                    <a:off x="2500560" y="559584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4" name="Freeform 1587"/>
                  <p:cNvSpPr/>
                  <p:nvPr/>
                </p:nvSpPr>
                <p:spPr>
                  <a:xfrm flipV="1" rot="14394600">
                    <a:off x="2510280" y="561276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5" name="Freeform 1588"/>
                  <p:cNvSpPr/>
                  <p:nvPr/>
                </p:nvSpPr>
                <p:spPr>
                  <a:xfrm flipV="1" rot="14394600">
                    <a:off x="2523600" y="5638320"/>
                    <a:ext cx="11520" cy="31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-360 h 31320"/>
                      <a:gd name="textAreaBottom" fmla="*/ 31320 h 313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6" name="Freeform 1589"/>
                  <p:cNvSpPr/>
                  <p:nvPr/>
                </p:nvSpPr>
                <p:spPr>
                  <a:xfrm flipV="1" rot="14394600">
                    <a:off x="2544120" y="5607720"/>
                    <a:ext cx="18000" cy="2448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360 h 24480"/>
                      <a:gd name="textAreaBottom" fmla="*/ 25200 h 24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7" name="Freeform 1590"/>
                  <p:cNvSpPr/>
                  <p:nvPr/>
                </p:nvSpPr>
                <p:spPr>
                  <a:xfrm flipV="1" rot="14394600">
                    <a:off x="2536200" y="5591160"/>
                    <a:ext cx="19440" cy="2736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360 h 27360"/>
                      <a:gd name="textAreaBottom" fmla="*/ 28080 h 273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98" name="Group 1591"/>
              <p:cNvGrpSpPr/>
              <p:nvPr/>
            </p:nvGrpSpPr>
            <p:grpSpPr>
              <a:xfrm>
                <a:off x="2638800" y="5964480"/>
                <a:ext cx="206640" cy="247320"/>
                <a:chOff x="2638800" y="5964480"/>
                <a:chExt cx="206640" cy="247320"/>
              </a:xfrm>
            </p:grpSpPr>
            <p:sp>
              <p:nvSpPr>
                <p:cNvPr id="799" name="Freeform 1592"/>
                <p:cNvSpPr/>
                <p:nvPr/>
              </p:nvSpPr>
              <p:spPr>
                <a:xfrm flipV="1" rot="20859000">
                  <a:off x="2765880" y="5968800"/>
                  <a:ext cx="54360" cy="12096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360 h 120960"/>
                    <a:gd name="textAreaBottom" fmla="*/ 121680 h 12096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00" name="Group 1593"/>
                <p:cNvGrpSpPr/>
                <p:nvPr/>
              </p:nvGrpSpPr>
              <p:grpSpPr>
                <a:xfrm>
                  <a:off x="2638800" y="6012360"/>
                  <a:ext cx="206640" cy="199440"/>
                  <a:chOff x="2638800" y="6012360"/>
                  <a:chExt cx="206640" cy="199440"/>
                </a:xfrm>
              </p:grpSpPr>
              <p:grpSp>
                <p:nvGrpSpPr>
                  <p:cNvPr id="801" name="Group 1594"/>
                  <p:cNvGrpSpPr/>
                  <p:nvPr/>
                </p:nvGrpSpPr>
                <p:grpSpPr>
                  <a:xfrm>
                    <a:off x="2638800" y="6012360"/>
                    <a:ext cx="206640" cy="199440"/>
                    <a:chOff x="2638800" y="6012360"/>
                    <a:chExt cx="206640" cy="199440"/>
                  </a:xfrm>
                </p:grpSpPr>
                <p:sp>
                  <p:nvSpPr>
                    <p:cNvPr id="802" name="Freeform 1595"/>
                    <p:cNvSpPr/>
                    <p:nvPr/>
                  </p:nvSpPr>
                  <p:spPr>
                    <a:xfrm flipV="1" rot="19061400">
                      <a:off x="2645280" y="6108840"/>
                      <a:ext cx="217080" cy="33480"/>
                    </a:xfrm>
                    <a:custGeom>
                      <a:avLst/>
                      <a:gdLst>
                        <a:gd name="textAreaLeft" fmla="*/ 0 w 217080"/>
                        <a:gd name="textAreaRight" fmla="*/ 217440 w 217080"/>
                        <a:gd name="textAreaTop" fmla="*/ -360 h 33480"/>
                        <a:gd name="textAreaBottom" fmla="*/ 33480 h 3348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03" name="Freeform 1596"/>
                    <p:cNvSpPr/>
                    <p:nvPr/>
                  </p:nvSpPr>
                  <p:spPr>
                    <a:xfrm flipV="1" rot="19061400">
                      <a:off x="2624760" y="6081120"/>
                      <a:ext cx="222120" cy="44280"/>
                    </a:xfrm>
                    <a:custGeom>
                      <a:avLst/>
                      <a:gdLst>
                        <a:gd name="textAreaLeft" fmla="*/ 0 w 222120"/>
                        <a:gd name="textAreaRight" fmla="*/ 222480 w 222120"/>
                        <a:gd name="textAreaTop" fmla="*/ -360 h 44280"/>
                        <a:gd name="textAreaBottom" fmla="*/ 44280 h 442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804" name="Freeform 1597"/>
                  <p:cNvSpPr/>
                  <p:nvPr/>
                </p:nvSpPr>
                <p:spPr>
                  <a:xfrm flipV="1" rot="19061400">
                    <a:off x="2779560" y="6043680"/>
                    <a:ext cx="21960" cy="309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360 h 30960"/>
                      <a:gd name="textAreaBottom" fmla="*/ 31680 h 30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5" name="Freeform 1598"/>
                  <p:cNvSpPr/>
                  <p:nvPr/>
                </p:nvSpPr>
                <p:spPr>
                  <a:xfrm flipV="1" rot="19061400">
                    <a:off x="2756880" y="6064200"/>
                    <a:ext cx="21960" cy="309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360 h 30960"/>
                      <a:gd name="textAreaBottom" fmla="*/ 31680 h 3096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6" name="Freeform 1599"/>
                  <p:cNvSpPr/>
                  <p:nvPr/>
                </p:nvSpPr>
                <p:spPr>
                  <a:xfrm flipV="1" rot="19061400">
                    <a:off x="2735640" y="6092640"/>
                    <a:ext cx="18360" cy="1980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-360 h 19800"/>
                      <a:gd name="textAreaBottom" fmla="*/ 19800 h 198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7" name="Freeform 1600"/>
                  <p:cNvSpPr/>
                  <p:nvPr/>
                </p:nvSpPr>
                <p:spPr>
                  <a:xfrm flipV="1" rot="19061400">
                    <a:off x="2766960" y="60940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-360 h 15480"/>
                      <a:gd name="textAreaBottom" fmla="*/ 15480 h 15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8" name="Freeform 1601"/>
                  <p:cNvSpPr/>
                  <p:nvPr/>
                </p:nvSpPr>
                <p:spPr>
                  <a:xfrm flipV="1" rot="19061400">
                    <a:off x="2785320" y="6076440"/>
                    <a:ext cx="30600" cy="1728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360 h 17280"/>
                      <a:gd name="textAreaBottom" fmla="*/ 18000 h 1728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809" name="Group 1602"/>
              <p:cNvGrpSpPr/>
              <p:nvPr/>
            </p:nvGrpSpPr>
            <p:grpSpPr>
              <a:xfrm>
                <a:off x="2808360" y="6000480"/>
                <a:ext cx="162720" cy="201240"/>
                <a:chOff x="2808360" y="6000480"/>
                <a:chExt cx="162720" cy="201240"/>
              </a:xfrm>
            </p:grpSpPr>
            <p:sp>
              <p:nvSpPr>
                <p:cNvPr id="810" name="Freeform 1603"/>
                <p:cNvSpPr/>
                <p:nvPr/>
              </p:nvSpPr>
              <p:spPr>
                <a:xfrm flipV="1" rot="16192200">
                  <a:off x="2814480" y="6004440"/>
                  <a:ext cx="84960" cy="766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-360 h 76680"/>
                    <a:gd name="textAreaBottom" fmla="*/ 76680 h 766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11" name="Group 1604"/>
                <p:cNvGrpSpPr/>
                <p:nvPr/>
              </p:nvGrpSpPr>
              <p:grpSpPr>
                <a:xfrm>
                  <a:off x="2808360" y="6028560"/>
                  <a:ext cx="162720" cy="173160"/>
                  <a:chOff x="2808360" y="6028560"/>
                  <a:chExt cx="162720" cy="173160"/>
                </a:xfrm>
              </p:grpSpPr>
              <p:grpSp>
                <p:nvGrpSpPr>
                  <p:cNvPr id="812" name="Group 1605"/>
                  <p:cNvGrpSpPr/>
                  <p:nvPr/>
                </p:nvGrpSpPr>
                <p:grpSpPr>
                  <a:xfrm>
                    <a:off x="2808360" y="6028560"/>
                    <a:ext cx="162720" cy="173160"/>
                    <a:chOff x="2808360" y="6028560"/>
                    <a:chExt cx="162720" cy="173160"/>
                  </a:xfrm>
                </p:grpSpPr>
                <p:sp>
                  <p:nvSpPr>
                    <p:cNvPr id="813" name="Freeform 1606"/>
                    <p:cNvSpPr/>
                    <p:nvPr/>
                  </p:nvSpPr>
                  <p:spPr>
                    <a:xfrm flipV="1" rot="14394600">
                      <a:off x="2844000" y="6075000"/>
                      <a:ext cx="138600" cy="52560"/>
                    </a:xfrm>
                    <a:custGeom>
                      <a:avLst/>
                      <a:gdLst>
                        <a:gd name="textAreaLeft" fmla="*/ 0 w 138600"/>
                        <a:gd name="textAreaRight" fmla="*/ 138960 w 138600"/>
                        <a:gd name="textAreaTop" fmla="*/ 360 h 52560"/>
                        <a:gd name="textAreaBottom" fmla="*/ 53280 h 525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14" name="Freeform 1607"/>
                    <p:cNvSpPr/>
                    <p:nvPr/>
                  </p:nvSpPr>
                  <p:spPr>
                    <a:xfrm flipV="1" rot="14394600">
                      <a:off x="2802960" y="6087960"/>
                      <a:ext cx="141480" cy="694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-360 h 69480"/>
                        <a:gd name="textAreaBottom" fmla="*/ 69480 h 694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815" name="Freeform 1608"/>
                  <p:cNvSpPr/>
                  <p:nvPr/>
                </p:nvSpPr>
                <p:spPr>
                  <a:xfrm flipV="1" rot="14394600">
                    <a:off x="2850480" y="605628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6" name="Freeform 1609"/>
                  <p:cNvSpPr/>
                  <p:nvPr/>
                </p:nvSpPr>
                <p:spPr>
                  <a:xfrm flipV="1" rot="14394600">
                    <a:off x="2860200" y="607320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7" name="Freeform 1610"/>
                  <p:cNvSpPr/>
                  <p:nvPr/>
                </p:nvSpPr>
                <p:spPr>
                  <a:xfrm flipV="1" rot="14394600">
                    <a:off x="2873520" y="6098760"/>
                    <a:ext cx="11520" cy="31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-360 h 31320"/>
                      <a:gd name="textAreaBottom" fmla="*/ 31320 h 313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8" name="Freeform 1611"/>
                  <p:cNvSpPr/>
                  <p:nvPr/>
                </p:nvSpPr>
                <p:spPr>
                  <a:xfrm flipV="1" rot="14394600">
                    <a:off x="2894040" y="6068160"/>
                    <a:ext cx="18000" cy="2448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360 h 24480"/>
                      <a:gd name="textAreaBottom" fmla="*/ 25200 h 24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9" name="Freeform 1612"/>
                  <p:cNvSpPr/>
                  <p:nvPr/>
                </p:nvSpPr>
                <p:spPr>
                  <a:xfrm flipV="1" rot="14394600">
                    <a:off x="2886120" y="6051600"/>
                    <a:ext cx="19440" cy="2736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360 h 27360"/>
                      <a:gd name="textAreaBottom" fmla="*/ 28080 h 273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820" name="Group 1613"/>
              <p:cNvGrpSpPr/>
              <p:nvPr/>
            </p:nvGrpSpPr>
            <p:grpSpPr>
              <a:xfrm>
                <a:off x="2447280" y="5982840"/>
                <a:ext cx="162720" cy="201240"/>
                <a:chOff x="2447280" y="5982840"/>
                <a:chExt cx="162720" cy="201240"/>
              </a:xfrm>
            </p:grpSpPr>
            <p:sp>
              <p:nvSpPr>
                <p:cNvPr id="821" name="Freeform 1614"/>
                <p:cNvSpPr/>
                <p:nvPr/>
              </p:nvSpPr>
              <p:spPr>
                <a:xfrm flipV="1" rot="16192200">
                  <a:off x="2453400" y="5986800"/>
                  <a:ext cx="84960" cy="766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-360 h 76680"/>
                    <a:gd name="textAreaBottom" fmla="*/ 76680 h 7668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22" name="Group 1615"/>
                <p:cNvGrpSpPr/>
                <p:nvPr/>
              </p:nvGrpSpPr>
              <p:grpSpPr>
                <a:xfrm>
                  <a:off x="2447280" y="6010920"/>
                  <a:ext cx="162720" cy="173160"/>
                  <a:chOff x="2447280" y="6010920"/>
                  <a:chExt cx="162720" cy="173160"/>
                </a:xfrm>
              </p:grpSpPr>
              <p:grpSp>
                <p:nvGrpSpPr>
                  <p:cNvPr id="823" name="Group 1616"/>
                  <p:cNvGrpSpPr/>
                  <p:nvPr/>
                </p:nvGrpSpPr>
                <p:grpSpPr>
                  <a:xfrm>
                    <a:off x="2447280" y="6010920"/>
                    <a:ext cx="162720" cy="173160"/>
                    <a:chOff x="2447280" y="6010920"/>
                    <a:chExt cx="162720" cy="173160"/>
                  </a:xfrm>
                </p:grpSpPr>
                <p:sp>
                  <p:nvSpPr>
                    <p:cNvPr id="824" name="Freeform 1617"/>
                    <p:cNvSpPr/>
                    <p:nvPr/>
                  </p:nvSpPr>
                  <p:spPr>
                    <a:xfrm flipV="1" rot="14394600">
                      <a:off x="2482920" y="6057360"/>
                      <a:ext cx="138600" cy="52560"/>
                    </a:xfrm>
                    <a:custGeom>
                      <a:avLst/>
                      <a:gdLst>
                        <a:gd name="textAreaLeft" fmla="*/ 0 w 138600"/>
                        <a:gd name="textAreaRight" fmla="*/ 138960 w 138600"/>
                        <a:gd name="textAreaTop" fmla="*/ 360 h 52560"/>
                        <a:gd name="textAreaBottom" fmla="*/ 53280 h 5256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25" name="Freeform 1618"/>
                    <p:cNvSpPr/>
                    <p:nvPr/>
                  </p:nvSpPr>
                  <p:spPr>
                    <a:xfrm flipV="1" rot="14394600">
                      <a:off x="2441880" y="6070320"/>
                      <a:ext cx="141480" cy="694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-360 h 69480"/>
                        <a:gd name="textAreaBottom" fmla="*/ 69480 h 694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826" name="Freeform 1619"/>
                  <p:cNvSpPr/>
                  <p:nvPr/>
                </p:nvSpPr>
                <p:spPr>
                  <a:xfrm flipV="1" rot="14394600">
                    <a:off x="2489040" y="603864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7" name="Freeform 1620"/>
                  <p:cNvSpPr/>
                  <p:nvPr/>
                </p:nvSpPr>
                <p:spPr>
                  <a:xfrm flipV="1" rot="14394600">
                    <a:off x="2498760" y="6055560"/>
                    <a:ext cx="14040" cy="486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-360 h 48600"/>
                      <a:gd name="textAreaBottom" fmla="*/ 48600 h 4860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8" name="Freeform 1621"/>
                  <p:cNvSpPr/>
                  <p:nvPr/>
                </p:nvSpPr>
                <p:spPr>
                  <a:xfrm flipV="1" rot="14394600">
                    <a:off x="2512080" y="6081120"/>
                    <a:ext cx="11520" cy="313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-360 h 31320"/>
                      <a:gd name="textAreaBottom" fmla="*/ 31320 h 3132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9" name="Freeform 1622"/>
                  <p:cNvSpPr/>
                  <p:nvPr/>
                </p:nvSpPr>
                <p:spPr>
                  <a:xfrm flipV="1" rot="14394600">
                    <a:off x="2532600" y="6050520"/>
                    <a:ext cx="18000" cy="2448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360 h 24480"/>
                      <a:gd name="textAreaBottom" fmla="*/ 25200 h 24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0" name="Freeform 1623"/>
                  <p:cNvSpPr/>
                  <p:nvPr/>
                </p:nvSpPr>
                <p:spPr>
                  <a:xfrm flipV="1" rot="14394600">
                    <a:off x="2524680" y="6033960"/>
                    <a:ext cx="19440" cy="2736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360 h 27360"/>
                      <a:gd name="textAreaBottom" fmla="*/ 28080 h 273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31" name="Group 1624"/>
            <p:cNvGrpSpPr/>
            <p:nvPr/>
          </p:nvGrpSpPr>
          <p:grpSpPr>
            <a:xfrm>
              <a:off x="2243520" y="5229720"/>
              <a:ext cx="105120" cy="99360"/>
              <a:chOff x="2243520" y="5229720"/>
              <a:chExt cx="105120" cy="99360"/>
            </a:xfrm>
          </p:grpSpPr>
          <p:sp>
            <p:nvSpPr>
              <p:cNvPr id="832" name="Freeform 1625"/>
              <p:cNvSpPr/>
              <p:nvPr/>
            </p:nvSpPr>
            <p:spPr>
              <a:xfrm rot="3443400">
                <a:off x="2245680" y="5255640"/>
                <a:ext cx="82440" cy="50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6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1626"/>
              <p:cNvSpPr/>
              <p:nvPr/>
            </p:nvSpPr>
            <p:spPr>
              <a:xfrm flipH="1" rot="3444000">
                <a:off x="2271240" y="5270400"/>
                <a:ext cx="48240" cy="3132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6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1627"/>
              <p:cNvSpPr/>
              <p:nvPr/>
            </p:nvSpPr>
            <p:spPr>
              <a:xfrm rot="3443400">
                <a:off x="2269440" y="529992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35" name="Group 1628"/>
              <p:cNvGrpSpPr/>
              <p:nvPr/>
            </p:nvGrpSpPr>
            <p:grpSpPr>
              <a:xfrm>
                <a:off x="2287080" y="5229720"/>
                <a:ext cx="61560" cy="50760"/>
                <a:chOff x="2287080" y="5229720"/>
                <a:chExt cx="61560" cy="50760"/>
              </a:xfrm>
            </p:grpSpPr>
            <p:sp>
              <p:nvSpPr>
                <p:cNvPr id="836" name="Freeform 1629"/>
                <p:cNvSpPr/>
                <p:nvPr/>
              </p:nvSpPr>
              <p:spPr>
                <a:xfrm flipH="1" rot="3444600">
                  <a:off x="2291400" y="5234040"/>
                  <a:ext cx="23400" cy="23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37" name="Group 1630"/>
                <p:cNvGrpSpPr/>
                <p:nvPr/>
              </p:nvGrpSpPr>
              <p:grpSpPr>
                <a:xfrm>
                  <a:off x="2297520" y="5235120"/>
                  <a:ext cx="51120" cy="45360"/>
                  <a:chOff x="2297520" y="5235120"/>
                  <a:chExt cx="51120" cy="45360"/>
                </a:xfrm>
              </p:grpSpPr>
              <p:grpSp>
                <p:nvGrpSpPr>
                  <p:cNvPr id="838" name="Group 1631"/>
                  <p:cNvGrpSpPr/>
                  <p:nvPr/>
                </p:nvGrpSpPr>
                <p:grpSpPr>
                  <a:xfrm>
                    <a:off x="2297520" y="5235120"/>
                    <a:ext cx="51120" cy="45360"/>
                    <a:chOff x="2297520" y="5235120"/>
                    <a:chExt cx="51120" cy="45360"/>
                  </a:xfrm>
                </p:grpSpPr>
                <p:sp>
                  <p:nvSpPr>
                    <p:cNvPr id="839" name="Freeform 1632"/>
                    <p:cNvSpPr/>
                    <p:nvPr/>
                  </p:nvSpPr>
                  <p:spPr>
                    <a:xfrm flipH="1" rot="1647000">
                      <a:off x="2304720" y="5243760"/>
                      <a:ext cx="42480" cy="14040"/>
                    </a:xfrm>
                    <a:custGeom>
                      <a:avLst/>
                      <a:gdLst>
                        <a:gd name="textAreaLeft" fmla="*/ 360 w 42480"/>
                        <a:gd name="textAreaRight" fmla="*/ 43200 w 42480"/>
                        <a:gd name="textAreaTop" fmla="*/ 0 h 14040"/>
                        <a:gd name="textAreaBottom" fmla="*/ 14040 h 14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40" name="Freeform 1633"/>
                    <p:cNvSpPr/>
                    <p:nvPr/>
                  </p:nvSpPr>
                  <p:spPr>
                    <a:xfrm flipH="1" rot="1647000">
                      <a:off x="2299320" y="5252400"/>
                      <a:ext cx="42840" cy="1908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841" name="Freeform 1634"/>
                  <p:cNvSpPr/>
                  <p:nvPr/>
                </p:nvSpPr>
                <p:spPr>
                  <a:xfrm flipH="1" rot="1647000">
                    <a:off x="2306160" y="524700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2" name="Freeform 1635"/>
                  <p:cNvSpPr/>
                  <p:nvPr/>
                </p:nvSpPr>
                <p:spPr>
                  <a:xfrm flipH="1" rot="1647000">
                    <a:off x="2311920" y="524988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3" name="Freeform 1636"/>
                  <p:cNvSpPr/>
                  <p:nvPr/>
                </p:nvSpPr>
                <p:spPr>
                  <a:xfrm flipH="1" rot="1647000">
                    <a:off x="2317680" y="5254560"/>
                    <a:ext cx="3600" cy="9000"/>
                  </a:xfrm>
                  <a:custGeom>
                    <a:avLst/>
                    <a:gdLst>
                      <a:gd name="textAreaLeft" fmla="*/ 360 w 3600"/>
                      <a:gd name="textAreaRight" fmla="*/ 4320 w 3600"/>
                      <a:gd name="textAreaTop" fmla="*/ 0 h 9000"/>
                      <a:gd name="textAreaBottom" fmla="*/ 9000 h 90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4" name="Freeform 1637"/>
                  <p:cNvSpPr/>
                  <p:nvPr/>
                </p:nvSpPr>
                <p:spPr>
                  <a:xfrm flipH="1" rot="1647000">
                    <a:off x="2317680" y="5244120"/>
                    <a:ext cx="5400" cy="6480"/>
                  </a:xfrm>
                  <a:custGeom>
                    <a:avLst/>
                    <a:gdLst>
                      <a:gd name="textAreaLeft" fmla="*/ -360 w 5400"/>
                      <a:gd name="textAreaRight" fmla="*/ 540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5" name="Freeform 1638"/>
                  <p:cNvSpPr/>
                  <p:nvPr/>
                </p:nvSpPr>
                <p:spPr>
                  <a:xfrm flipH="1" rot="1647000">
                    <a:off x="2313000" y="5240880"/>
                    <a:ext cx="5760" cy="7560"/>
                  </a:xfrm>
                  <a:custGeom>
                    <a:avLst/>
                    <a:gdLst>
                      <a:gd name="textAreaLeft" fmla="*/ 360 w 5760"/>
                      <a:gd name="textAreaRight" fmla="*/ 648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46" name="Group 1639"/>
            <p:cNvGrpSpPr/>
            <p:nvPr/>
          </p:nvGrpSpPr>
          <p:grpSpPr>
            <a:xfrm>
              <a:off x="2595240" y="5229720"/>
              <a:ext cx="105120" cy="99360"/>
              <a:chOff x="2595240" y="5229720"/>
              <a:chExt cx="105120" cy="99360"/>
            </a:xfrm>
          </p:grpSpPr>
          <p:sp>
            <p:nvSpPr>
              <p:cNvPr id="847" name="Freeform 1640"/>
              <p:cNvSpPr/>
              <p:nvPr/>
            </p:nvSpPr>
            <p:spPr>
              <a:xfrm flipH="1" rot="18156600">
                <a:off x="2615400" y="525564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6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Freeform 1641"/>
              <p:cNvSpPr/>
              <p:nvPr/>
            </p:nvSpPr>
            <p:spPr>
              <a:xfrm rot="18156000">
                <a:off x="2623680" y="527040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6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Freeform 1642"/>
              <p:cNvSpPr/>
              <p:nvPr/>
            </p:nvSpPr>
            <p:spPr>
              <a:xfrm flipH="1" rot="18156600">
                <a:off x="2668680" y="529992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50" name="Group 1643"/>
              <p:cNvGrpSpPr/>
              <p:nvPr/>
            </p:nvGrpSpPr>
            <p:grpSpPr>
              <a:xfrm>
                <a:off x="2595240" y="5229720"/>
                <a:ext cx="61560" cy="50760"/>
                <a:chOff x="2595240" y="5229720"/>
                <a:chExt cx="61560" cy="50760"/>
              </a:xfrm>
            </p:grpSpPr>
            <p:sp>
              <p:nvSpPr>
                <p:cNvPr id="851" name="Freeform 1644"/>
                <p:cNvSpPr/>
                <p:nvPr/>
              </p:nvSpPr>
              <p:spPr>
                <a:xfrm rot="18155400">
                  <a:off x="2628720" y="523404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52" name="Group 1645"/>
                <p:cNvGrpSpPr/>
                <p:nvPr/>
              </p:nvGrpSpPr>
              <p:grpSpPr>
                <a:xfrm>
                  <a:off x="2595240" y="5235120"/>
                  <a:ext cx="51480" cy="45360"/>
                  <a:chOff x="2595240" y="5235120"/>
                  <a:chExt cx="51480" cy="45360"/>
                </a:xfrm>
              </p:grpSpPr>
              <p:grpSp>
                <p:nvGrpSpPr>
                  <p:cNvPr id="853" name="Group 1646"/>
                  <p:cNvGrpSpPr/>
                  <p:nvPr/>
                </p:nvGrpSpPr>
                <p:grpSpPr>
                  <a:xfrm>
                    <a:off x="2595240" y="5235120"/>
                    <a:ext cx="51480" cy="45360"/>
                    <a:chOff x="2595240" y="5235120"/>
                    <a:chExt cx="51480" cy="45360"/>
                  </a:xfrm>
                </p:grpSpPr>
                <p:sp>
                  <p:nvSpPr>
                    <p:cNvPr id="854" name="Freeform 1647"/>
                    <p:cNvSpPr/>
                    <p:nvPr/>
                  </p:nvSpPr>
                  <p:spPr>
                    <a:xfrm rot="19953000">
                      <a:off x="2595960" y="524376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55" name="Freeform 1648"/>
                    <p:cNvSpPr/>
                    <p:nvPr/>
                  </p:nvSpPr>
                  <p:spPr>
                    <a:xfrm rot="19953000">
                      <a:off x="2601360" y="525240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856" name="Freeform 1649"/>
                  <p:cNvSpPr/>
                  <p:nvPr/>
                </p:nvSpPr>
                <p:spPr>
                  <a:xfrm rot="19953000">
                    <a:off x="2632320" y="524736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7" name="Freeform 1650"/>
                  <p:cNvSpPr/>
                  <p:nvPr/>
                </p:nvSpPr>
                <p:spPr>
                  <a:xfrm rot="19953000">
                    <a:off x="2626560" y="525024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8" name="Freeform 1651"/>
                  <p:cNvSpPr/>
                  <p:nvPr/>
                </p:nvSpPr>
                <p:spPr>
                  <a:xfrm rot="19953000">
                    <a:off x="2621520" y="525492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9" name="Freeform 1652"/>
                  <p:cNvSpPr/>
                  <p:nvPr/>
                </p:nvSpPr>
                <p:spPr>
                  <a:xfrm rot="19953000">
                    <a:off x="2620440" y="524412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0" name="Freeform 1653"/>
                  <p:cNvSpPr/>
                  <p:nvPr/>
                </p:nvSpPr>
                <p:spPr>
                  <a:xfrm rot="19953000">
                    <a:off x="2624400" y="524088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61" name="Group 1654"/>
            <p:cNvGrpSpPr/>
            <p:nvPr/>
          </p:nvGrpSpPr>
          <p:grpSpPr>
            <a:xfrm>
              <a:off x="2861280" y="5946480"/>
              <a:ext cx="105120" cy="99360"/>
              <a:chOff x="2861280" y="5946480"/>
              <a:chExt cx="105120" cy="99360"/>
            </a:xfrm>
          </p:grpSpPr>
          <p:sp>
            <p:nvSpPr>
              <p:cNvPr id="862" name="Freeform 1655"/>
              <p:cNvSpPr/>
              <p:nvPr/>
            </p:nvSpPr>
            <p:spPr>
              <a:xfrm flipH="1" rot="18156600">
                <a:off x="2881440" y="597240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7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1656"/>
              <p:cNvSpPr/>
              <p:nvPr/>
            </p:nvSpPr>
            <p:spPr>
              <a:xfrm rot="18156000">
                <a:off x="2889720" y="598716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7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1657"/>
              <p:cNvSpPr/>
              <p:nvPr/>
            </p:nvSpPr>
            <p:spPr>
              <a:xfrm flipH="1" rot="18156600">
                <a:off x="2934720" y="601668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65" name="Group 1658"/>
              <p:cNvGrpSpPr/>
              <p:nvPr/>
            </p:nvGrpSpPr>
            <p:grpSpPr>
              <a:xfrm>
                <a:off x="2861280" y="5946480"/>
                <a:ext cx="61560" cy="50760"/>
                <a:chOff x="2861280" y="5946480"/>
                <a:chExt cx="61560" cy="50760"/>
              </a:xfrm>
            </p:grpSpPr>
            <p:sp>
              <p:nvSpPr>
                <p:cNvPr id="866" name="Freeform 1659"/>
                <p:cNvSpPr/>
                <p:nvPr/>
              </p:nvSpPr>
              <p:spPr>
                <a:xfrm rot="18155400">
                  <a:off x="2894760" y="595080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67" name="Group 1660"/>
                <p:cNvGrpSpPr/>
                <p:nvPr/>
              </p:nvGrpSpPr>
              <p:grpSpPr>
                <a:xfrm>
                  <a:off x="2861280" y="5951880"/>
                  <a:ext cx="51480" cy="45360"/>
                  <a:chOff x="2861280" y="5951880"/>
                  <a:chExt cx="51480" cy="45360"/>
                </a:xfrm>
              </p:grpSpPr>
              <p:grpSp>
                <p:nvGrpSpPr>
                  <p:cNvPr id="868" name="Group 1661"/>
                  <p:cNvGrpSpPr/>
                  <p:nvPr/>
                </p:nvGrpSpPr>
                <p:grpSpPr>
                  <a:xfrm>
                    <a:off x="2861280" y="5951880"/>
                    <a:ext cx="51480" cy="45360"/>
                    <a:chOff x="2861280" y="5951880"/>
                    <a:chExt cx="51480" cy="45360"/>
                  </a:xfrm>
                </p:grpSpPr>
                <p:sp>
                  <p:nvSpPr>
                    <p:cNvPr id="869" name="Freeform 1662"/>
                    <p:cNvSpPr/>
                    <p:nvPr/>
                  </p:nvSpPr>
                  <p:spPr>
                    <a:xfrm rot="19953000">
                      <a:off x="2862000" y="596052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70" name="Freeform 1663"/>
                    <p:cNvSpPr/>
                    <p:nvPr/>
                  </p:nvSpPr>
                  <p:spPr>
                    <a:xfrm rot="19953000">
                      <a:off x="2867400" y="596916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871" name="Freeform 1664"/>
                  <p:cNvSpPr/>
                  <p:nvPr/>
                </p:nvSpPr>
                <p:spPr>
                  <a:xfrm rot="19953000">
                    <a:off x="2898360" y="596412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2" name="Freeform 1665"/>
                  <p:cNvSpPr/>
                  <p:nvPr/>
                </p:nvSpPr>
                <p:spPr>
                  <a:xfrm rot="19953000">
                    <a:off x="2892600" y="596700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3" name="Freeform 1666"/>
                  <p:cNvSpPr/>
                  <p:nvPr/>
                </p:nvSpPr>
                <p:spPr>
                  <a:xfrm rot="19953000">
                    <a:off x="2887560" y="597168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4" name="Freeform 1667"/>
                  <p:cNvSpPr/>
                  <p:nvPr/>
                </p:nvSpPr>
                <p:spPr>
                  <a:xfrm rot="19953000">
                    <a:off x="2886480" y="596088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5" name="Freeform 1668"/>
                  <p:cNvSpPr/>
                  <p:nvPr/>
                </p:nvSpPr>
                <p:spPr>
                  <a:xfrm rot="19953000">
                    <a:off x="2890440" y="595764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76" name="Group 1669"/>
            <p:cNvGrpSpPr/>
            <p:nvPr/>
          </p:nvGrpSpPr>
          <p:grpSpPr>
            <a:xfrm>
              <a:off x="2881800" y="5140080"/>
              <a:ext cx="105120" cy="99360"/>
              <a:chOff x="2881800" y="5140080"/>
              <a:chExt cx="105120" cy="99360"/>
            </a:xfrm>
          </p:grpSpPr>
          <p:sp>
            <p:nvSpPr>
              <p:cNvPr id="877" name="Freeform 1670"/>
              <p:cNvSpPr/>
              <p:nvPr/>
            </p:nvSpPr>
            <p:spPr>
              <a:xfrm flipH="1" rot="18156600">
                <a:off x="2901960" y="516600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7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1671"/>
              <p:cNvSpPr/>
              <p:nvPr/>
            </p:nvSpPr>
            <p:spPr>
              <a:xfrm rot="18156000">
                <a:off x="2910240" y="518076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7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1672"/>
              <p:cNvSpPr/>
              <p:nvPr/>
            </p:nvSpPr>
            <p:spPr>
              <a:xfrm flipH="1" rot="18156600">
                <a:off x="2955240" y="521028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80" name="Group 1673"/>
              <p:cNvGrpSpPr/>
              <p:nvPr/>
            </p:nvGrpSpPr>
            <p:grpSpPr>
              <a:xfrm>
                <a:off x="2881800" y="5140080"/>
                <a:ext cx="61560" cy="50760"/>
                <a:chOff x="2881800" y="5140080"/>
                <a:chExt cx="61560" cy="50760"/>
              </a:xfrm>
            </p:grpSpPr>
            <p:sp>
              <p:nvSpPr>
                <p:cNvPr id="881" name="Freeform 1674"/>
                <p:cNvSpPr/>
                <p:nvPr/>
              </p:nvSpPr>
              <p:spPr>
                <a:xfrm rot="18155400">
                  <a:off x="2915280" y="514440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82" name="Group 1675"/>
                <p:cNvGrpSpPr/>
                <p:nvPr/>
              </p:nvGrpSpPr>
              <p:grpSpPr>
                <a:xfrm>
                  <a:off x="2881800" y="5145480"/>
                  <a:ext cx="51480" cy="45360"/>
                  <a:chOff x="2881800" y="5145480"/>
                  <a:chExt cx="51480" cy="45360"/>
                </a:xfrm>
              </p:grpSpPr>
              <p:grpSp>
                <p:nvGrpSpPr>
                  <p:cNvPr id="883" name="Group 1676"/>
                  <p:cNvGrpSpPr/>
                  <p:nvPr/>
                </p:nvGrpSpPr>
                <p:grpSpPr>
                  <a:xfrm>
                    <a:off x="2881800" y="5145480"/>
                    <a:ext cx="51480" cy="45360"/>
                    <a:chOff x="2881800" y="5145480"/>
                    <a:chExt cx="51480" cy="45360"/>
                  </a:xfrm>
                </p:grpSpPr>
                <p:sp>
                  <p:nvSpPr>
                    <p:cNvPr id="884" name="Freeform 1677"/>
                    <p:cNvSpPr/>
                    <p:nvPr/>
                  </p:nvSpPr>
                  <p:spPr>
                    <a:xfrm rot="19953000">
                      <a:off x="2882520" y="515412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85" name="Freeform 1678"/>
                    <p:cNvSpPr/>
                    <p:nvPr/>
                  </p:nvSpPr>
                  <p:spPr>
                    <a:xfrm rot="19953000">
                      <a:off x="2887920" y="516276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886" name="Freeform 1679"/>
                  <p:cNvSpPr/>
                  <p:nvPr/>
                </p:nvSpPr>
                <p:spPr>
                  <a:xfrm rot="19953000">
                    <a:off x="2918880" y="515772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7" name="Freeform 1680"/>
                  <p:cNvSpPr/>
                  <p:nvPr/>
                </p:nvSpPr>
                <p:spPr>
                  <a:xfrm rot="19953000">
                    <a:off x="2913120" y="516060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8" name="Freeform 1681"/>
                  <p:cNvSpPr/>
                  <p:nvPr/>
                </p:nvSpPr>
                <p:spPr>
                  <a:xfrm rot="19953000">
                    <a:off x="2908080" y="516528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9" name="Freeform 1682"/>
                  <p:cNvSpPr/>
                  <p:nvPr/>
                </p:nvSpPr>
                <p:spPr>
                  <a:xfrm rot="19953000">
                    <a:off x="2907000" y="515448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0" name="Freeform 1683"/>
                  <p:cNvSpPr/>
                  <p:nvPr/>
                </p:nvSpPr>
                <p:spPr>
                  <a:xfrm rot="19953000">
                    <a:off x="2910960" y="515124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91" name="Group 1684"/>
            <p:cNvGrpSpPr/>
            <p:nvPr/>
          </p:nvGrpSpPr>
          <p:grpSpPr>
            <a:xfrm>
              <a:off x="2984040" y="5289480"/>
              <a:ext cx="105120" cy="99360"/>
              <a:chOff x="2984040" y="5289480"/>
              <a:chExt cx="105120" cy="99360"/>
            </a:xfrm>
          </p:grpSpPr>
          <p:sp>
            <p:nvSpPr>
              <p:cNvPr id="892" name="Freeform 1685"/>
              <p:cNvSpPr/>
              <p:nvPr/>
            </p:nvSpPr>
            <p:spPr>
              <a:xfrm flipH="1" rot="18156600">
                <a:off x="3004200" y="531540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8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Freeform 1686"/>
              <p:cNvSpPr/>
              <p:nvPr/>
            </p:nvSpPr>
            <p:spPr>
              <a:xfrm rot="18156000">
                <a:off x="3012480" y="533016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8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1687"/>
              <p:cNvSpPr/>
              <p:nvPr/>
            </p:nvSpPr>
            <p:spPr>
              <a:xfrm flipH="1" rot="18156600">
                <a:off x="3057480" y="535968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95" name="Group 1688"/>
              <p:cNvGrpSpPr/>
              <p:nvPr/>
            </p:nvGrpSpPr>
            <p:grpSpPr>
              <a:xfrm>
                <a:off x="2984040" y="5289480"/>
                <a:ext cx="61560" cy="50760"/>
                <a:chOff x="2984040" y="5289480"/>
                <a:chExt cx="61560" cy="50760"/>
              </a:xfrm>
            </p:grpSpPr>
            <p:sp>
              <p:nvSpPr>
                <p:cNvPr id="896" name="Freeform 1689"/>
                <p:cNvSpPr/>
                <p:nvPr/>
              </p:nvSpPr>
              <p:spPr>
                <a:xfrm rot="18155400">
                  <a:off x="3017520" y="529380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97" name="Group 1690"/>
                <p:cNvGrpSpPr/>
                <p:nvPr/>
              </p:nvGrpSpPr>
              <p:grpSpPr>
                <a:xfrm>
                  <a:off x="2984040" y="5294880"/>
                  <a:ext cx="51480" cy="45360"/>
                  <a:chOff x="2984040" y="5294880"/>
                  <a:chExt cx="51480" cy="45360"/>
                </a:xfrm>
              </p:grpSpPr>
              <p:grpSp>
                <p:nvGrpSpPr>
                  <p:cNvPr id="898" name="Group 1691"/>
                  <p:cNvGrpSpPr/>
                  <p:nvPr/>
                </p:nvGrpSpPr>
                <p:grpSpPr>
                  <a:xfrm>
                    <a:off x="2984040" y="5294880"/>
                    <a:ext cx="51480" cy="45360"/>
                    <a:chOff x="2984040" y="5294880"/>
                    <a:chExt cx="51480" cy="45360"/>
                  </a:xfrm>
                </p:grpSpPr>
                <p:sp>
                  <p:nvSpPr>
                    <p:cNvPr id="899" name="Freeform 1692"/>
                    <p:cNvSpPr/>
                    <p:nvPr/>
                  </p:nvSpPr>
                  <p:spPr>
                    <a:xfrm rot="19953000">
                      <a:off x="2984760" y="530352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00" name="Freeform 1693"/>
                    <p:cNvSpPr/>
                    <p:nvPr/>
                  </p:nvSpPr>
                  <p:spPr>
                    <a:xfrm rot="19953000">
                      <a:off x="2990160" y="531216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901" name="Freeform 1694"/>
                  <p:cNvSpPr/>
                  <p:nvPr/>
                </p:nvSpPr>
                <p:spPr>
                  <a:xfrm rot="19953000">
                    <a:off x="3021120" y="530712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2" name="Freeform 1695"/>
                  <p:cNvSpPr/>
                  <p:nvPr/>
                </p:nvSpPr>
                <p:spPr>
                  <a:xfrm rot="19953000">
                    <a:off x="3015360" y="531000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3" name="Freeform 1696"/>
                  <p:cNvSpPr/>
                  <p:nvPr/>
                </p:nvSpPr>
                <p:spPr>
                  <a:xfrm rot="19953000">
                    <a:off x="3010320" y="531468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4" name="Freeform 1697"/>
                  <p:cNvSpPr/>
                  <p:nvPr/>
                </p:nvSpPr>
                <p:spPr>
                  <a:xfrm rot="19953000">
                    <a:off x="3009240" y="530388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5" name="Freeform 1698"/>
                  <p:cNvSpPr/>
                  <p:nvPr/>
                </p:nvSpPr>
                <p:spPr>
                  <a:xfrm rot="19953000">
                    <a:off x="3013200" y="530064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906" name="Group 1699"/>
            <p:cNvGrpSpPr/>
            <p:nvPr/>
          </p:nvGrpSpPr>
          <p:grpSpPr>
            <a:xfrm>
              <a:off x="2718000" y="5229720"/>
              <a:ext cx="105120" cy="99360"/>
              <a:chOff x="2718000" y="5229720"/>
              <a:chExt cx="105120" cy="99360"/>
            </a:xfrm>
          </p:grpSpPr>
          <p:sp>
            <p:nvSpPr>
              <p:cNvPr id="907" name="Freeform 1700"/>
              <p:cNvSpPr/>
              <p:nvPr/>
            </p:nvSpPr>
            <p:spPr>
              <a:xfrm flipH="1" rot="18156600">
                <a:off x="2738160" y="525564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8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1701"/>
              <p:cNvSpPr/>
              <p:nvPr/>
            </p:nvSpPr>
            <p:spPr>
              <a:xfrm rot="18156000">
                <a:off x="2746440" y="527040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8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Freeform 1702"/>
              <p:cNvSpPr/>
              <p:nvPr/>
            </p:nvSpPr>
            <p:spPr>
              <a:xfrm flipH="1" rot="18156600">
                <a:off x="2791440" y="529992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10" name="Group 1703"/>
              <p:cNvGrpSpPr/>
              <p:nvPr/>
            </p:nvGrpSpPr>
            <p:grpSpPr>
              <a:xfrm>
                <a:off x="2718000" y="5229720"/>
                <a:ext cx="61560" cy="50760"/>
                <a:chOff x="2718000" y="5229720"/>
                <a:chExt cx="61560" cy="50760"/>
              </a:xfrm>
            </p:grpSpPr>
            <p:sp>
              <p:nvSpPr>
                <p:cNvPr id="911" name="Freeform 1704"/>
                <p:cNvSpPr/>
                <p:nvPr/>
              </p:nvSpPr>
              <p:spPr>
                <a:xfrm rot="18155400">
                  <a:off x="2751480" y="523404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12" name="Group 1705"/>
                <p:cNvGrpSpPr/>
                <p:nvPr/>
              </p:nvGrpSpPr>
              <p:grpSpPr>
                <a:xfrm>
                  <a:off x="2718000" y="5235120"/>
                  <a:ext cx="51480" cy="45360"/>
                  <a:chOff x="2718000" y="5235120"/>
                  <a:chExt cx="51480" cy="45360"/>
                </a:xfrm>
              </p:grpSpPr>
              <p:grpSp>
                <p:nvGrpSpPr>
                  <p:cNvPr id="913" name="Group 1706"/>
                  <p:cNvGrpSpPr/>
                  <p:nvPr/>
                </p:nvGrpSpPr>
                <p:grpSpPr>
                  <a:xfrm>
                    <a:off x="2718000" y="5235120"/>
                    <a:ext cx="51480" cy="45360"/>
                    <a:chOff x="2718000" y="5235120"/>
                    <a:chExt cx="51480" cy="45360"/>
                  </a:xfrm>
                </p:grpSpPr>
                <p:sp>
                  <p:nvSpPr>
                    <p:cNvPr id="914" name="Freeform 1707"/>
                    <p:cNvSpPr/>
                    <p:nvPr/>
                  </p:nvSpPr>
                  <p:spPr>
                    <a:xfrm rot="19953000">
                      <a:off x="2718720" y="524376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15" name="Freeform 1708"/>
                    <p:cNvSpPr/>
                    <p:nvPr/>
                  </p:nvSpPr>
                  <p:spPr>
                    <a:xfrm rot="19953000">
                      <a:off x="2724120" y="525240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916" name="Freeform 1709"/>
                  <p:cNvSpPr/>
                  <p:nvPr/>
                </p:nvSpPr>
                <p:spPr>
                  <a:xfrm rot="19953000">
                    <a:off x="2755080" y="524736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7" name="Freeform 1710"/>
                  <p:cNvSpPr/>
                  <p:nvPr/>
                </p:nvSpPr>
                <p:spPr>
                  <a:xfrm rot="19953000">
                    <a:off x="2749320" y="525024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8" name="Freeform 1711"/>
                  <p:cNvSpPr/>
                  <p:nvPr/>
                </p:nvSpPr>
                <p:spPr>
                  <a:xfrm rot="19953000">
                    <a:off x="2744280" y="525492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9" name="Freeform 1712"/>
                  <p:cNvSpPr/>
                  <p:nvPr/>
                </p:nvSpPr>
                <p:spPr>
                  <a:xfrm rot="19953000">
                    <a:off x="2743200" y="524412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0" name="Freeform 1713"/>
                  <p:cNvSpPr/>
                  <p:nvPr/>
                </p:nvSpPr>
                <p:spPr>
                  <a:xfrm rot="19953000">
                    <a:off x="2747160" y="524088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921" name="Group 1714"/>
            <p:cNvGrpSpPr/>
            <p:nvPr/>
          </p:nvGrpSpPr>
          <p:grpSpPr>
            <a:xfrm>
              <a:off x="2656440" y="5379120"/>
              <a:ext cx="105120" cy="99360"/>
              <a:chOff x="2656440" y="5379120"/>
              <a:chExt cx="105120" cy="99360"/>
            </a:xfrm>
          </p:grpSpPr>
          <p:sp>
            <p:nvSpPr>
              <p:cNvPr id="922" name="Freeform 1715"/>
              <p:cNvSpPr/>
              <p:nvPr/>
            </p:nvSpPr>
            <p:spPr>
              <a:xfrm flipH="1" rot="18156600">
                <a:off x="2676600" y="540504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8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1716"/>
              <p:cNvSpPr/>
              <p:nvPr/>
            </p:nvSpPr>
            <p:spPr>
              <a:xfrm rot="18156000">
                <a:off x="2684880" y="541980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8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1717"/>
              <p:cNvSpPr/>
              <p:nvPr/>
            </p:nvSpPr>
            <p:spPr>
              <a:xfrm flipH="1" rot="18156600">
                <a:off x="2729880" y="544932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25" name="Group 1718"/>
              <p:cNvGrpSpPr/>
              <p:nvPr/>
            </p:nvGrpSpPr>
            <p:grpSpPr>
              <a:xfrm>
                <a:off x="2656440" y="5379120"/>
                <a:ext cx="61560" cy="50760"/>
                <a:chOff x="2656440" y="5379120"/>
                <a:chExt cx="61560" cy="50760"/>
              </a:xfrm>
            </p:grpSpPr>
            <p:sp>
              <p:nvSpPr>
                <p:cNvPr id="926" name="Freeform 1719"/>
                <p:cNvSpPr/>
                <p:nvPr/>
              </p:nvSpPr>
              <p:spPr>
                <a:xfrm rot="18155400">
                  <a:off x="2689920" y="538344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27" name="Group 1720"/>
                <p:cNvGrpSpPr/>
                <p:nvPr/>
              </p:nvGrpSpPr>
              <p:grpSpPr>
                <a:xfrm>
                  <a:off x="2656440" y="5384520"/>
                  <a:ext cx="51480" cy="45360"/>
                  <a:chOff x="2656440" y="5384520"/>
                  <a:chExt cx="51480" cy="45360"/>
                </a:xfrm>
              </p:grpSpPr>
              <p:grpSp>
                <p:nvGrpSpPr>
                  <p:cNvPr id="928" name="Group 1721"/>
                  <p:cNvGrpSpPr/>
                  <p:nvPr/>
                </p:nvGrpSpPr>
                <p:grpSpPr>
                  <a:xfrm>
                    <a:off x="2656440" y="5384520"/>
                    <a:ext cx="51480" cy="45360"/>
                    <a:chOff x="2656440" y="5384520"/>
                    <a:chExt cx="51480" cy="45360"/>
                  </a:xfrm>
                </p:grpSpPr>
                <p:sp>
                  <p:nvSpPr>
                    <p:cNvPr id="929" name="Freeform 1722"/>
                    <p:cNvSpPr/>
                    <p:nvPr/>
                  </p:nvSpPr>
                  <p:spPr>
                    <a:xfrm rot="19953000">
                      <a:off x="2657160" y="539316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30" name="Freeform 1723"/>
                    <p:cNvSpPr/>
                    <p:nvPr/>
                  </p:nvSpPr>
                  <p:spPr>
                    <a:xfrm rot="19953000">
                      <a:off x="2662560" y="540180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931" name="Freeform 1724"/>
                  <p:cNvSpPr/>
                  <p:nvPr/>
                </p:nvSpPr>
                <p:spPr>
                  <a:xfrm rot="19953000">
                    <a:off x="2693520" y="539676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2" name="Freeform 1725"/>
                  <p:cNvSpPr/>
                  <p:nvPr/>
                </p:nvSpPr>
                <p:spPr>
                  <a:xfrm rot="19953000">
                    <a:off x="2687760" y="539964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3" name="Freeform 1726"/>
                  <p:cNvSpPr/>
                  <p:nvPr/>
                </p:nvSpPr>
                <p:spPr>
                  <a:xfrm rot="19953000">
                    <a:off x="2682720" y="540432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4" name="Freeform 1727"/>
                  <p:cNvSpPr/>
                  <p:nvPr/>
                </p:nvSpPr>
                <p:spPr>
                  <a:xfrm rot="19953000">
                    <a:off x="2681640" y="539352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5" name="Freeform 1728"/>
                  <p:cNvSpPr/>
                  <p:nvPr/>
                </p:nvSpPr>
                <p:spPr>
                  <a:xfrm rot="19953000">
                    <a:off x="2685600" y="539028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936" name="Group 1729"/>
            <p:cNvGrpSpPr/>
            <p:nvPr/>
          </p:nvGrpSpPr>
          <p:grpSpPr>
            <a:xfrm>
              <a:off x="2820240" y="5558400"/>
              <a:ext cx="105120" cy="99360"/>
              <a:chOff x="2820240" y="5558400"/>
              <a:chExt cx="105120" cy="99360"/>
            </a:xfrm>
          </p:grpSpPr>
          <p:sp>
            <p:nvSpPr>
              <p:cNvPr id="937" name="Freeform 1730"/>
              <p:cNvSpPr/>
              <p:nvPr/>
            </p:nvSpPr>
            <p:spPr>
              <a:xfrm flipH="1" rot="18156600">
                <a:off x="2840400" y="558432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9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1731"/>
              <p:cNvSpPr/>
              <p:nvPr/>
            </p:nvSpPr>
            <p:spPr>
              <a:xfrm rot="18156000">
                <a:off x="2848680" y="559908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9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1732"/>
              <p:cNvSpPr/>
              <p:nvPr/>
            </p:nvSpPr>
            <p:spPr>
              <a:xfrm flipH="1" rot="18156600">
                <a:off x="2893680" y="562860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40" name="Group 1733"/>
              <p:cNvGrpSpPr/>
              <p:nvPr/>
            </p:nvGrpSpPr>
            <p:grpSpPr>
              <a:xfrm>
                <a:off x="2820240" y="5558400"/>
                <a:ext cx="61560" cy="50760"/>
                <a:chOff x="2820240" y="5558400"/>
                <a:chExt cx="61560" cy="50760"/>
              </a:xfrm>
            </p:grpSpPr>
            <p:sp>
              <p:nvSpPr>
                <p:cNvPr id="941" name="Freeform 1734"/>
                <p:cNvSpPr/>
                <p:nvPr/>
              </p:nvSpPr>
              <p:spPr>
                <a:xfrm rot="18155400">
                  <a:off x="2853720" y="556272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42" name="Group 1735"/>
                <p:cNvGrpSpPr/>
                <p:nvPr/>
              </p:nvGrpSpPr>
              <p:grpSpPr>
                <a:xfrm>
                  <a:off x="2820240" y="5563800"/>
                  <a:ext cx="51480" cy="45360"/>
                  <a:chOff x="2820240" y="5563800"/>
                  <a:chExt cx="51480" cy="45360"/>
                </a:xfrm>
              </p:grpSpPr>
              <p:grpSp>
                <p:nvGrpSpPr>
                  <p:cNvPr id="943" name="Group 1736"/>
                  <p:cNvGrpSpPr/>
                  <p:nvPr/>
                </p:nvGrpSpPr>
                <p:grpSpPr>
                  <a:xfrm>
                    <a:off x="2820240" y="5563800"/>
                    <a:ext cx="51480" cy="45360"/>
                    <a:chOff x="2820240" y="5563800"/>
                    <a:chExt cx="51480" cy="45360"/>
                  </a:xfrm>
                </p:grpSpPr>
                <p:sp>
                  <p:nvSpPr>
                    <p:cNvPr id="944" name="Freeform 1737"/>
                    <p:cNvSpPr/>
                    <p:nvPr/>
                  </p:nvSpPr>
                  <p:spPr>
                    <a:xfrm rot="19953000">
                      <a:off x="2820960" y="557244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45" name="Freeform 1738"/>
                    <p:cNvSpPr/>
                    <p:nvPr/>
                  </p:nvSpPr>
                  <p:spPr>
                    <a:xfrm rot="19953000">
                      <a:off x="2826360" y="558108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946" name="Freeform 1739"/>
                  <p:cNvSpPr/>
                  <p:nvPr/>
                </p:nvSpPr>
                <p:spPr>
                  <a:xfrm rot="19953000">
                    <a:off x="2857320" y="557604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7" name="Freeform 1740"/>
                  <p:cNvSpPr/>
                  <p:nvPr/>
                </p:nvSpPr>
                <p:spPr>
                  <a:xfrm rot="19953000">
                    <a:off x="2851560" y="557892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8" name="Freeform 1741"/>
                  <p:cNvSpPr/>
                  <p:nvPr/>
                </p:nvSpPr>
                <p:spPr>
                  <a:xfrm rot="19953000">
                    <a:off x="2846520" y="558360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9" name="Freeform 1742"/>
                  <p:cNvSpPr/>
                  <p:nvPr/>
                </p:nvSpPr>
                <p:spPr>
                  <a:xfrm rot="19953000">
                    <a:off x="2845440" y="557280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0" name="Freeform 1743"/>
                  <p:cNvSpPr/>
                  <p:nvPr/>
                </p:nvSpPr>
                <p:spPr>
                  <a:xfrm rot="19953000">
                    <a:off x="2849400" y="556956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951" name="Group 1744"/>
            <p:cNvGrpSpPr/>
            <p:nvPr/>
          </p:nvGrpSpPr>
          <p:grpSpPr>
            <a:xfrm>
              <a:off x="2554200" y="5050440"/>
              <a:ext cx="105120" cy="99360"/>
              <a:chOff x="2554200" y="5050440"/>
              <a:chExt cx="105120" cy="99360"/>
            </a:xfrm>
          </p:grpSpPr>
          <p:sp>
            <p:nvSpPr>
              <p:cNvPr id="952" name="Freeform 1745"/>
              <p:cNvSpPr/>
              <p:nvPr/>
            </p:nvSpPr>
            <p:spPr>
              <a:xfrm flipH="1" rot="18156600">
                <a:off x="2574360" y="507636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19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1746"/>
              <p:cNvSpPr/>
              <p:nvPr/>
            </p:nvSpPr>
            <p:spPr>
              <a:xfrm rot="18156000">
                <a:off x="2582640" y="509112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19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1747"/>
              <p:cNvSpPr/>
              <p:nvPr/>
            </p:nvSpPr>
            <p:spPr>
              <a:xfrm flipH="1" rot="18156600">
                <a:off x="2627640" y="512064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55" name="Group 1748"/>
              <p:cNvGrpSpPr/>
              <p:nvPr/>
            </p:nvGrpSpPr>
            <p:grpSpPr>
              <a:xfrm>
                <a:off x="2554200" y="5050440"/>
                <a:ext cx="61560" cy="50760"/>
                <a:chOff x="2554200" y="5050440"/>
                <a:chExt cx="61560" cy="50760"/>
              </a:xfrm>
            </p:grpSpPr>
            <p:sp>
              <p:nvSpPr>
                <p:cNvPr id="956" name="Freeform 1749"/>
                <p:cNvSpPr/>
                <p:nvPr/>
              </p:nvSpPr>
              <p:spPr>
                <a:xfrm rot="18155400">
                  <a:off x="2587680" y="505476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57" name="Group 1750"/>
                <p:cNvGrpSpPr/>
                <p:nvPr/>
              </p:nvGrpSpPr>
              <p:grpSpPr>
                <a:xfrm>
                  <a:off x="2554200" y="5055840"/>
                  <a:ext cx="51480" cy="45360"/>
                  <a:chOff x="2554200" y="5055840"/>
                  <a:chExt cx="51480" cy="45360"/>
                </a:xfrm>
              </p:grpSpPr>
              <p:grpSp>
                <p:nvGrpSpPr>
                  <p:cNvPr id="958" name="Group 1751"/>
                  <p:cNvGrpSpPr/>
                  <p:nvPr/>
                </p:nvGrpSpPr>
                <p:grpSpPr>
                  <a:xfrm>
                    <a:off x="2554200" y="5055840"/>
                    <a:ext cx="51480" cy="45360"/>
                    <a:chOff x="2554200" y="5055840"/>
                    <a:chExt cx="51480" cy="45360"/>
                  </a:xfrm>
                </p:grpSpPr>
                <p:sp>
                  <p:nvSpPr>
                    <p:cNvPr id="959" name="Freeform 1752"/>
                    <p:cNvSpPr/>
                    <p:nvPr/>
                  </p:nvSpPr>
                  <p:spPr>
                    <a:xfrm rot="19953000">
                      <a:off x="2554920" y="506448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60" name="Freeform 1753"/>
                    <p:cNvSpPr/>
                    <p:nvPr/>
                  </p:nvSpPr>
                  <p:spPr>
                    <a:xfrm rot="19953000">
                      <a:off x="2560320" y="507312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961" name="Freeform 1754"/>
                  <p:cNvSpPr/>
                  <p:nvPr/>
                </p:nvSpPr>
                <p:spPr>
                  <a:xfrm rot="19953000">
                    <a:off x="2591280" y="506808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2" name="Freeform 1755"/>
                  <p:cNvSpPr/>
                  <p:nvPr/>
                </p:nvSpPr>
                <p:spPr>
                  <a:xfrm rot="19953000">
                    <a:off x="2585520" y="507096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3" name="Freeform 1756"/>
                  <p:cNvSpPr/>
                  <p:nvPr/>
                </p:nvSpPr>
                <p:spPr>
                  <a:xfrm rot="19953000">
                    <a:off x="2580480" y="507564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4" name="Freeform 1757"/>
                  <p:cNvSpPr/>
                  <p:nvPr/>
                </p:nvSpPr>
                <p:spPr>
                  <a:xfrm rot="19953000">
                    <a:off x="2579400" y="506484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5" name="Freeform 1758"/>
                  <p:cNvSpPr/>
                  <p:nvPr/>
                </p:nvSpPr>
                <p:spPr>
                  <a:xfrm rot="19953000">
                    <a:off x="2583360" y="506160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966" name="Group 1759"/>
            <p:cNvGrpSpPr/>
            <p:nvPr/>
          </p:nvGrpSpPr>
          <p:grpSpPr>
            <a:xfrm>
              <a:off x="2963520" y="5648040"/>
              <a:ext cx="105120" cy="99360"/>
              <a:chOff x="2963520" y="5648040"/>
              <a:chExt cx="105120" cy="99360"/>
            </a:xfrm>
          </p:grpSpPr>
          <p:sp>
            <p:nvSpPr>
              <p:cNvPr id="967" name="Freeform 1760"/>
              <p:cNvSpPr/>
              <p:nvPr/>
            </p:nvSpPr>
            <p:spPr>
              <a:xfrm flipH="1" rot="18156600">
                <a:off x="2983680" y="567396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0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1761"/>
              <p:cNvSpPr/>
              <p:nvPr/>
            </p:nvSpPr>
            <p:spPr>
              <a:xfrm rot="18156000">
                <a:off x="2991960" y="568872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0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1762"/>
              <p:cNvSpPr/>
              <p:nvPr/>
            </p:nvSpPr>
            <p:spPr>
              <a:xfrm flipH="1" rot="18156600">
                <a:off x="3036960" y="571824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70" name="Group 1763"/>
              <p:cNvGrpSpPr/>
              <p:nvPr/>
            </p:nvGrpSpPr>
            <p:grpSpPr>
              <a:xfrm>
                <a:off x="2963520" y="5648040"/>
                <a:ext cx="61560" cy="50760"/>
                <a:chOff x="2963520" y="5648040"/>
                <a:chExt cx="61560" cy="50760"/>
              </a:xfrm>
            </p:grpSpPr>
            <p:sp>
              <p:nvSpPr>
                <p:cNvPr id="971" name="Freeform 1764"/>
                <p:cNvSpPr/>
                <p:nvPr/>
              </p:nvSpPr>
              <p:spPr>
                <a:xfrm rot="18155400">
                  <a:off x="2997000" y="565236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72" name="Group 1765"/>
                <p:cNvGrpSpPr/>
                <p:nvPr/>
              </p:nvGrpSpPr>
              <p:grpSpPr>
                <a:xfrm>
                  <a:off x="2963520" y="5653440"/>
                  <a:ext cx="51480" cy="45360"/>
                  <a:chOff x="2963520" y="5653440"/>
                  <a:chExt cx="51480" cy="45360"/>
                </a:xfrm>
              </p:grpSpPr>
              <p:grpSp>
                <p:nvGrpSpPr>
                  <p:cNvPr id="973" name="Group 1766"/>
                  <p:cNvGrpSpPr/>
                  <p:nvPr/>
                </p:nvGrpSpPr>
                <p:grpSpPr>
                  <a:xfrm>
                    <a:off x="2963520" y="5653440"/>
                    <a:ext cx="51480" cy="45360"/>
                    <a:chOff x="2963520" y="5653440"/>
                    <a:chExt cx="51480" cy="45360"/>
                  </a:xfrm>
                </p:grpSpPr>
                <p:sp>
                  <p:nvSpPr>
                    <p:cNvPr id="974" name="Freeform 1767"/>
                    <p:cNvSpPr/>
                    <p:nvPr/>
                  </p:nvSpPr>
                  <p:spPr>
                    <a:xfrm rot="19953000">
                      <a:off x="2964240" y="566208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75" name="Freeform 1768"/>
                    <p:cNvSpPr/>
                    <p:nvPr/>
                  </p:nvSpPr>
                  <p:spPr>
                    <a:xfrm rot="19953000">
                      <a:off x="2969640" y="567072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976" name="Freeform 1769"/>
                  <p:cNvSpPr/>
                  <p:nvPr/>
                </p:nvSpPr>
                <p:spPr>
                  <a:xfrm rot="19953000">
                    <a:off x="3000600" y="566568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7" name="Freeform 1770"/>
                  <p:cNvSpPr/>
                  <p:nvPr/>
                </p:nvSpPr>
                <p:spPr>
                  <a:xfrm rot="19953000">
                    <a:off x="2994840" y="566856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8" name="Freeform 1771"/>
                  <p:cNvSpPr/>
                  <p:nvPr/>
                </p:nvSpPr>
                <p:spPr>
                  <a:xfrm rot="19953000">
                    <a:off x="2989800" y="567324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9" name="Freeform 1772"/>
                  <p:cNvSpPr/>
                  <p:nvPr/>
                </p:nvSpPr>
                <p:spPr>
                  <a:xfrm rot="19953000">
                    <a:off x="2988720" y="566244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0" name="Freeform 1773"/>
                  <p:cNvSpPr/>
                  <p:nvPr/>
                </p:nvSpPr>
                <p:spPr>
                  <a:xfrm rot="19953000">
                    <a:off x="2992680" y="565920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981" name="Group 1774"/>
            <p:cNvGrpSpPr/>
            <p:nvPr/>
          </p:nvGrpSpPr>
          <p:grpSpPr>
            <a:xfrm>
              <a:off x="2390400" y="5468760"/>
              <a:ext cx="105120" cy="99360"/>
              <a:chOff x="2390400" y="5468760"/>
              <a:chExt cx="105120" cy="99360"/>
            </a:xfrm>
          </p:grpSpPr>
          <p:sp>
            <p:nvSpPr>
              <p:cNvPr id="982" name="Freeform 1775"/>
              <p:cNvSpPr/>
              <p:nvPr/>
            </p:nvSpPr>
            <p:spPr>
              <a:xfrm flipH="1" rot="18156600">
                <a:off x="2410560" y="549468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0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1776"/>
              <p:cNvSpPr/>
              <p:nvPr/>
            </p:nvSpPr>
            <p:spPr>
              <a:xfrm rot="18156000">
                <a:off x="2418840" y="550944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0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1777"/>
              <p:cNvSpPr/>
              <p:nvPr/>
            </p:nvSpPr>
            <p:spPr>
              <a:xfrm flipH="1" rot="18156600">
                <a:off x="2463840" y="553896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85" name="Group 1778"/>
              <p:cNvGrpSpPr/>
              <p:nvPr/>
            </p:nvGrpSpPr>
            <p:grpSpPr>
              <a:xfrm>
                <a:off x="2390400" y="5468760"/>
                <a:ext cx="61560" cy="50760"/>
                <a:chOff x="2390400" y="5468760"/>
                <a:chExt cx="61560" cy="50760"/>
              </a:xfrm>
            </p:grpSpPr>
            <p:sp>
              <p:nvSpPr>
                <p:cNvPr id="986" name="Freeform 1779"/>
                <p:cNvSpPr/>
                <p:nvPr/>
              </p:nvSpPr>
              <p:spPr>
                <a:xfrm rot="18155400">
                  <a:off x="2423880" y="547308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87" name="Group 1780"/>
                <p:cNvGrpSpPr/>
                <p:nvPr/>
              </p:nvGrpSpPr>
              <p:grpSpPr>
                <a:xfrm>
                  <a:off x="2390400" y="5474160"/>
                  <a:ext cx="51480" cy="45360"/>
                  <a:chOff x="2390400" y="5474160"/>
                  <a:chExt cx="51480" cy="45360"/>
                </a:xfrm>
              </p:grpSpPr>
              <p:grpSp>
                <p:nvGrpSpPr>
                  <p:cNvPr id="988" name="Group 1781"/>
                  <p:cNvGrpSpPr/>
                  <p:nvPr/>
                </p:nvGrpSpPr>
                <p:grpSpPr>
                  <a:xfrm>
                    <a:off x="2390400" y="5474160"/>
                    <a:ext cx="51480" cy="45360"/>
                    <a:chOff x="2390400" y="5474160"/>
                    <a:chExt cx="51480" cy="45360"/>
                  </a:xfrm>
                </p:grpSpPr>
                <p:sp>
                  <p:nvSpPr>
                    <p:cNvPr id="989" name="Freeform 1782"/>
                    <p:cNvSpPr/>
                    <p:nvPr/>
                  </p:nvSpPr>
                  <p:spPr>
                    <a:xfrm rot="19953000">
                      <a:off x="2391120" y="548280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90" name="Freeform 1783"/>
                    <p:cNvSpPr/>
                    <p:nvPr/>
                  </p:nvSpPr>
                  <p:spPr>
                    <a:xfrm rot="19953000">
                      <a:off x="2396520" y="549144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991" name="Freeform 1784"/>
                  <p:cNvSpPr/>
                  <p:nvPr/>
                </p:nvSpPr>
                <p:spPr>
                  <a:xfrm rot="19953000">
                    <a:off x="2427480" y="548640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2" name="Freeform 1785"/>
                  <p:cNvSpPr/>
                  <p:nvPr/>
                </p:nvSpPr>
                <p:spPr>
                  <a:xfrm rot="19953000">
                    <a:off x="2421720" y="548928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3" name="Freeform 1786"/>
                  <p:cNvSpPr/>
                  <p:nvPr/>
                </p:nvSpPr>
                <p:spPr>
                  <a:xfrm rot="19953000">
                    <a:off x="2416680" y="549396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4" name="Freeform 1787"/>
                  <p:cNvSpPr/>
                  <p:nvPr/>
                </p:nvSpPr>
                <p:spPr>
                  <a:xfrm rot="19953000">
                    <a:off x="2415600" y="548316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5" name="Freeform 1788"/>
                  <p:cNvSpPr/>
                  <p:nvPr/>
                </p:nvSpPr>
                <p:spPr>
                  <a:xfrm rot="19953000">
                    <a:off x="2419560" y="547992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996" name="Group 1789"/>
            <p:cNvGrpSpPr/>
            <p:nvPr/>
          </p:nvGrpSpPr>
          <p:grpSpPr>
            <a:xfrm>
              <a:off x="2574720" y="5468760"/>
              <a:ext cx="105120" cy="99360"/>
              <a:chOff x="2574720" y="5468760"/>
              <a:chExt cx="105120" cy="99360"/>
            </a:xfrm>
          </p:grpSpPr>
          <p:sp>
            <p:nvSpPr>
              <p:cNvPr id="997" name="Freeform 1790"/>
              <p:cNvSpPr/>
              <p:nvPr/>
            </p:nvSpPr>
            <p:spPr>
              <a:xfrm flipH="1" rot="18156600">
                <a:off x="2594880" y="549468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0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Freeform 1791"/>
              <p:cNvSpPr/>
              <p:nvPr/>
            </p:nvSpPr>
            <p:spPr>
              <a:xfrm rot="18156000">
                <a:off x="2603160" y="550944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0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1792"/>
              <p:cNvSpPr/>
              <p:nvPr/>
            </p:nvSpPr>
            <p:spPr>
              <a:xfrm flipH="1" rot="18156600">
                <a:off x="2648160" y="553896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00" name="Group 1793"/>
              <p:cNvGrpSpPr/>
              <p:nvPr/>
            </p:nvGrpSpPr>
            <p:grpSpPr>
              <a:xfrm>
                <a:off x="2574720" y="5468760"/>
                <a:ext cx="61560" cy="50760"/>
                <a:chOff x="2574720" y="5468760"/>
                <a:chExt cx="61560" cy="50760"/>
              </a:xfrm>
            </p:grpSpPr>
            <p:sp>
              <p:nvSpPr>
                <p:cNvPr id="1001" name="Freeform 1794"/>
                <p:cNvSpPr/>
                <p:nvPr/>
              </p:nvSpPr>
              <p:spPr>
                <a:xfrm rot="18155400">
                  <a:off x="2608200" y="547308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002" name="Group 1795"/>
                <p:cNvGrpSpPr/>
                <p:nvPr/>
              </p:nvGrpSpPr>
              <p:grpSpPr>
                <a:xfrm>
                  <a:off x="2574720" y="5474160"/>
                  <a:ext cx="51480" cy="45360"/>
                  <a:chOff x="2574720" y="5474160"/>
                  <a:chExt cx="51480" cy="45360"/>
                </a:xfrm>
              </p:grpSpPr>
              <p:grpSp>
                <p:nvGrpSpPr>
                  <p:cNvPr id="1003" name="Group 1796"/>
                  <p:cNvGrpSpPr/>
                  <p:nvPr/>
                </p:nvGrpSpPr>
                <p:grpSpPr>
                  <a:xfrm>
                    <a:off x="2574720" y="5474160"/>
                    <a:ext cx="51480" cy="45360"/>
                    <a:chOff x="2574720" y="5474160"/>
                    <a:chExt cx="51480" cy="45360"/>
                  </a:xfrm>
                </p:grpSpPr>
                <p:sp>
                  <p:nvSpPr>
                    <p:cNvPr id="1004" name="Freeform 1797"/>
                    <p:cNvSpPr/>
                    <p:nvPr/>
                  </p:nvSpPr>
                  <p:spPr>
                    <a:xfrm rot="19953000">
                      <a:off x="2575440" y="548280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05" name="Freeform 1798"/>
                    <p:cNvSpPr/>
                    <p:nvPr/>
                  </p:nvSpPr>
                  <p:spPr>
                    <a:xfrm rot="19953000">
                      <a:off x="2580840" y="549144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06" name="Freeform 1799"/>
                  <p:cNvSpPr/>
                  <p:nvPr/>
                </p:nvSpPr>
                <p:spPr>
                  <a:xfrm rot="19953000">
                    <a:off x="2611800" y="548640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7" name="Freeform 1800"/>
                  <p:cNvSpPr/>
                  <p:nvPr/>
                </p:nvSpPr>
                <p:spPr>
                  <a:xfrm rot="19953000">
                    <a:off x="2606040" y="548928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8" name="Freeform 1801"/>
                  <p:cNvSpPr/>
                  <p:nvPr/>
                </p:nvSpPr>
                <p:spPr>
                  <a:xfrm rot="19953000">
                    <a:off x="2601000" y="549396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9" name="Freeform 1802"/>
                  <p:cNvSpPr/>
                  <p:nvPr/>
                </p:nvSpPr>
                <p:spPr>
                  <a:xfrm rot="19953000">
                    <a:off x="2599920" y="548316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0" name="Freeform 1803"/>
                  <p:cNvSpPr/>
                  <p:nvPr/>
                </p:nvSpPr>
                <p:spPr>
                  <a:xfrm rot="19953000">
                    <a:off x="2603880" y="547992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011" name="Group 1804"/>
            <p:cNvGrpSpPr/>
            <p:nvPr/>
          </p:nvGrpSpPr>
          <p:grpSpPr>
            <a:xfrm>
              <a:off x="2533680" y="5767560"/>
              <a:ext cx="105120" cy="99360"/>
              <a:chOff x="2533680" y="5767560"/>
              <a:chExt cx="105120" cy="99360"/>
            </a:xfrm>
          </p:grpSpPr>
          <p:sp>
            <p:nvSpPr>
              <p:cNvPr id="1012" name="Freeform 1805"/>
              <p:cNvSpPr/>
              <p:nvPr/>
            </p:nvSpPr>
            <p:spPr>
              <a:xfrm flipH="1" rot="18156600">
                <a:off x="2553840" y="579348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1806"/>
              <p:cNvSpPr/>
              <p:nvPr/>
            </p:nvSpPr>
            <p:spPr>
              <a:xfrm rot="18156000">
                <a:off x="2562120" y="580824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1807"/>
              <p:cNvSpPr/>
              <p:nvPr/>
            </p:nvSpPr>
            <p:spPr>
              <a:xfrm flipH="1" rot="18156600">
                <a:off x="2607120" y="583776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15" name="Group 1808"/>
              <p:cNvGrpSpPr/>
              <p:nvPr/>
            </p:nvGrpSpPr>
            <p:grpSpPr>
              <a:xfrm>
                <a:off x="2533680" y="5767560"/>
                <a:ext cx="61560" cy="50760"/>
                <a:chOff x="2533680" y="5767560"/>
                <a:chExt cx="61560" cy="50760"/>
              </a:xfrm>
            </p:grpSpPr>
            <p:sp>
              <p:nvSpPr>
                <p:cNvPr id="1016" name="Freeform 1809"/>
                <p:cNvSpPr/>
                <p:nvPr/>
              </p:nvSpPr>
              <p:spPr>
                <a:xfrm rot="18155400">
                  <a:off x="2567160" y="577188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017" name="Group 1810"/>
                <p:cNvGrpSpPr/>
                <p:nvPr/>
              </p:nvGrpSpPr>
              <p:grpSpPr>
                <a:xfrm>
                  <a:off x="2533680" y="5772960"/>
                  <a:ext cx="51480" cy="45360"/>
                  <a:chOff x="2533680" y="5772960"/>
                  <a:chExt cx="51480" cy="45360"/>
                </a:xfrm>
              </p:grpSpPr>
              <p:grpSp>
                <p:nvGrpSpPr>
                  <p:cNvPr id="1018" name="Group 1811"/>
                  <p:cNvGrpSpPr/>
                  <p:nvPr/>
                </p:nvGrpSpPr>
                <p:grpSpPr>
                  <a:xfrm>
                    <a:off x="2533680" y="5772960"/>
                    <a:ext cx="51480" cy="45360"/>
                    <a:chOff x="2533680" y="5772960"/>
                    <a:chExt cx="51480" cy="45360"/>
                  </a:xfrm>
                </p:grpSpPr>
                <p:sp>
                  <p:nvSpPr>
                    <p:cNvPr id="1019" name="Freeform 1812"/>
                    <p:cNvSpPr/>
                    <p:nvPr/>
                  </p:nvSpPr>
                  <p:spPr>
                    <a:xfrm rot="19953000">
                      <a:off x="2534400" y="578160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20" name="Freeform 1813"/>
                    <p:cNvSpPr/>
                    <p:nvPr/>
                  </p:nvSpPr>
                  <p:spPr>
                    <a:xfrm rot="19953000">
                      <a:off x="2539800" y="579024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21" name="Freeform 1814"/>
                  <p:cNvSpPr/>
                  <p:nvPr/>
                </p:nvSpPr>
                <p:spPr>
                  <a:xfrm rot="19953000">
                    <a:off x="2570760" y="578520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2" name="Freeform 1815"/>
                  <p:cNvSpPr/>
                  <p:nvPr/>
                </p:nvSpPr>
                <p:spPr>
                  <a:xfrm rot="19953000">
                    <a:off x="2565000" y="578808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3" name="Freeform 1816"/>
                  <p:cNvSpPr/>
                  <p:nvPr/>
                </p:nvSpPr>
                <p:spPr>
                  <a:xfrm rot="19953000">
                    <a:off x="2559960" y="579276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4" name="Freeform 1817"/>
                  <p:cNvSpPr/>
                  <p:nvPr/>
                </p:nvSpPr>
                <p:spPr>
                  <a:xfrm rot="19953000">
                    <a:off x="2558880" y="578196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5" name="Freeform 1818"/>
                  <p:cNvSpPr/>
                  <p:nvPr/>
                </p:nvSpPr>
                <p:spPr>
                  <a:xfrm rot="19953000">
                    <a:off x="2562840" y="577872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026" name="Group 1819"/>
            <p:cNvGrpSpPr/>
            <p:nvPr/>
          </p:nvGrpSpPr>
          <p:grpSpPr>
            <a:xfrm>
              <a:off x="2718000" y="5767560"/>
              <a:ext cx="105120" cy="99360"/>
              <a:chOff x="2718000" y="5767560"/>
              <a:chExt cx="105120" cy="99360"/>
            </a:xfrm>
          </p:grpSpPr>
          <p:sp>
            <p:nvSpPr>
              <p:cNvPr id="1027" name="Freeform 1820"/>
              <p:cNvSpPr/>
              <p:nvPr/>
            </p:nvSpPr>
            <p:spPr>
              <a:xfrm flipH="1" rot="18156600">
                <a:off x="2738160" y="579348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1821"/>
              <p:cNvSpPr/>
              <p:nvPr/>
            </p:nvSpPr>
            <p:spPr>
              <a:xfrm rot="18156000">
                <a:off x="2746440" y="580824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1822"/>
              <p:cNvSpPr/>
              <p:nvPr/>
            </p:nvSpPr>
            <p:spPr>
              <a:xfrm flipH="1" rot="18156600">
                <a:off x="2791440" y="583776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30" name="Group 1823"/>
              <p:cNvGrpSpPr/>
              <p:nvPr/>
            </p:nvGrpSpPr>
            <p:grpSpPr>
              <a:xfrm>
                <a:off x="2718000" y="5767560"/>
                <a:ext cx="61560" cy="50760"/>
                <a:chOff x="2718000" y="5767560"/>
                <a:chExt cx="61560" cy="50760"/>
              </a:xfrm>
            </p:grpSpPr>
            <p:sp>
              <p:nvSpPr>
                <p:cNvPr id="1031" name="Freeform 1824"/>
                <p:cNvSpPr/>
                <p:nvPr/>
              </p:nvSpPr>
              <p:spPr>
                <a:xfrm rot="18155400">
                  <a:off x="2751480" y="577188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032" name="Group 1825"/>
                <p:cNvGrpSpPr/>
                <p:nvPr/>
              </p:nvGrpSpPr>
              <p:grpSpPr>
                <a:xfrm>
                  <a:off x="2718000" y="5772960"/>
                  <a:ext cx="51480" cy="45360"/>
                  <a:chOff x="2718000" y="5772960"/>
                  <a:chExt cx="51480" cy="45360"/>
                </a:xfrm>
              </p:grpSpPr>
              <p:grpSp>
                <p:nvGrpSpPr>
                  <p:cNvPr id="1033" name="Group 1826"/>
                  <p:cNvGrpSpPr/>
                  <p:nvPr/>
                </p:nvGrpSpPr>
                <p:grpSpPr>
                  <a:xfrm>
                    <a:off x="2718000" y="5772960"/>
                    <a:ext cx="51480" cy="45360"/>
                    <a:chOff x="2718000" y="5772960"/>
                    <a:chExt cx="51480" cy="45360"/>
                  </a:xfrm>
                </p:grpSpPr>
                <p:sp>
                  <p:nvSpPr>
                    <p:cNvPr id="1034" name="Freeform 1827"/>
                    <p:cNvSpPr/>
                    <p:nvPr/>
                  </p:nvSpPr>
                  <p:spPr>
                    <a:xfrm rot="19953000">
                      <a:off x="2718720" y="578160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35" name="Freeform 1828"/>
                    <p:cNvSpPr/>
                    <p:nvPr/>
                  </p:nvSpPr>
                  <p:spPr>
                    <a:xfrm rot="19953000">
                      <a:off x="2724120" y="579024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36" name="Freeform 1829"/>
                  <p:cNvSpPr/>
                  <p:nvPr/>
                </p:nvSpPr>
                <p:spPr>
                  <a:xfrm rot="19953000">
                    <a:off x="2755080" y="578520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7" name="Freeform 1830"/>
                  <p:cNvSpPr/>
                  <p:nvPr/>
                </p:nvSpPr>
                <p:spPr>
                  <a:xfrm rot="19953000">
                    <a:off x="2749320" y="578808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8" name="Freeform 1831"/>
                  <p:cNvSpPr/>
                  <p:nvPr/>
                </p:nvSpPr>
                <p:spPr>
                  <a:xfrm rot="19953000">
                    <a:off x="2744280" y="579276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9" name="Freeform 1832"/>
                  <p:cNvSpPr/>
                  <p:nvPr/>
                </p:nvSpPr>
                <p:spPr>
                  <a:xfrm rot="19953000">
                    <a:off x="2743200" y="578196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0" name="Freeform 1833"/>
                  <p:cNvSpPr/>
                  <p:nvPr/>
                </p:nvSpPr>
                <p:spPr>
                  <a:xfrm rot="19953000">
                    <a:off x="2747160" y="577872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041" name="Group 1834"/>
            <p:cNvGrpSpPr/>
            <p:nvPr/>
          </p:nvGrpSpPr>
          <p:grpSpPr>
            <a:xfrm>
              <a:off x="2697480" y="5528520"/>
              <a:ext cx="105120" cy="99360"/>
              <a:chOff x="2697480" y="5528520"/>
              <a:chExt cx="105120" cy="99360"/>
            </a:xfrm>
          </p:grpSpPr>
          <p:sp>
            <p:nvSpPr>
              <p:cNvPr id="1042" name="Freeform 1835"/>
              <p:cNvSpPr/>
              <p:nvPr/>
            </p:nvSpPr>
            <p:spPr>
              <a:xfrm flipH="1" rot="18156600">
                <a:off x="2717640" y="555444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2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836"/>
              <p:cNvSpPr/>
              <p:nvPr/>
            </p:nvSpPr>
            <p:spPr>
              <a:xfrm rot="18156000">
                <a:off x="2725920" y="556920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837"/>
              <p:cNvSpPr/>
              <p:nvPr/>
            </p:nvSpPr>
            <p:spPr>
              <a:xfrm flipH="1" rot="18156600">
                <a:off x="2770920" y="559872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45" name="Group 1838"/>
              <p:cNvGrpSpPr/>
              <p:nvPr/>
            </p:nvGrpSpPr>
            <p:grpSpPr>
              <a:xfrm>
                <a:off x="2697480" y="5528520"/>
                <a:ext cx="61560" cy="50760"/>
                <a:chOff x="2697480" y="5528520"/>
                <a:chExt cx="61560" cy="50760"/>
              </a:xfrm>
            </p:grpSpPr>
            <p:sp>
              <p:nvSpPr>
                <p:cNvPr id="1046" name="Freeform 1839"/>
                <p:cNvSpPr/>
                <p:nvPr/>
              </p:nvSpPr>
              <p:spPr>
                <a:xfrm rot="18155400">
                  <a:off x="2730960" y="553284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047" name="Group 1840"/>
                <p:cNvGrpSpPr/>
                <p:nvPr/>
              </p:nvGrpSpPr>
              <p:grpSpPr>
                <a:xfrm>
                  <a:off x="2697480" y="5533920"/>
                  <a:ext cx="51480" cy="45360"/>
                  <a:chOff x="2697480" y="5533920"/>
                  <a:chExt cx="51480" cy="45360"/>
                </a:xfrm>
              </p:grpSpPr>
              <p:grpSp>
                <p:nvGrpSpPr>
                  <p:cNvPr id="1048" name="Group 1841"/>
                  <p:cNvGrpSpPr/>
                  <p:nvPr/>
                </p:nvGrpSpPr>
                <p:grpSpPr>
                  <a:xfrm>
                    <a:off x="2697480" y="5533920"/>
                    <a:ext cx="51480" cy="45360"/>
                    <a:chOff x="2697480" y="5533920"/>
                    <a:chExt cx="51480" cy="45360"/>
                  </a:xfrm>
                </p:grpSpPr>
                <p:sp>
                  <p:nvSpPr>
                    <p:cNvPr id="1049" name="Freeform 1842"/>
                    <p:cNvSpPr/>
                    <p:nvPr/>
                  </p:nvSpPr>
                  <p:spPr>
                    <a:xfrm rot="19953000">
                      <a:off x="2698200" y="554256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50" name="Freeform 1843"/>
                    <p:cNvSpPr/>
                    <p:nvPr/>
                  </p:nvSpPr>
                  <p:spPr>
                    <a:xfrm rot="19953000">
                      <a:off x="2703600" y="555120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51" name="Freeform 1844"/>
                  <p:cNvSpPr/>
                  <p:nvPr/>
                </p:nvSpPr>
                <p:spPr>
                  <a:xfrm rot="19953000">
                    <a:off x="2734560" y="554616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2" name="Freeform 1845"/>
                  <p:cNvSpPr/>
                  <p:nvPr/>
                </p:nvSpPr>
                <p:spPr>
                  <a:xfrm rot="19953000">
                    <a:off x="2728800" y="554904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3" name="Freeform 1846"/>
                  <p:cNvSpPr/>
                  <p:nvPr/>
                </p:nvSpPr>
                <p:spPr>
                  <a:xfrm rot="19953000">
                    <a:off x="2723760" y="555372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4" name="Freeform 1847"/>
                  <p:cNvSpPr/>
                  <p:nvPr/>
                </p:nvSpPr>
                <p:spPr>
                  <a:xfrm rot="19953000">
                    <a:off x="2722680" y="554292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5" name="Freeform 1848"/>
                  <p:cNvSpPr/>
                  <p:nvPr/>
                </p:nvSpPr>
                <p:spPr>
                  <a:xfrm rot="19953000">
                    <a:off x="2726640" y="553968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056" name="Group 1849"/>
            <p:cNvGrpSpPr/>
            <p:nvPr/>
          </p:nvGrpSpPr>
          <p:grpSpPr>
            <a:xfrm>
              <a:off x="2202840" y="5618160"/>
              <a:ext cx="105120" cy="99360"/>
              <a:chOff x="2202840" y="5618160"/>
              <a:chExt cx="105120" cy="99360"/>
            </a:xfrm>
          </p:grpSpPr>
          <p:sp>
            <p:nvSpPr>
              <p:cNvPr id="1057" name="Freeform 1850"/>
              <p:cNvSpPr/>
              <p:nvPr/>
            </p:nvSpPr>
            <p:spPr>
              <a:xfrm rot="3443400">
                <a:off x="2205000" y="5644080"/>
                <a:ext cx="82440" cy="50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2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Freeform 1851"/>
              <p:cNvSpPr/>
              <p:nvPr/>
            </p:nvSpPr>
            <p:spPr>
              <a:xfrm flipH="1" rot="3444000">
                <a:off x="2230560" y="5658840"/>
                <a:ext cx="48240" cy="3132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1852"/>
              <p:cNvSpPr/>
              <p:nvPr/>
            </p:nvSpPr>
            <p:spPr>
              <a:xfrm rot="3443400">
                <a:off x="2228760" y="568836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60" name="Group 1853"/>
              <p:cNvGrpSpPr/>
              <p:nvPr/>
            </p:nvGrpSpPr>
            <p:grpSpPr>
              <a:xfrm>
                <a:off x="2246400" y="5618160"/>
                <a:ext cx="61560" cy="50760"/>
                <a:chOff x="2246400" y="5618160"/>
                <a:chExt cx="61560" cy="50760"/>
              </a:xfrm>
            </p:grpSpPr>
            <p:sp>
              <p:nvSpPr>
                <p:cNvPr id="1061" name="Freeform 1854"/>
                <p:cNvSpPr/>
                <p:nvPr/>
              </p:nvSpPr>
              <p:spPr>
                <a:xfrm flipH="1" rot="3444600">
                  <a:off x="2250720" y="5622480"/>
                  <a:ext cx="23400" cy="23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062" name="Group 1855"/>
                <p:cNvGrpSpPr/>
                <p:nvPr/>
              </p:nvGrpSpPr>
              <p:grpSpPr>
                <a:xfrm>
                  <a:off x="2256840" y="5623560"/>
                  <a:ext cx="51120" cy="45360"/>
                  <a:chOff x="2256840" y="5623560"/>
                  <a:chExt cx="51120" cy="45360"/>
                </a:xfrm>
              </p:grpSpPr>
              <p:grpSp>
                <p:nvGrpSpPr>
                  <p:cNvPr id="1063" name="Group 1856"/>
                  <p:cNvGrpSpPr/>
                  <p:nvPr/>
                </p:nvGrpSpPr>
                <p:grpSpPr>
                  <a:xfrm>
                    <a:off x="2256840" y="5623560"/>
                    <a:ext cx="51120" cy="45360"/>
                    <a:chOff x="2256840" y="5623560"/>
                    <a:chExt cx="51120" cy="45360"/>
                  </a:xfrm>
                </p:grpSpPr>
                <p:sp>
                  <p:nvSpPr>
                    <p:cNvPr id="1064" name="Freeform 1857"/>
                    <p:cNvSpPr/>
                    <p:nvPr/>
                  </p:nvSpPr>
                  <p:spPr>
                    <a:xfrm flipH="1" rot="1647000">
                      <a:off x="2264040" y="5632200"/>
                      <a:ext cx="42480" cy="14040"/>
                    </a:xfrm>
                    <a:custGeom>
                      <a:avLst/>
                      <a:gdLst>
                        <a:gd name="textAreaLeft" fmla="*/ 360 w 42480"/>
                        <a:gd name="textAreaRight" fmla="*/ 43200 w 42480"/>
                        <a:gd name="textAreaTop" fmla="*/ 0 h 14040"/>
                        <a:gd name="textAreaBottom" fmla="*/ 14040 h 14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65" name="Freeform 1858"/>
                    <p:cNvSpPr/>
                    <p:nvPr/>
                  </p:nvSpPr>
                  <p:spPr>
                    <a:xfrm flipH="1" rot="1647000">
                      <a:off x="2258640" y="5640840"/>
                      <a:ext cx="42840" cy="1908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66" name="Freeform 1859"/>
                  <p:cNvSpPr/>
                  <p:nvPr/>
                </p:nvSpPr>
                <p:spPr>
                  <a:xfrm flipH="1" rot="1647000">
                    <a:off x="2265480" y="563544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7" name="Freeform 1860"/>
                  <p:cNvSpPr/>
                  <p:nvPr/>
                </p:nvSpPr>
                <p:spPr>
                  <a:xfrm flipH="1" rot="1647000">
                    <a:off x="2271240" y="563832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8" name="Freeform 1861"/>
                  <p:cNvSpPr/>
                  <p:nvPr/>
                </p:nvSpPr>
                <p:spPr>
                  <a:xfrm flipH="1" rot="1647000">
                    <a:off x="2277000" y="5643000"/>
                    <a:ext cx="3600" cy="9000"/>
                  </a:xfrm>
                  <a:custGeom>
                    <a:avLst/>
                    <a:gdLst>
                      <a:gd name="textAreaLeft" fmla="*/ 360 w 3600"/>
                      <a:gd name="textAreaRight" fmla="*/ 4320 w 3600"/>
                      <a:gd name="textAreaTop" fmla="*/ 0 h 9000"/>
                      <a:gd name="textAreaBottom" fmla="*/ 9000 h 90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9" name="Freeform 1862"/>
                  <p:cNvSpPr/>
                  <p:nvPr/>
                </p:nvSpPr>
                <p:spPr>
                  <a:xfrm flipH="1" rot="1647000">
                    <a:off x="2277000" y="5632560"/>
                    <a:ext cx="5400" cy="6480"/>
                  </a:xfrm>
                  <a:custGeom>
                    <a:avLst/>
                    <a:gdLst>
                      <a:gd name="textAreaLeft" fmla="*/ -360 w 5400"/>
                      <a:gd name="textAreaRight" fmla="*/ 540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0" name="Freeform 1863"/>
                  <p:cNvSpPr/>
                  <p:nvPr/>
                </p:nvSpPr>
                <p:spPr>
                  <a:xfrm flipH="1" rot="1647000">
                    <a:off x="2272320" y="5629320"/>
                    <a:ext cx="5760" cy="7560"/>
                  </a:xfrm>
                  <a:custGeom>
                    <a:avLst/>
                    <a:gdLst>
                      <a:gd name="textAreaLeft" fmla="*/ 360 w 5760"/>
                      <a:gd name="textAreaRight" fmla="*/ 648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071" name="Group 1864"/>
            <p:cNvGrpSpPr/>
            <p:nvPr/>
          </p:nvGrpSpPr>
          <p:grpSpPr>
            <a:xfrm>
              <a:off x="2346120" y="5707800"/>
              <a:ext cx="105120" cy="99360"/>
              <a:chOff x="2346120" y="5707800"/>
              <a:chExt cx="105120" cy="99360"/>
            </a:xfrm>
          </p:grpSpPr>
          <p:sp>
            <p:nvSpPr>
              <p:cNvPr id="1072" name="Freeform 1865"/>
              <p:cNvSpPr/>
              <p:nvPr/>
            </p:nvSpPr>
            <p:spPr>
              <a:xfrm rot="3443400">
                <a:off x="2348280" y="5733720"/>
                <a:ext cx="82440" cy="50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2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1866"/>
              <p:cNvSpPr/>
              <p:nvPr/>
            </p:nvSpPr>
            <p:spPr>
              <a:xfrm flipH="1" rot="3444000">
                <a:off x="2373840" y="5748480"/>
                <a:ext cx="48240" cy="3132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1867"/>
              <p:cNvSpPr/>
              <p:nvPr/>
            </p:nvSpPr>
            <p:spPr>
              <a:xfrm rot="3443400">
                <a:off x="2372040" y="577800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75" name="Group 1868"/>
              <p:cNvGrpSpPr/>
              <p:nvPr/>
            </p:nvGrpSpPr>
            <p:grpSpPr>
              <a:xfrm>
                <a:off x="2389680" y="5707800"/>
                <a:ext cx="61560" cy="50760"/>
                <a:chOff x="2389680" y="5707800"/>
                <a:chExt cx="61560" cy="50760"/>
              </a:xfrm>
            </p:grpSpPr>
            <p:sp>
              <p:nvSpPr>
                <p:cNvPr id="1076" name="Freeform 1869"/>
                <p:cNvSpPr/>
                <p:nvPr/>
              </p:nvSpPr>
              <p:spPr>
                <a:xfrm flipH="1" rot="3444600">
                  <a:off x="2394000" y="5712120"/>
                  <a:ext cx="23400" cy="23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077" name="Group 1870"/>
                <p:cNvGrpSpPr/>
                <p:nvPr/>
              </p:nvGrpSpPr>
              <p:grpSpPr>
                <a:xfrm>
                  <a:off x="2400120" y="5713200"/>
                  <a:ext cx="51120" cy="45360"/>
                  <a:chOff x="2400120" y="5713200"/>
                  <a:chExt cx="51120" cy="45360"/>
                </a:xfrm>
              </p:grpSpPr>
              <p:grpSp>
                <p:nvGrpSpPr>
                  <p:cNvPr id="1078" name="Group 1871"/>
                  <p:cNvGrpSpPr/>
                  <p:nvPr/>
                </p:nvGrpSpPr>
                <p:grpSpPr>
                  <a:xfrm>
                    <a:off x="2400120" y="5713200"/>
                    <a:ext cx="51120" cy="45360"/>
                    <a:chOff x="2400120" y="5713200"/>
                    <a:chExt cx="51120" cy="45360"/>
                  </a:xfrm>
                </p:grpSpPr>
                <p:sp>
                  <p:nvSpPr>
                    <p:cNvPr id="1079" name="Freeform 1872"/>
                    <p:cNvSpPr/>
                    <p:nvPr/>
                  </p:nvSpPr>
                  <p:spPr>
                    <a:xfrm flipH="1" rot="1647000">
                      <a:off x="2407320" y="5721840"/>
                      <a:ext cx="42480" cy="14040"/>
                    </a:xfrm>
                    <a:custGeom>
                      <a:avLst/>
                      <a:gdLst>
                        <a:gd name="textAreaLeft" fmla="*/ 360 w 42480"/>
                        <a:gd name="textAreaRight" fmla="*/ 43200 w 42480"/>
                        <a:gd name="textAreaTop" fmla="*/ 0 h 14040"/>
                        <a:gd name="textAreaBottom" fmla="*/ 14040 h 14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80" name="Freeform 1873"/>
                    <p:cNvSpPr/>
                    <p:nvPr/>
                  </p:nvSpPr>
                  <p:spPr>
                    <a:xfrm flipH="1" rot="1647000">
                      <a:off x="2401920" y="5730480"/>
                      <a:ext cx="42840" cy="1908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81" name="Freeform 1874"/>
                  <p:cNvSpPr/>
                  <p:nvPr/>
                </p:nvSpPr>
                <p:spPr>
                  <a:xfrm flipH="1" rot="1647000">
                    <a:off x="2408760" y="572508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2" name="Freeform 1875"/>
                  <p:cNvSpPr/>
                  <p:nvPr/>
                </p:nvSpPr>
                <p:spPr>
                  <a:xfrm flipH="1" rot="1647000">
                    <a:off x="2414520" y="572796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3" name="Freeform 1876"/>
                  <p:cNvSpPr/>
                  <p:nvPr/>
                </p:nvSpPr>
                <p:spPr>
                  <a:xfrm flipH="1" rot="1647000">
                    <a:off x="2420280" y="5732640"/>
                    <a:ext cx="3600" cy="9000"/>
                  </a:xfrm>
                  <a:custGeom>
                    <a:avLst/>
                    <a:gdLst>
                      <a:gd name="textAreaLeft" fmla="*/ 360 w 3600"/>
                      <a:gd name="textAreaRight" fmla="*/ 4320 w 3600"/>
                      <a:gd name="textAreaTop" fmla="*/ 0 h 9000"/>
                      <a:gd name="textAreaBottom" fmla="*/ 9000 h 90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4" name="Freeform 1877"/>
                  <p:cNvSpPr/>
                  <p:nvPr/>
                </p:nvSpPr>
                <p:spPr>
                  <a:xfrm flipH="1" rot="1647000">
                    <a:off x="2420280" y="5722200"/>
                    <a:ext cx="5400" cy="6480"/>
                  </a:xfrm>
                  <a:custGeom>
                    <a:avLst/>
                    <a:gdLst>
                      <a:gd name="textAreaLeft" fmla="*/ -360 w 5400"/>
                      <a:gd name="textAreaRight" fmla="*/ 540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5" name="Freeform 1878"/>
                  <p:cNvSpPr/>
                  <p:nvPr/>
                </p:nvSpPr>
                <p:spPr>
                  <a:xfrm flipH="1" rot="1647000">
                    <a:off x="2415600" y="5718960"/>
                    <a:ext cx="5760" cy="7560"/>
                  </a:xfrm>
                  <a:custGeom>
                    <a:avLst/>
                    <a:gdLst>
                      <a:gd name="textAreaLeft" fmla="*/ 360 w 5760"/>
                      <a:gd name="textAreaRight" fmla="*/ 648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086" name="Group 1879"/>
            <p:cNvGrpSpPr/>
            <p:nvPr/>
          </p:nvGrpSpPr>
          <p:grpSpPr>
            <a:xfrm>
              <a:off x="2366280" y="6006600"/>
              <a:ext cx="105120" cy="99360"/>
              <a:chOff x="2366280" y="6006600"/>
              <a:chExt cx="105120" cy="99360"/>
            </a:xfrm>
          </p:grpSpPr>
          <p:sp>
            <p:nvSpPr>
              <p:cNvPr id="1087" name="Freeform 1880"/>
              <p:cNvSpPr/>
              <p:nvPr/>
            </p:nvSpPr>
            <p:spPr>
              <a:xfrm rot="3443400">
                <a:off x="2368440" y="6032520"/>
                <a:ext cx="82440" cy="50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3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1881"/>
              <p:cNvSpPr/>
              <p:nvPr/>
            </p:nvSpPr>
            <p:spPr>
              <a:xfrm flipH="1" rot="3444000">
                <a:off x="2394000" y="6047280"/>
                <a:ext cx="48240" cy="3132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1882"/>
              <p:cNvSpPr/>
              <p:nvPr/>
            </p:nvSpPr>
            <p:spPr>
              <a:xfrm rot="3443400">
                <a:off x="2392200" y="607680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90" name="Group 1883"/>
              <p:cNvGrpSpPr/>
              <p:nvPr/>
            </p:nvGrpSpPr>
            <p:grpSpPr>
              <a:xfrm>
                <a:off x="2409840" y="6006600"/>
                <a:ext cx="61560" cy="50760"/>
                <a:chOff x="2409840" y="6006600"/>
                <a:chExt cx="61560" cy="50760"/>
              </a:xfrm>
            </p:grpSpPr>
            <p:sp>
              <p:nvSpPr>
                <p:cNvPr id="1091" name="Freeform 1884"/>
                <p:cNvSpPr/>
                <p:nvPr/>
              </p:nvSpPr>
              <p:spPr>
                <a:xfrm flipH="1" rot="3444600">
                  <a:off x="2414160" y="6010920"/>
                  <a:ext cx="23400" cy="23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092" name="Group 1885"/>
                <p:cNvGrpSpPr/>
                <p:nvPr/>
              </p:nvGrpSpPr>
              <p:grpSpPr>
                <a:xfrm>
                  <a:off x="2420280" y="6012000"/>
                  <a:ext cx="51120" cy="45360"/>
                  <a:chOff x="2420280" y="6012000"/>
                  <a:chExt cx="51120" cy="45360"/>
                </a:xfrm>
              </p:grpSpPr>
              <p:grpSp>
                <p:nvGrpSpPr>
                  <p:cNvPr id="1093" name="Group 1886"/>
                  <p:cNvGrpSpPr/>
                  <p:nvPr/>
                </p:nvGrpSpPr>
                <p:grpSpPr>
                  <a:xfrm>
                    <a:off x="2420280" y="6012000"/>
                    <a:ext cx="51120" cy="45360"/>
                    <a:chOff x="2420280" y="6012000"/>
                    <a:chExt cx="51120" cy="45360"/>
                  </a:xfrm>
                </p:grpSpPr>
                <p:sp>
                  <p:nvSpPr>
                    <p:cNvPr id="1094" name="Freeform 1887"/>
                    <p:cNvSpPr/>
                    <p:nvPr/>
                  </p:nvSpPr>
                  <p:spPr>
                    <a:xfrm flipH="1" rot="1647000">
                      <a:off x="2427480" y="6020640"/>
                      <a:ext cx="42480" cy="14040"/>
                    </a:xfrm>
                    <a:custGeom>
                      <a:avLst/>
                      <a:gdLst>
                        <a:gd name="textAreaLeft" fmla="*/ 360 w 42480"/>
                        <a:gd name="textAreaRight" fmla="*/ 43200 w 42480"/>
                        <a:gd name="textAreaTop" fmla="*/ 0 h 14040"/>
                        <a:gd name="textAreaBottom" fmla="*/ 14040 h 14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95" name="Freeform 1888"/>
                    <p:cNvSpPr/>
                    <p:nvPr/>
                  </p:nvSpPr>
                  <p:spPr>
                    <a:xfrm flipH="1" rot="1647000">
                      <a:off x="2422080" y="6029280"/>
                      <a:ext cx="42840" cy="1908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96" name="Freeform 1889"/>
                  <p:cNvSpPr/>
                  <p:nvPr/>
                </p:nvSpPr>
                <p:spPr>
                  <a:xfrm flipH="1" rot="1647000">
                    <a:off x="2428920" y="602388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7" name="Freeform 1890"/>
                  <p:cNvSpPr/>
                  <p:nvPr/>
                </p:nvSpPr>
                <p:spPr>
                  <a:xfrm flipH="1" rot="1647000">
                    <a:off x="2434680" y="602676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8" name="Freeform 1891"/>
                  <p:cNvSpPr/>
                  <p:nvPr/>
                </p:nvSpPr>
                <p:spPr>
                  <a:xfrm flipH="1" rot="1647000">
                    <a:off x="2440440" y="6031440"/>
                    <a:ext cx="3600" cy="9000"/>
                  </a:xfrm>
                  <a:custGeom>
                    <a:avLst/>
                    <a:gdLst>
                      <a:gd name="textAreaLeft" fmla="*/ 360 w 3600"/>
                      <a:gd name="textAreaRight" fmla="*/ 4320 w 3600"/>
                      <a:gd name="textAreaTop" fmla="*/ 0 h 9000"/>
                      <a:gd name="textAreaBottom" fmla="*/ 9000 h 90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9" name="Freeform 1892"/>
                  <p:cNvSpPr/>
                  <p:nvPr/>
                </p:nvSpPr>
                <p:spPr>
                  <a:xfrm flipH="1" rot="1647000">
                    <a:off x="2440440" y="6021000"/>
                    <a:ext cx="5400" cy="6480"/>
                  </a:xfrm>
                  <a:custGeom>
                    <a:avLst/>
                    <a:gdLst>
                      <a:gd name="textAreaLeft" fmla="*/ -360 w 5400"/>
                      <a:gd name="textAreaRight" fmla="*/ 540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0" name="Freeform 1893"/>
                  <p:cNvSpPr/>
                  <p:nvPr/>
                </p:nvSpPr>
                <p:spPr>
                  <a:xfrm flipH="1" rot="1647000">
                    <a:off x="2435760" y="6017760"/>
                    <a:ext cx="5760" cy="7560"/>
                  </a:xfrm>
                  <a:custGeom>
                    <a:avLst/>
                    <a:gdLst>
                      <a:gd name="textAreaLeft" fmla="*/ 360 w 5760"/>
                      <a:gd name="textAreaRight" fmla="*/ 648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101" name="Group 1894"/>
            <p:cNvGrpSpPr/>
            <p:nvPr/>
          </p:nvGrpSpPr>
          <p:grpSpPr>
            <a:xfrm>
              <a:off x="2366280" y="5169960"/>
              <a:ext cx="105120" cy="99360"/>
              <a:chOff x="2366280" y="5169960"/>
              <a:chExt cx="105120" cy="99360"/>
            </a:xfrm>
          </p:grpSpPr>
          <p:sp>
            <p:nvSpPr>
              <p:cNvPr id="1102" name="Freeform 1895"/>
              <p:cNvSpPr/>
              <p:nvPr/>
            </p:nvSpPr>
            <p:spPr>
              <a:xfrm rot="3443400">
                <a:off x="2368440" y="5195880"/>
                <a:ext cx="82440" cy="50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3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1896"/>
              <p:cNvSpPr/>
              <p:nvPr/>
            </p:nvSpPr>
            <p:spPr>
              <a:xfrm flipH="1" rot="3444000">
                <a:off x="2394000" y="5210640"/>
                <a:ext cx="48240" cy="3132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3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Freeform 1897"/>
              <p:cNvSpPr/>
              <p:nvPr/>
            </p:nvSpPr>
            <p:spPr>
              <a:xfrm rot="3443400">
                <a:off x="2392200" y="524016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05" name="Group 1898"/>
              <p:cNvGrpSpPr/>
              <p:nvPr/>
            </p:nvGrpSpPr>
            <p:grpSpPr>
              <a:xfrm>
                <a:off x="2409840" y="5169960"/>
                <a:ext cx="61560" cy="50760"/>
                <a:chOff x="2409840" y="5169960"/>
                <a:chExt cx="61560" cy="50760"/>
              </a:xfrm>
            </p:grpSpPr>
            <p:sp>
              <p:nvSpPr>
                <p:cNvPr id="1106" name="Freeform 1899"/>
                <p:cNvSpPr/>
                <p:nvPr/>
              </p:nvSpPr>
              <p:spPr>
                <a:xfrm flipH="1" rot="3444600">
                  <a:off x="2414160" y="5174280"/>
                  <a:ext cx="23400" cy="23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07" name="Group 1900"/>
                <p:cNvGrpSpPr/>
                <p:nvPr/>
              </p:nvGrpSpPr>
              <p:grpSpPr>
                <a:xfrm>
                  <a:off x="2420280" y="5175360"/>
                  <a:ext cx="51120" cy="45360"/>
                  <a:chOff x="2420280" y="5175360"/>
                  <a:chExt cx="51120" cy="45360"/>
                </a:xfrm>
              </p:grpSpPr>
              <p:grpSp>
                <p:nvGrpSpPr>
                  <p:cNvPr id="1108" name="Group 1901"/>
                  <p:cNvGrpSpPr/>
                  <p:nvPr/>
                </p:nvGrpSpPr>
                <p:grpSpPr>
                  <a:xfrm>
                    <a:off x="2420280" y="5175360"/>
                    <a:ext cx="51120" cy="45360"/>
                    <a:chOff x="2420280" y="5175360"/>
                    <a:chExt cx="51120" cy="45360"/>
                  </a:xfrm>
                </p:grpSpPr>
                <p:sp>
                  <p:nvSpPr>
                    <p:cNvPr id="1109" name="Freeform 1902"/>
                    <p:cNvSpPr/>
                    <p:nvPr/>
                  </p:nvSpPr>
                  <p:spPr>
                    <a:xfrm flipH="1" rot="1647000">
                      <a:off x="2427480" y="5184000"/>
                      <a:ext cx="42480" cy="14040"/>
                    </a:xfrm>
                    <a:custGeom>
                      <a:avLst/>
                      <a:gdLst>
                        <a:gd name="textAreaLeft" fmla="*/ 360 w 42480"/>
                        <a:gd name="textAreaRight" fmla="*/ 43200 w 42480"/>
                        <a:gd name="textAreaTop" fmla="*/ 0 h 14040"/>
                        <a:gd name="textAreaBottom" fmla="*/ 14040 h 14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10" name="Freeform 1903"/>
                    <p:cNvSpPr/>
                    <p:nvPr/>
                  </p:nvSpPr>
                  <p:spPr>
                    <a:xfrm flipH="1" rot="1647000">
                      <a:off x="2422080" y="5192640"/>
                      <a:ext cx="42840" cy="1908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111" name="Freeform 1904"/>
                  <p:cNvSpPr/>
                  <p:nvPr/>
                </p:nvSpPr>
                <p:spPr>
                  <a:xfrm flipH="1" rot="1647000">
                    <a:off x="2428920" y="518724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2" name="Freeform 1905"/>
                  <p:cNvSpPr/>
                  <p:nvPr/>
                </p:nvSpPr>
                <p:spPr>
                  <a:xfrm flipH="1" rot="1647000">
                    <a:off x="2434680" y="519012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3" name="Freeform 1906"/>
                  <p:cNvSpPr/>
                  <p:nvPr/>
                </p:nvSpPr>
                <p:spPr>
                  <a:xfrm flipH="1" rot="1647000">
                    <a:off x="2440440" y="5194800"/>
                    <a:ext cx="3600" cy="9000"/>
                  </a:xfrm>
                  <a:custGeom>
                    <a:avLst/>
                    <a:gdLst>
                      <a:gd name="textAreaLeft" fmla="*/ 360 w 3600"/>
                      <a:gd name="textAreaRight" fmla="*/ 4320 w 3600"/>
                      <a:gd name="textAreaTop" fmla="*/ 0 h 9000"/>
                      <a:gd name="textAreaBottom" fmla="*/ 9000 h 90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4" name="Freeform 1907"/>
                  <p:cNvSpPr/>
                  <p:nvPr/>
                </p:nvSpPr>
                <p:spPr>
                  <a:xfrm flipH="1" rot="1647000">
                    <a:off x="2440440" y="5184360"/>
                    <a:ext cx="5400" cy="6480"/>
                  </a:xfrm>
                  <a:custGeom>
                    <a:avLst/>
                    <a:gdLst>
                      <a:gd name="textAreaLeft" fmla="*/ -360 w 5400"/>
                      <a:gd name="textAreaRight" fmla="*/ 540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5" name="Freeform 1908"/>
                  <p:cNvSpPr/>
                  <p:nvPr/>
                </p:nvSpPr>
                <p:spPr>
                  <a:xfrm flipH="1" rot="1647000">
                    <a:off x="2435760" y="5181120"/>
                    <a:ext cx="5760" cy="7560"/>
                  </a:xfrm>
                  <a:custGeom>
                    <a:avLst/>
                    <a:gdLst>
                      <a:gd name="textAreaLeft" fmla="*/ 360 w 5760"/>
                      <a:gd name="textAreaRight" fmla="*/ 648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116" name="Group 1909"/>
            <p:cNvGrpSpPr/>
            <p:nvPr/>
          </p:nvGrpSpPr>
          <p:grpSpPr>
            <a:xfrm>
              <a:off x="2571120" y="5588280"/>
              <a:ext cx="105120" cy="99360"/>
              <a:chOff x="2571120" y="5588280"/>
              <a:chExt cx="105120" cy="99360"/>
            </a:xfrm>
          </p:grpSpPr>
          <p:sp>
            <p:nvSpPr>
              <p:cNvPr id="1117" name="Freeform 1910"/>
              <p:cNvSpPr/>
              <p:nvPr/>
            </p:nvSpPr>
            <p:spPr>
              <a:xfrm rot="3443400">
                <a:off x="2573280" y="5614200"/>
                <a:ext cx="82440" cy="50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4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1911"/>
              <p:cNvSpPr/>
              <p:nvPr/>
            </p:nvSpPr>
            <p:spPr>
              <a:xfrm flipH="1" rot="3444000">
                <a:off x="2598840" y="5628960"/>
                <a:ext cx="48240" cy="3132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4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1912"/>
              <p:cNvSpPr/>
              <p:nvPr/>
            </p:nvSpPr>
            <p:spPr>
              <a:xfrm rot="3443400">
                <a:off x="2597040" y="56584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20" name="Group 1913"/>
              <p:cNvGrpSpPr/>
              <p:nvPr/>
            </p:nvGrpSpPr>
            <p:grpSpPr>
              <a:xfrm>
                <a:off x="2614680" y="5588280"/>
                <a:ext cx="61560" cy="50760"/>
                <a:chOff x="2614680" y="5588280"/>
                <a:chExt cx="61560" cy="50760"/>
              </a:xfrm>
            </p:grpSpPr>
            <p:sp>
              <p:nvSpPr>
                <p:cNvPr id="1121" name="Freeform 1914"/>
                <p:cNvSpPr/>
                <p:nvPr/>
              </p:nvSpPr>
              <p:spPr>
                <a:xfrm flipH="1" rot="3444600">
                  <a:off x="2619000" y="5592600"/>
                  <a:ext cx="23400" cy="23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22" name="Group 1915"/>
                <p:cNvGrpSpPr/>
                <p:nvPr/>
              </p:nvGrpSpPr>
              <p:grpSpPr>
                <a:xfrm>
                  <a:off x="2625120" y="5593680"/>
                  <a:ext cx="51120" cy="45360"/>
                  <a:chOff x="2625120" y="5593680"/>
                  <a:chExt cx="51120" cy="45360"/>
                </a:xfrm>
              </p:grpSpPr>
              <p:grpSp>
                <p:nvGrpSpPr>
                  <p:cNvPr id="1123" name="Group 1916"/>
                  <p:cNvGrpSpPr/>
                  <p:nvPr/>
                </p:nvGrpSpPr>
                <p:grpSpPr>
                  <a:xfrm>
                    <a:off x="2625120" y="5593680"/>
                    <a:ext cx="51120" cy="45360"/>
                    <a:chOff x="2625120" y="5593680"/>
                    <a:chExt cx="51120" cy="45360"/>
                  </a:xfrm>
                </p:grpSpPr>
                <p:sp>
                  <p:nvSpPr>
                    <p:cNvPr id="1124" name="Freeform 1917"/>
                    <p:cNvSpPr/>
                    <p:nvPr/>
                  </p:nvSpPr>
                  <p:spPr>
                    <a:xfrm flipH="1" rot="1647000">
                      <a:off x="2632320" y="5602320"/>
                      <a:ext cx="42480" cy="14040"/>
                    </a:xfrm>
                    <a:custGeom>
                      <a:avLst/>
                      <a:gdLst>
                        <a:gd name="textAreaLeft" fmla="*/ 360 w 42480"/>
                        <a:gd name="textAreaRight" fmla="*/ 43200 w 42480"/>
                        <a:gd name="textAreaTop" fmla="*/ 0 h 14040"/>
                        <a:gd name="textAreaBottom" fmla="*/ 14040 h 14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25" name="Freeform 1918"/>
                    <p:cNvSpPr/>
                    <p:nvPr/>
                  </p:nvSpPr>
                  <p:spPr>
                    <a:xfrm flipH="1" rot="1647000">
                      <a:off x="2626920" y="5610960"/>
                      <a:ext cx="42840" cy="1908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126" name="Freeform 1919"/>
                  <p:cNvSpPr/>
                  <p:nvPr/>
                </p:nvSpPr>
                <p:spPr>
                  <a:xfrm flipH="1" rot="1647000">
                    <a:off x="2633760" y="560556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7" name="Freeform 1920"/>
                  <p:cNvSpPr/>
                  <p:nvPr/>
                </p:nvSpPr>
                <p:spPr>
                  <a:xfrm flipH="1" rot="1647000">
                    <a:off x="2639520" y="560844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8" name="Freeform 1921"/>
                  <p:cNvSpPr/>
                  <p:nvPr/>
                </p:nvSpPr>
                <p:spPr>
                  <a:xfrm flipH="1" rot="1647000">
                    <a:off x="2645280" y="5613120"/>
                    <a:ext cx="3600" cy="9000"/>
                  </a:xfrm>
                  <a:custGeom>
                    <a:avLst/>
                    <a:gdLst>
                      <a:gd name="textAreaLeft" fmla="*/ 360 w 3600"/>
                      <a:gd name="textAreaRight" fmla="*/ 4320 w 3600"/>
                      <a:gd name="textAreaTop" fmla="*/ 0 h 9000"/>
                      <a:gd name="textAreaBottom" fmla="*/ 9000 h 90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9" name="Freeform 1922"/>
                  <p:cNvSpPr/>
                  <p:nvPr/>
                </p:nvSpPr>
                <p:spPr>
                  <a:xfrm flipH="1" rot="1647000">
                    <a:off x="2645280" y="5602680"/>
                    <a:ext cx="5400" cy="6480"/>
                  </a:xfrm>
                  <a:custGeom>
                    <a:avLst/>
                    <a:gdLst>
                      <a:gd name="textAreaLeft" fmla="*/ -360 w 5400"/>
                      <a:gd name="textAreaRight" fmla="*/ 540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0" name="Freeform 1923"/>
                  <p:cNvSpPr/>
                  <p:nvPr/>
                </p:nvSpPr>
                <p:spPr>
                  <a:xfrm flipH="1" rot="1647000">
                    <a:off x="2640600" y="5599440"/>
                    <a:ext cx="5760" cy="7560"/>
                  </a:xfrm>
                  <a:custGeom>
                    <a:avLst/>
                    <a:gdLst>
                      <a:gd name="textAreaLeft" fmla="*/ 360 w 5760"/>
                      <a:gd name="textAreaRight" fmla="*/ 648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131" name="Group 1924"/>
            <p:cNvGrpSpPr/>
            <p:nvPr/>
          </p:nvGrpSpPr>
          <p:grpSpPr>
            <a:xfrm>
              <a:off x="2653200" y="5946480"/>
              <a:ext cx="105120" cy="99360"/>
              <a:chOff x="2653200" y="5946480"/>
              <a:chExt cx="105120" cy="99360"/>
            </a:xfrm>
          </p:grpSpPr>
          <p:sp>
            <p:nvSpPr>
              <p:cNvPr id="1132" name="Freeform 1925"/>
              <p:cNvSpPr/>
              <p:nvPr/>
            </p:nvSpPr>
            <p:spPr>
              <a:xfrm rot="3443400">
                <a:off x="2655360" y="5972400"/>
                <a:ext cx="82440" cy="50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4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1926"/>
              <p:cNvSpPr/>
              <p:nvPr/>
            </p:nvSpPr>
            <p:spPr>
              <a:xfrm flipH="1" rot="3444000">
                <a:off x="2680920" y="5987160"/>
                <a:ext cx="48240" cy="3132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4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1927"/>
              <p:cNvSpPr/>
              <p:nvPr/>
            </p:nvSpPr>
            <p:spPr>
              <a:xfrm rot="3443400">
                <a:off x="2679120" y="60166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5" name="Group 1928"/>
              <p:cNvGrpSpPr/>
              <p:nvPr/>
            </p:nvGrpSpPr>
            <p:grpSpPr>
              <a:xfrm>
                <a:off x="2696760" y="5946480"/>
                <a:ext cx="61560" cy="50760"/>
                <a:chOff x="2696760" y="5946480"/>
                <a:chExt cx="61560" cy="50760"/>
              </a:xfrm>
            </p:grpSpPr>
            <p:sp>
              <p:nvSpPr>
                <p:cNvPr id="1136" name="Freeform 1929"/>
                <p:cNvSpPr/>
                <p:nvPr/>
              </p:nvSpPr>
              <p:spPr>
                <a:xfrm flipH="1" rot="3444600">
                  <a:off x="2701080" y="5950800"/>
                  <a:ext cx="23400" cy="23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37" name="Group 1930"/>
                <p:cNvGrpSpPr/>
                <p:nvPr/>
              </p:nvGrpSpPr>
              <p:grpSpPr>
                <a:xfrm>
                  <a:off x="2707200" y="5951880"/>
                  <a:ext cx="51120" cy="45360"/>
                  <a:chOff x="2707200" y="5951880"/>
                  <a:chExt cx="51120" cy="45360"/>
                </a:xfrm>
              </p:grpSpPr>
              <p:grpSp>
                <p:nvGrpSpPr>
                  <p:cNvPr id="1138" name="Group 1931"/>
                  <p:cNvGrpSpPr/>
                  <p:nvPr/>
                </p:nvGrpSpPr>
                <p:grpSpPr>
                  <a:xfrm>
                    <a:off x="2707200" y="5951880"/>
                    <a:ext cx="51120" cy="45360"/>
                    <a:chOff x="2707200" y="5951880"/>
                    <a:chExt cx="51120" cy="45360"/>
                  </a:xfrm>
                </p:grpSpPr>
                <p:sp>
                  <p:nvSpPr>
                    <p:cNvPr id="1139" name="Freeform 1932"/>
                    <p:cNvSpPr/>
                    <p:nvPr/>
                  </p:nvSpPr>
                  <p:spPr>
                    <a:xfrm flipH="1" rot="1647000">
                      <a:off x="2714400" y="5960520"/>
                      <a:ext cx="42480" cy="14040"/>
                    </a:xfrm>
                    <a:custGeom>
                      <a:avLst/>
                      <a:gdLst>
                        <a:gd name="textAreaLeft" fmla="*/ 360 w 42480"/>
                        <a:gd name="textAreaRight" fmla="*/ 43200 w 42480"/>
                        <a:gd name="textAreaTop" fmla="*/ 0 h 14040"/>
                        <a:gd name="textAreaBottom" fmla="*/ 14040 h 14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40" name="Freeform 1933"/>
                    <p:cNvSpPr/>
                    <p:nvPr/>
                  </p:nvSpPr>
                  <p:spPr>
                    <a:xfrm flipH="1" rot="1647000">
                      <a:off x="2709000" y="5969160"/>
                      <a:ext cx="42840" cy="1908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141" name="Freeform 1934"/>
                  <p:cNvSpPr/>
                  <p:nvPr/>
                </p:nvSpPr>
                <p:spPr>
                  <a:xfrm flipH="1" rot="1647000">
                    <a:off x="2715840" y="596376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42" name="Freeform 1935"/>
                  <p:cNvSpPr/>
                  <p:nvPr/>
                </p:nvSpPr>
                <p:spPr>
                  <a:xfrm flipH="1" rot="1647000">
                    <a:off x="2721600" y="596664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43" name="Freeform 1936"/>
                  <p:cNvSpPr/>
                  <p:nvPr/>
                </p:nvSpPr>
                <p:spPr>
                  <a:xfrm flipH="1" rot="1647000">
                    <a:off x="2727360" y="5971320"/>
                    <a:ext cx="3600" cy="9000"/>
                  </a:xfrm>
                  <a:custGeom>
                    <a:avLst/>
                    <a:gdLst>
                      <a:gd name="textAreaLeft" fmla="*/ 360 w 3600"/>
                      <a:gd name="textAreaRight" fmla="*/ 4320 w 3600"/>
                      <a:gd name="textAreaTop" fmla="*/ 0 h 9000"/>
                      <a:gd name="textAreaBottom" fmla="*/ 9000 h 90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44" name="Freeform 1937"/>
                  <p:cNvSpPr/>
                  <p:nvPr/>
                </p:nvSpPr>
                <p:spPr>
                  <a:xfrm flipH="1" rot="1647000">
                    <a:off x="2727360" y="5960880"/>
                    <a:ext cx="5400" cy="6480"/>
                  </a:xfrm>
                  <a:custGeom>
                    <a:avLst/>
                    <a:gdLst>
                      <a:gd name="textAreaLeft" fmla="*/ -360 w 5400"/>
                      <a:gd name="textAreaRight" fmla="*/ 540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45" name="Freeform 1938"/>
                  <p:cNvSpPr/>
                  <p:nvPr/>
                </p:nvSpPr>
                <p:spPr>
                  <a:xfrm flipH="1" rot="1647000">
                    <a:off x="2722680" y="5957640"/>
                    <a:ext cx="5760" cy="7560"/>
                  </a:xfrm>
                  <a:custGeom>
                    <a:avLst/>
                    <a:gdLst>
                      <a:gd name="textAreaLeft" fmla="*/ 360 w 5760"/>
                      <a:gd name="textAreaRight" fmla="*/ 648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146" name="Group 1939"/>
            <p:cNvGrpSpPr/>
            <p:nvPr/>
          </p:nvGrpSpPr>
          <p:grpSpPr>
            <a:xfrm>
              <a:off x="2468880" y="5199840"/>
              <a:ext cx="105120" cy="99360"/>
              <a:chOff x="2468880" y="5199840"/>
              <a:chExt cx="105120" cy="99360"/>
            </a:xfrm>
          </p:grpSpPr>
          <p:sp>
            <p:nvSpPr>
              <p:cNvPr id="1147" name="Freeform 1940"/>
              <p:cNvSpPr/>
              <p:nvPr/>
            </p:nvSpPr>
            <p:spPr>
              <a:xfrm rot="3443400">
                <a:off x="2471040" y="5225760"/>
                <a:ext cx="82440" cy="50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4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1941"/>
              <p:cNvSpPr/>
              <p:nvPr/>
            </p:nvSpPr>
            <p:spPr>
              <a:xfrm flipH="1" rot="3444000">
                <a:off x="2496600" y="5240520"/>
                <a:ext cx="48240" cy="3132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4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1942"/>
              <p:cNvSpPr/>
              <p:nvPr/>
            </p:nvSpPr>
            <p:spPr>
              <a:xfrm rot="3443400">
                <a:off x="2494800" y="527004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50" name="Group 1943"/>
              <p:cNvGrpSpPr/>
              <p:nvPr/>
            </p:nvGrpSpPr>
            <p:grpSpPr>
              <a:xfrm>
                <a:off x="2512440" y="5199840"/>
                <a:ext cx="61560" cy="50760"/>
                <a:chOff x="2512440" y="5199840"/>
                <a:chExt cx="61560" cy="50760"/>
              </a:xfrm>
            </p:grpSpPr>
            <p:sp>
              <p:nvSpPr>
                <p:cNvPr id="1151" name="Freeform 1944"/>
                <p:cNvSpPr/>
                <p:nvPr/>
              </p:nvSpPr>
              <p:spPr>
                <a:xfrm flipH="1" rot="3444600">
                  <a:off x="2516760" y="5204160"/>
                  <a:ext cx="23400" cy="23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52" name="Group 1945"/>
                <p:cNvGrpSpPr/>
                <p:nvPr/>
              </p:nvGrpSpPr>
              <p:grpSpPr>
                <a:xfrm>
                  <a:off x="2522880" y="5205240"/>
                  <a:ext cx="51120" cy="45360"/>
                  <a:chOff x="2522880" y="5205240"/>
                  <a:chExt cx="51120" cy="45360"/>
                </a:xfrm>
              </p:grpSpPr>
              <p:grpSp>
                <p:nvGrpSpPr>
                  <p:cNvPr id="1153" name="Group 1946"/>
                  <p:cNvGrpSpPr/>
                  <p:nvPr/>
                </p:nvGrpSpPr>
                <p:grpSpPr>
                  <a:xfrm>
                    <a:off x="2522880" y="5205240"/>
                    <a:ext cx="51120" cy="45360"/>
                    <a:chOff x="2522880" y="5205240"/>
                    <a:chExt cx="51120" cy="45360"/>
                  </a:xfrm>
                </p:grpSpPr>
                <p:sp>
                  <p:nvSpPr>
                    <p:cNvPr id="1154" name="Freeform 1947"/>
                    <p:cNvSpPr/>
                    <p:nvPr/>
                  </p:nvSpPr>
                  <p:spPr>
                    <a:xfrm flipH="1" rot="1647000">
                      <a:off x="2530080" y="5213880"/>
                      <a:ext cx="42480" cy="14040"/>
                    </a:xfrm>
                    <a:custGeom>
                      <a:avLst/>
                      <a:gdLst>
                        <a:gd name="textAreaLeft" fmla="*/ 360 w 42480"/>
                        <a:gd name="textAreaRight" fmla="*/ 43200 w 42480"/>
                        <a:gd name="textAreaTop" fmla="*/ 0 h 14040"/>
                        <a:gd name="textAreaBottom" fmla="*/ 14040 h 14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55" name="Freeform 1948"/>
                    <p:cNvSpPr/>
                    <p:nvPr/>
                  </p:nvSpPr>
                  <p:spPr>
                    <a:xfrm flipH="1" rot="1647000">
                      <a:off x="2524680" y="5222520"/>
                      <a:ext cx="42840" cy="1908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156" name="Freeform 1949"/>
                  <p:cNvSpPr/>
                  <p:nvPr/>
                </p:nvSpPr>
                <p:spPr>
                  <a:xfrm flipH="1" rot="1647000">
                    <a:off x="2531520" y="521712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7" name="Freeform 1950"/>
                  <p:cNvSpPr/>
                  <p:nvPr/>
                </p:nvSpPr>
                <p:spPr>
                  <a:xfrm flipH="1" rot="1647000">
                    <a:off x="2537280" y="522000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8" name="Freeform 1951"/>
                  <p:cNvSpPr/>
                  <p:nvPr/>
                </p:nvSpPr>
                <p:spPr>
                  <a:xfrm flipH="1" rot="1647000">
                    <a:off x="2543040" y="5224680"/>
                    <a:ext cx="3600" cy="9000"/>
                  </a:xfrm>
                  <a:custGeom>
                    <a:avLst/>
                    <a:gdLst>
                      <a:gd name="textAreaLeft" fmla="*/ 360 w 3600"/>
                      <a:gd name="textAreaRight" fmla="*/ 4320 w 3600"/>
                      <a:gd name="textAreaTop" fmla="*/ 0 h 9000"/>
                      <a:gd name="textAreaBottom" fmla="*/ 9000 h 90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9" name="Freeform 1952"/>
                  <p:cNvSpPr/>
                  <p:nvPr/>
                </p:nvSpPr>
                <p:spPr>
                  <a:xfrm flipH="1" rot="1647000">
                    <a:off x="2543040" y="5214240"/>
                    <a:ext cx="5400" cy="6480"/>
                  </a:xfrm>
                  <a:custGeom>
                    <a:avLst/>
                    <a:gdLst>
                      <a:gd name="textAreaLeft" fmla="*/ -360 w 5400"/>
                      <a:gd name="textAreaRight" fmla="*/ 540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0" name="Freeform 1953"/>
                  <p:cNvSpPr/>
                  <p:nvPr/>
                </p:nvSpPr>
                <p:spPr>
                  <a:xfrm flipH="1" rot="1647000">
                    <a:off x="2538360" y="5211000"/>
                    <a:ext cx="5760" cy="7560"/>
                  </a:xfrm>
                  <a:custGeom>
                    <a:avLst/>
                    <a:gdLst>
                      <a:gd name="textAreaLeft" fmla="*/ 360 w 5760"/>
                      <a:gd name="textAreaRight" fmla="*/ 648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161" name="Group 1954"/>
            <p:cNvGrpSpPr/>
            <p:nvPr/>
          </p:nvGrpSpPr>
          <p:grpSpPr>
            <a:xfrm>
              <a:off x="2264040" y="5498640"/>
              <a:ext cx="105120" cy="99360"/>
              <a:chOff x="2264040" y="5498640"/>
              <a:chExt cx="105120" cy="99360"/>
            </a:xfrm>
          </p:grpSpPr>
          <p:sp>
            <p:nvSpPr>
              <p:cNvPr id="1162" name="Freeform 1955"/>
              <p:cNvSpPr/>
              <p:nvPr/>
            </p:nvSpPr>
            <p:spPr>
              <a:xfrm rot="3443400">
                <a:off x="2266200" y="5524560"/>
                <a:ext cx="82440" cy="50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5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1956"/>
              <p:cNvSpPr/>
              <p:nvPr/>
            </p:nvSpPr>
            <p:spPr>
              <a:xfrm flipH="1" rot="3444000">
                <a:off x="2291760" y="5539320"/>
                <a:ext cx="48240" cy="3132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5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1957"/>
              <p:cNvSpPr/>
              <p:nvPr/>
            </p:nvSpPr>
            <p:spPr>
              <a:xfrm rot="3443400">
                <a:off x="2289960" y="556884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65" name="Group 1958"/>
              <p:cNvGrpSpPr/>
              <p:nvPr/>
            </p:nvGrpSpPr>
            <p:grpSpPr>
              <a:xfrm>
                <a:off x="2307600" y="5498640"/>
                <a:ext cx="61560" cy="50760"/>
                <a:chOff x="2307600" y="5498640"/>
                <a:chExt cx="61560" cy="50760"/>
              </a:xfrm>
            </p:grpSpPr>
            <p:sp>
              <p:nvSpPr>
                <p:cNvPr id="1166" name="Freeform 1959"/>
                <p:cNvSpPr/>
                <p:nvPr/>
              </p:nvSpPr>
              <p:spPr>
                <a:xfrm flipH="1" rot="3444600">
                  <a:off x="2311920" y="5502960"/>
                  <a:ext cx="23400" cy="23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67" name="Group 1960"/>
                <p:cNvGrpSpPr/>
                <p:nvPr/>
              </p:nvGrpSpPr>
              <p:grpSpPr>
                <a:xfrm>
                  <a:off x="2318040" y="5504040"/>
                  <a:ext cx="51120" cy="45360"/>
                  <a:chOff x="2318040" y="5504040"/>
                  <a:chExt cx="51120" cy="45360"/>
                </a:xfrm>
              </p:grpSpPr>
              <p:grpSp>
                <p:nvGrpSpPr>
                  <p:cNvPr id="1168" name="Group 1961"/>
                  <p:cNvGrpSpPr/>
                  <p:nvPr/>
                </p:nvGrpSpPr>
                <p:grpSpPr>
                  <a:xfrm>
                    <a:off x="2318040" y="5504040"/>
                    <a:ext cx="51120" cy="45360"/>
                    <a:chOff x="2318040" y="5504040"/>
                    <a:chExt cx="51120" cy="45360"/>
                  </a:xfrm>
                </p:grpSpPr>
                <p:sp>
                  <p:nvSpPr>
                    <p:cNvPr id="1169" name="Freeform 1962"/>
                    <p:cNvSpPr/>
                    <p:nvPr/>
                  </p:nvSpPr>
                  <p:spPr>
                    <a:xfrm flipH="1" rot="1647000">
                      <a:off x="2325240" y="5512680"/>
                      <a:ext cx="42480" cy="14040"/>
                    </a:xfrm>
                    <a:custGeom>
                      <a:avLst/>
                      <a:gdLst>
                        <a:gd name="textAreaLeft" fmla="*/ 360 w 42480"/>
                        <a:gd name="textAreaRight" fmla="*/ 43200 w 42480"/>
                        <a:gd name="textAreaTop" fmla="*/ 0 h 14040"/>
                        <a:gd name="textAreaBottom" fmla="*/ 14040 h 14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70" name="Freeform 1963"/>
                    <p:cNvSpPr/>
                    <p:nvPr/>
                  </p:nvSpPr>
                  <p:spPr>
                    <a:xfrm flipH="1" rot="1647000">
                      <a:off x="2319840" y="5521320"/>
                      <a:ext cx="42840" cy="1908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171" name="Freeform 1964"/>
                  <p:cNvSpPr/>
                  <p:nvPr/>
                </p:nvSpPr>
                <p:spPr>
                  <a:xfrm flipH="1" rot="1647000">
                    <a:off x="2326680" y="551592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2" name="Freeform 1965"/>
                  <p:cNvSpPr/>
                  <p:nvPr/>
                </p:nvSpPr>
                <p:spPr>
                  <a:xfrm flipH="1" rot="1647000">
                    <a:off x="2332440" y="551880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3" name="Freeform 1966"/>
                  <p:cNvSpPr/>
                  <p:nvPr/>
                </p:nvSpPr>
                <p:spPr>
                  <a:xfrm flipH="1" rot="1647000">
                    <a:off x="2338200" y="5523480"/>
                    <a:ext cx="3600" cy="9000"/>
                  </a:xfrm>
                  <a:custGeom>
                    <a:avLst/>
                    <a:gdLst>
                      <a:gd name="textAreaLeft" fmla="*/ 360 w 3600"/>
                      <a:gd name="textAreaRight" fmla="*/ 4320 w 3600"/>
                      <a:gd name="textAreaTop" fmla="*/ 0 h 9000"/>
                      <a:gd name="textAreaBottom" fmla="*/ 9000 h 90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4" name="Freeform 1967"/>
                  <p:cNvSpPr/>
                  <p:nvPr/>
                </p:nvSpPr>
                <p:spPr>
                  <a:xfrm flipH="1" rot="1647000">
                    <a:off x="2338200" y="5513040"/>
                    <a:ext cx="5400" cy="6480"/>
                  </a:xfrm>
                  <a:custGeom>
                    <a:avLst/>
                    <a:gdLst>
                      <a:gd name="textAreaLeft" fmla="*/ -360 w 5400"/>
                      <a:gd name="textAreaRight" fmla="*/ 540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5" name="Freeform 1968"/>
                  <p:cNvSpPr/>
                  <p:nvPr/>
                </p:nvSpPr>
                <p:spPr>
                  <a:xfrm flipH="1" rot="1647000">
                    <a:off x="2333520" y="5509800"/>
                    <a:ext cx="5760" cy="7560"/>
                  </a:xfrm>
                  <a:custGeom>
                    <a:avLst/>
                    <a:gdLst>
                      <a:gd name="textAreaLeft" fmla="*/ 360 w 5760"/>
                      <a:gd name="textAreaRight" fmla="*/ 648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176" name="Group 1969"/>
            <p:cNvGrpSpPr/>
            <p:nvPr/>
          </p:nvGrpSpPr>
          <p:grpSpPr>
            <a:xfrm>
              <a:off x="2755440" y="5916960"/>
              <a:ext cx="105120" cy="99360"/>
              <a:chOff x="2755440" y="5916960"/>
              <a:chExt cx="105120" cy="99360"/>
            </a:xfrm>
          </p:grpSpPr>
          <p:sp>
            <p:nvSpPr>
              <p:cNvPr id="1177" name="Freeform 1970"/>
              <p:cNvSpPr/>
              <p:nvPr/>
            </p:nvSpPr>
            <p:spPr>
              <a:xfrm rot="3443400">
                <a:off x="2757600" y="5942880"/>
                <a:ext cx="82440" cy="50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5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1971"/>
              <p:cNvSpPr/>
              <p:nvPr/>
            </p:nvSpPr>
            <p:spPr>
              <a:xfrm flipH="1" rot="3444000">
                <a:off x="2783160" y="5957640"/>
                <a:ext cx="48240" cy="3132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5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Freeform 1972"/>
              <p:cNvSpPr/>
              <p:nvPr/>
            </p:nvSpPr>
            <p:spPr>
              <a:xfrm rot="3443400">
                <a:off x="2781360" y="598716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80" name="Group 1973"/>
              <p:cNvGrpSpPr/>
              <p:nvPr/>
            </p:nvGrpSpPr>
            <p:grpSpPr>
              <a:xfrm>
                <a:off x="2799000" y="5916960"/>
                <a:ext cx="61560" cy="50760"/>
                <a:chOff x="2799000" y="5916960"/>
                <a:chExt cx="61560" cy="50760"/>
              </a:xfrm>
            </p:grpSpPr>
            <p:sp>
              <p:nvSpPr>
                <p:cNvPr id="1181" name="Freeform 1974"/>
                <p:cNvSpPr/>
                <p:nvPr/>
              </p:nvSpPr>
              <p:spPr>
                <a:xfrm flipH="1" rot="3444600">
                  <a:off x="2803320" y="5921280"/>
                  <a:ext cx="23400" cy="23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82" name="Group 1975"/>
                <p:cNvGrpSpPr/>
                <p:nvPr/>
              </p:nvGrpSpPr>
              <p:grpSpPr>
                <a:xfrm>
                  <a:off x="2809440" y="5922360"/>
                  <a:ext cx="51120" cy="45360"/>
                  <a:chOff x="2809440" y="5922360"/>
                  <a:chExt cx="51120" cy="45360"/>
                </a:xfrm>
              </p:grpSpPr>
              <p:grpSp>
                <p:nvGrpSpPr>
                  <p:cNvPr id="1183" name="Group 1976"/>
                  <p:cNvGrpSpPr/>
                  <p:nvPr/>
                </p:nvGrpSpPr>
                <p:grpSpPr>
                  <a:xfrm>
                    <a:off x="2809440" y="5922360"/>
                    <a:ext cx="51120" cy="45360"/>
                    <a:chOff x="2809440" y="5922360"/>
                    <a:chExt cx="51120" cy="45360"/>
                  </a:xfrm>
                </p:grpSpPr>
                <p:sp>
                  <p:nvSpPr>
                    <p:cNvPr id="1184" name="Freeform 1977"/>
                    <p:cNvSpPr/>
                    <p:nvPr/>
                  </p:nvSpPr>
                  <p:spPr>
                    <a:xfrm flipH="1" rot="1647000">
                      <a:off x="2816640" y="5931000"/>
                      <a:ext cx="42480" cy="14040"/>
                    </a:xfrm>
                    <a:custGeom>
                      <a:avLst/>
                      <a:gdLst>
                        <a:gd name="textAreaLeft" fmla="*/ 360 w 42480"/>
                        <a:gd name="textAreaRight" fmla="*/ 43200 w 42480"/>
                        <a:gd name="textAreaTop" fmla="*/ 0 h 14040"/>
                        <a:gd name="textAreaBottom" fmla="*/ 14040 h 1404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85" name="Freeform 1978"/>
                    <p:cNvSpPr/>
                    <p:nvPr/>
                  </p:nvSpPr>
                  <p:spPr>
                    <a:xfrm flipH="1" rot="1647000">
                      <a:off x="2811240" y="5939640"/>
                      <a:ext cx="42840" cy="19080"/>
                    </a:xfrm>
                    <a:custGeom>
                      <a:avLst/>
                      <a:gdLst>
                        <a:gd name="textAreaLeft" fmla="*/ -360 w 42840"/>
                        <a:gd name="textAreaRight" fmla="*/ 42840 w 4284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186" name="Freeform 1979"/>
                  <p:cNvSpPr/>
                  <p:nvPr/>
                </p:nvSpPr>
                <p:spPr>
                  <a:xfrm flipH="1" rot="1647000">
                    <a:off x="2818080" y="593424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7" name="Freeform 1980"/>
                  <p:cNvSpPr/>
                  <p:nvPr/>
                </p:nvSpPr>
                <p:spPr>
                  <a:xfrm flipH="1" rot="1647000">
                    <a:off x="2823840" y="5937120"/>
                    <a:ext cx="4680" cy="13320"/>
                  </a:xfrm>
                  <a:custGeom>
                    <a:avLst/>
                    <a:gdLst>
                      <a:gd name="textAreaLeft" fmla="*/ -360 w 4680"/>
                      <a:gd name="textAreaRight" fmla="*/ 4680 w 46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8" name="Freeform 1981"/>
                  <p:cNvSpPr/>
                  <p:nvPr/>
                </p:nvSpPr>
                <p:spPr>
                  <a:xfrm flipH="1" rot="1647000">
                    <a:off x="2829600" y="5941800"/>
                    <a:ext cx="3600" cy="9000"/>
                  </a:xfrm>
                  <a:custGeom>
                    <a:avLst/>
                    <a:gdLst>
                      <a:gd name="textAreaLeft" fmla="*/ 360 w 3600"/>
                      <a:gd name="textAreaRight" fmla="*/ 4320 w 3600"/>
                      <a:gd name="textAreaTop" fmla="*/ 0 h 9000"/>
                      <a:gd name="textAreaBottom" fmla="*/ 9000 h 900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9" name="Freeform 1982"/>
                  <p:cNvSpPr/>
                  <p:nvPr/>
                </p:nvSpPr>
                <p:spPr>
                  <a:xfrm flipH="1" rot="1647000">
                    <a:off x="2829600" y="5931360"/>
                    <a:ext cx="5400" cy="6480"/>
                  </a:xfrm>
                  <a:custGeom>
                    <a:avLst/>
                    <a:gdLst>
                      <a:gd name="textAreaLeft" fmla="*/ -360 w 5400"/>
                      <a:gd name="textAreaRight" fmla="*/ 540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0" name="Freeform 1983"/>
                  <p:cNvSpPr/>
                  <p:nvPr/>
                </p:nvSpPr>
                <p:spPr>
                  <a:xfrm flipH="1" rot="1647000">
                    <a:off x="2824920" y="5928120"/>
                    <a:ext cx="5760" cy="7560"/>
                  </a:xfrm>
                  <a:custGeom>
                    <a:avLst/>
                    <a:gdLst>
                      <a:gd name="textAreaLeft" fmla="*/ 360 w 5760"/>
                      <a:gd name="textAreaRight" fmla="*/ 648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191" name="Group 1984"/>
            <p:cNvGrpSpPr/>
            <p:nvPr/>
          </p:nvGrpSpPr>
          <p:grpSpPr>
            <a:xfrm>
              <a:off x="2554200" y="5976720"/>
              <a:ext cx="105120" cy="99360"/>
              <a:chOff x="2554200" y="5976720"/>
              <a:chExt cx="105120" cy="99360"/>
            </a:xfrm>
          </p:grpSpPr>
          <p:sp>
            <p:nvSpPr>
              <p:cNvPr id="1192" name="Freeform 1985"/>
              <p:cNvSpPr/>
              <p:nvPr/>
            </p:nvSpPr>
            <p:spPr>
              <a:xfrm flipH="1" rot="18156600">
                <a:off x="2574360" y="6002640"/>
                <a:ext cx="82440" cy="50400"/>
              </a:xfrm>
              <a:custGeom>
                <a:avLst/>
                <a:gdLst>
                  <a:gd name="textAreaLeft" fmla="*/ -360 w 82440"/>
                  <a:gd name="textAreaRight" fmla="*/ 82440 w 82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08" h="416">
                    <a:moveTo>
                      <a:pt x="17" y="112"/>
                    </a:moveTo>
                    <a:cubicBezTo>
                      <a:pt x="5" y="153"/>
                      <a:pt x="0" y="217"/>
                      <a:pt x="35" y="265"/>
                    </a:cubicBezTo>
                    <a:cubicBezTo>
                      <a:pt x="70" y="313"/>
                      <a:pt x="184" y="384"/>
                      <a:pt x="227" y="400"/>
                    </a:cubicBezTo>
                    <a:cubicBezTo>
                      <a:pt x="270" y="416"/>
                      <a:pt x="264" y="368"/>
                      <a:pt x="293" y="361"/>
                    </a:cubicBezTo>
                    <a:cubicBezTo>
                      <a:pt x="322" y="354"/>
                      <a:pt x="368" y="395"/>
                      <a:pt x="404" y="358"/>
                    </a:cubicBezTo>
                    <a:cubicBezTo>
                      <a:pt x="440" y="321"/>
                      <a:pt x="508" y="196"/>
                      <a:pt x="508" y="140"/>
                    </a:cubicBezTo>
                    <a:cubicBezTo>
                      <a:pt x="508" y="84"/>
                      <a:pt x="445" y="44"/>
                      <a:pt x="407" y="22"/>
                    </a:cubicBezTo>
                    <a:cubicBezTo>
                      <a:pt x="369" y="0"/>
                      <a:pt x="314" y="7"/>
                      <a:pt x="281" y="10"/>
                    </a:cubicBezTo>
                    <a:cubicBezTo>
                      <a:pt x="248" y="13"/>
                      <a:pt x="234" y="42"/>
                      <a:pt x="206" y="43"/>
                    </a:cubicBezTo>
                    <a:cubicBezTo>
                      <a:pt x="178" y="44"/>
                      <a:pt x="142" y="7"/>
                      <a:pt x="110" y="19"/>
                    </a:cubicBezTo>
                    <a:cubicBezTo>
                      <a:pt x="78" y="31"/>
                      <a:pt x="31" y="70"/>
                      <a:pt x="17" y="112"/>
                    </a:cubicBezTo>
                    <a:close/>
                  </a:path>
                </a:pathLst>
              </a:custGeom>
              <a:blipFill rotWithShape="0">
                <a:blip r:embed="rId26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1986"/>
              <p:cNvSpPr/>
              <p:nvPr/>
            </p:nvSpPr>
            <p:spPr>
              <a:xfrm rot="18156000">
                <a:off x="2582640" y="6017400"/>
                <a:ext cx="48240" cy="31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8" h="218">
                    <a:moveTo>
                      <a:pt x="188" y="41"/>
                    </a:moveTo>
                    <a:cubicBezTo>
                      <a:pt x="148" y="20"/>
                      <a:pt x="75" y="0"/>
                      <a:pt x="44" y="9"/>
                    </a:cubicBezTo>
                    <a:cubicBezTo>
                      <a:pt x="13" y="18"/>
                      <a:pt x="0" y="66"/>
                      <a:pt x="4" y="97"/>
                    </a:cubicBezTo>
                    <a:cubicBezTo>
                      <a:pt x="8" y="128"/>
                      <a:pt x="27" y="174"/>
                      <a:pt x="68" y="193"/>
                    </a:cubicBezTo>
                    <a:cubicBezTo>
                      <a:pt x="109" y="212"/>
                      <a:pt x="216" y="218"/>
                      <a:pt x="252" y="209"/>
                    </a:cubicBezTo>
                    <a:cubicBezTo>
                      <a:pt x="288" y="200"/>
                      <a:pt x="288" y="162"/>
                      <a:pt x="284" y="137"/>
                    </a:cubicBezTo>
                    <a:cubicBezTo>
                      <a:pt x="280" y="112"/>
                      <a:pt x="228" y="62"/>
                      <a:pt x="188" y="41"/>
                    </a:cubicBezTo>
                    <a:close/>
                  </a:path>
                </a:pathLst>
              </a:custGeom>
              <a:blipFill rotWithShape="0">
                <a:blip r:embed="rId26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1987"/>
              <p:cNvSpPr/>
              <p:nvPr/>
            </p:nvSpPr>
            <p:spPr>
              <a:xfrm flipH="1" rot="18156600">
                <a:off x="2627640" y="6046920"/>
                <a:ext cx="5760" cy="2160"/>
              </a:xfrm>
              <a:custGeom>
                <a:avLst/>
                <a:gdLst>
                  <a:gd name="textAreaLeft" fmla="*/ 360 w 5760"/>
                  <a:gd name="textAreaRight" fmla="*/ 648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95" name="Group 1988"/>
              <p:cNvGrpSpPr/>
              <p:nvPr/>
            </p:nvGrpSpPr>
            <p:grpSpPr>
              <a:xfrm>
                <a:off x="2554200" y="5976720"/>
                <a:ext cx="61560" cy="50760"/>
                <a:chOff x="2554200" y="5976720"/>
                <a:chExt cx="61560" cy="50760"/>
              </a:xfrm>
            </p:grpSpPr>
            <p:sp>
              <p:nvSpPr>
                <p:cNvPr id="1196" name="Freeform 1989"/>
                <p:cNvSpPr/>
                <p:nvPr/>
              </p:nvSpPr>
              <p:spPr>
                <a:xfrm rot="18155400">
                  <a:off x="2587680" y="598104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97" name="Group 1990"/>
                <p:cNvGrpSpPr/>
                <p:nvPr/>
              </p:nvGrpSpPr>
              <p:grpSpPr>
                <a:xfrm>
                  <a:off x="2554200" y="5982120"/>
                  <a:ext cx="51480" cy="45360"/>
                  <a:chOff x="2554200" y="5982120"/>
                  <a:chExt cx="51480" cy="45360"/>
                </a:xfrm>
              </p:grpSpPr>
              <p:grpSp>
                <p:nvGrpSpPr>
                  <p:cNvPr id="1198" name="Group 1991"/>
                  <p:cNvGrpSpPr/>
                  <p:nvPr/>
                </p:nvGrpSpPr>
                <p:grpSpPr>
                  <a:xfrm>
                    <a:off x="2554200" y="5982120"/>
                    <a:ext cx="51480" cy="45360"/>
                    <a:chOff x="2554200" y="5982120"/>
                    <a:chExt cx="51480" cy="45360"/>
                  </a:xfrm>
                </p:grpSpPr>
                <p:sp>
                  <p:nvSpPr>
                    <p:cNvPr id="1199" name="Freeform 1992"/>
                    <p:cNvSpPr/>
                    <p:nvPr/>
                  </p:nvSpPr>
                  <p:spPr>
                    <a:xfrm rot="19953000">
                      <a:off x="2554920" y="5990760"/>
                      <a:ext cx="42480" cy="14400"/>
                    </a:xfrm>
                    <a:custGeom>
                      <a:avLst/>
                      <a:gdLst>
                        <a:gd name="textAreaLeft" fmla="*/ 0 w 42480"/>
                        <a:gd name="textAreaRight" fmla="*/ 42840 w 42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200" name="Freeform 1993"/>
                    <p:cNvSpPr/>
                    <p:nvPr/>
                  </p:nvSpPr>
                  <p:spPr>
                    <a:xfrm rot="19953000">
                      <a:off x="2560320" y="5999400"/>
                      <a:ext cx="43200" cy="19080"/>
                    </a:xfrm>
                    <a:custGeom>
                      <a:avLst/>
                      <a:gdLst>
                        <a:gd name="textAreaLeft" fmla="*/ 0 w 43200"/>
                        <a:gd name="textAreaRight" fmla="*/ 43560 w 43200"/>
                        <a:gd name="textAreaTop" fmla="*/ 0 h 19080"/>
                        <a:gd name="textAreaBottom" fmla="*/ 19080 h 19080"/>
                      </a:gdLst>
                      <a:ahLst/>
                      <a:rect l="textAreaLeft" t="textAreaTop" r="textAreaRight" b="textAreaBottom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201" name="Freeform 1994"/>
                  <p:cNvSpPr/>
                  <p:nvPr/>
                </p:nvSpPr>
                <p:spPr>
                  <a:xfrm rot="19953000">
                    <a:off x="2591280" y="599436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2" name="Freeform 1995"/>
                  <p:cNvSpPr/>
                  <p:nvPr/>
                </p:nvSpPr>
                <p:spPr>
                  <a:xfrm rot="19953000">
                    <a:off x="2585520" y="5997240"/>
                    <a:ext cx="4320" cy="1332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3" name="Freeform 1996"/>
                  <p:cNvSpPr/>
                  <p:nvPr/>
                </p:nvSpPr>
                <p:spPr>
                  <a:xfrm rot="19953000">
                    <a:off x="2580480" y="6001920"/>
                    <a:ext cx="3600" cy="864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4" name="Freeform 1997"/>
                  <p:cNvSpPr/>
                  <p:nvPr/>
                </p:nvSpPr>
                <p:spPr>
                  <a:xfrm rot="19953000">
                    <a:off x="2579400" y="5991120"/>
                    <a:ext cx="5400" cy="64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5" name="Freeform 1998"/>
                  <p:cNvSpPr/>
                  <p:nvPr/>
                </p:nvSpPr>
                <p:spPr>
                  <a:xfrm rot="19953000">
                    <a:off x="2583360" y="5987880"/>
                    <a:ext cx="5760" cy="75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42640" y="3204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II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1220400" y="1643040"/>
            <a:ext cx="72090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чащиеся одного класса написали контрольную работу по математи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человек из класса неверно решили по 1 задаче, 8 человек класса неверно решили по 2 задачи, 4 человека – по 3 задачи и 1 человек из класса неверно решил все 5 задач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равильных задач решили ученики, если в классе 30 челове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8" name="Group 554"/>
          <p:cNvGrpSpPr/>
          <p:nvPr/>
        </p:nvGrpSpPr>
        <p:grpSpPr>
          <a:xfrm>
            <a:off x="276120" y="285840"/>
            <a:ext cx="4592520" cy="6478200"/>
            <a:chOff x="276120" y="285840"/>
            <a:chExt cx="4592520" cy="6478200"/>
          </a:xfrm>
        </p:grpSpPr>
        <p:pic>
          <p:nvPicPr>
            <p:cNvPr id="1209" name="Picture 265" descr="boy4g"/>
            <p:cNvPicPr/>
            <p:nvPr/>
          </p:nvPicPr>
          <p:blipFill>
            <a:blip r:embed="rId1"/>
            <a:stretch/>
          </p:blipFill>
          <p:spPr>
            <a:xfrm>
              <a:off x="518040" y="285840"/>
              <a:ext cx="939960" cy="153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Picture 267" descr="girl4b"/>
            <p:cNvPicPr/>
            <p:nvPr/>
          </p:nvPicPr>
          <p:blipFill>
            <a:blip r:embed="rId2"/>
            <a:stretch/>
          </p:blipFill>
          <p:spPr>
            <a:xfrm>
              <a:off x="276120" y="1935360"/>
              <a:ext cx="844920" cy="13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Picture 268" descr="girl6"/>
            <p:cNvPicPr/>
            <p:nvPr/>
          </p:nvPicPr>
          <p:blipFill>
            <a:blip r:embed="rId3"/>
            <a:stretch/>
          </p:blipFill>
          <p:spPr>
            <a:xfrm>
              <a:off x="276120" y="3664440"/>
              <a:ext cx="944640" cy="15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Picture 270" descr="girl5o"/>
            <p:cNvPicPr/>
            <p:nvPr/>
          </p:nvPicPr>
          <p:blipFill>
            <a:blip r:embed="rId4"/>
            <a:stretch/>
          </p:blipFill>
          <p:spPr>
            <a:xfrm>
              <a:off x="276120" y="5446080"/>
              <a:ext cx="908280" cy="13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3" name="Picture 271" descr="girl4b"/>
            <p:cNvPicPr/>
            <p:nvPr/>
          </p:nvPicPr>
          <p:blipFill>
            <a:blip r:embed="rId5"/>
            <a:stretch/>
          </p:blipFill>
          <p:spPr>
            <a:xfrm>
              <a:off x="2138400" y="5390640"/>
              <a:ext cx="844920" cy="13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Picture 272" descr="boy4g"/>
            <p:cNvPicPr/>
            <p:nvPr/>
          </p:nvPicPr>
          <p:blipFill>
            <a:blip r:embed="rId6"/>
            <a:stretch/>
          </p:blipFill>
          <p:spPr>
            <a:xfrm>
              <a:off x="3928320" y="5228280"/>
              <a:ext cx="940320" cy="153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5" name="AutoShape 14">
            <a:hlinkClick r:id="rId7" action="ppaction://hlinksldjump"/>
          </p:cNvPr>
          <p:cNvSpPr/>
          <p:nvPr/>
        </p:nvSpPr>
        <p:spPr>
          <a:xfrm>
            <a:off x="6715080" y="6307200"/>
            <a:ext cx="1461960" cy="550800"/>
          </a:xfrm>
          <a:custGeom>
            <a:avLst/>
            <a:gdLst>
              <a:gd name="textAreaLeft" fmla="*/ 35640 w 1461960"/>
              <a:gd name="textAreaRight" fmla="*/ 1426320 w 146196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57308" h="21600">
                <a:moveTo>
                  <a:pt x="0" y="0"/>
                </a:moveTo>
                <a:lnTo>
                  <a:pt x="57308" y="0"/>
                </a:lnTo>
                <a:lnTo>
                  <a:pt x="57308" y="21600"/>
                </a:lnTo>
                <a:lnTo>
                  <a:pt x="0" y="21600"/>
                </a:lnTo>
                <a:close/>
              </a:path>
              <a:path fill="lightenLess" w="57308" h="21600">
                <a:moveTo>
                  <a:pt x="0" y="0"/>
                </a:moveTo>
                <a:lnTo>
                  <a:pt x="57308" y="0"/>
                </a:lnTo>
                <a:lnTo>
                  <a:pt x="55908" y="1400"/>
                </a:lnTo>
                <a:lnTo>
                  <a:pt x="1400" y="1400"/>
                </a:lnTo>
                <a:close/>
              </a:path>
              <a:path fill="darken" w="57308" h="21600">
                <a:moveTo>
                  <a:pt x="57308" y="0"/>
                </a:moveTo>
                <a:lnTo>
                  <a:pt x="57308" y="21600"/>
                </a:lnTo>
                <a:lnTo>
                  <a:pt x="55908" y="20200"/>
                </a:lnTo>
                <a:lnTo>
                  <a:pt x="55908" y="1400"/>
                </a:lnTo>
                <a:close/>
              </a:path>
              <a:path fill="darkenLess" w="57308" h="21600">
                <a:moveTo>
                  <a:pt x="57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08" y="20200"/>
                </a:lnTo>
                <a:close/>
              </a:path>
              <a:path fill="lighten" w="57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II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468360" y="1500120"/>
            <a:ext cx="79912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 семи лиц по семи коше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кошка съедает по семи мыше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мышь съедает по семи колосьев ячмен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ждого колоса может вырасти по семи мер зер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мер зерна сохраняется благодаря этим кошка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гипетский папирус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2000лет до н.э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AutoShape 14">
            <a:hlinkClick r:id="rId1" action="ppaction://hlinksldjump"/>
          </p:cNvPr>
          <p:cNvSpPr/>
          <p:nvPr/>
        </p:nvSpPr>
        <p:spPr>
          <a:xfrm>
            <a:off x="6715080" y="6307200"/>
            <a:ext cx="1461960" cy="550800"/>
          </a:xfrm>
          <a:custGeom>
            <a:avLst/>
            <a:gdLst>
              <a:gd name="textAreaLeft" fmla="*/ 35640 w 1461960"/>
              <a:gd name="textAreaRight" fmla="*/ 1426320 w 146196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57308" h="21600">
                <a:moveTo>
                  <a:pt x="0" y="0"/>
                </a:moveTo>
                <a:lnTo>
                  <a:pt x="57308" y="0"/>
                </a:lnTo>
                <a:lnTo>
                  <a:pt x="57308" y="21600"/>
                </a:lnTo>
                <a:lnTo>
                  <a:pt x="0" y="21600"/>
                </a:lnTo>
                <a:close/>
              </a:path>
              <a:path fill="lightenLess" w="57308" h="21600">
                <a:moveTo>
                  <a:pt x="0" y="0"/>
                </a:moveTo>
                <a:lnTo>
                  <a:pt x="57308" y="0"/>
                </a:lnTo>
                <a:lnTo>
                  <a:pt x="55908" y="1400"/>
                </a:lnTo>
                <a:lnTo>
                  <a:pt x="1400" y="1400"/>
                </a:lnTo>
                <a:close/>
              </a:path>
              <a:path fill="darken" w="57308" h="21600">
                <a:moveTo>
                  <a:pt x="57308" y="0"/>
                </a:moveTo>
                <a:lnTo>
                  <a:pt x="57308" y="21600"/>
                </a:lnTo>
                <a:lnTo>
                  <a:pt x="55908" y="20200"/>
                </a:lnTo>
                <a:lnTo>
                  <a:pt x="55908" y="1400"/>
                </a:lnTo>
                <a:close/>
              </a:path>
              <a:path fill="darkenLess" w="57308" h="21600">
                <a:moveTo>
                  <a:pt x="57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08" y="20200"/>
                </a:lnTo>
                <a:close/>
              </a:path>
              <a:path fill="lighten" w="57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1" name="Рисунок 7" descr="http://kalaratri.ucoz.ru/_pu/0/97954.jpg"/>
          <p:cNvPicPr/>
          <p:nvPr/>
        </p:nvPicPr>
        <p:blipFill>
          <a:blip r:embed="rId2"/>
          <a:stretch/>
        </p:blipFill>
        <p:spPr>
          <a:xfrm>
            <a:off x="642960" y="4357800"/>
            <a:ext cx="3500280" cy="20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II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755640" y="1341360"/>
            <a:ext cx="7632720" cy="31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 третий этаж дома ведет лестница в 36 ступенек. Сколько ступенек ведут на шестой этаж этого дома 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чет ступенек начинается с уровня пола первого этажа, и число ступенек между каждыми двумя соседними этажами одинаково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AutoShape 14">
            <a:hlinkClick r:id="rId1" action="ppaction://hlinksldjump"/>
          </p:cNvPr>
          <p:cNvSpPr/>
          <p:nvPr/>
        </p:nvSpPr>
        <p:spPr>
          <a:xfrm>
            <a:off x="6715080" y="6307200"/>
            <a:ext cx="1461960" cy="550800"/>
          </a:xfrm>
          <a:custGeom>
            <a:avLst/>
            <a:gdLst>
              <a:gd name="textAreaLeft" fmla="*/ 35640 w 1461960"/>
              <a:gd name="textAreaRight" fmla="*/ 1426320 w 146196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57308" h="21600">
                <a:moveTo>
                  <a:pt x="0" y="0"/>
                </a:moveTo>
                <a:lnTo>
                  <a:pt x="57308" y="0"/>
                </a:lnTo>
                <a:lnTo>
                  <a:pt x="57308" y="21600"/>
                </a:lnTo>
                <a:lnTo>
                  <a:pt x="0" y="21600"/>
                </a:lnTo>
                <a:close/>
              </a:path>
              <a:path fill="lightenLess" w="57308" h="21600">
                <a:moveTo>
                  <a:pt x="0" y="0"/>
                </a:moveTo>
                <a:lnTo>
                  <a:pt x="57308" y="0"/>
                </a:lnTo>
                <a:lnTo>
                  <a:pt x="55908" y="1400"/>
                </a:lnTo>
                <a:lnTo>
                  <a:pt x="1400" y="1400"/>
                </a:lnTo>
                <a:close/>
              </a:path>
              <a:path fill="darken" w="57308" h="21600">
                <a:moveTo>
                  <a:pt x="57308" y="0"/>
                </a:moveTo>
                <a:lnTo>
                  <a:pt x="57308" y="21600"/>
                </a:lnTo>
                <a:lnTo>
                  <a:pt x="55908" y="20200"/>
                </a:lnTo>
                <a:lnTo>
                  <a:pt x="55908" y="1400"/>
                </a:lnTo>
                <a:close/>
              </a:path>
              <a:path fill="darkenLess" w="57308" h="21600">
                <a:moveTo>
                  <a:pt x="57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08" y="20200"/>
                </a:lnTo>
                <a:close/>
              </a:path>
              <a:path fill="lighten" w="57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6" name="Group 1286"/>
          <p:cNvGrpSpPr/>
          <p:nvPr/>
        </p:nvGrpSpPr>
        <p:grpSpPr>
          <a:xfrm>
            <a:off x="3660480" y="4162320"/>
            <a:ext cx="1860840" cy="2599200"/>
            <a:chOff x="3660480" y="4162320"/>
            <a:chExt cx="1860840" cy="2599200"/>
          </a:xfrm>
        </p:grpSpPr>
        <p:grpSp>
          <p:nvGrpSpPr>
            <p:cNvPr id="1227" name="Group 622"/>
            <p:cNvGrpSpPr/>
            <p:nvPr/>
          </p:nvGrpSpPr>
          <p:grpSpPr>
            <a:xfrm>
              <a:off x="3820680" y="4645800"/>
              <a:ext cx="1400040" cy="1869840"/>
              <a:chOff x="3820680" y="4645800"/>
              <a:chExt cx="1400040" cy="1869840"/>
            </a:xfrm>
          </p:grpSpPr>
          <p:sp>
            <p:nvSpPr>
              <p:cNvPr id="1228" name="Freeform 623"/>
              <p:cNvSpPr/>
              <p:nvPr/>
            </p:nvSpPr>
            <p:spPr>
              <a:xfrm>
                <a:off x="3820680" y="6397200"/>
                <a:ext cx="1301040" cy="111600"/>
              </a:xfrm>
              <a:custGeom>
                <a:avLst/>
                <a:gdLst>
                  <a:gd name="textAreaLeft" fmla="*/ 0 w 1301040"/>
                  <a:gd name="textAreaRight" fmla="*/ 1301040 w 130104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296" h="144">
                    <a:moveTo>
                      <a:pt x="0" y="144"/>
                    </a:moveTo>
                    <a:lnTo>
                      <a:pt x="1296" y="144"/>
                    </a:lnTo>
                    <a:lnTo>
                      <a:pt x="1296" y="0"/>
                    </a:lnTo>
                    <a:lnTo>
                      <a:pt x="8" y="0"/>
                    </a:lnTo>
                    <a:lnTo>
                      <a:pt x="8" y="14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624"/>
              <p:cNvSpPr/>
              <p:nvPr/>
            </p:nvSpPr>
            <p:spPr>
              <a:xfrm>
                <a:off x="3965040" y="4831920"/>
                <a:ext cx="963720" cy="1564920"/>
              </a:xfrm>
              <a:custGeom>
                <a:avLst/>
                <a:gdLst>
                  <a:gd name="textAreaLeft" fmla="*/ 0 w 963720"/>
                  <a:gd name="textAreaRight" fmla="*/ 964080 w 963720"/>
                  <a:gd name="textAreaTop" fmla="*/ 0 h 1564920"/>
                  <a:gd name="textAreaBottom" fmla="*/ 1565280 h 1564920"/>
                </a:gdLst>
                <a:ahLst/>
                <a:rect l="textAreaLeft" t="textAreaTop" r="textAreaRight" b="textAreaBottom"/>
                <a:pathLst>
                  <a:path w="960" h="2016">
                    <a:moveTo>
                      <a:pt x="960" y="2016"/>
                    </a:moveTo>
                    <a:lnTo>
                      <a:pt x="960" y="0"/>
                    </a:lnTo>
                    <a:lnTo>
                      <a:pt x="0" y="0"/>
                    </a:lnTo>
                    <a:lnTo>
                      <a:pt x="0" y="2016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625"/>
              <p:cNvSpPr/>
              <p:nvPr/>
            </p:nvSpPr>
            <p:spPr>
              <a:xfrm>
                <a:off x="3965040" y="4645800"/>
                <a:ext cx="963720" cy="186120"/>
              </a:xfrm>
              <a:custGeom>
                <a:avLst/>
                <a:gdLst>
                  <a:gd name="textAreaLeft" fmla="*/ 0 w 963720"/>
                  <a:gd name="textAreaRight" fmla="*/ 964080 w 9637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960" h="240">
                    <a:moveTo>
                      <a:pt x="0" y="240"/>
                    </a:moveTo>
                    <a:lnTo>
                      <a:pt x="192" y="96"/>
                    </a:lnTo>
                    <a:lnTo>
                      <a:pt x="480" y="0"/>
                    </a:lnTo>
                    <a:lnTo>
                      <a:pt x="816" y="96"/>
                    </a:lnTo>
                    <a:lnTo>
                      <a:pt x="960" y="240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31" name="Group 626"/>
              <p:cNvGrpSpPr/>
              <p:nvPr/>
            </p:nvGrpSpPr>
            <p:grpSpPr>
              <a:xfrm>
                <a:off x="4061520" y="4980960"/>
                <a:ext cx="144360" cy="192240"/>
                <a:chOff x="4061520" y="4980960"/>
                <a:chExt cx="144360" cy="192240"/>
              </a:xfrm>
            </p:grpSpPr>
            <p:sp>
              <p:nvSpPr>
                <p:cNvPr id="1232" name="Rectangle 627"/>
                <p:cNvSpPr/>
                <p:nvPr/>
              </p:nvSpPr>
              <p:spPr>
                <a:xfrm>
                  <a:off x="4061520" y="4984560"/>
                  <a:ext cx="144360" cy="18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3" name="Line 628"/>
                <p:cNvSpPr/>
                <p:nvPr/>
              </p:nvSpPr>
              <p:spPr>
                <a:xfrm>
                  <a:off x="4061520" y="5030640"/>
                  <a:ext cx="144360" cy="0"/>
                </a:xfrm>
                <a:prstGeom prst="line">
                  <a:avLst/>
                </a:prstGeom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4" name="Freeform 629"/>
                <p:cNvSpPr/>
                <p:nvPr/>
              </p:nvSpPr>
              <p:spPr>
                <a:xfrm>
                  <a:off x="4133520" y="4980960"/>
                  <a:ext cx="360" cy="19224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" h="400">
                      <a:moveTo>
                        <a:pt x="0" y="0"/>
                      </a:moveTo>
                      <a:lnTo>
                        <a:pt x="0" y="400"/>
                      </a:lnTo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35" name="Group 630"/>
              <p:cNvGrpSpPr/>
              <p:nvPr/>
            </p:nvGrpSpPr>
            <p:grpSpPr>
              <a:xfrm>
                <a:off x="4061520" y="5204520"/>
                <a:ext cx="144360" cy="192240"/>
                <a:chOff x="4061520" y="5204520"/>
                <a:chExt cx="144360" cy="192240"/>
              </a:xfrm>
            </p:grpSpPr>
            <p:sp>
              <p:nvSpPr>
                <p:cNvPr id="1236" name="Rectangle 631"/>
                <p:cNvSpPr/>
                <p:nvPr/>
              </p:nvSpPr>
              <p:spPr>
                <a:xfrm>
                  <a:off x="4061520" y="5208120"/>
                  <a:ext cx="144360" cy="18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7" name="Line 632"/>
                <p:cNvSpPr/>
                <p:nvPr/>
              </p:nvSpPr>
              <p:spPr>
                <a:xfrm>
                  <a:off x="4061520" y="5254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8" name="Freeform 633"/>
                <p:cNvSpPr/>
                <p:nvPr/>
              </p:nvSpPr>
              <p:spPr>
                <a:xfrm>
                  <a:off x="4133520" y="5204520"/>
                  <a:ext cx="360" cy="19224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" h="400">
                      <a:moveTo>
                        <a:pt x="0" y="0"/>
                      </a:moveTo>
                      <a:lnTo>
                        <a:pt x="0" y="400"/>
                      </a:lnTo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39" name="Group 634"/>
              <p:cNvGrpSpPr/>
              <p:nvPr/>
            </p:nvGrpSpPr>
            <p:grpSpPr>
              <a:xfrm>
                <a:off x="4061520" y="5428080"/>
                <a:ext cx="144360" cy="192240"/>
                <a:chOff x="4061520" y="5428080"/>
                <a:chExt cx="144360" cy="192240"/>
              </a:xfrm>
            </p:grpSpPr>
            <p:sp>
              <p:nvSpPr>
                <p:cNvPr id="1240" name="Rectangle 635"/>
                <p:cNvSpPr/>
                <p:nvPr/>
              </p:nvSpPr>
              <p:spPr>
                <a:xfrm>
                  <a:off x="4061520" y="5431680"/>
                  <a:ext cx="144360" cy="18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1" name="Line 636"/>
                <p:cNvSpPr/>
                <p:nvPr/>
              </p:nvSpPr>
              <p:spPr>
                <a:xfrm>
                  <a:off x="4061520" y="5477760"/>
                  <a:ext cx="144360" cy="0"/>
                </a:xfrm>
                <a:prstGeom prst="line">
                  <a:avLst/>
                </a:prstGeom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2" name="Freeform 637"/>
                <p:cNvSpPr/>
                <p:nvPr/>
              </p:nvSpPr>
              <p:spPr>
                <a:xfrm>
                  <a:off x="4133520" y="5428080"/>
                  <a:ext cx="360" cy="19224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" h="400">
                      <a:moveTo>
                        <a:pt x="0" y="0"/>
                      </a:moveTo>
                      <a:lnTo>
                        <a:pt x="0" y="400"/>
                      </a:lnTo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43" name="Group 638"/>
              <p:cNvGrpSpPr/>
              <p:nvPr/>
            </p:nvGrpSpPr>
            <p:grpSpPr>
              <a:xfrm>
                <a:off x="4061520" y="5652000"/>
                <a:ext cx="144360" cy="192240"/>
                <a:chOff x="4061520" y="5652000"/>
                <a:chExt cx="144360" cy="192240"/>
              </a:xfrm>
            </p:grpSpPr>
            <p:sp>
              <p:nvSpPr>
                <p:cNvPr id="1244" name="Rectangle 639"/>
                <p:cNvSpPr/>
                <p:nvPr/>
              </p:nvSpPr>
              <p:spPr>
                <a:xfrm>
                  <a:off x="4061520" y="5655600"/>
                  <a:ext cx="144360" cy="18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5" name="Line 640"/>
                <p:cNvSpPr/>
                <p:nvPr/>
              </p:nvSpPr>
              <p:spPr>
                <a:xfrm>
                  <a:off x="4061520" y="5701680"/>
                  <a:ext cx="144360" cy="0"/>
                </a:xfrm>
                <a:prstGeom prst="line">
                  <a:avLst/>
                </a:prstGeom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6" name="Freeform 641"/>
                <p:cNvSpPr/>
                <p:nvPr/>
              </p:nvSpPr>
              <p:spPr>
                <a:xfrm>
                  <a:off x="4133520" y="5652000"/>
                  <a:ext cx="360" cy="19224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" h="400">
                      <a:moveTo>
                        <a:pt x="0" y="0"/>
                      </a:moveTo>
                      <a:lnTo>
                        <a:pt x="0" y="400"/>
                      </a:lnTo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47" name="Group 642"/>
              <p:cNvGrpSpPr/>
              <p:nvPr/>
            </p:nvGrpSpPr>
            <p:grpSpPr>
              <a:xfrm>
                <a:off x="4061520" y="5875560"/>
                <a:ext cx="144360" cy="192240"/>
                <a:chOff x="4061520" y="5875560"/>
                <a:chExt cx="144360" cy="192240"/>
              </a:xfrm>
            </p:grpSpPr>
            <p:sp>
              <p:nvSpPr>
                <p:cNvPr id="1248" name="Rectangle 643"/>
                <p:cNvSpPr/>
                <p:nvPr/>
              </p:nvSpPr>
              <p:spPr>
                <a:xfrm>
                  <a:off x="4061520" y="5879160"/>
                  <a:ext cx="144360" cy="18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9" name="Line 644"/>
                <p:cNvSpPr/>
                <p:nvPr/>
              </p:nvSpPr>
              <p:spPr>
                <a:xfrm>
                  <a:off x="4061520" y="5925240"/>
                  <a:ext cx="144360" cy="0"/>
                </a:xfrm>
                <a:prstGeom prst="line">
                  <a:avLst/>
                </a:prstGeom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0" name="Freeform 645"/>
                <p:cNvSpPr/>
                <p:nvPr/>
              </p:nvSpPr>
              <p:spPr>
                <a:xfrm>
                  <a:off x="4133520" y="5875560"/>
                  <a:ext cx="360" cy="19224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" h="400">
                      <a:moveTo>
                        <a:pt x="0" y="0"/>
                      </a:moveTo>
                      <a:lnTo>
                        <a:pt x="0" y="400"/>
                      </a:lnTo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51" name="Group 646"/>
              <p:cNvGrpSpPr/>
              <p:nvPr/>
            </p:nvGrpSpPr>
            <p:grpSpPr>
              <a:xfrm>
                <a:off x="4061520" y="6136200"/>
                <a:ext cx="144360" cy="192600"/>
                <a:chOff x="4061520" y="6136200"/>
                <a:chExt cx="144360" cy="192600"/>
              </a:xfrm>
            </p:grpSpPr>
            <p:sp>
              <p:nvSpPr>
                <p:cNvPr id="1252" name="Rectangle 647"/>
                <p:cNvSpPr/>
                <p:nvPr/>
              </p:nvSpPr>
              <p:spPr>
                <a:xfrm>
                  <a:off x="4061520" y="6139800"/>
                  <a:ext cx="144360" cy="185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3" name="Line 648"/>
                <p:cNvSpPr/>
                <p:nvPr/>
              </p:nvSpPr>
              <p:spPr>
                <a:xfrm>
                  <a:off x="4061520" y="6186240"/>
                  <a:ext cx="144360" cy="0"/>
                </a:xfrm>
                <a:prstGeom prst="line">
                  <a:avLst/>
                </a:prstGeom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4" name="Freeform 649"/>
                <p:cNvSpPr/>
                <p:nvPr/>
              </p:nvSpPr>
              <p:spPr>
                <a:xfrm>
                  <a:off x="4133520" y="6136200"/>
                  <a:ext cx="360" cy="19260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1" h="400">
                      <a:moveTo>
                        <a:pt x="0" y="0"/>
                      </a:moveTo>
                      <a:lnTo>
                        <a:pt x="0" y="400"/>
                      </a:lnTo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12600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55" name="Group 650"/>
              <p:cNvGrpSpPr/>
              <p:nvPr/>
            </p:nvGrpSpPr>
            <p:grpSpPr>
              <a:xfrm>
                <a:off x="4350600" y="4980960"/>
                <a:ext cx="144360" cy="192240"/>
                <a:chOff x="4350600" y="4980960"/>
                <a:chExt cx="144360" cy="192240"/>
              </a:xfrm>
            </p:grpSpPr>
            <p:sp>
              <p:nvSpPr>
                <p:cNvPr id="1256" name="Rectangle 651"/>
                <p:cNvSpPr/>
                <p:nvPr/>
              </p:nvSpPr>
              <p:spPr>
                <a:xfrm>
                  <a:off x="4350600" y="4984560"/>
                  <a:ext cx="144360" cy="18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7" name="Line 652"/>
                <p:cNvSpPr/>
                <p:nvPr/>
              </p:nvSpPr>
              <p:spPr>
                <a:xfrm>
                  <a:off x="4350600" y="5030640"/>
                  <a:ext cx="144360" cy="0"/>
                </a:xfrm>
                <a:prstGeom prst="line">
                  <a:avLst/>
                </a:prstGeom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8" name="Freeform 653"/>
                <p:cNvSpPr/>
                <p:nvPr/>
              </p:nvSpPr>
              <p:spPr>
                <a:xfrm>
                  <a:off x="4422600" y="4980960"/>
                  <a:ext cx="360" cy="19224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" h="400">
                      <a:moveTo>
                        <a:pt x="0" y="0"/>
                      </a:moveTo>
                      <a:lnTo>
                        <a:pt x="0" y="400"/>
                      </a:lnTo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12600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59" name="Group 654"/>
              <p:cNvGrpSpPr/>
              <p:nvPr/>
            </p:nvGrpSpPr>
            <p:grpSpPr>
              <a:xfrm>
                <a:off x="4350600" y="5204520"/>
                <a:ext cx="144360" cy="192240"/>
                <a:chOff x="4350600" y="5204520"/>
                <a:chExt cx="144360" cy="192240"/>
              </a:xfrm>
            </p:grpSpPr>
            <p:sp>
              <p:nvSpPr>
                <p:cNvPr id="1260" name="Rectangle 655"/>
                <p:cNvSpPr/>
                <p:nvPr/>
              </p:nvSpPr>
              <p:spPr>
                <a:xfrm>
                  <a:off x="4350600" y="5208120"/>
                  <a:ext cx="144360" cy="18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1" name="Line 656"/>
                <p:cNvSpPr/>
                <p:nvPr/>
              </p:nvSpPr>
              <p:spPr>
                <a:xfrm>
                  <a:off x="4350600" y="5254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2" name="Freeform 657"/>
                <p:cNvSpPr/>
                <p:nvPr/>
              </p:nvSpPr>
              <p:spPr>
                <a:xfrm>
                  <a:off x="4422600" y="5204520"/>
                  <a:ext cx="360" cy="19224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" h="400">
                      <a:moveTo>
                        <a:pt x="0" y="0"/>
                      </a:moveTo>
                      <a:lnTo>
                        <a:pt x="0" y="400"/>
                      </a:lnTo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12600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63" name="Group 658"/>
              <p:cNvGrpSpPr/>
              <p:nvPr/>
            </p:nvGrpSpPr>
            <p:grpSpPr>
              <a:xfrm>
                <a:off x="4350600" y="5428080"/>
                <a:ext cx="144360" cy="192240"/>
                <a:chOff x="4350600" y="5428080"/>
                <a:chExt cx="144360" cy="192240"/>
              </a:xfrm>
            </p:grpSpPr>
            <p:sp>
              <p:nvSpPr>
                <p:cNvPr id="1264" name="Rectangle 659"/>
                <p:cNvSpPr/>
                <p:nvPr/>
              </p:nvSpPr>
              <p:spPr>
                <a:xfrm>
                  <a:off x="4350600" y="5431680"/>
                  <a:ext cx="144360" cy="18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5" name="Line 660"/>
                <p:cNvSpPr/>
                <p:nvPr/>
              </p:nvSpPr>
              <p:spPr>
                <a:xfrm>
                  <a:off x="4350600" y="5477760"/>
                  <a:ext cx="144360" cy="0"/>
                </a:xfrm>
                <a:prstGeom prst="line">
                  <a:avLst/>
                </a:prstGeom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6" name="Freeform 661"/>
                <p:cNvSpPr/>
                <p:nvPr/>
              </p:nvSpPr>
              <p:spPr>
                <a:xfrm>
                  <a:off x="4422600" y="5428080"/>
                  <a:ext cx="360" cy="19224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" h="400">
                      <a:moveTo>
                        <a:pt x="0" y="0"/>
                      </a:moveTo>
                      <a:lnTo>
                        <a:pt x="0" y="400"/>
                      </a:lnTo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12600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67" name="Group 662"/>
              <p:cNvGrpSpPr/>
              <p:nvPr/>
            </p:nvGrpSpPr>
            <p:grpSpPr>
              <a:xfrm>
                <a:off x="4350600" y="5652000"/>
                <a:ext cx="144360" cy="192240"/>
                <a:chOff x="4350600" y="5652000"/>
                <a:chExt cx="144360" cy="192240"/>
              </a:xfrm>
            </p:grpSpPr>
            <p:sp>
              <p:nvSpPr>
                <p:cNvPr id="1268" name="Rectangle 663"/>
                <p:cNvSpPr/>
                <p:nvPr/>
              </p:nvSpPr>
              <p:spPr>
                <a:xfrm>
                  <a:off x="4350600" y="5655600"/>
                  <a:ext cx="144360" cy="18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9" name="Line 664"/>
                <p:cNvSpPr/>
                <p:nvPr/>
              </p:nvSpPr>
              <p:spPr>
                <a:xfrm>
                  <a:off x="4350600" y="5701680"/>
                  <a:ext cx="144360" cy="0"/>
                </a:xfrm>
                <a:prstGeom prst="line">
                  <a:avLst/>
                </a:prstGeom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0" name="Freeform 665"/>
                <p:cNvSpPr/>
                <p:nvPr/>
              </p:nvSpPr>
              <p:spPr>
                <a:xfrm>
                  <a:off x="4422600" y="5652000"/>
                  <a:ext cx="360" cy="19224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" h="400">
                      <a:moveTo>
                        <a:pt x="0" y="0"/>
                      </a:moveTo>
                      <a:lnTo>
                        <a:pt x="0" y="400"/>
                      </a:lnTo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12600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71" name="Group 666"/>
              <p:cNvGrpSpPr/>
              <p:nvPr/>
            </p:nvGrpSpPr>
            <p:grpSpPr>
              <a:xfrm>
                <a:off x="4350600" y="5875560"/>
                <a:ext cx="144360" cy="192240"/>
                <a:chOff x="4350600" y="5875560"/>
                <a:chExt cx="144360" cy="192240"/>
              </a:xfrm>
            </p:grpSpPr>
            <p:sp>
              <p:nvSpPr>
                <p:cNvPr id="1272" name="Rectangle 667"/>
                <p:cNvSpPr/>
                <p:nvPr/>
              </p:nvSpPr>
              <p:spPr>
                <a:xfrm>
                  <a:off x="4350600" y="5879160"/>
                  <a:ext cx="144360" cy="18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3" name="Line 668"/>
                <p:cNvSpPr/>
                <p:nvPr/>
              </p:nvSpPr>
              <p:spPr>
                <a:xfrm>
                  <a:off x="4350600" y="5925240"/>
                  <a:ext cx="144360" cy="0"/>
                </a:xfrm>
                <a:prstGeom prst="line">
                  <a:avLst/>
                </a:prstGeom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4" name="Freeform 669"/>
                <p:cNvSpPr/>
                <p:nvPr/>
              </p:nvSpPr>
              <p:spPr>
                <a:xfrm>
                  <a:off x="4422600" y="5875560"/>
                  <a:ext cx="360" cy="19224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" h="400">
                      <a:moveTo>
                        <a:pt x="0" y="0"/>
                      </a:moveTo>
                      <a:lnTo>
                        <a:pt x="0" y="400"/>
                      </a:lnTo>
                    </a:path>
                  </a:pathLst>
                </a:custGeom>
                <a:blipFill rotWithShape="0">
                  <a:blip r:embed="rId15"/>
                  <a:srcRect/>
                  <a:tile tx="0" ty="0" sx="100000" sy="100000" algn="ctr"/>
                </a:blipFill>
                <a:ln w="12600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75" name="Group 670"/>
              <p:cNvGrpSpPr/>
              <p:nvPr/>
            </p:nvGrpSpPr>
            <p:grpSpPr>
              <a:xfrm>
                <a:off x="4350600" y="6136200"/>
                <a:ext cx="144360" cy="192600"/>
                <a:chOff x="4350600" y="6136200"/>
                <a:chExt cx="144360" cy="192600"/>
              </a:xfrm>
            </p:grpSpPr>
            <p:sp>
              <p:nvSpPr>
                <p:cNvPr id="1276" name="Rectangle 671"/>
                <p:cNvSpPr/>
                <p:nvPr/>
              </p:nvSpPr>
              <p:spPr>
                <a:xfrm>
                  <a:off x="4350600" y="6139800"/>
                  <a:ext cx="144360" cy="185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7" name="Line 672"/>
                <p:cNvSpPr/>
                <p:nvPr/>
              </p:nvSpPr>
              <p:spPr>
                <a:xfrm>
                  <a:off x="4350600" y="6186240"/>
                  <a:ext cx="144360" cy="0"/>
                </a:xfrm>
                <a:prstGeom prst="line">
                  <a:avLst/>
                </a:prstGeom>
                <a:ln w="1260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8" name="Freeform 673"/>
                <p:cNvSpPr/>
                <p:nvPr/>
              </p:nvSpPr>
              <p:spPr>
                <a:xfrm>
                  <a:off x="4422600" y="6136200"/>
                  <a:ext cx="360" cy="19260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1" h="400">
                      <a:moveTo>
                        <a:pt x="0" y="0"/>
                      </a:moveTo>
                      <a:lnTo>
                        <a:pt x="0" y="400"/>
                      </a:lnTo>
                    </a:path>
                  </a:pathLst>
                </a:custGeom>
                <a:blipFill rotWithShape="0">
                  <a:blip r:embed="rId16"/>
                  <a:srcRect/>
                  <a:tile tx="0" ty="0" sx="100000" sy="100000" algn="ctr"/>
                </a:blipFill>
                <a:ln w="12600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79" name="Freeform 674"/>
              <p:cNvSpPr/>
              <p:nvPr/>
            </p:nvSpPr>
            <p:spPr>
              <a:xfrm>
                <a:off x="4929120" y="6311160"/>
                <a:ext cx="279720" cy="8604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279" h="111">
                    <a:moveTo>
                      <a:pt x="93" y="6"/>
                    </a:moveTo>
                    <a:lnTo>
                      <a:pt x="279" y="0"/>
                    </a:lnTo>
                    <a:lnTo>
                      <a:pt x="192" y="111"/>
                    </a:lnTo>
                    <a:lnTo>
                      <a:pt x="0" y="111"/>
                    </a:lnTo>
                    <a:lnTo>
                      <a:pt x="93" y="6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675"/>
              <p:cNvSpPr/>
              <p:nvPr/>
            </p:nvSpPr>
            <p:spPr>
              <a:xfrm>
                <a:off x="5120640" y="6315480"/>
                <a:ext cx="100080" cy="20016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100" h="258">
                    <a:moveTo>
                      <a:pt x="100" y="156"/>
                    </a:moveTo>
                    <a:lnTo>
                      <a:pt x="88" y="0"/>
                    </a:lnTo>
                    <a:lnTo>
                      <a:pt x="0" y="99"/>
                    </a:lnTo>
                    <a:lnTo>
                      <a:pt x="4" y="258"/>
                    </a:lnTo>
                    <a:lnTo>
                      <a:pt x="100" y="156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1" name="Freeform 676"/>
            <p:cNvSpPr/>
            <p:nvPr/>
          </p:nvSpPr>
          <p:spPr>
            <a:xfrm>
              <a:off x="4356720" y="4162320"/>
              <a:ext cx="22320" cy="47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16" h="376">
                  <a:moveTo>
                    <a:pt x="16" y="376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1f497d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82" name="Group 847"/>
            <p:cNvGrpSpPr/>
            <p:nvPr/>
          </p:nvGrpSpPr>
          <p:grpSpPr>
            <a:xfrm>
              <a:off x="5343480" y="6669720"/>
              <a:ext cx="129240" cy="60840"/>
              <a:chOff x="5343480" y="6669720"/>
              <a:chExt cx="129240" cy="60840"/>
            </a:xfrm>
          </p:grpSpPr>
          <p:sp>
            <p:nvSpPr>
              <p:cNvPr id="1283" name="Freeform 848"/>
              <p:cNvSpPr/>
              <p:nvPr/>
            </p:nvSpPr>
            <p:spPr>
              <a:xfrm rot="201000">
                <a:off x="5344920" y="667116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849"/>
              <p:cNvSpPr/>
              <p:nvPr/>
            </p:nvSpPr>
            <p:spPr>
              <a:xfrm rot="201000">
                <a:off x="5409360" y="6675120"/>
                <a:ext cx="61560" cy="48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85" name="Group 850"/>
            <p:cNvGrpSpPr/>
            <p:nvPr/>
          </p:nvGrpSpPr>
          <p:grpSpPr>
            <a:xfrm>
              <a:off x="5392080" y="6656040"/>
              <a:ext cx="129240" cy="60480"/>
              <a:chOff x="5392080" y="6656040"/>
              <a:chExt cx="129240" cy="60480"/>
            </a:xfrm>
          </p:grpSpPr>
          <p:sp>
            <p:nvSpPr>
              <p:cNvPr id="1286" name="Freeform 851"/>
              <p:cNvSpPr/>
              <p:nvPr/>
            </p:nvSpPr>
            <p:spPr>
              <a:xfrm rot="201000">
                <a:off x="5393520" y="6657480"/>
                <a:ext cx="59400" cy="572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852"/>
              <p:cNvSpPr/>
              <p:nvPr/>
            </p:nvSpPr>
            <p:spPr>
              <a:xfrm rot="201000">
                <a:off x="5457960" y="6661440"/>
                <a:ext cx="61560" cy="486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88" name="Group 868"/>
            <p:cNvGrpSpPr/>
            <p:nvPr/>
          </p:nvGrpSpPr>
          <p:grpSpPr>
            <a:xfrm>
              <a:off x="4843080" y="6697440"/>
              <a:ext cx="129240" cy="60840"/>
              <a:chOff x="4843080" y="6697440"/>
              <a:chExt cx="129240" cy="60840"/>
            </a:xfrm>
          </p:grpSpPr>
          <p:sp>
            <p:nvSpPr>
              <p:cNvPr id="1289" name="Freeform 869"/>
              <p:cNvSpPr/>
              <p:nvPr/>
            </p:nvSpPr>
            <p:spPr>
              <a:xfrm rot="201000">
                <a:off x="4844520" y="669888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870"/>
              <p:cNvSpPr/>
              <p:nvPr/>
            </p:nvSpPr>
            <p:spPr>
              <a:xfrm rot="201000">
                <a:off x="4908960" y="6702840"/>
                <a:ext cx="61560" cy="48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1" name="Group 871"/>
            <p:cNvGrpSpPr/>
            <p:nvPr/>
          </p:nvGrpSpPr>
          <p:grpSpPr>
            <a:xfrm>
              <a:off x="4903920" y="6656040"/>
              <a:ext cx="129600" cy="61920"/>
              <a:chOff x="4903920" y="6656040"/>
              <a:chExt cx="129600" cy="61920"/>
            </a:xfrm>
          </p:grpSpPr>
          <p:sp>
            <p:nvSpPr>
              <p:cNvPr id="1292" name="Freeform 872"/>
              <p:cNvSpPr/>
              <p:nvPr/>
            </p:nvSpPr>
            <p:spPr>
              <a:xfrm rot="201000">
                <a:off x="4905720" y="6657480"/>
                <a:ext cx="59400" cy="586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Freeform 873"/>
              <p:cNvSpPr/>
              <p:nvPr/>
            </p:nvSpPr>
            <p:spPr>
              <a:xfrm rot="201000">
                <a:off x="4970160" y="6661440"/>
                <a:ext cx="61560" cy="500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4" name="Group 874"/>
            <p:cNvGrpSpPr/>
            <p:nvPr/>
          </p:nvGrpSpPr>
          <p:grpSpPr>
            <a:xfrm>
              <a:off x="4954320" y="6640920"/>
              <a:ext cx="129240" cy="60480"/>
              <a:chOff x="4954320" y="6640920"/>
              <a:chExt cx="129240" cy="60480"/>
            </a:xfrm>
          </p:grpSpPr>
          <p:sp>
            <p:nvSpPr>
              <p:cNvPr id="1295" name="Freeform 875"/>
              <p:cNvSpPr/>
              <p:nvPr/>
            </p:nvSpPr>
            <p:spPr>
              <a:xfrm rot="201000">
                <a:off x="4955760" y="6642360"/>
                <a:ext cx="59400" cy="572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876"/>
              <p:cNvSpPr/>
              <p:nvPr/>
            </p:nvSpPr>
            <p:spPr>
              <a:xfrm rot="201000">
                <a:off x="5020200" y="6646320"/>
                <a:ext cx="61560" cy="486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7" name="Group 877"/>
            <p:cNvGrpSpPr/>
            <p:nvPr/>
          </p:nvGrpSpPr>
          <p:grpSpPr>
            <a:xfrm>
              <a:off x="5014080" y="6618240"/>
              <a:ext cx="129240" cy="60840"/>
              <a:chOff x="5014080" y="6618240"/>
              <a:chExt cx="129240" cy="60840"/>
            </a:xfrm>
          </p:grpSpPr>
          <p:sp>
            <p:nvSpPr>
              <p:cNvPr id="1298" name="Freeform 878"/>
              <p:cNvSpPr/>
              <p:nvPr/>
            </p:nvSpPr>
            <p:spPr>
              <a:xfrm rot="201000">
                <a:off x="5015520" y="661968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879"/>
              <p:cNvSpPr/>
              <p:nvPr/>
            </p:nvSpPr>
            <p:spPr>
              <a:xfrm rot="201000">
                <a:off x="5079960" y="6623640"/>
                <a:ext cx="61560" cy="48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0" name="Group 880"/>
            <p:cNvGrpSpPr/>
            <p:nvPr/>
          </p:nvGrpSpPr>
          <p:grpSpPr>
            <a:xfrm>
              <a:off x="5165280" y="6570720"/>
              <a:ext cx="129240" cy="60840"/>
              <a:chOff x="5165280" y="6570720"/>
              <a:chExt cx="129240" cy="60840"/>
            </a:xfrm>
          </p:grpSpPr>
          <p:sp>
            <p:nvSpPr>
              <p:cNvPr id="1301" name="Freeform 881"/>
              <p:cNvSpPr/>
              <p:nvPr/>
            </p:nvSpPr>
            <p:spPr>
              <a:xfrm rot="201000">
                <a:off x="5166720" y="657216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882"/>
              <p:cNvSpPr/>
              <p:nvPr/>
            </p:nvSpPr>
            <p:spPr>
              <a:xfrm rot="201000">
                <a:off x="5231160" y="6576120"/>
                <a:ext cx="61560" cy="48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3" name="Group 904"/>
            <p:cNvGrpSpPr/>
            <p:nvPr/>
          </p:nvGrpSpPr>
          <p:grpSpPr>
            <a:xfrm>
              <a:off x="4611240" y="6675840"/>
              <a:ext cx="129240" cy="60840"/>
              <a:chOff x="4611240" y="6675840"/>
              <a:chExt cx="129240" cy="60840"/>
            </a:xfrm>
          </p:grpSpPr>
          <p:sp>
            <p:nvSpPr>
              <p:cNvPr id="1304" name="Freeform 905"/>
              <p:cNvSpPr/>
              <p:nvPr/>
            </p:nvSpPr>
            <p:spPr>
              <a:xfrm rot="201000">
                <a:off x="4612680" y="667728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906"/>
              <p:cNvSpPr/>
              <p:nvPr/>
            </p:nvSpPr>
            <p:spPr>
              <a:xfrm rot="201000">
                <a:off x="4677120" y="6681240"/>
                <a:ext cx="61560" cy="48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6" name="Group 907"/>
            <p:cNvGrpSpPr/>
            <p:nvPr/>
          </p:nvGrpSpPr>
          <p:grpSpPr>
            <a:xfrm>
              <a:off x="3804120" y="6574320"/>
              <a:ext cx="129240" cy="60840"/>
              <a:chOff x="3804120" y="6574320"/>
              <a:chExt cx="129240" cy="60840"/>
            </a:xfrm>
          </p:grpSpPr>
          <p:sp>
            <p:nvSpPr>
              <p:cNvPr id="1307" name="Freeform 908"/>
              <p:cNvSpPr/>
              <p:nvPr/>
            </p:nvSpPr>
            <p:spPr>
              <a:xfrm rot="201000">
                <a:off x="3805560" y="657576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909"/>
              <p:cNvSpPr/>
              <p:nvPr/>
            </p:nvSpPr>
            <p:spPr>
              <a:xfrm rot="201000">
                <a:off x="3870000" y="6579720"/>
                <a:ext cx="61560" cy="48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9" name="Group 925"/>
            <p:cNvGrpSpPr/>
            <p:nvPr/>
          </p:nvGrpSpPr>
          <p:grpSpPr>
            <a:xfrm>
              <a:off x="3665880" y="6458760"/>
              <a:ext cx="129600" cy="61920"/>
              <a:chOff x="3665880" y="6458760"/>
              <a:chExt cx="129600" cy="61920"/>
            </a:xfrm>
          </p:grpSpPr>
          <p:sp>
            <p:nvSpPr>
              <p:cNvPr id="1310" name="Freeform 926"/>
              <p:cNvSpPr/>
              <p:nvPr/>
            </p:nvSpPr>
            <p:spPr>
              <a:xfrm rot="201000">
                <a:off x="3667680" y="6460200"/>
                <a:ext cx="59400" cy="586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927"/>
              <p:cNvSpPr/>
              <p:nvPr/>
            </p:nvSpPr>
            <p:spPr>
              <a:xfrm rot="201000">
                <a:off x="3732120" y="6464160"/>
                <a:ext cx="61560" cy="500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2" name="Group 928"/>
            <p:cNvGrpSpPr/>
            <p:nvPr/>
          </p:nvGrpSpPr>
          <p:grpSpPr>
            <a:xfrm>
              <a:off x="3834720" y="6415920"/>
              <a:ext cx="129240" cy="60840"/>
              <a:chOff x="3834720" y="6415920"/>
              <a:chExt cx="129240" cy="60840"/>
            </a:xfrm>
          </p:grpSpPr>
          <p:sp>
            <p:nvSpPr>
              <p:cNvPr id="1313" name="Freeform 929"/>
              <p:cNvSpPr/>
              <p:nvPr/>
            </p:nvSpPr>
            <p:spPr>
              <a:xfrm rot="201000">
                <a:off x="3836160" y="641736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930"/>
              <p:cNvSpPr/>
              <p:nvPr/>
            </p:nvSpPr>
            <p:spPr>
              <a:xfrm rot="201000">
                <a:off x="3900600" y="6421320"/>
                <a:ext cx="61560" cy="48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5" name="Group 1049"/>
            <p:cNvGrpSpPr/>
            <p:nvPr/>
          </p:nvGrpSpPr>
          <p:grpSpPr>
            <a:xfrm>
              <a:off x="4540680" y="6591600"/>
              <a:ext cx="533880" cy="169920"/>
              <a:chOff x="4540680" y="6591600"/>
              <a:chExt cx="533880" cy="169920"/>
            </a:xfrm>
          </p:grpSpPr>
          <p:sp>
            <p:nvSpPr>
              <p:cNvPr id="1316" name="Freeform 1050"/>
              <p:cNvSpPr/>
              <p:nvPr/>
            </p:nvSpPr>
            <p:spPr>
              <a:xfrm rot="201000">
                <a:off x="4544640" y="6598440"/>
                <a:ext cx="248400" cy="15552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1051"/>
              <p:cNvSpPr/>
              <p:nvPr/>
            </p:nvSpPr>
            <p:spPr>
              <a:xfrm rot="201000">
                <a:off x="4813920" y="6615360"/>
                <a:ext cx="256680" cy="1321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8" name="Group 1146"/>
            <p:cNvGrpSpPr/>
            <p:nvPr/>
          </p:nvGrpSpPr>
          <p:grpSpPr>
            <a:xfrm>
              <a:off x="3660480" y="6547680"/>
              <a:ext cx="129960" cy="62280"/>
              <a:chOff x="3660480" y="6547680"/>
              <a:chExt cx="129960" cy="62280"/>
            </a:xfrm>
          </p:grpSpPr>
          <p:sp>
            <p:nvSpPr>
              <p:cNvPr id="1319" name="Freeform 1147"/>
              <p:cNvSpPr/>
              <p:nvPr/>
            </p:nvSpPr>
            <p:spPr>
              <a:xfrm rot="201000">
                <a:off x="3662280" y="6549120"/>
                <a:ext cx="59760" cy="590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1148"/>
              <p:cNvSpPr/>
              <p:nvPr/>
            </p:nvSpPr>
            <p:spPr>
              <a:xfrm rot="201000">
                <a:off x="3727080" y="6553080"/>
                <a:ext cx="61560" cy="500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1" name="Group 1158"/>
            <p:cNvGrpSpPr/>
            <p:nvPr/>
          </p:nvGrpSpPr>
          <p:grpSpPr>
            <a:xfrm>
              <a:off x="3699720" y="6390720"/>
              <a:ext cx="129240" cy="60840"/>
              <a:chOff x="3699720" y="6390720"/>
              <a:chExt cx="129240" cy="60840"/>
            </a:xfrm>
          </p:grpSpPr>
          <p:sp>
            <p:nvSpPr>
              <p:cNvPr id="1322" name="Freeform 1159"/>
              <p:cNvSpPr/>
              <p:nvPr/>
            </p:nvSpPr>
            <p:spPr>
              <a:xfrm rot="201000">
                <a:off x="3701160" y="639216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1160"/>
              <p:cNvSpPr/>
              <p:nvPr/>
            </p:nvSpPr>
            <p:spPr>
              <a:xfrm rot="201000">
                <a:off x="3765600" y="6396120"/>
                <a:ext cx="61560" cy="48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4" name="Group 1161"/>
            <p:cNvGrpSpPr/>
            <p:nvPr/>
          </p:nvGrpSpPr>
          <p:grpSpPr>
            <a:xfrm>
              <a:off x="4409280" y="6579360"/>
              <a:ext cx="129960" cy="61920"/>
              <a:chOff x="4409280" y="6579360"/>
              <a:chExt cx="129960" cy="61920"/>
            </a:xfrm>
          </p:grpSpPr>
          <p:sp>
            <p:nvSpPr>
              <p:cNvPr id="1325" name="Freeform 1162"/>
              <p:cNvSpPr/>
              <p:nvPr/>
            </p:nvSpPr>
            <p:spPr>
              <a:xfrm rot="201000">
                <a:off x="4411080" y="6580800"/>
                <a:ext cx="59760" cy="586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1163"/>
              <p:cNvSpPr/>
              <p:nvPr/>
            </p:nvSpPr>
            <p:spPr>
              <a:xfrm rot="201000">
                <a:off x="4475880" y="6584760"/>
                <a:ext cx="61560" cy="500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7" name="Group 1164"/>
            <p:cNvGrpSpPr/>
            <p:nvPr/>
          </p:nvGrpSpPr>
          <p:grpSpPr>
            <a:xfrm>
              <a:off x="4231800" y="6607080"/>
              <a:ext cx="129240" cy="60480"/>
              <a:chOff x="4231800" y="6607080"/>
              <a:chExt cx="129240" cy="60480"/>
            </a:xfrm>
          </p:grpSpPr>
          <p:sp>
            <p:nvSpPr>
              <p:cNvPr id="1328" name="Freeform 1165"/>
              <p:cNvSpPr/>
              <p:nvPr/>
            </p:nvSpPr>
            <p:spPr>
              <a:xfrm rot="201000">
                <a:off x="4233240" y="6608520"/>
                <a:ext cx="59400" cy="572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1166"/>
              <p:cNvSpPr/>
              <p:nvPr/>
            </p:nvSpPr>
            <p:spPr>
              <a:xfrm rot="201000">
                <a:off x="4297680" y="6612480"/>
                <a:ext cx="61560" cy="486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0" name="Group 1167"/>
            <p:cNvGrpSpPr/>
            <p:nvPr/>
          </p:nvGrpSpPr>
          <p:grpSpPr>
            <a:xfrm>
              <a:off x="4097160" y="6615720"/>
              <a:ext cx="129240" cy="60840"/>
              <a:chOff x="4097160" y="6615720"/>
              <a:chExt cx="129240" cy="60840"/>
            </a:xfrm>
          </p:grpSpPr>
          <p:sp>
            <p:nvSpPr>
              <p:cNvPr id="1331" name="Freeform 1168"/>
              <p:cNvSpPr/>
              <p:nvPr/>
            </p:nvSpPr>
            <p:spPr>
              <a:xfrm rot="201000">
                <a:off x="4098600" y="661716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1169"/>
              <p:cNvSpPr/>
              <p:nvPr/>
            </p:nvSpPr>
            <p:spPr>
              <a:xfrm rot="201000">
                <a:off x="4163040" y="6621120"/>
                <a:ext cx="61560" cy="48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3" name="Group 1170"/>
            <p:cNvGrpSpPr/>
            <p:nvPr/>
          </p:nvGrpSpPr>
          <p:grpSpPr>
            <a:xfrm>
              <a:off x="4101120" y="6544080"/>
              <a:ext cx="129600" cy="60840"/>
              <a:chOff x="4101120" y="6544080"/>
              <a:chExt cx="129600" cy="60840"/>
            </a:xfrm>
          </p:grpSpPr>
          <p:sp>
            <p:nvSpPr>
              <p:cNvPr id="1334" name="Freeform 1171"/>
              <p:cNvSpPr/>
              <p:nvPr/>
            </p:nvSpPr>
            <p:spPr>
              <a:xfrm rot="201000">
                <a:off x="4102560" y="6545520"/>
                <a:ext cx="59760" cy="576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1172"/>
              <p:cNvSpPr/>
              <p:nvPr/>
            </p:nvSpPr>
            <p:spPr>
              <a:xfrm rot="201000">
                <a:off x="4167360" y="6549480"/>
                <a:ext cx="61560" cy="48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6" name="Group 1173"/>
            <p:cNvGrpSpPr/>
            <p:nvPr/>
          </p:nvGrpSpPr>
          <p:grpSpPr>
            <a:xfrm>
              <a:off x="4170600" y="6505200"/>
              <a:ext cx="129240" cy="60840"/>
              <a:chOff x="4170600" y="6505200"/>
              <a:chExt cx="129240" cy="60840"/>
            </a:xfrm>
          </p:grpSpPr>
          <p:sp>
            <p:nvSpPr>
              <p:cNvPr id="1337" name="Freeform 1174"/>
              <p:cNvSpPr/>
              <p:nvPr/>
            </p:nvSpPr>
            <p:spPr>
              <a:xfrm rot="201000">
                <a:off x="4172040" y="650664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1175"/>
              <p:cNvSpPr/>
              <p:nvPr/>
            </p:nvSpPr>
            <p:spPr>
              <a:xfrm rot="201000">
                <a:off x="4236480" y="6510600"/>
                <a:ext cx="61560" cy="48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9" name="Group 1176"/>
            <p:cNvGrpSpPr/>
            <p:nvPr/>
          </p:nvGrpSpPr>
          <p:grpSpPr>
            <a:xfrm>
              <a:off x="4220640" y="6489000"/>
              <a:ext cx="129600" cy="61920"/>
              <a:chOff x="4220640" y="6489000"/>
              <a:chExt cx="129600" cy="61920"/>
            </a:xfrm>
          </p:grpSpPr>
          <p:sp>
            <p:nvSpPr>
              <p:cNvPr id="1340" name="Freeform 1177"/>
              <p:cNvSpPr/>
              <p:nvPr/>
            </p:nvSpPr>
            <p:spPr>
              <a:xfrm rot="201000">
                <a:off x="4222440" y="6490440"/>
                <a:ext cx="59400" cy="586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1178"/>
              <p:cNvSpPr/>
              <p:nvPr/>
            </p:nvSpPr>
            <p:spPr>
              <a:xfrm rot="201000">
                <a:off x="4286880" y="6494400"/>
                <a:ext cx="61560" cy="500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2" name="Group 1179"/>
            <p:cNvGrpSpPr/>
            <p:nvPr/>
          </p:nvGrpSpPr>
          <p:grpSpPr>
            <a:xfrm>
              <a:off x="4280400" y="6464880"/>
              <a:ext cx="129240" cy="60840"/>
              <a:chOff x="4280400" y="6464880"/>
              <a:chExt cx="129240" cy="60840"/>
            </a:xfrm>
          </p:grpSpPr>
          <p:sp>
            <p:nvSpPr>
              <p:cNvPr id="1343" name="Freeform 1180"/>
              <p:cNvSpPr/>
              <p:nvPr/>
            </p:nvSpPr>
            <p:spPr>
              <a:xfrm rot="201000">
                <a:off x="4281840" y="646632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1181"/>
              <p:cNvSpPr/>
              <p:nvPr/>
            </p:nvSpPr>
            <p:spPr>
              <a:xfrm rot="201000">
                <a:off x="4346280" y="6470280"/>
                <a:ext cx="61560" cy="48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5" name="Group 1182"/>
            <p:cNvGrpSpPr/>
            <p:nvPr/>
          </p:nvGrpSpPr>
          <p:grpSpPr>
            <a:xfrm>
              <a:off x="4438440" y="6419880"/>
              <a:ext cx="129600" cy="61920"/>
              <a:chOff x="4438440" y="6419880"/>
              <a:chExt cx="129600" cy="61920"/>
            </a:xfrm>
          </p:grpSpPr>
          <p:sp>
            <p:nvSpPr>
              <p:cNvPr id="1346" name="Freeform 1183"/>
              <p:cNvSpPr/>
              <p:nvPr/>
            </p:nvSpPr>
            <p:spPr>
              <a:xfrm rot="201000">
                <a:off x="4440240" y="6421320"/>
                <a:ext cx="59400" cy="586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1184"/>
              <p:cNvSpPr/>
              <p:nvPr/>
            </p:nvSpPr>
            <p:spPr>
              <a:xfrm rot="201000">
                <a:off x="4504680" y="6425280"/>
                <a:ext cx="61560" cy="500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8" name="Group 1185"/>
            <p:cNvGrpSpPr/>
            <p:nvPr/>
          </p:nvGrpSpPr>
          <p:grpSpPr>
            <a:xfrm>
              <a:off x="4362480" y="6443280"/>
              <a:ext cx="533880" cy="169920"/>
              <a:chOff x="4362480" y="6443280"/>
              <a:chExt cx="533880" cy="169920"/>
            </a:xfrm>
          </p:grpSpPr>
          <p:sp>
            <p:nvSpPr>
              <p:cNvPr id="1349" name="Freeform 1186"/>
              <p:cNvSpPr/>
              <p:nvPr/>
            </p:nvSpPr>
            <p:spPr>
              <a:xfrm rot="201000">
                <a:off x="4366440" y="6450120"/>
                <a:ext cx="248400" cy="15552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1187"/>
              <p:cNvSpPr/>
              <p:nvPr/>
            </p:nvSpPr>
            <p:spPr>
              <a:xfrm rot="201000">
                <a:off x="4635720" y="6467040"/>
                <a:ext cx="256680" cy="1321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ова И.П.</dc:creator>
  <dc:description/>
  <dc:language>en-US</dc:language>
  <cp:lastModifiedBy>user</cp:lastModifiedBy>
  <dcterms:modified xsi:type="dcterms:W3CDTF">2025-06-26T13:04:44Z</dcterms:modified>
  <cp:revision>242</cp:revision>
  <dc:subject>Внеклассное мероприятие</dc:subject>
  <dc:title>Клуб Веселых Математиков.</dc:title>
</cp:coreProperties>
</file>