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94C-12E9-49F0-B793-344155C0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4D9-0B15-40A2-8209-66E7C7C0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40A-ACC0-4F1B-A54B-9E6C3466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C80-8BA1-4770-91C3-504B4902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1CA-BB04-4591-A612-BD2C46A6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3F4-5E2A-49C7-908A-1EF4A792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A06-938C-4D3D-B6A8-2EF064D5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C1D-EDB9-43F6-A095-844C84C7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587-F21F-4D81-9F6C-185FD954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445-5740-4F78-9761-D84E136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E87-32F9-46EE-91D3-E54B921B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300-C6DA-4164-8EBD-156493B0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F067-3658-43DE-BF37-89BBB6726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  <a:ea typeface="Times New Roman"/>
              </a:rPr>
              <a:t>«Применение электронных образовательных ресурсов на уроках хими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5508720" y="537372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чергина Ирина Николаевна, учитель химии МОУ «СОШ «Интеграц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"/>
          <p:cNvSpPr/>
          <p:nvPr/>
        </p:nvSpPr>
        <p:spPr>
          <a:xfrm>
            <a:off x="179280" y="2205000"/>
            <a:ext cx="2592360" cy="1368360"/>
          </a:xfrm>
          <a:prstGeom prst="wedgeRoundRectCallout">
            <a:avLst>
              <a:gd name="adj1" fmla="val 74495"/>
              <a:gd name="adj2" fmla="val -69027"/>
              <a:gd name="adj3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граммная поддержка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5"/>
          <p:cNvSpPr/>
          <p:nvPr/>
        </p:nvSpPr>
        <p:spPr>
          <a:xfrm flipH="1">
            <a:off x="6443640" y="2205000"/>
            <a:ext cx="2449440" cy="1368360"/>
          </a:xfrm>
          <a:prstGeom prst="wedgeRoundRectCallout">
            <a:avLst>
              <a:gd name="adj1" fmla="val 96467"/>
              <a:gd name="adj2" fmla="val -50004"/>
              <a:gd name="adj3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езентации ур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6084720" y="4076640"/>
            <a:ext cx="2880000" cy="1513080"/>
          </a:xfrm>
          <a:prstGeom prst="wedgeRoundRectCallout">
            <a:avLst>
              <a:gd name="adj1" fmla="val -95481"/>
              <a:gd name="adj2" fmla="val -121249"/>
              <a:gd name="adj3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нтроль и коррек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наний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971640" y="333360"/>
            <a:ext cx="7416720" cy="1079640"/>
          </a:xfrm>
          <a:prstGeom prst="flowChartAlternateProcess">
            <a:avLst/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Использование ИК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11"/>
          <p:cNvSpPr/>
          <p:nvPr/>
        </p:nvSpPr>
        <p:spPr>
          <a:xfrm flipH="1">
            <a:off x="250920" y="4292640"/>
            <a:ext cx="2520720" cy="1224000"/>
          </a:xfrm>
          <a:prstGeom prst="wedgeRoundRectCallout">
            <a:avLst>
              <a:gd name="adj1" fmla="val -79347"/>
              <a:gd name="adj2" fmla="val -109537"/>
              <a:gd name="adj3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ектная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12"/>
          <p:cNvSpPr/>
          <p:nvPr/>
        </p:nvSpPr>
        <p:spPr>
          <a:xfrm flipH="1" rot="10800000">
            <a:off x="2987640" y="4724280"/>
            <a:ext cx="2952720" cy="1368720"/>
          </a:xfrm>
          <a:prstGeom prst="wedgeRoundRectCallout">
            <a:avLst>
              <a:gd name="adj1" fmla="val -3495"/>
              <a:gd name="adj2" fmla="val 74708"/>
              <a:gd name="adj3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нтернет-уро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8" descr="j0233965"/>
          <p:cNvPicPr/>
          <p:nvPr/>
        </p:nvPicPr>
        <p:blipFill>
          <a:blip r:embed="rId1"/>
          <a:stretch/>
        </p:blipFill>
        <p:spPr>
          <a:xfrm>
            <a:off x="2556000" y="1557360"/>
            <a:ext cx="3960720" cy="295128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/>
          <p:cNvSpPr/>
          <p:nvPr/>
        </p:nvSpPr>
        <p:spPr>
          <a:xfrm>
            <a:off x="928800" y="357120"/>
            <a:ext cx="7416720" cy="1079640"/>
          </a:xfrm>
          <a:prstGeom prst="flowChartAlternateProcess">
            <a:avLst/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Использование ЭОР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95280" y="476280"/>
            <a:ext cx="6491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временный урок с использованием ЭОР – это и совершенно новый, и не теряющий связи с прошлым, настоящим и будущим, одним словом – актуа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аким должен быть урок – решать каждому учителю лич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5" descr=""/>
          <p:cNvPicPr/>
          <p:nvPr/>
        </p:nvPicPr>
        <p:blipFill>
          <a:blip r:embed="rId1"/>
          <a:stretch/>
        </p:blipFill>
        <p:spPr>
          <a:xfrm>
            <a:off x="682560" y="695160"/>
            <a:ext cx="783900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ктуальность Э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95280" y="1557000"/>
            <a:ext cx="6491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рнизация школьного образования подразумевает, прежде всего, обновление его содержания. В связи с этим особое внимание уделяется созданию условий для развития творческого личностного потенциала учащихся и расширения возможностей углублённо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07280" y="4675320"/>
            <a:ext cx="27432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ОР нового поко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8000" y="1349280"/>
            <a:ext cx="7056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тичный философ Гераклий Эфесский заметил, что «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аза – более точные свидетели, чем уш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: более 80 % всей информации человек получает при помощи з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тернет - ур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79640" y="1267920"/>
            <a:ext cx="6913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занятиях вместе с учащимися можно совершать путешествия на производства различных химических веществ, виртуальные музеи, открывать электронные учебники, узнавать о жизни и деятельности известных ученых-химиках, отвечать на вопросы online-тес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    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нципы и правила использования Э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глядно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акти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ая ориентирова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ность изложения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овательность из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дульность и вариативность из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йты ЭО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1640" y="1052640"/>
            <a:ext cx="7840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я с ЭОР можно порекомендовать сайты, где коллекция ЦОРов вызывает доверие и отвечает хорошему качеств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деральный центр информационно-образовательных ресурсов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fcior.edu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ая коллекция Цифровых Образовательных Ресурсов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school-collection.edu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йты ЭО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50560" y="1052640"/>
            <a:ext cx="709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иМуЛ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https://sites.google.com/site/himulacom/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олотые купола хими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http://www.superhimik.c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кольный портал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https://school.mosreg.ru/workplace/teacher/school/1000000627205/user/1000000213101#/current/we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Витрина ЭОР на Школьном порта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47280" y="1600200"/>
            <a:ext cx="7139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трина ЭОР – это структурированный интерактивный каталог Электронных образовательных ресурсов (ЭОР), представляющих собой текстографические и мультимедийные онлайн и оффлайн-материалы. Каждый ЭОР соответствует отдельной теме/урок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ивировать ЭОР может только Администратор ОО. Доступ к активированному ЭОР как из школы, так и за её пределами получают все педагоги, обучающиеся, а также их родители. Активированные ЭОР будут доступны через Витрину ЭОР с момента активации и до 31.05.2017 г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2050920" y="1285920"/>
            <a:ext cx="61214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ффективность использования ЭОР в образовательном проце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8000" y="1599840"/>
            <a:ext cx="677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необходимо умение получать информацию из разных источников, пользоваться ей и создавать ее самостоят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дагогическое мастерство основано на единстве знаний и умений, соответствующих современному уровню развития науки, техники и их продукта –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Администратор</cp:lastModifiedBy>
  <dcterms:modified xsi:type="dcterms:W3CDTF">2022-03-06T16:47:41Z</dcterms:modified>
  <cp:revision>35</cp:revision>
  <dc:subject/>
  <dc:title>Презентация PowerPoint</dc:title>
</cp:coreProperties>
</file>