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11963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97E-7D05-4DC6-AEDC-1CF7055A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AE7-95B6-4F75-912F-FFE73ACF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42F-3D06-4759-9C00-B2920996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684-FD5D-4774-90BA-B50AF7B2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E8C-DC0F-45D2-B996-3DAD4BD5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0B1-C7AD-48F5-9D8A-2AA76506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8F1-9F0E-47F6-B8A5-D6796914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73B-08E2-4475-A204-38EBD181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970-2D04-49EA-93F2-8DBA9317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AF5-021C-43D0-B69B-5232911F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26E-2727-4C7C-888F-22CF93E1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381-F325-41B1-A247-5736485C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A9D4-E3CC-4FAB-BF9B-314C11E868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619280" y="105264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10" descr=""/>
          <p:cNvPicPr/>
          <p:nvPr/>
        </p:nvPicPr>
        <p:blipFill>
          <a:blip r:embed="rId1"/>
          <a:stretch/>
        </p:blipFill>
        <p:spPr>
          <a:xfrm>
            <a:off x="317520" y="1262160"/>
            <a:ext cx="8265960" cy="2316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3564000" y="4869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АПОУ ПО ПКТ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.В.Манс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324000" y="3716280"/>
            <a:ext cx="3673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MyTes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639720" y="4267080"/>
            <a:ext cx="364644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468360" y="620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озможности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онструктора Online Test P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779560" y="1989000"/>
            <a:ext cx="6364440" cy="33991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1187280" y="141300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блица правильности ответов на вс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4844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539640" y="333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озможности Конструктора Online Test P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191440" cy="4373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395280" y="1135440"/>
            <a:ext cx="61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водные данные или журнал с оцен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539640" y="765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озможности Конструктора Online Test P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172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ctangle 4" descr=""/>
          <p:cNvPicPr/>
          <p:nvPr/>
        </p:nvPicPr>
        <p:blipFill>
          <a:blip r:embed="rId1"/>
          <a:stretch/>
        </p:blipFill>
        <p:spPr>
          <a:xfrm>
            <a:off x="341280" y="304920"/>
            <a:ext cx="85582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5"/>
          <p:cNvSpPr txBox="1"/>
          <p:nvPr/>
        </p:nvSpPr>
        <p:spPr>
          <a:xfrm>
            <a:off x="1403280" y="836640"/>
            <a:ext cx="266400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990033"/>
                </a:solidFill>
                <a:latin typeface="Arial"/>
              </a:rPr>
              <a:t>Адрес сайта:</a:t>
            </a:r>
            <a:endParaRPr b="0" lang="en-US" sz="2000" spc="1" strike="noStrike">
              <a:ln w="0">
                <a:noFill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684360" y="126828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onlinetestpad.com/app/tests/gbaznd5x563z4/statistics/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s://ds03.infourok.ru/uploads/ex/12e9/00022240-d68cfd50/img17.jpg"/>
          <p:cNvPicPr/>
          <p:nvPr/>
        </p:nvPicPr>
        <p:blipFill>
          <a:blip r:embed="rId1"/>
          <a:stretch/>
        </p:blipFill>
        <p:spPr>
          <a:xfrm>
            <a:off x="179280" y="216000"/>
            <a:ext cx="878544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539640" y="189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 - т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 - тестовый метод контроля при изучении  дисциплин профессиональног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- выявить особенности использования тестового метода контроля при изучении дисциплин профессионального ци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знакомиться с программами для создания электронных тестов и выбрать наиболее подходящую для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Изучить основные требования к созданию тес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обрать и разработать материал для составления те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работать электронные те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611280" y="260280"/>
            <a:ext cx="727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Тестовые задания могут составляться с использованием разнообразных компьютерных инструментов, начиная от различных редакторов и программ для разработки презентаций и до использования языков программирования и возможностей сети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95280" y="2882160"/>
            <a:ext cx="8461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Для создания тестов используются различные тестовые оболоч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Monotype Corsiva"/>
              </a:rPr>
              <a:t>iSp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Monotype Corsiva"/>
              </a:rPr>
              <a:t>SunRavTest Office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MyTestX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IN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Мастер-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Monotype Corsiva"/>
              </a:rPr>
              <a:t>BankTesto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Создание теста в формах Goo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11280" y="549360"/>
            <a:ext cx="79214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онструктор Online Test Pad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совершенно бесплатно создать любой тест любой сложности с любой логикой подсчета результатов своими ру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84280" y="2205000"/>
            <a:ext cx="75880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68360" y="260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озможности Конструктора Online Test P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324000" y="692280"/>
            <a:ext cx="828036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 помощью Конструктора Online Test Pad я организую и провожу онлайн тестирование, как с целью выявить уровень знаний по своим  учебным дисциплинам, так и с обучающими целями. В обучающем режиме тестируемому выводятся сообщения об его ошибках, может быть показано вступление и объяснение к зад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720720" y="2276640"/>
            <a:ext cx="745164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755640" y="620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озможности Конструктора Online Test P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250920" y="1126800"/>
            <a:ext cx="86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азличные виды кроссвордов, логические игры  для викторин, олимпиад по предм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572000" cy="334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356000" y="3068640"/>
            <a:ext cx="45738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971640" y="333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озможности Конструктора Online Test P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920000" cy="4458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684360" y="1064160"/>
            <a:ext cx="7559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Все тесты предоставляются обучающимся  в бесплатном режиме, без регистрации по ссылке открывается сразу 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755640" y="620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озможности Конструктора Online Test P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077320" cy="43228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540360" y="1628640"/>
            <a:ext cx="49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татистика прохождения тестов по дн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468360" y="620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озможности Конструктора Online Test P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804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3:47:24Z</dcterms:created>
  <dc:creator>Jrik</dc:creator>
  <dc:description/>
  <dc:language>en-US</dc:language>
  <cp:lastModifiedBy>Microsoft</cp:lastModifiedBy>
  <dcterms:modified xsi:type="dcterms:W3CDTF">2019-12-10T07:54:53Z</dcterms:modified>
  <cp:revision>47</cp:revision>
  <dc:subject/>
  <dc:title>Слайд 1</dc:title>
</cp:coreProperties>
</file>