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7D02-471C-48A1-AC48-533C50D6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D423-4B48-42D9-AB32-F3E3E3D4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7176-0576-4158-B757-09C36C3B5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6144-E39B-4225-859E-AB5617781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F03F-4ABE-41AF-B80C-704B3AA89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7723-78C4-4F68-BE60-14D03570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0AD0-A2F4-4D3A-9606-1B1B920F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93A8-E2E3-48F6-9CE9-44ABE329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4004-321E-4395-B6EB-6C6856E1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F566-4EC8-4A51-B449-010CFE30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3EBF-17FB-4001-9E5D-C35F4645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1888-C176-4664-9283-0B5BEED8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4099-0B1A-47F7-9FFF-8C6465D7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D6E6-DBB7-4D96-850A-20BD8244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AA14-7EBC-4BDC-87CA-A773B017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B9AE-9F7D-42E0-82F9-A56FB68AF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3C18-28D7-4FDF-B37A-559C10FE1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1F15A-22DE-44E4-B2BF-E907776E0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90D39-669F-4CC0-A627-0DE831BD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84F4E-A9A2-4E48-A15E-6E5B808A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B2C60-0491-4FF3-9BD3-7DB6476B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23A77-D8BF-4D76-A8AA-7783E18A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C567-B2D8-41AE-BAEC-A938B301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0D999-D6E0-4B02-A871-220CFD4B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F5887-3672-4787-9FD7-B1D87462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F5135-D848-471C-AEC6-02E992DB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9330F-83CD-4ABC-8AF5-D3F1E8A0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D2DE9-1800-4A71-B873-2BAB4F8E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0D40B-1A63-4447-8A96-D9B497604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D918E-46A9-406C-A142-B0289D588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486DD4-7637-4AC8-A176-9E38DB640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C9476B-DC00-4B67-AE89-300C4BED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5E674C-1C0C-4FC2-8E3C-F2E73755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4D53-5BF6-4BD7-BAC6-05A29C62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D4885D-E47A-4D6D-8763-8EBBA992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6AC65D-0AA0-4364-99A7-9BCFF528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9A140D-3744-48FE-BB0B-130E496F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6EAC11-7015-4088-A8CD-852382FF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AD6CB5-4C87-4D25-8933-3449E5C7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5DE93B-B1DD-4FB8-909C-27656AF2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75FB2E-65D2-466A-BAF1-05338DEC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939AE8-9420-4779-A635-0DEAD4AC3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DAA34C-2D1D-42C3-B220-F2ED9D75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339F2-D951-4747-A690-6B379B82B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CB8E-74C5-4868-84DE-08B49345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BD9C1-44E9-474C-B756-08A3B579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724EB-C7AD-4937-90C7-F48605C9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E600F-8CDB-44EE-9789-5369A1FD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A61BC-A3DD-428A-9574-9618EA49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7B628-2587-48A6-892D-145E499C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18385-2758-4F53-B5EB-7DD99CBF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72611-0C82-4F84-8A3B-5E1CA2E7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A75F2-BD9C-49A0-90B5-204598E5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0B1EA-F27A-49EC-89E0-D2599F51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DD80B-862D-412B-951D-D3F453EE4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46B9-4413-4F0C-A8B3-1772257F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37DED-75C0-4D56-806D-1C2E0E90E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FF5F-1F52-4C20-A44D-4E87BFF9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8AB0-6D5F-472A-AB1D-3B1F5F5D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692F-93B2-4966-9CD8-3E42FECF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A240-6754-4DD6-8C64-306E053562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8A91-FA2A-4EC6-9378-07A49EA134D2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EEB3-DDBB-4DBE-92A8-5F260D2DA203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1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FC4A-461C-4FBD-9C54-CD5EC09619A7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1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4F27-658B-4037-BD9C-68FBEBB857A6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Прямоугольник 7" descr=""/>
          <p:cNvPicPr/>
          <p:nvPr/>
        </p:nvPicPr>
        <p:blipFill>
          <a:blip r:embed="rId1"/>
          <a:stretch/>
        </p:blipFill>
        <p:spPr>
          <a:xfrm>
            <a:off x="669960" y="920880"/>
            <a:ext cx="7297560" cy="32065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"/>
          <p:cNvPicPr/>
          <p:nvPr/>
        </p:nvPicPr>
        <p:blipFill>
          <a:blip r:embed="rId2"/>
          <a:stretch/>
        </p:blipFill>
        <p:spPr>
          <a:xfrm>
            <a:off x="7858080" y="5786280"/>
            <a:ext cx="642960" cy="6652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"/>
          <p:cNvPicPr/>
          <p:nvPr/>
        </p:nvPicPr>
        <p:blipFill>
          <a:blip r:embed="rId3"/>
          <a:stretch/>
        </p:blipFill>
        <p:spPr>
          <a:xfrm>
            <a:off x="357120" y="5286240"/>
            <a:ext cx="18813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Правила работы в групп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оворить по очереди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нимательно слушать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ллективно обсуждать предложения, идеи и мнения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могать и просить о помощи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нимать групповые решения и приходить к единому мнению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дводить итоги обсуждения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и склонения имён существительны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468360" y="2197080"/>
          <a:ext cx="8207280" cy="3824280"/>
        </p:xfrm>
        <a:graphic>
          <a:graphicData uri="http://schemas.openxmlformats.org/drawingml/2006/table">
            <a:tbl>
              <a:tblPr/>
              <a:tblGrid>
                <a:gridCol w="2735280"/>
                <a:gridCol w="2736720"/>
                <a:gridCol w="2735280"/>
              </a:tblGrid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е склоне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е склоне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е склоне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32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р. –а,-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р. –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р. –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32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р. –а, -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.р. –о, -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83" name="Прямоугольник 6"/>
          <p:cNvSpPr/>
          <p:nvPr/>
        </p:nvSpPr>
        <p:spPr>
          <a:xfrm>
            <a:off x="4716360" y="335772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7"/>
          <p:cNvSpPr/>
          <p:nvPr/>
        </p:nvSpPr>
        <p:spPr>
          <a:xfrm>
            <a:off x="7596360" y="335772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ак определить склонение имен существительных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ить существительное в начальную форм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пределить род имени существительног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ыделить окончание слова.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пределить склоне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СТ  «ПРОВЕРЬ СЕБЯ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.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3.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.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5.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/З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 выбор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ставить карточку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. 90 упр.15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Прямоугольник 1"/>
          <p:cNvSpPr/>
          <p:nvPr/>
        </p:nvSpPr>
        <p:spPr>
          <a:xfrm>
            <a:off x="324000" y="62064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c4652d"/>
                </a:solidFill>
                <a:uFillTx/>
                <a:latin typeface="Georgia"/>
              </a:rPr>
              <a:t>Оцени свою работ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Georg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2"/>
          <p:cNvSpPr/>
          <p:nvPr/>
        </p:nvSpPr>
        <p:spPr>
          <a:xfrm>
            <a:off x="395280" y="148428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Georgia"/>
                <a:ea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Заголовок 1" descr=""/>
          <p:cNvPicPr/>
          <p:nvPr/>
        </p:nvPicPr>
        <p:blipFill>
          <a:blip r:embed="rId1"/>
          <a:stretch/>
        </p:blipFill>
        <p:spPr>
          <a:xfrm>
            <a:off x="-682560" y="30240"/>
            <a:ext cx="9418680" cy="2103480"/>
          </a:xfrm>
          <a:prstGeom prst="rect">
            <a:avLst/>
          </a:prstGeom>
          <a:ln w="0">
            <a:noFill/>
          </a:ln>
        </p:spPr>
      </p:pic>
      <p:pic>
        <p:nvPicPr>
          <p:cNvPr id="294" name="Текст 2" descr=""/>
          <p:cNvPicPr/>
          <p:nvPr/>
        </p:nvPicPr>
        <p:blipFill>
          <a:blip r:embed="rId2"/>
          <a:stretch/>
        </p:blipFill>
        <p:spPr>
          <a:xfrm>
            <a:off x="615960" y="4968720"/>
            <a:ext cx="8278920" cy="16272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" descr="pe02463_"/>
          <p:cNvPicPr/>
          <p:nvPr/>
        </p:nvPicPr>
        <p:blipFill>
          <a:blip r:embed="rId3"/>
          <a:stretch/>
        </p:blipFill>
        <p:spPr>
          <a:xfrm>
            <a:off x="324000" y="1916280"/>
            <a:ext cx="414324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оглджгмгатьгт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г Ги Го Гв го ге гм гу гя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…ном, б…гаж, г…рой, г…зета инт…рес..ный, к..л…гра…, в…гон,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, б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ж, г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й, г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та инт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</a:t>
            </a:r>
            <a:r>
              <a:rPr b="1" lang="ru-RU" sz="6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н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, к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м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,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Прямая соединительная линия 4"/>
          <p:cNvSpPr/>
          <p:nvPr/>
        </p:nvSpPr>
        <p:spPr>
          <a:xfrm flipH="1">
            <a:off x="3419280" y="1773360"/>
            <a:ext cx="14436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ая соединительная линия 6"/>
          <p:cNvSpPr/>
          <p:nvPr/>
        </p:nvSpPr>
        <p:spPr>
          <a:xfrm flipH="1">
            <a:off x="6084360" y="1773360"/>
            <a:ext cx="14292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8"/>
          <p:cNvSpPr/>
          <p:nvPr/>
        </p:nvSpPr>
        <p:spPr>
          <a:xfrm flipH="1">
            <a:off x="2268000" y="2781360"/>
            <a:ext cx="14292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10"/>
          <p:cNvSpPr/>
          <p:nvPr/>
        </p:nvSpPr>
        <p:spPr>
          <a:xfrm flipH="1">
            <a:off x="4716000" y="2781360"/>
            <a:ext cx="14292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ая соединительная линия 12"/>
          <p:cNvSpPr/>
          <p:nvPr/>
        </p:nvSpPr>
        <p:spPr>
          <a:xfrm flipH="1">
            <a:off x="3347640" y="3716280"/>
            <a:ext cx="144360" cy="217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7"/>
          <p:cNvSpPr/>
          <p:nvPr/>
        </p:nvSpPr>
        <p:spPr>
          <a:xfrm flipH="1">
            <a:off x="3779640" y="4724280"/>
            <a:ext cx="144360" cy="217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ая соединительная линия 19"/>
          <p:cNvSpPr/>
          <p:nvPr/>
        </p:nvSpPr>
        <p:spPr>
          <a:xfrm flipH="1">
            <a:off x="7019640" y="4797360"/>
            <a:ext cx="144360" cy="144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50920" y="1628640"/>
            <a:ext cx="8642160" cy="38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Герой России рассказал нам о побед… и храброст… своего отряда .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50920" y="1628640"/>
            <a:ext cx="8642160" cy="38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Герой России рассказал нам о побед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 </a:t>
            </a:r>
            <a:r>
              <a:rPr b="1" i="1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ж.р., П.п.) </a:t>
            </a:r>
            <a:r>
              <a:rPr b="1" i="1" lang="ru-RU" sz="5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и храброст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i="1" lang="ru-RU" sz="5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 </a:t>
            </a:r>
            <a:r>
              <a:rPr b="1" i="1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ж.р., П.п) </a:t>
            </a:r>
            <a:r>
              <a:rPr b="1" i="1" lang="ru-RU" sz="5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своего отряда .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29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i="1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и склонения имён существительных</a:t>
            </a:r>
            <a:br>
              <a:rPr sz="6600"/>
            </a:b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Цели урока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спомнить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такое склоне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знать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ие бывают группы склонений, как их отличи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учитьс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ять склонение имен существительных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6:19:22Z</dcterms:created>
  <dc:creator>Admin</dc:creator>
  <dc:description/>
  <dc:language>en-US</dc:language>
  <cp:lastModifiedBy>1</cp:lastModifiedBy>
  <dcterms:modified xsi:type="dcterms:W3CDTF">2020-05-20T15:36:12Z</dcterms:modified>
  <cp:revision>97</cp:revision>
  <dc:subject/>
  <dc:title>Слайд 1</dc:title>
</cp:coreProperties>
</file>