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048-6A55-473D-92D3-974B63EC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1FE-4B81-485E-A1FE-CBAA02C9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983-9B16-4C5C-8C3D-ABD21E0A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55F-99FB-4481-BDB8-2EF5F909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2F78-6A73-4E5F-9235-E951C619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FDF7-6037-4CCA-8B4D-FE3C9A4A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FC60-F98D-4400-9B03-3730BE81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C760-913F-4364-A6D0-D6221811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7271-7A25-4C6D-835C-A3B1828D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0CFA-B581-4AF5-AD32-6BF16E43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A9DE-CE25-4062-97B0-0AA640FC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FF5-C7BB-46E4-9D48-4636F5D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5833-2D38-4AE8-ABEF-A644273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358C-3025-40D6-991D-3C517F1C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E8A8-D801-48DE-BF36-9BAF6736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A27F-784B-423F-A491-3105EE31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5719-55A4-4916-8ECB-97C45142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E1B-1E7C-46E7-9C6E-E291587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DFC-123A-4A1D-8B26-05E1682C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A0A-3FFE-4497-85A1-A7FA3D47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0FA-F9FD-4736-9772-A1B56596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BA5-37E3-47DC-95D7-1C58DA1E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377-B5A2-48BA-8456-6AEF20BF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E79F-6F01-4248-B64E-B46629E0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C7B-1E8D-4E9B-B6CB-3830A5401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5346-C568-46CE-A1F3-483B446140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УНИЦИПАЛЬНОЕ БЮДЖЕТНОЕ ОБЩЕОБРАЗОВАТЕЛЬНОЕ УЧРЕЖДЕНИЕ «СРЕДНЯЯ ШКОЛА № 23»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зация и проведение занятий с учащимися, отнесенных по состоянию здоровья к СМ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физической культуры: Щукина Валентина Серге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Норильск 2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Задачи СМГ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крепление здоровья, ликвидация или стойкая компенсация нарушений, вызванных заболевание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лучшение показателей физического развит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своение жизненно важных двигательных умений, навыков и качест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степенная адаптация организма к воздействию физических нагрузок, расширение диапазона функциональных возможностей физиологических систем организм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каливание и повышение сопротивляемости защитных сил организм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ормирование волевых качеств личности и интереса к регулярным занятиям физической культуро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спитание сознательного и активного отношения к ценности здоровья и здоровому образу жизн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владение комплексами упражнений, благоприятно воздействующими на состояние организма обучающегося, с учетом имеющегося у него заболева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учение правилам подбора, выполнения и самостоятельного формирования комплекса упражнений утренней гигиенической гимнастики с учетом рекомендаций врача и педагог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учение способам самоконтроля при выполнении физических нагрузок различного характе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блюдение правил личной гигиены, рационального режима труда и отдыха, полноценного и рационального пит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олняемость групп для занятий в СМ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яет 10–15 человек, периодичность занятий — два раза в неделю по 45 мин. Наиболее целесообразно комплектовать эти группы с учетом принципа объединения учащихся по параллелям или классам: 1-4-е классы, 5-7-е классы, 8-9-е классы, 10-11-е клас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ценивание и аттестация учащихся, занимающихся в СМ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оговая отметка выставляется по физической культуре в СМГ с учетом теоретических и практических знаний ( двигательных умений и навыков , умений осуществлять физкультурно- оздоровительную и спортивно-оздор.деятельность), а также с учетом динамики физической подготовленности и прилеж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журнал и аттестат выставляется отме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Наиболее распространенные заболевания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арушение зрения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арушение опорно-двигательного аппарат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аболевания внутренних орган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арушение осан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Избыток веса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евроз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Гинекологические заболе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Должна ли в школе быть лечебная физкультура для детей отнесенных к СМГ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 соответствии с Законом № 273-ФЗ"Об Образовании в РФ» должна осуществлять определенную деятельность, нацеленную на охрану здоровья обучающихся, в частности, организовывать и создавать условия для профилактики заболеваний и оздоровления обучающихся, для занятия ими физической культурой и спорт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 настоящее время лечебная физкультура отнесена к категории медицинских услуг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которая подлежит лицензированию, как медицинская деятельность, оказывать такую услугу имеет право только специалист с соответствующим профессиональным заболеванием и квалификаци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оставление услуги по лечебной физкультуре не связано с образовательной программой в школе, поэтому школа имеет право предоставлять такую услуг только, если есть соответствующие условия: наличие лицензии, наличие квалифицированного специалиста, дополнительное финанс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чебной физкультура может быть предоставлена как дополнительная услуга на базе образовательной организации для работы медицинской организ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0" y="115920"/>
          <a:ext cx="9144000" cy="6615000"/>
        </p:xfrm>
        <a:graphic>
          <a:graphicData uri="http://schemas.openxmlformats.org/drawingml/2006/table">
            <a:tbl>
              <a:tblPr/>
              <a:tblGrid>
                <a:gridCol w="2340000"/>
                <a:gridCol w="2879640"/>
                <a:gridCol w="3924360"/>
              </a:tblGrid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тивопоказания и ограни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рдечно-сосудистая система(неактивная фаза ревматизма, функциональные измен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пражнения ,выполнение которых связано с длительной задержкой дыхания, интенсивным напряжением мышц брюшного прес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У, охватывающие все мышечные группы , в исходном положении лежа ,сидя, стоя; ходьба, дозированный бег, бег в медленном темп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ы дыхания(хронический бронхит, воспаление легких, бронхиальная астма и др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пр., вызывающие длительную задержку дыхания и интенсивное напряжение мышц брюшного прес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ыхательные упражнения. Тренировка полного дыхания и особенно удлиненного выдоха. Ускоренная ходьба, бег, плавание, бег на лыжах, прогулки на воздух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болевание почек ( нефрит, нефроз, пиелонефрит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пустимы упражнения с высокой частотой движений, интенсивностью нагрузки и скоростно-силовой направленностью, переохлаждением тел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роведении ОРУ особое внимание уделяется укреплению мышц передней стенки живота .При занятиях плаванием(с разрешением врача) ограничивается время пребывания в воде( 5-10 мин-1-год обучения,10-15мин.-2 и последующие годы обуч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ие нервной систем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пражнения, вызывающие нервное перенапряжение(упражнения в равновесии на повешенной опоре), ограничивается время игр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ыхательные упражнения, водные процедуры, аэробные упражн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ы зр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ключаются прыжки с разбега, кувырки, упр. со статическим напряжением мышц, стойки на руках и на голов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пражнения на пространственную  ориентировку, точность движений, динамическое равновесие, гимнастика для глаз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онические заболевания желудочно-кишечного тракта ,желудочного пузыря, печени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ьшается нагрузка на мышцы брюшного пресса, ограничиваются прыжк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жный массаж органов брюшной полости. Выполнять упражнения лежа на правом и левом бок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МГ на базе МБОУ «СШ № 23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изация и проведение занятий с обучающимися отнесенных по состоянию здоровья к СМГ проводиться на базе школы многие г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стоящее время в школе функционирует одна СМГ. В состав которой, включены воспитанники разновозрастной категории. Вследствие чего, на занятиях целесообразно использование индивидуального и группового методов обучения, для наиболее качественного физического развития, а главное улучшения физического состояния и здоровья воспитан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честве контроля о состоянии здоровья воспитанников, были разработаны дневники самоконтроля. В данных дневниках воспитанники на каждом уроке фиксируют ЧСС, и общее состояние, что позволяет рационально дозировать нагрузку с учетом состояния и степени заболевания воспитан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9640" y="4869000"/>
          <a:ext cx="8209080" cy="1247760"/>
        </p:xfrm>
        <a:graphic>
          <a:graphicData uri="http://schemas.openxmlformats.org/drawingml/2006/table">
            <a:tbl>
              <a:tblPr/>
              <a:tblGrid>
                <a:gridCol w="758880"/>
                <a:gridCol w="1749600"/>
                <a:gridCol w="1139760"/>
                <a:gridCol w="1063440"/>
                <a:gridCol w="760680"/>
                <a:gridCol w="608040"/>
                <a:gridCol w="688680"/>
                <a:gridCol w="576360"/>
                <a:gridCol w="8636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мочув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ппет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т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уро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ч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целью укрепления здоровья и улучшения показателей физического развития, все упражнения подобраны с учетом заболевания обучающего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профилактики заболеваний на занятиях проводя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мнастика для гла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ыхательная гимнаст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жнения для профилактики остеохондроз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жнения для профилактики плоскостоп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жнения профилактики сердечно-сосудистых заболев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не путаем профилактические упражнения с ЛФ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же, для эффективной работы в данном направлении для воспитанников и родителей, были составлены картотеки комплексов упражнений благоприятно влияющих на состояние здоровья обучающегося, в зависимости от вида заболе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Распределение школьников на медицинские групп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ответствии с состоянием здоровья , физическим развитием, уровню физической подготовленности и тренированности детей школьного возраста делят на 3 групп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снов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дготовите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пециальная медицинская групп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755640" y="1628640"/>
            <a:ext cx="7848720" cy="46324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олько сообща, все вместе, мы преодолеем все труд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Рекомендуемые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программы по СМГ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i-main-pic" descr="Картинка 2 из 1257"/>
          <p:cNvPicPr/>
          <p:nvPr/>
        </p:nvPicPr>
        <p:blipFill>
          <a:blip r:embed="rId1"/>
          <a:stretch/>
        </p:blipFill>
        <p:spPr>
          <a:xfrm>
            <a:off x="108000" y="2133720"/>
            <a:ext cx="266220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32360" y="1341000"/>
            <a:ext cx="40384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ограммы и методических рекомендаций по физическому воспитанию учащихся, отнесённых по состоянию здоровья к специальной медицинской группе. Авторы-составители – Л.П.Матвеев и др.-М.: Дрофа, 20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Программа по физической культуре для учащихся 1-10 кл. общеобразовательных школ, отнесённых по состоянию здоровья к специальной медицинской группе. Под ред. Волковой.//Физическая культура в школе, № 2,3,4,5,6.-200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Занятия физической культурой со школьниками, отнесёнными к специальной медицинской группе. Под ред. М.Д. Рипы и др.- М, «Просвещение», 200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i?id=9746407&amp;tov=0"/>
          <p:cNvPicPr/>
          <p:nvPr/>
        </p:nvPicPr>
        <p:blipFill>
          <a:blip r:embed="rId2"/>
          <a:stretch/>
        </p:blipFill>
        <p:spPr>
          <a:xfrm>
            <a:off x="2916360" y="4076640"/>
            <a:ext cx="1801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Картинки по запросу будьте здоровы надписи"/>
          <p:cNvPicPr/>
          <p:nvPr/>
        </p:nvPicPr>
        <p:blipFill>
          <a:blip r:embed="rId1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Картинки по запросу спасибо за внимание надписи"/>
          <p:cNvPicPr/>
          <p:nvPr/>
        </p:nvPicPr>
        <p:blipFill>
          <a:blip r:embed="rId2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ределяет группу здоровья врач педиатр, заключение дает врачебная комиссия, заверяется главным врачом поликлиники на основании «По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врачебном контроле за физическим воспитанием населения. Приказ № 826 от 09.11.1966 г.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Основная группа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е включают детей и подростков без отклонений в состоянии здоровья ( или с небольшим отклонениями), имеющих достаточную физическую подготовленность. В качестве основного учебного материала в данной группе следует использовать обязательные виды занятий в соответствии с учебной программой в полном обьеме, а также сдачу контрольных нормативов с дифференцированной оценкой, рекомендуется заниматься в спортивных секциях, участвовать в соревнова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одготовительная групп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учающиеся с недостаточным физическим развитием и низкой физической подготовленностью или имеющие незначительные отклонения в состоянии здоровья относятся к подготовительной медицинской группе. Этой категории обучающихся разрешается заниматься физической культурой по программе для основной группы с учетом некоторых ограничений в объеме и интенсивности физических нагрузок (в том числе временных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пециальная медицинская группа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учающиеся, которые на основании медицинского заключения о состоянии их здоровья не могут заниматься физической культурой по программе для основной группы, относятся к специальной медицинской группе (СМ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МГ делится на подгруппы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 и 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Подгруппа: «А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уется в образовательном учреждении и проводится по специальной программе, одобренной МИНфином Р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и, имеющие отклонения в состоянии здоровья обратимого характера и позволяющие надеяться на перевод их в подготовительную группу после нескольких лет занятий. Учащимся данной группы разрешаются оздоровительные занятия физической культурой в образовательном учреждении по специальным программ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Группа « Б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ти, имеющие органические необратимые изменения в состоянии органов и систем. Для них главной и вполне достижимой целью занятий должен стать переход в подгруппу «А»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Цель работы СМГ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и социальная реабилитация обучающихся, имеющих проблемы со здоровь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17:37:01Z</dcterms:created>
  <dc:creator>Щукина</dc:creator>
  <dc:description/>
  <cp:keywords>СМГ</cp:keywords>
  <dc:language>en-US</dc:language>
  <cp:lastModifiedBy>BERG</cp:lastModifiedBy>
  <dcterms:modified xsi:type="dcterms:W3CDTF">2020-01-31T07:04:25Z</dcterms:modified>
  <cp:revision>17</cp:revision>
  <dc:subject/>
  <dc:title>город Норильск</dc:title>
</cp:coreProperties>
</file>