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7551-10F3-4A86-9F98-4EDB2F8C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AC0-3FF8-4516-9D68-67380C00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E15-3A9B-40B8-932E-3E6775A9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C428-592D-40EC-AF1F-7B0197CF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ACE6-851F-4084-AA4E-7599A5B1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8936-9D72-4E1F-BA76-E4283DFE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7DA6-4434-446B-A2C8-F756526A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585B-2F6A-4858-9F43-3B8683B7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83BE-1470-4E46-A25F-ACC486C2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C724-0774-4E78-A1EC-39C5A1B1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8279-42F6-423E-B196-D3B961DA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867-72A2-40C1-8905-3B1005C7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6058-E624-40FB-8B5B-2E56A586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73CB-0B34-4A04-A38A-656AB35D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150D-1EA5-47C2-AA51-4445E8CB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14B5-67A4-4158-AD05-82751520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697C-E385-47DF-A36F-00509C99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2A4-9AF7-4F0C-82F9-B8968667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FC5-8BBC-4D3B-AFB1-6DB42C7B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F99-79B9-4E33-AC97-F6F84531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016-B1DD-440A-8E29-2357C7E6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B5E-D3E4-4B9A-8261-650D28F9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B1B-0154-45EC-8AD5-1AC61780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65E-D60F-4213-BAE3-3E4A9838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E626-98A9-476E-AE44-4CF3A7FC8BC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2861-333F-41D7-853A-FE6C504397E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t-net.net/ru/rwct_tcp_ru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09440" y="158760"/>
            <a:ext cx="3238560" cy="37767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1" descr=""/>
          <p:cNvPicPr/>
          <p:nvPr/>
        </p:nvPicPr>
        <p:blipFill>
          <a:blip r:embed="rId2"/>
          <a:stretch/>
        </p:blipFill>
        <p:spPr>
          <a:xfrm>
            <a:off x="3078000" y="0"/>
            <a:ext cx="6334200" cy="21099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" descr=""/>
          <p:cNvPicPr/>
          <p:nvPr/>
        </p:nvPicPr>
        <p:blipFill>
          <a:blip r:embed="rId3"/>
          <a:stretch/>
        </p:blipFill>
        <p:spPr>
          <a:xfrm>
            <a:off x="3346560" y="1603440"/>
            <a:ext cx="5657760" cy="26874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5" descr=""/>
          <p:cNvPicPr/>
          <p:nvPr/>
        </p:nvPicPr>
        <p:blipFill>
          <a:blip r:embed="rId4"/>
          <a:stretch/>
        </p:blipFill>
        <p:spPr>
          <a:xfrm>
            <a:off x="244440" y="4017960"/>
            <a:ext cx="9009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Основа  технологии - трехфазовая  структура урока: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42960" y="1500120"/>
          <a:ext cx="8001000" cy="4869000"/>
        </p:xfrm>
        <a:graphic>
          <a:graphicData uri="http://schemas.openxmlformats.org/drawingml/2006/table">
            <a:tbl>
              <a:tblPr/>
              <a:tblGrid>
                <a:gridCol w="2735280"/>
                <a:gridCol w="2711520"/>
                <a:gridCol w="2554200"/>
              </a:tblGrid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адия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адия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адия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9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: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ктуализация имеющихся знаний;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буждение интереса к получению новой информации;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становка учеником собственных целей обучения.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ысление содержания: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лучение новой информации;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чащиеся соотносят старые знания с новыми.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: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мышление, рождение нового знания;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становка учеником новых целей обучения.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Функции стадий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технологии развития  критического мышления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57120" y="1928880"/>
          <a:ext cx="8358120" cy="4473360"/>
        </p:xfrm>
        <a:graphic>
          <a:graphicData uri="http://schemas.openxmlformats.org/drawingml/2006/table">
            <a:tbl>
              <a:tblPr/>
              <a:tblGrid>
                <a:gridCol w="1285920"/>
                <a:gridCol w="1143000"/>
                <a:gridCol w="1285920"/>
                <a:gridCol w="1231920"/>
                <a:gridCol w="1768320"/>
                <a:gridCol w="1643040"/>
              </a:tblGrid>
              <a:tr h="315720">
                <a:tc gridSpan="2">
                  <a:txBody>
                    <a:bodyPr lIns="8640" rIns="8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з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ализац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флек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160">
                <a:tc>
                  <a:txBody>
                    <a:bodyPr lIns="8640" rIns="8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640" rIns="8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0840">
                <a:tc gridSpan="2">
                  <a:txBody>
                    <a:bodyPr lIns="8640" rIns="86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ацио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побуждение к работе с новой информацией,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уждение интереса к  теме)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ционная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ызов «на поверхность» имеющихся знаний по теме)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уникационная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бесконфликтный обмен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ениями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0" bIns="0" anchor="t">
                      <a:noAutofit/>
                    </a:bodyPr>
                    <a:p>
                      <a:pPr marL="11160" indent="179280" algn="just">
                        <a:lnSpc>
                          <a:spcPct val="100000"/>
                        </a:lnSpc>
                        <a:tabLst>
                          <a:tab algn="l" pos="0"/>
                          <a:tab algn="l" pos="10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ционная (получение новой информации по теме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160" indent="1792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0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стематизационная (классификация полученной информации по категориям знания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160" indent="1792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0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ационная (сохранение интереса к изучаемой теме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уникационная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обмен мнениями о новой информации)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ционная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приобретение нового знания)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ационная (побуждение к дальнейшему расширению информационного поля)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очная (соотнесение новой информации и имеющихся знаний, выработка собственной позиции, оценка процесса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Приёмы технолог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ием «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корзина идей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» (понятий, имен…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ием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«составление кластера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ием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составления маркировочной таблицы «ЗУХ»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ием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«учебный мозговой штурм»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ием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«написание синквейна»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Ожидаемые результаты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еализация личностно-ориентированного подхода в обучении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рганизация на уроках истории и обществознания условия для успешной самореализации школьников, развития их индивидуальных интеллектуальных способносте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МЕТОДИЧЕСКОЕ СОПРОВОЖДЕНИЕ РЕШЕНИЯ ПЕДАГОГИЧЕСКОЙ ПРОБЛЕМЫ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Заголовок 3"/>
          <p:cNvSpPr/>
          <p:nvPr/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ЕМА УРОКА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: ЛИБЕРАЛЬНЫЕ НАЧИНАНИЯ В ЦАРСТВОВАНИЕ АЛЕКСАНДРА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214200"/>
            <a:ext cx="7772400" cy="419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История России XIX века. 8класс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1 этап урока - вызов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680" y="1600200"/>
            <a:ext cx="393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 1801 году русским царем стал Александр I, сын Павла I, вольно или невольно участвовавший в заговоре против отца, который закончился убийством Павл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н вступил на престол с ясными намерениями сделать страну счастливой. А вот что он понимал под этими словами – счастливая страна? Какие проблемы должны быть решены Александром, чтобы он мог эту цель реализовать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43680" y="164304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тог работы – общеклассный </a:t>
            </a:r>
            <a:r>
              <a:rPr b="0" i="1" lang="ru-RU" sz="2800" spc="-1" strike="noStrike">
                <a:solidFill>
                  <a:srgbClr val="000000"/>
                </a:solidFill>
                <a:latin typeface="Garamond"/>
              </a:rPr>
              <a:t>кластер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на доске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2 этап - осмысление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600200"/>
            <a:ext cx="358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ащимся предлагается проанализировать планы Сперанского по реформированию сословного строя России и государственного управл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006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дания группам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руппа №. Ознакомьтесь с текстом учебника на стр. 18. Выполните следующее задание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1. Проанализируйте планы Сперанского по изменению сословного строя Росси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) какие сословия должны были быть созданы по его проекту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) какие права получили бы эти сослов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одготовьте схему (на доске) и рассказ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3 этап урока – рефлексия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 проводится в виде написания синквей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имеры синквейнов, подготовленных учащимис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Александ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Мыслящий, наивн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Мечтает, планирует, но не осуществля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н – сфинкс, не понятый до гроб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н самодержец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перанск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Умный, мечтающи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ланирует, разрабатывает, стремит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н мечтает о свободе в Росси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апрас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осс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громная, сильна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оздает, трудится, развивает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Литература: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9720" y="1000080"/>
            <a:ext cx="7572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Загашев И.О., Заир-Бек С.И. Критическое мышление: технология развития. – СПб: Издательство «Альянс «Дельта», 2003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10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Загашев И.О., Заир-Бек С.И., Муштавинская И.В. Учим детей мыслить критически. –СПб: Издательство «Альянс «Дельта», 2003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10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тратегия и тактика учителя. Сборник. Составитель О.Варшавер. –М.:ЦГЛ, 2005.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10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Критическое мышление и новые виды грамотности. Сборник. Составитель О.Варшавер. – М.:ЦГЛ, 2005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10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Педагогические технологии дистанционного обучения: учебное пособие для студентов высших учебных заведений/ Е.С.Полат, М.В.Моисеева, А.Е.Петров и др.; под. ред. Е.С.Полат. – М.: Издательский центр «Академия», 2006.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10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Развитие критического мышления на уроке: Пособие для учителя / С. И. Заир-Бек, И. В. Муштавинская    Развитие  способностей учащихся на уроках обществоведческих дисциплин через использование элементов технологии критического мышления— М.Просвещение 2004.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10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Шевченко Н.И. Педагогические технологии: социализация школьников на уроках обществознания. – М.Русское слово, 2008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10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Заир-Бек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С.И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. Развитие критического мышления через чтение и письмо: стадии и методические приемы. Ж-л « Директор  школы», №4, 2005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10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Муштавинская И.В. Технология развития критического мышления: научно-методическое осмысление. Ж-л « Методист», №2, 2002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10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Интернет-ресурсы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Critical Thinking - http://www.criticalthinking.org/ (Университетское КМ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Библиотека PsyFactor - http://www.psyfactor.org/lybr7.ht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еремена: Программа развития критического мышления через чтение и письмо -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Garamond"/>
                <a:hlinkClick r:id="rId1"/>
              </a:rPr>
              <a:t>http://www.ct-net.net/ru/rwct_tcp_ru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бразовательная технология развития критического мышления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214200" y="1724400"/>
            <a:ext cx="86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Прямоугольник 2" descr=""/>
          <p:cNvPicPr/>
          <p:nvPr/>
        </p:nvPicPr>
        <p:blipFill>
          <a:blip r:embed="rId1"/>
          <a:stretch/>
        </p:blipFill>
        <p:spPr>
          <a:xfrm>
            <a:off x="324000" y="-55440"/>
            <a:ext cx="8813520" cy="66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628640"/>
            <a:ext cx="8076960" cy="491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1933"/>
                </a:solidFill>
                <a:latin typeface="Garamond"/>
              </a:rPr>
              <a:t>В концепции модернизации российского образования в качестве одной из задач выдвигается формирование молодого человека с критическим, нестандартным мышлением, способного к поиску взвешенных решений, основанных на самостоятельном исследовании окружающего мира.</a:t>
            </a:r>
            <a:br>
              <a:rPr sz="2800"/>
            </a:br>
            <a:r>
              <a:rPr b="1" lang="ru-RU" sz="2800" spc="-1" strike="noStrike">
                <a:solidFill>
                  <a:srgbClr val="001933"/>
                </a:solidFill>
                <a:latin typeface="Garamond"/>
              </a:rPr>
              <a:t>Выпускник школы должен самостоятельно мыслить, уметь увидеть возникающие в реальном мире трудности и искать пути рационального их преодоления, четко осознавать, где и каким образом приобретаемые им знания могут быть применены в окружающей действительност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9" name="Прямоугольник 3" descr=""/>
          <p:cNvPicPr/>
          <p:nvPr/>
        </p:nvPicPr>
        <p:blipFill>
          <a:blip r:embed="rId1"/>
          <a:stretch/>
        </p:blipFill>
        <p:spPr>
          <a:xfrm>
            <a:off x="0" y="79200"/>
            <a:ext cx="9144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9280" y="90756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Arial"/>
                <a:ea typeface="Arial"/>
              </a:rPr>
              <a:t>появилась в конце XX века в США (Ч. Темпл, Д. Стил, К. Мередит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Arial"/>
                <a:ea typeface="Arial"/>
              </a:rPr>
              <a:t>основана на обобщении мирового опыта и достижениях российской педагогики и психологии (идеи Л. С. Выгодского, П. Я. Гальперина, В. В. Давыдова, Д. Б. Эльконина, Л. В. Занкова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Arial"/>
                <a:ea typeface="Arial"/>
              </a:rPr>
              <a:t>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1933"/>
                </a:solidFill>
                <a:latin typeface="Arial"/>
                <a:ea typeface="Arial"/>
              </a:rPr>
              <a:t>является общепедагогической, надпредметной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Arial"/>
                <a:ea typeface="Arial"/>
              </a:rPr>
              <a:t>интерактивная технология, то есть учебный процесс организован на основе взаимодействия учащихся друг с другом, с педагогом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Arial"/>
                <a:ea typeface="Arial"/>
              </a:rPr>
              <a:t>представляет собой целостную систему, формирующую навыки работы с информацией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1" name="Заголовок 5" descr=""/>
          <p:cNvPicPr/>
          <p:nvPr/>
        </p:nvPicPr>
        <p:blipFill>
          <a:blip r:embed="rId1"/>
          <a:stretch/>
        </p:blipFill>
        <p:spPr>
          <a:xfrm>
            <a:off x="-195120" y="-60480"/>
            <a:ext cx="93027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воспитание личности, которая способна использовать приобретаемые в течение жизни знания, умения и навыки для решения жизненно-практических задач в различных сферах человеческой деятельности, общения и социальных отношений, действовать в соответствии с общественными ценност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ехнология критического мышления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Критическое мышление – 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Технология критического мышления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дин из способов превратить учение в личностно-ориентирован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естественный способ  взаимодействия с идеей и информаци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едусматривает «проблемный» характер обуч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Технология развития критического мышления является интерак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именение обеспечивает взаимодействие субъектов образовательного процесса в различных режимах: учитель-ученик, ученик-учебник, ученик-ученик, ученик-группа, группа-группа, ученик-класс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Технология «Развитие критического мышления» имеет достоинства: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1.Высокая самостоятельность учащихся;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2.Формирование познавательного интереса или личностной мотивации учащегося;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3.Развитие мыслительных способностей обучающихся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4. Формирование у каждого из учащихся собственного отношения к изучаемому материалу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Недостатки: 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именяется в меньшей степени, чем другие подходы в обучении при формировании практических умений и навыков;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2.Требует больших затрат времени для усвоения одного и того же объема знаний, чем другие подходы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ольшая подготовка для учител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5:16:15Z</dcterms:created>
  <dc:creator>Семья</dc:creator>
  <dc:description/>
  <dc:language>en-US</dc:language>
  <cp:lastModifiedBy>Natali</cp:lastModifiedBy>
  <dcterms:modified xsi:type="dcterms:W3CDTF">2020-02-09T17:18:34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pVer">
    <vt:lpwstr/>
  </property>
  <property fmtid="{D5CDD505-2E9C-101B-9397-08002B2CF9AE}" pid="5" name="Applications">
    <vt:lpwstr>172;#Office 2000;#-1;#TBD;#-1;#TBD;#-1;#TBD;#-1;#TBD</vt:lpwstr>
  </property>
  <property fmtid="{D5CDD505-2E9C-101B-9397-08002B2CF9AE}" pid="6" name="AssetId">
    <vt:lpwstr>TS001018455</vt:lpwstr>
  </property>
  <property fmtid="{D5CDD505-2E9C-101B-9397-08002B2CF9AE}" pid="7" name="AssetType">
    <vt:lpwstr>TP</vt:lpwstr>
  </property>
  <property fmtid="{D5CDD505-2E9C-101B-9397-08002B2CF9AE}" pid="8" name="AuthoringAssetId">
    <vt:lpwstr>TP001018455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AssetId">
    <vt:lpwstr/>
  </property>
  <property fmtid="{D5CDD505-2E9C-101B-9397-08002B2CF9AE}" pid="20" name="NumericId">
    <vt:lpwstr>-1.00000000000000</vt:lpwstr>
  </property>
  <property fmtid="{D5CDD505-2E9C-101B-9397-08002B2CF9AE}" pid="21" name="OriginalSourceMarket">
    <vt:lpwstr>english</vt:lpwstr>
  </property>
  <property fmtid="{D5CDD505-2E9C-101B-9397-08002B2CF9AE}" pid="22" name="ParentAssetId">
    <vt:lpwstr/>
  </property>
  <property fmtid="{D5CDD505-2E9C-101B-9397-08002B2CF9AE}" pid="23" name="PrimaryImageGen">
    <vt:lpwstr>1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Presentation for project post-mortem</vt:lpwstr>
  </property>
  <property fmtid="{D5CDD505-2E9C-101B-9397-08002B2CF9AE}" pid="27" name="UACurrentWords">
    <vt:lpwstr>0</vt:lpwstr>
  </property>
  <property fmtid="{D5CDD505-2E9C-101B-9397-08002B2CF9AE}" pid="28" name="UALocComments">
    <vt:lpwstr/>
  </property>
  <property fmtid="{D5CDD505-2E9C-101B-9397-08002B2CF9AE}" pid="29" name="UALocRecommendation">
    <vt:lpwstr>Localize</vt:lpwstr>
  </property>
  <property fmtid="{D5CDD505-2E9C-101B-9397-08002B2CF9AE}" pid="30" name="UANotes">
    <vt:lpwstr>LEGACY FROM TOW. Assigned to Luann for retrofit pass</vt:lpwstr>
  </property>
  <property fmtid="{D5CDD505-2E9C-101B-9397-08002B2CF9AE}" pid="31" name="display_urn:schemas-microsoft-com:office:office#APAuthor">
    <vt:lpwstr>REDMOND\cynvey</vt:lpwstr>
  </property>
  <property fmtid="{D5CDD505-2E9C-101B-9397-08002B2CF9AE}" pid="32" name="display_urn:schemas-microsoft-com:office:office#APEditor">
    <vt:lpwstr>REDMOND\v-luannv</vt:lpwstr>
  </property>
</Properties>
</file>