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CA5-6AB1-4B6E-993A-BCDC5CA8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302-5830-464D-9D15-40808CD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330-FDAF-41D8-923F-38798885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213-E5D5-4D38-8451-3BBF1573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287-4082-473B-94A1-D56BAC6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EF8-E606-4E66-8247-06527FC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63D-3837-4718-B9BB-501A798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299-8221-479B-BDF0-5AD5F9ED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18C-6F60-4851-B9B3-820461C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176-990E-4605-B366-A914B28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B7D-A6DF-431F-9C3E-B8C598A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592-EF0F-48CD-A1C2-CAAC687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FA7-0406-45A3-BA8E-EDF86B41E04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8A0-A6F0-47E0-84AE-D7EFFDDB010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Arial"/>
              </a:rPr>
              <a:t>Введение в школьную жизнь</a:t>
            </a:r>
            <a:br>
              <a:rPr sz="4000"/>
            </a:br>
            <a:r>
              <a:rPr b="1" lang="ru-RU" sz="4000" spc="-1" strike="noStrike">
                <a:solidFill>
                  <a:srgbClr val="8e0000"/>
                </a:solidFill>
                <a:latin typeface="Arial"/>
              </a:rPr>
              <a:t>«признаки предметов»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Цвет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Форма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азмер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A70C-2152-4474-8BBE-B47DC7574CE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0EA5-8C87-4D50-A76D-8B2A8C164B0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Подводим итог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о каким признакам можно сравнить предметы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A5E6-E6E6-4366-AA90-DC22ACDC947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DEF-8C79-4501-9D09-7612381E581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Дома нарисовать два предмета для сравнения 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38989"/>
              </a:solidFill>
              <a:latin typeface="Calibri"/>
            </a:endParaRPr>
          </a:p>
        </p:txBody>
      </p:sp>
      <p:sp>
        <p:nvSpPr>
          <p:cNvPr id="8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C22-86E1-4E9F-8985-CACAA21CC02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4E0-8F1E-4C56-9D8E-9DDAE15A75F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Сборка роботов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дание: составить аппликацию из деталей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физкульминутк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ы ракеты строил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в небо посмотрел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Завели моторы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в космос полетел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«Я»   - «хор»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Сорок одежек и все без застежек…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Висит сито не руками свито…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Arial"/>
              </a:rPr>
              <a:t>Маленький, удаленький, сквозь землю прошел, красну шапочку нашел…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У двух сыновей по пяти сыновей, все в одно имя…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ва брата через дорогу живут , а друг друга не видят…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Игра   «пчелки»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-Один звонок- можно спокойно собирать нектар с цветочков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Два звонка- собраться вмест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Три звонка-нужно замолчать, перестать жужжать, тихо сесть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Игра  «да и нет»  не говорить, черное и белое не носить.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3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ы топаем ногами топ топ топ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ы хлопаем руками хлоп хлоп хлоп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Киваем головой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Качаем головой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ы руки поднимаем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ы руки опускаем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ы руки разведем и побежим кругом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ышла мышка как-то раз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оглядеть который час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аз два три четыре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ышки дернули за гири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друг раздался страшный звон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Убежали мышки вон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473-D2EE-442E-B214-A03F1BF36F7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55D9-4FD1-4E16-8EF1-2CCCB385A7C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3333600" cy="405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643280" y="1700280"/>
            <a:ext cx="3670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949-892B-4604-89CA-1E5F612569D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A63-C757-4249-9F9F-26BD3FABAEA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554040" y="1125360"/>
            <a:ext cx="4309920" cy="324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3559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4:55:26Z</dcterms:created>
  <dc:creator>foret-me-not</dc:creator>
  <dc:description>http://aida.ucoz.ru</dc:description>
  <dc:language>en-US</dc:language>
  <cp:lastModifiedBy>user</cp:lastModifiedBy>
  <dcterms:modified xsi:type="dcterms:W3CDTF">2019-12-16T16:27:44Z</dcterms:modified>
  <cp:revision>37</cp:revision>
  <dc:subject/>
  <dc:title>  Детская организация младших школьников СВЕТлячки</dc:title>
</cp:coreProperties>
</file>