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5A05-33BB-49EB-961D-F55B44A0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2DAC-03BD-4F42-ABB4-A12CA7CA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B3B5-1F1A-43E8-92D1-A80D1E168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29D9-8C1F-4086-8139-7571F8F3C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F1B9-08B6-4D8D-856A-1D51C659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C91B-C7FA-4680-BAE6-C5D8784A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906A-A79B-4EAF-B277-CCCECCAE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0BA7-454D-4152-8C41-ACA3C930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BE67-2E6D-45D5-99AA-0F628922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162E-8C24-4BD4-A46C-AF7E6E9E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9878-495D-4FBE-BCB1-9F19AD6E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2C37-73EE-4553-AFCE-7A0759A8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60A9-0370-433A-AD02-E65650FF36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Табличка 7"/>
          <p:cNvSpPr/>
          <p:nvPr/>
        </p:nvSpPr>
        <p:spPr>
          <a:xfrm>
            <a:off x="179280" y="189000"/>
            <a:ext cx="8713800" cy="6480000"/>
          </a:xfrm>
          <a:custGeom>
            <a:avLst/>
            <a:gdLst>
              <a:gd name="textAreaLeft" fmla="*/ 763560 w 8713800"/>
              <a:gd name="textAreaRight" fmla="*/ 7950240 w 8713800"/>
              <a:gd name="textAreaTop" fmla="*/ 763560 h 6480000"/>
              <a:gd name="textAreaBottom" fmla="*/ 5716440 h 6480000"/>
            </a:gdLst>
            <a:ahLst/>
            <a:rect l="textAreaLeft" t="textAreaTop" r="textAreaRight" b="textAreaBottom"/>
            <a:pathLst>
              <a:path w="290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446" y="21600"/>
                </a:lnTo>
                <a:arcTo wR="3600" hR="3600" stAng="10800000" swAng="5400000"/>
                <a:lnTo>
                  <a:pt x="2904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2700000"/>
          </a:gradFill>
          <a:ln w="38160">
            <a:solidFill>
              <a:srgbClr val="c00000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Рисунок 8" descr="clip_image001.jpg"/>
          <p:cNvPicPr/>
          <p:nvPr/>
        </p:nvPicPr>
        <p:blipFill>
          <a:blip r:embed="rId2"/>
          <a:stretch/>
        </p:blipFill>
        <p:spPr>
          <a:xfrm>
            <a:off x="108000" y="51577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7" name="Рисунок 9" descr="x_68f70433.jpg"/>
          <p:cNvPicPr/>
          <p:nvPr/>
        </p:nvPicPr>
        <p:blipFill>
          <a:blip r:embed="rId3"/>
          <a:stretch/>
        </p:blipFill>
        <p:spPr>
          <a:xfrm>
            <a:off x="7451640" y="5292720"/>
            <a:ext cx="1505160" cy="146052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"/>
          <p:cNvSpPr/>
          <p:nvPr/>
        </p:nvSpPr>
        <p:spPr>
          <a:xfrm>
            <a:off x="7560" y="664200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Рисунок 11" descr="kalendar-1sentyabrya.jpg"/>
          <p:cNvPicPr/>
          <p:nvPr/>
        </p:nvPicPr>
        <p:blipFill>
          <a:blip r:embed="rId4"/>
          <a:stretch/>
        </p:blipFill>
        <p:spPr>
          <a:xfrm>
            <a:off x="7596360" y="115920"/>
            <a:ext cx="1636560" cy="1584360"/>
          </a:xfrm>
          <a:prstGeom prst="rect">
            <a:avLst/>
          </a:prstGeom>
          <a:ln w="0">
            <a:noFill/>
          </a:ln>
        </p:spPr>
      </p:pic>
      <p:pic>
        <p:nvPicPr>
          <p:cNvPr id="10" name="Рисунок 12" descr="s12518111.jpg"/>
          <p:cNvPicPr/>
          <p:nvPr/>
        </p:nvPicPr>
        <p:blipFill>
          <a:blip r:embed="rId5"/>
          <a:stretch/>
        </p:blipFill>
        <p:spPr>
          <a:xfrm rot="19329600">
            <a:off x="173160" y="-18720"/>
            <a:ext cx="1365120" cy="185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Propisi"/>
              </a:rPr>
              <a:t>17 актября.</a:t>
            </a:r>
            <a:br>
              <a:rPr sz="8000"/>
            </a:br>
            <a:r>
              <a:rPr b="1" lang="ru-RU" sz="8000" spc="-1" strike="noStrike">
                <a:solidFill>
                  <a:srgbClr val="000000"/>
                </a:solidFill>
                <a:latin typeface="Propisi"/>
              </a:rPr>
              <a:t>Классная работа.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Найди  ошибку , напиши правиль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1785960" y="1643040"/>
            <a:ext cx="557208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0" spc="-1" strike="noStrike">
                <a:solidFill>
                  <a:srgbClr val="00b050"/>
                </a:solidFill>
                <a:latin typeface="Propisi"/>
              </a:rPr>
              <a:t>о</a:t>
            </a:r>
            <a:r>
              <a:rPr b="1" lang="ru-RU" sz="20000" spc="-1" strike="noStrike">
                <a:solidFill>
                  <a:srgbClr val="1f497d"/>
                </a:solidFill>
                <a:latin typeface="Propisi"/>
              </a:rPr>
              <a:t>сина</a:t>
            </a:r>
            <a:r>
              <a:rPr b="1" lang="ru-RU" sz="80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500040" y="1285920"/>
            <a:ext cx="7929720" cy="53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ыберите из цепочки синонимы к слову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«сказат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произнести             мол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сказануть          промолвить  </a:t>
            </a:r>
            <a:br>
              <a:rPr sz="4400"/>
            </a:b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говорить            уговорить сказание                  заговор рассказ                    угов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ти слова отвечают на один вопрос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ни имеют похожее знач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357120" y="1285920"/>
            <a:ext cx="8487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ино́ним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— слова, которые отвечают на один и тот же вопрос, различные по написанию, но имеющие похожее лексическое знач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1500120" y="1375560"/>
            <a:ext cx="6429600" cy="39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 словам в левом столбике подберите синонимы из правого, соединив их стрелоч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алфавит               аккурат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огонь                    ал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чистый                 скак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прыгать                азбу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бросать                плам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красный               кид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571680" y="1428840"/>
            <a:ext cx="8143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РЕБЕН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тя, дитятко, детище, чадо, ребятенок, малыш, крошка, кроха, малолеток, карапуз, малявка, крови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ыво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оказывается, у одного слова может быть много синонимов, но каждый из них имеет свой смысловой оттен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1428840" y="587520"/>
            <a:ext cx="628632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Синонимы украшают нашу речь, без них она была бы бедно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Было бы скучно, назвать одним словом ЛОШАДЬ и гордого КОНЯ, и быстрого ЖЕРЕБЦА, и старую КОБЫЛУ, и резвую ЛОШАД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2"/>
          <p:cNvSpPr/>
          <p:nvPr/>
        </p:nvSpPr>
        <p:spPr>
          <a:xfrm>
            <a:off x="250920" y="1714680"/>
            <a:ext cx="8713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Propisi"/>
              </a:rPr>
              <a:t>18 октября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b050"/>
                </a:solidFill>
                <a:latin typeface="Propisi"/>
              </a:rPr>
              <a:t>Словарный диктант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2"/>
          <p:cNvSpPr/>
          <p:nvPr/>
        </p:nvSpPr>
        <p:spPr>
          <a:xfrm>
            <a:off x="857160" y="1714680"/>
            <a:ext cx="72867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айди 4 ошиб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Propisi"/>
              </a:rPr>
              <a:t>18 актибря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Propisi"/>
              </a:rPr>
              <a:t>Класная робота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971640" y="1628640"/>
            <a:ext cx="6696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усский язык в умелых руках и в опытных устах- красив, певуч, выразителен, гибок, послушен, ловок и вместителе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.И.Купр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2"/>
          <p:cNvSpPr/>
          <p:nvPr/>
        </p:nvSpPr>
        <p:spPr>
          <a:xfrm>
            <a:off x="857160" y="1714680"/>
            <a:ext cx="72867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В русском языке есть слова не только с одинаковым значением, как синонимы, но и с противоположным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571680" y="416160"/>
            <a:ext cx="81435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Друг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Весёлый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Богатство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Добрый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Богач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Тёмный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Встреч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Стоять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Храбрец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Плакать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428760" y="2000160"/>
            <a:ext cx="8143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ова с противоположным значением называются -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НТОНИМ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642960" y="1802880"/>
            <a:ext cx="7929720" cy="35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ыберите в каждой группе противоположное по смыслу слово в скоб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Зима - (холод, весна, снег, лет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Тихо - (темно, дети, громк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ец - (обрыв, начало, всё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Глубокий - (бездонный, мелки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4426200" y="2001960"/>
            <a:ext cx="383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Здравствуйте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"/>
          <p:cNvSpPr/>
          <p:nvPr/>
        </p:nvSpPr>
        <p:spPr>
          <a:xfrm>
            <a:off x="4722120" y="2813040"/>
            <a:ext cx="324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до свидания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4709160" y="3632040"/>
            <a:ext cx="21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одина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4793040" y="4581360"/>
            <a:ext cx="240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чужби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767160" y="2001960"/>
            <a:ext cx="263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ный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909360" y="2997360"/>
            <a:ext cx="138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4426200" y="2001960"/>
            <a:ext cx="383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Здравствуйте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2"/>
          <p:cNvSpPr/>
          <p:nvPr/>
        </p:nvSpPr>
        <p:spPr>
          <a:xfrm>
            <a:off x="4722120" y="2813040"/>
            <a:ext cx="324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до свидания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4709160" y="3632040"/>
            <a:ext cx="21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одина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4793040" y="4581360"/>
            <a:ext cx="240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чужби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5"/>
          <p:cNvSpPr/>
          <p:nvPr/>
        </p:nvSpPr>
        <p:spPr>
          <a:xfrm>
            <a:off x="767160" y="2001960"/>
            <a:ext cx="263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ный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6"/>
          <p:cNvSpPr/>
          <p:nvPr/>
        </p:nvSpPr>
        <p:spPr>
          <a:xfrm>
            <a:off x="909360" y="2997360"/>
            <a:ext cx="138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Прямоугольник 7" descr=""/>
          <p:cNvPicPr/>
          <p:nvPr/>
        </p:nvPicPr>
        <p:blipFill>
          <a:blip r:embed="rId1"/>
          <a:stretch/>
        </p:blipFill>
        <p:spPr>
          <a:xfrm>
            <a:off x="517680" y="1262160"/>
            <a:ext cx="3395520" cy="104292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8" descr=""/>
          <p:cNvPicPr/>
          <p:nvPr/>
        </p:nvPicPr>
        <p:blipFill>
          <a:blip r:embed="rId2"/>
          <a:stretch/>
        </p:blipFill>
        <p:spPr>
          <a:xfrm>
            <a:off x="4535640" y="1262160"/>
            <a:ext cx="332892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714240" y="762120"/>
          <a:ext cx="8229600" cy="43894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4389480"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ff"/>
                        </a:buClr>
                        <a:buSzPct val="25000"/>
                        <a:buFont typeface="Wingdings" charset="2"/>
                        <a:buChar char="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акие слова называются синонимами, а какие антонимами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ff"/>
                        </a:buClr>
                        <a:buSzPct val="25000"/>
                        <a:buFont typeface="Wingdings" charset="2"/>
                        <a:buChar char="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ля чего нужны синонимы и антонимы в речи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ff"/>
                        </a:buClr>
                        <a:buSzPct val="25000"/>
                        <a:buFont typeface="Wingdings" charset="2"/>
                        <a:buChar char="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а что надо обратить внимание при подборке синонимов и антонимов?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ff"/>
                        </a:buClr>
                        <a:buSzPct val="25000"/>
                        <a:buFont typeface="Wingdings" charset="2"/>
                        <a:buChar char="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ак называется наука, которая изучает лексическое значение слова?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428760" y="2000160"/>
            <a:ext cx="8143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d0d0d"/>
                </a:solidFill>
                <a:latin typeface="Arial"/>
              </a:rPr>
              <a:t>РТ стр. 21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d0d0d"/>
                </a:solidFill>
                <a:latin typeface="Arial"/>
              </a:rPr>
              <a:t>№ </a:t>
            </a:r>
            <a:r>
              <a:rPr b="0" lang="ru-RU" sz="8800" spc="-1" strike="noStrike">
                <a:solidFill>
                  <a:srgbClr val="0d0d0d"/>
                </a:solidFill>
                <a:latin typeface="Arial"/>
              </a:rPr>
              <a:t>42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949320" y="1890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0" y="145548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- Язык - и стар, и вечно нов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   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И это так прекрасно 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   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В огромном море - море слов 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   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Купаться ежечасно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428760" y="1357200"/>
            <a:ext cx="7929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егодня на уроке  мы с вами продолжим знакомство с таким интересным разделом науки о языке, как лекси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Что нового мы узнали о слов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(слово имеет лексическое знач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285840" y="500040"/>
            <a:ext cx="84294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ьюг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 снежная, 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ург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пряди нам пряж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збей пушистые снег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ловно пух лебяж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ы, проворные ткач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ихри и 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етел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айте радужной пар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ля косматых 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ьюг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снежная буря, сопровождаемая ветром, заставляющим снег носиться, кружиться в воздух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ург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сильная снежная буря на открытых пространств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етель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снежная буря, сопровождаемая сильным ветром в одном направлени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то объединяет эти сло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 чем они различают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ак называются такие сло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1785960" y="1643040"/>
            <a:ext cx="5572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Перевод слова 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«синоним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f497d"/>
                </a:solidFill>
                <a:latin typeface="Arial"/>
              </a:rPr>
              <a:t>Синон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Syn</a:t>
            </a:r>
            <a:r>
              <a:rPr b="1" i="1" lang="ru-RU" sz="4400" spc="-1" strike="noStrike">
                <a:solidFill>
                  <a:srgbClr val="1f497d"/>
                </a:solidFill>
                <a:latin typeface="Arial"/>
              </a:rPr>
              <a:t>- совместнос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Onim</a:t>
            </a:r>
            <a:r>
              <a:rPr b="1" i="1" lang="ru-RU" sz="4400" spc="-1" strike="noStrike">
                <a:solidFill>
                  <a:srgbClr val="1f497d"/>
                </a:solidFill>
                <a:latin typeface="Arial"/>
              </a:rPr>
              <a:t>-им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1785960" y="1643040"/>
            <a:ext cx="55720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1f497d"/>
                </a:solidFill>
                <a:latin typeface="Propisi"/>
              </a:rPr>
              <a:t>с</a:t>
            </a:r>
            <a:r>
              <a:rPr b="1" lang="ru-RU" sz="10000" spc="-1" strike="noStrike">
                <a:solidFill>
                  <a:srgbClr val="00b050"/>
                </a:solidFill>
                <a:latin typeface="Propisi"/>
              </a:rPr>
              <a:t>и</a:t>
            </a:r>
            <a:r>
              <a:rPr b="1" lang="ru-RU" sz="10000" spc="-1" strike="noStrike">
                <a:solidFill>
                  <a:srgbClr val="1f497d"/>
                </a:solidFill>
                <a:latin typeface="Propisi"/>
              </a:rPr>
              <a:t>нон</a:t>
            </a:r>
            <a:r>
              <a:rPr b="1" lang="ru-RU" sz="10000" spc="-1" strike="noStrike">
                <a:solidFill>
                  <a:srgbClr val="00b050"/>
                </a:solidFill>
                <a:latin typeface="Propisi"/>
              </a:rPr>
              <a:t>и</a:t>
            </a:r>
            <a:r>
              <a:rPr b="1" lang="ru-RU" sz="10000" spc="-1" strike="noStrike">
                <a:solidFill>
                  <a:srgbClr val="1f497d"/>
                </a:solidFill>
                <a:latin typeface="Propisi"/>
              </a:rPr>
              <a:t>м</a:t>
            </a: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1785960" y="1643040"/>
            <a:ext cx="5572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1f497d"/>
                </a:solidFill>
                <a:latin typeface="Arial"/>
              </a:rPr>
              <a:t>Учебник стр. 52 -53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0T18:53:48Z</dcterms:created>
  <dc:creator>User</dc:creator>
  <dc:description/>
  <dc:language>en-US</dc:language>
  <cp:lastModifiedBy>411-1</cp:lastModifiedBy>
  <dcterms:modified xsi:type="dcterms:W3CDTF">2018-10-16T12:42:26Z</dcterms:modified>
  <cp:revision>75</cp:revision>
  <dc:subject/>
  <dc:title>Слайд 1</dc:title>
</cp:coreProperties>
</file>