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539-75F5-4D0A-A6BF-7F83AFE6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D3C-DDA2-4FAE-AF08-C616897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908-C5A8-4BAE-9FFF-5D5CDF5F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86D-3B4C-4093-9230-D85DA1D0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D4F-A12A-447F-A2C5-829DCE42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E57-1953-4A6F-86AD-2DE0DA2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458-ED25-42DF-8F01-3F3D7558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0B4-D81B-48D9-8808-FEE4C91F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C42-53CC-4A9B-A6B9-95524D61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068-1C94-4AB0-80AE-664E71AF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CBC-3308-4900-98A6-D7D0997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483-DE5D-4C3F-AB3A-337613D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C844-FCC5-4675-9C87-9474212174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Поэзия, опаленная войной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вспоминаем вновь и вн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юдей, отдавших жизни за Победу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 Дулов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821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зарвемся, так прорвемся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дем живы - не помрем</a:t>
            </a:r>
            <a:r>
              <a:rPr b="0" lang="ru-RU" sz="4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вардовский Александр Трифонови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(1910 – 19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рошел через две войны (Финскую и Велик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ечественную) военным корреспондент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 послевоенное время главный редак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журнала «Новый мир». Проявил себя и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глубокий, проницательный кри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«Страна Мурав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«Фронтовые хроник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«Я убит подо Ржевом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«Василий Тёркин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«Дом у дорог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«По праву памяти» 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3086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вещание воина</a:t>
            </a:r>
            <a:br>
              <a:rPr sz="28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981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8571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907920"/>
            <a:ext cx="5184720" cy="70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Стихотворение «Я убит подо Ржев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(1945 – 1946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сенью 1942 г. подо Ржевом  шли тяжелые кровопролитные бои. Впечатления от поездки Твардовского туда «были за всю войну из самых удручающих и горьких до физической боли в сердце». Они легли в основу стихотво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1f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Завещаю в той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Вам счастливыми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И родимой Отчиз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С честью дальше служи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И беречь её свя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В память воина-брат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Что погиб за неё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7609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5256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сул Гамзатов (1923 –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«Поэт он огромный, сделавший знаменитым и Дагестан, и аварский язык, и свои го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                                        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Роберт Рождествен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907920"/>
            <a:ext cx="2343240" cy="302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378240" cy="2192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4075200"/>
            <a:ext cx="47530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Ян Френкель (1920 – 198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 его музыку было создано много песен. Если бы он написал только одну песню «Журавли», то и этого ему хватило бы для всенародной славы и любв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189000"/>
            <a:ext cx="24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Журав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2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74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«Эта молитвенная песня…»</a:t>
            </a:r>
            <a:br>
              <a:rPr sz="4000"/>
            </a:b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                                                                           Расул Гамзатов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1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333360"/>
            <a:ext cx="714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Эта молитвенная песня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1f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ул Гамз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34936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1200"/>
                </a:solidFill>
                <a:latin typeface="Arial"/>
              </a:rPr>
              <a:t>Тема журавлей была навеяна посещением в Хиросиме памят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1200"/>
                </a:solidFill>
                <a:latin typeface="Arial"/>
              </a:rPr>
              <a:t>японской девочке, Садако Сасаки. Она надеялась, что вылечится от лейкем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1200"/>
                </a:solidFill>
                <a:latin typeface="Arial"/>
              </a:rPr>
              <a:t>если смастерит тысячу бумажных журавл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23760"/>
            <a:ext cx="6840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187280"/>
            <a:ext cx="5940360" cy="4462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мять на века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84720" y="1267920"/>
            <a:ext cx="3168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И вот на площади Побе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Мы вспоминаем вновь и внов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Людей, отдавших жизни за Побед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За Родину, за Веру, за Любов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Мы на забудем их, хвала и сла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Тем, кто победу приближал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И слава Вам, живущим ветерана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Живите счастливо на радость нам.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Татьяна Дул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698508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Сороковые, роковые, военные и фронтовы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Где извещенья похоронные и перестуки эшелонные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Как это было! Как совпало – война, беда, мечта и юность!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Сороковые, роковые, свинцовые, пороховые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Война гуляет по России, а мы такие молодые!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Д. Само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2351160"/>
            <a:ext cx="889308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4319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Поэт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Фатьянов Алексей Иванович (1919 – 1959)</a:t>
            </a:r>
            <a:br>
              <a:rPr sz="1600"/>
            </a:br>
            <a:br>
              <a:rPr sz="1600"/>
            </a:b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Соловьи» («Пришла и к нам на фронт весна»)</a:t>
            </a:r>
            <a:br>
              <a:rPr sz="1400"/>
            </a:b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На солнечной поляночке»</a:t>
            </a:r>
            <a:br>
              <a:rPr sz="1400"/>
            </a:b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Давно мы дома не были»</a:t>
            </a:r>
            <a:br>
              <a:rPr sz="1400"/>
            </a:b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Где же вы теперь, друзья-однополчане»</a:t>
            </a:r>
            <a:br>
              <a:rPr sz="1400"/>
            </a:b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Если б гармошка умела»</a:t>
            </a:r>
            <a:endParaRPr b="0" lang="en-US" sz="1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1280" y="3716280"/>
            <a:ext cx="41767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омпоз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Соловьёв-Седой Василий Павлович (1907 – 197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Соловь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На солнечной поляночке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Давно мы дома не был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Жди мен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Вечер на рейде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Подмосковные вечер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85000" y="260280"/>
            <a:ext cx="176832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3500280"/>
            <a:ext cx="1844640" cy="250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349360"/>
            <a:ext cx="680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Это бессмертные песни! А почему? Потому что в них отразилась большая душа народ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ршал Г. К. Жу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Соловьи»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«Пришла и к нам на фронт весна»)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0" lang="ru-RU" sz="2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омню фронт. В большой зеленой роще мы, солдаты, после только что затихшего боя лежим…и вдруг слышим: вслед за растаявшим вдали рокотом вражеских самолетов, во все горло, как бы утверждая жизнь , защёлкал соловей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Алексей Фатья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5587920" cy="397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соловь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0" y="5229000"/>
            <a:ext cx="6119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Соловьи, соловьи, не тревожьте солда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Пусть солдаты немного поспят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Ведь завтра снова будет бой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Но с каждым шагом в том бо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Нам ближе дом в родном кра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192720" cy="50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19720" y="321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ди меня, и я вернусь всем смертям назло…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760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имонов Константин Михайл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(1915 – 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Всю войну прошел в должности корреспондента газеты «Красная звезда». Один из лучших военных журналистов. Ходил на подводной лодке в румынский тыл, с разведчиками – в норвежские фьорды, в атаку – с пехотой, видел всю войну от Черного до Баренцева моря, закончил её в Берлине, присутствовал при подписании акта о капитуляции гитлеровской Герма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i="1" lang="ru-RU" sz="1600" spc="-1" strike="noStrike">
                <a:solidFill>
                  <a:srgbClr val="ffff99"/>
                </a:solidFill>
                <a:latin typeface="Arial"/>
              </a:rPr>
              <a:t>«</a:t>
            </a: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Ты помнишь, Алеша, дороги Смоленщин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Жди мен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С тобой и без теб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Песня военных корреспонденто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«Живые и мертвые»  и д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08600" y="1700280"/>
            <a:ext cx="21733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360" y="620640"/>
            <a:ext cx="3887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жиданием своим ты спасла     меня..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20811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3546000"/>
            <a:ext cx="6408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Стихотворение «Жди меня» (июль 1941 г.)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олитва атеиста, заговаривание судьбы, хрупкий мост между жизнью и смертью. В нём предсказано, что война будет долгой и жестокой, и угадано, что человек сильнее войны. Если любит, если вер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2" descr="Отправить открытку Почтовая карточка. Жди меня, и я вернусь. Боец пишет письмо домой , 1943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8:17:07Z</dcterms:created>
  <dc:creator>Александр</dc:creator>
  <dc:description/>
  <dc:language>en-US</dc:language>
  <cp:lastModifiedBy>Александр</cp:lastModifiedBy>
  <dcterms:modified xsi:type="dcterms:W3CDTF">2011-04-07T18:24:33Z</dcterms:modified>
  <cp:revision>21</cp:revision>
  <dc:subject/>
  <dc:title>Поэзия, опаленная войной</dc:title>
</cp:coreProperties>
</file>