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6AA-BEE4-4538-A909-5E4FA2CB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C41-D51E-4983-9D3B-6718B706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183-12F2-4004-B7F1-9388F6B0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00A-38A3-46F5-AC93-32B360F8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C39-569D-4BF0-BB73-6052AABE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016-D179-463A-93D9-E8851880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23F-A336-4460-87EF-FC5025EF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F02-2D59-4C91-A6D6-9B441B05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9D3-06E7-4F77-B9AF-1EE9A0B5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031-DBF1-4F7E-ABE0-51BFEB84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A3F-4838-4968-B9C1-8587C24A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1A4-4B5B-4B4B-A5F0-7F3945B2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59A3-B300-452B-AC33-525861EEF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9999"/>
                </a:solidFill>
                <a:latin typeface="Arial"/>
              </a:rPr>
              <a:t>Тема: «…вера, надежда, любовь; но любовь из них больше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4495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0099"/>
                </a:solidFill>
                <a:latin typeface="Vladimir Script"/>
              </a:rPr>
              <a:t>Любовь долготерпит, милосердствует…вс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Vladimir Script"/>
              </a:rPr>
              <a:t>переноси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5864400" y="5791320"/>
            <a:ext cx="292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Первое послание к Коринфяна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св. ап. Павла (гл.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Сцена из Евангелия «Воскрешение Лазар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«Был же болен некто Лазарь из Вифании…И многие из иудеев пришли к Марфе и Марии утешать их в печали о брате их. Тогда Марфа сказала Иисусу: «Господи! Если бы Ты был здесь, не умер бы брат мой. Иисус говорит ей: «Воскреснет брат твой. Я есмь воскресение и жизнь…». Иисус прослезился. Тогда иудеи говорили: «Смотри, как он любил его». Иисус проходит ко гробу. То была пещера, и камень лежал на ней. Марфа говорит ему: «Господи! Уже смердит: ибо четыре дня, как он во гроб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4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Иисус возвёл очи к небу и сказал: «Отче, благодарю Тебя, что Ты услышал меня». И возвал громким голосом: «Лазарь! Иди вон.». И вышел умерший, обвитый по рукам и ногам погребальными пеленами…Тогда многие из иудеев, видевших, что сотворил Иисус, уверовали в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2860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 flipV="1">
            <a:off x="212760" y="291672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4487760" y="380880"/>
            <a:ext cx="455616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Число 4 – притча о воскрешении Лаз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вартира жертвы находится на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четвёртом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этаже з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скольников прячет вещи во дворе под камень, где строитс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четырёхэтажны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д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богая комната Мармеладова находится на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четвёртом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этаж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ицейская контора расположена на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четвёртом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этаже этого же з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тение про Лазаря происходит через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дня после преступления Раскольникова, т.е. через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дня после его нравственной смер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А те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года считаю за время, в которое я был похоронен живой и зарыт в гробу, выход из каторги представлялся мне как светлое пробуждение и воскресение в новую жизнь», - писал Достоевский младшему брату Михаи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5062680" cy="5790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52280" y="380880"/>
            <a:ext cx="34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04920" y="380880"/>
            <a:ext cx="34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28600" y="457200"/>
            <a:ext cx="34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80880" y="304920"/>
            <a:ext cx="32925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«Любовь долготерпит, милосердствует, любовь не завидует, любовь не превозносится, не гордится, не бесчинствует, не ищет своего, не раздражается, не мыслит зла, не радуется неправде, а сорадуется истине; все покрывает, всему верит, всего надеется, всё переносит. Любовь никогда не перестаёт…прибывают сии три: вера, надежда, любовь, но любовь из них больше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ервое послание к коринфянам Св.Ап. Павла, гл. 1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533520"/>
            <a:ext cx="510552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4000" spc="-1" strike="noStrike">
                <a:solidFill>
                  <a:srgbClr val="009999"/>
                </a:solidFill>
                <a:latin typeface="18thCentury"/>
              </a:rPr>
              <a:t>Со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18thCentury"/>
              </a:rPr>
              <a:t>         </a:t>
            </a:r>
            <a:r>
              <a:rPr b="0" lang="ru-RU" sz="4000" spc="-1" strike="noStrike">
                <a:solidFill>
                  <a:srgbClr val="009999"/>
                </a:solidFill>
                <a:latin typeface="18thCentury"/>
              </a:rPr>
              <a:t>Мармелад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Прощаются грехи её многие за то, что возлюбила она многое…»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Библ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34765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сцеление расслабленного в Капернау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«А Раскольников пошёл прямо к дому на канаве, где жила Соня…где живёт Капернаумов портно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«Когда же вошел Иисус в Капернаум, к Нему подошел сотник и просил Его: «Господи! Слуга мой лежит дома в расслаблении и жестоко страдает». Иисус говорит ему: «Я приду и исцелю его»…Он исцелил всех больных…Он взял на себя немощи наши и понёс болезни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(Мф.,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лосердное исц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щение гр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прание горды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4602240" y="0"/>
            <a:ext cx="45291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209680" y="160020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«Любовь долготерпит, милосердствует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всё переносит…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l_objects987"/>
          <p:cNvPicPr/>
          <p:nvPr/>
        </p:nvPicPr>
        <p:blipFill>
          <a:blip r:embed="rId1"/>
          <a:stretch/>
        </p:blipFill>
        <p:spPr>
          <a:xfrm>
            <a:off x="1523880" y="228600"/>
            <a:ext cx="6172200" cy="4944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10600" y="5486400"/>
            <a:ext cx="867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Наконец подошёл к ней; глаза его сверкали. Он взял её обеими руками за плечи и прямо посмотре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в её плачущее лицо. Взгляд его был сухой, воспаленный, острый, губы его сильно вздрагивали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Вдруг он весь быстро наклонился и, припав к полу, поцеловал её ног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то вы, что вы? Передо мной! – пробормотала она, побледнев, и больно-больно сжало ей сердц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Я не тебе поклонился, я всему страданию человеческому поклонился…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057400" y="1371600"/>
            <a:ext cx="589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«…вера, надежда, любовь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но любовь из них больше.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53337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«Он понял, до какой чудовищной боли истерзала её…мысль о бесчестном и позорном её положении. Что же поддерживало её? Настоящий разврат ещё не проник ни одною каплей в её сердце: он это видел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- Что же бы я без Бога-то был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- А тебе Бог что за это дел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- Молчите, не спрашивайте! Вы не стоите! – вскрикнула о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«Юродивая, юродивая!» - твердил он про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Ксения Петербургская, святая блаженная,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Христа ради юрод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Юро́дство (от слав. «оуродъ», «юродъ» - безумный) — намеренное старание казаться глупым, безум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Юродивые Христа ради (блаженные) - подвижники, отрекшиеся от привычного благоразумия и образа жизни, терпевшие поношения и гонения, но получившие дары пророчества и чудотвор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«…благоугодно было Богу юродством проповеди спасти верующих.» (1 Кор., 1, 2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4572000" y="152280"/>
            <a:ext cx="4410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057400" y="1371600"/>
            <a:ext cx="589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«…вера, надежда, любовь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но любовь из них больше.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3-11-26T20:50:0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