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wmf" ContentType="image/x-wmf"/>
  <Override PartName="/ppt/media/image32.jpeg" ContentType="image/jpeg"/>
  <Override PartName="/ppt/media/image19.wmf" ContentType="image/x-wmf"/>
  <Override PartName="/ppt/media/image18.jpeg" ContentType="image/jpeg"/>
  <Override PartName="/ppt/media/image16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018-AFE8-4F89-9C1D-48BB89BC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803-32D3-4012-A693-4AE5D7AA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4E3DD-30F5-4915-B1F8-3063FA2E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9189B-0BA3-48C0-9B5B-989177A4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DD2DD-3A7A-4C9F-B5ED-B8FA511B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91ACD-CBC3-4637-A23F-B3B13201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B40A5-A275-41EF-8109-DA75684D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75AB8-DA30-4C98-BA47-19C2E8AD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0DF83-6561-4C6B-B240-51EA7F55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6BFC0-0351-4F66-AAA9-4A68A3D5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19789-3E05-4EEB-A57F-239B2059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062-E21C-4893-B916-B17CCEB8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849-5130-42C7-B7E7-7034C795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FCBF-0BAB-48A1-8A76-21F36BF0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403F-3190-4A40-8E70-B43CD360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6E23-8184-4284-9DAB-7884A151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8372-C3F8-46FE-8D97-1D4877EC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141C-2F6E-4234-BDDD-9DB5069F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3815-9A19-47E6-BFB7-BF02BBF5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D4B3-3EA0-4FB4-8E5C-D8678AEC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518-2874-4F8F-8EB3-F5F432BF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05F4-4FFB-4D83-A715-1ED8B6FB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ACC6-009F-4587-A8DF-557F4ACA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0CAD-69B2-4282-8053-4649B424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8D4A-D4EE-4C0E-AC2C-FA18E7B7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9584-A745-4AE7-84CE-E8BD31BE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08235-E19C-4133-AAE1-4E3BB53C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8775-6B99-4570-8661-F426FF2A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562C0-929A-44F8-989C-7EF303B7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511B-332D-4E64-B9AE-94C3E463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9FED-5576-4576-A23C-0BF3490E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9A0-08EA-4AC5-9751-50AE5E50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41EB-8919-400C-BC3A-7528CCBC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9B0C-15AC-402F-B305-471B6D82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54B0-062D-45DB-9721-AF176E1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6230-FE4C-44E9-BB52-5EEB2453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C254-B67A-42B7-9942-63258134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9A5A-5DAE-43A5-9968-21F644EA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B147-A9D6-44B7-96CB-F9AA79CA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530AA-7E83-47D7-A87F-C580F85B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28686-3E18-4F37-A3A8-B3F268C2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04220-3B26-4EC2-92C1-0E72A35E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3B0-3106-4C3E-A602-80EB12B6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7369-B590-4D9B-B3CF-36BCB066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BDB7-0FBF-4D51-A279-4A907F29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867F-3207-4514-88F2-E3A1BEF8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1712-93C1-4D1D-B20E-7F29D564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509FC-42BE-48CE-BD08-D14D67BB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D5DB-114F-4A64-93C3-C47A3859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B879-EAA5-4989-AF43-A7D0E071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EA567-EFCB-4AA0-95BF-66FDB4C4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BAA9-1C66-47AE-B5AD-627BA4FD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1F7EA-0DB5-4FC1-8FC1-26F294F4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247-7B05-4840-913E-B6F36BD5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0CDF9-5A67-41E3-BAB0-6347B93F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EA656-8F43-4D88-8B4F-F81CA456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44446-05D7-41D3-90F5-8505B773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30378-B4FD-4C2C-8F9B-9D3AADFC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87C7B-7796-4CF6-BD42-3B3C4F12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95DC2-4CBF-41EB-9DA6-1EB41E25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E97DA-A5B7-4CE8-A536-7E12557B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7C66D-F353-419D-91BD-427939E3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B248D-C2DA-4127-949E-E0813940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7CDCB-A8B9-43F2-88EB-8720AD58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FE9-4356-4503-AD8A-B9272F28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9C9C8-5893-4DD8-8533-7CA1AD8C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4322E-F74B-4504-96B8-B730B3A9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2737-00B1-4E07-BCA1-F93F846B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7F162-ACFC-4354-8034-F4A547B7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69147-EA50-4E19-A8A0-25A02E95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B5DD6-164E-4839-9B7A-2883102E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3A4AC-7AF7-48B0-83B1-ACE0B5F8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B30E5-181C-4C51-AF8A-7A7B2C81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09F9E-EDB5-42BB-8455-4AC75224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CD11C-35B9-482C-B8C5-6BCB51AD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338-5AA7-4550-850B-60647525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E49B4-A562-46B2-BA5C-49D1094D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9E507-6E0B-4AB2-AAB7-4F734EB3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1A314-AE8E-4DC8-9E44-BC7B7385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F9041-E7D2-4AB2-97AB-32332A88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59ECF-EF6F-436F-93C9-F3BD56EB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3084D-311C-49C5-90D4-61D94B3D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856DC-D6A3-4557-9D28-E12B84FD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B6F5F-D04B-4ED0-9099-2F1E8BCA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E05C5-7829-4BE8-997C-90418D80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1F86B-08A8-4D1C-9472-B2E1BFAD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8C9-D77C-4413-980C-3FE409F3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E0190-7A50-48EF-9538-E462B90F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10E2D-C8BA-4B9D-A17F-D4AA2474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585A4-E23F-4C1D-AF90-4D96BAEB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3FECA-EEA1-4EBD-9E21-A2DBE2B3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EBAD0-6B75-4334-AF28-19876274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5D731-534D-44C1-9366-9F232B21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94F5E-F35D-4E57-BD5C-884AEE75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463C4-754A-46E4-9056-D7599887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D668B-0572-4F3B-A9CD-B176ED31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13292-03CF-4527-8F5D-3DEC97B6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17B-8D8A-4BD7-8210-D5B8571D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0B46D-BEA3-43B1-A27B-BDDD2F30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C677B-35CD-4CAE-B15D-2143834C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DBA25-297B-4A8B-BC79-D58F5E16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3FD89-6759-4DA0-B50A-7D1C06F2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D4DBB-1934-44C5-959A-964E55C9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4166A-9C5A-4E5B-8A15-FA0C2025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2202C-5EDB-49E2-80B7-CB2584F4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29CE4-ECAD-4B3D-BAEA-BCD516A6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88EE5-5A2E-4ED0-BC2A-71C65913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EA13D-53C3-4064-AAB7-6F02FB7F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07FD-0DF4-4BCD-B967-3C4F3066732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842A-9484-4659-BA8D-5FCC3AB4FD4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5ADB-7234-499F-AB8A-08700F5936A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E7BB-B5AB-4141-94B6-F88F1B573D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A044-89D9-4C32-8786-2DBBAB3D052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1795-1B44-4AFB-9A2C-AC450352CD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5913-98A6-4C21-949F-042A3415602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5330-C8ED-4B25-85CD-34234BEA00A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78A4-B9A8-4160-AD5E-A08E917EB24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ru.wikipedia.org/wiki/&#1041;&#1077;&#1085;&#1079;&#1087;&#1080;&#1088;&#1077;&#1085;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472240" cy="1755720"/>
          </a:xfrm>
          <a:prstGeom prst="rect">
            <a:avLst/>
          </a:prstGeom>
          <a:ln w="0">
            <a:noFill/>
          </a:ln>
        </p:spPr>
      </p:pic>
      <p:sp>
        <p:nvSpPr>
          <p:cNvPr id="400" name="Заголовок 3"/>
          <p:cNvSpPr/>
          <p:nvPr/>
        </p:nvSpPr>
        <p:spPr>
          <a:xfrm>
            <a:off x="755640" y="4941720"/>
            <a:ext cx="793116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1" name="Picture 3" descr="C:\Users\асус\Desktop\курение\images8.jpg"/>
          <p:cNvPicPr/>
          <p:nvPr/>
        </p:nvPicPr>
        <p:blipFill>
          <a:blip r:embed="rId3"/>
          <a:stretch/>
        </p:blipFill>
        <p:spPr>
          <a:xfrm>
            <a:off x="1835280" y="1268280"/>
            <a:ext cx="5689440" cy="3529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1403280" y="5157720"/>
            <a:ext cx="6697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втор Жирякова Ирина Юрьев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219640" y="1413000"/>
            <a:ext cx="374508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ыхаемый дым обжигает слизистые и в нём содержится большое количество вредных веществ (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3"/>
              </a:rPr>
              <a:t>бензпир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трозамины, угарный газ, частицы сажи и т. д.), курение повышает риск развития рака лёгких, рта и дыхательных путей, хрон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кой обструктивной болезни легких , психических, сердечно-сосудистых и прочих заболеваний. 90 % случаев рака легких связано с курением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             </a:t>
            </a: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Вред для здоровья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Хронические заболевания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 дыхательных органов: бронхит, астма, гибель эпителия, усиленное выделение слизи, воспаление голосовых связо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Туберкулез легких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 (из 100 случаев заболевания туберкулезом 95% - курильщики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Рак легких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 (почти  у 97% больных раком – курильщики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Рак гортани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 (в 6 – 10 раз больше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             </a:t>
            </a: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Дыхательная систем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5040000" cy="2590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Users\асус\Desktop\курение\images (20).jpg"/>
          <p:cNvPicPr/>
          <p:nvPr/>
        </p:nvPicPr>
        <p:blipFill>
          <a:blip r:embed="rId3"/>
          <a:stretch/>
        </p:blipFill>
        <p:spPr>
          <a:xfrm>
            <a:off x="4932360" y="1989000"/>
            <a:ext cx="4005360" cy="3027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2924280"/>
            <a:ext cx="42480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43329"/>
                </a:solidFill>
                <a:latin typeface="Franklin Gothic Book"/>
              </a:rPr>
              <a:t>Курильщик, опомнись, ведь ты не дурак:</a:t>
            </a:r>
            <a:br>
              <a:rPr sz="2300"/>
            </a:br>
            <a:r>
              <a:rPr b="1" lang="ru-RU" sz="2300" spc="-1" strike="noStrike">
                <a:solidFill>
                  <a:srgbClr val="443329"/>
                </a:solidFill>
                <a:latin typeface="Franklin Gothic Book"/>
              </a:rPr>
              <a:t>Раз куришь табак, значит дело — табак!</a:t>
            </a:r>
            <a:br>
              <a:rPr sz="2300"/>
            </a:br>
            <a:r>
              <a:rPr b="1" lang="ru-RU" sz="2300" spc="-1" strike="noStrike">
                <a:solidFill>
                  <a:srgbClr val="443329"/>
                </a:solidFill>
                <a:latin typeface="Franklin Gothic Book"/>
              </a:rPr>
              <a:t>Куренье — причина ужасного рака</a:t>
            </a:r>
            <a:br>
              <a:rPr sz="2300"/>
            </a:br>
            <a:r>
              <a:rPr b="1" lang="ru-RU" sz="2300" spc="-1" strike="noStrike">
                <a:solidFill>
                  <a:srgbClr val="443329"/>
                </a:solidFill>
                <a:latin typeface="Franklin Gothic Book"/>
              </a:rPr>
              <a:t>(Заряд никотина убил Пастернака).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Никотин в первой короткой фазе расширяет сосуды мозга (создает обманчивое впечатление улучшения умственной деятельности), затем резко сужают их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Отравляет клетки мозга (ухудшается память, зрение, умственная работоспособность, появляется бессонница, головные боли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Курящие ученики отстают в учебе, становятся нервными, рассеянными, ленивыми, грубыми и недисциплинированны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Развиваются нервные заболевания – невралгии, невриты, плекситы (заболевания нервных узлов – сплетений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Medium"/>
              </a:rPr>
              <a:t>           </a:t>
            </a:r>
            <a:r>
              <a:rPr b="0" lang="en-US" sz="4400" spc="-1" strike="noStrike">
                <a:solidFill>
                  <a:srgbClr val="4e3b30"/>
                </a:solidFill>
                <a:latin typeface="Franklin Gothic Medium"/>
              </a:rPr>
              <a:t>Нервная систем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e3b30"/>
                </a:solidFill>
                <a:latin typeface="Franklin Gothic Book"/>
              </a:rPr>
              <a:t>Развивается </a:t>
            </a:r>
            <a:r>
              <a:rPr b="1" i="1" lang="en-GB" sz="2800" spc="-1" strike="noStrike">
                <a:solidFill>
                  <a:srgbClr val="4e3b30"/>
                </a:solidFill>
                <a:latin typeface="Franklin Gothic Book"/>
              </a:rPr>
              <a:t>кариес</a:t>
            </a:r>
            <a:r>
              <a:rPr b="0" i="1" lang="en-GB" sz="2800" spc="-1" strike="noStrike">
                <a:solidFill>
                  <a:srgbClr val="4e3b30"/>
                </a:solidFill>
                <a:latin typeface="Franklin Gothic Book"/>
              </a:rPr>
              <a:t>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Ухудшается аппетит, обоняние, вкус извращает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озникают спазмы желудка, кишечника, кишечная непроходимос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(парез)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кишечника ведет к смер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азвивается хронический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гастрит, колит, язвенная болезнь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желудка и 12- перстной кишки (в 10 раз чаще)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e3b30"/>
                </a:solidFill>
                <a:latin typeface="Franklin Gothic Book"/>
              </a:rPr>
              <a:t>Приводит к </a:t>
            </a:r>
            <a:r>
              <a:rPr b="1" i="1" lang="en-GB" sz="2800" spc="-1" strike="noStrike">
                <a:solidFill>
                  <a:srgbClr val="4e3b30"/>
                </a:solidFill>
                <a:latin typeface="Franklin Gothic Book"/>
              </a:rPr>
              <a:t>циррозу</a:t>
            </a:r>
            <a:r>
              <a:rPr b="0" i="1" lang="en-GB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en-GB" sz="2800" spc="-1" strike="noStrike">
                <a:solidFill>
                  <a:srgbClr val="4e3b30"/>
                </a:solidFill>
                <a:latin typeface="Franklin Gothic Book"/>
              </a:rPr>
              <a:t>печени;</a:t>
            </a:r>
            <a:r>
              <a:rPr b="0" i="1" lang="en-GB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азвивается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рак полости рта, пищевода, поджелудочной желез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Picture 5" descr=""/>
          <p:cNvPicPr/>
          <p:nvPr/>
        </p:nvPicPr>
        <p:blipFill>
          <a:blip r:embed="rId2"/>
          <a:stretch/>
        </p:blipFill>
        <p:spPr>
          <a:xfrm>
            <a:off x="7020000" y="4365720"/>
            <a:ext cx="2124000" cy="23032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            </a:t>
            </a: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Пищеварительная систем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04920" y="1341000"/>
            <a:ext cx="86868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Никот Никотин (через плаценту) поступает в </a:t>
            </a: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сердце и мозг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  еще не родившегося ребен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У курящих матерей чаще бывают </a:t>
            </a: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мертворождения, преждевременные род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Новорожденные имеют </a:t>
            </a: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меньше нормы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: размер головы и плечевой пояс, вес на 100 – 300 гр, рост на 2,5 с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Наблюдаются </a:t>
            </a: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различные пороки развития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, вплоть до уродст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ин (через плаценту) поступает в </a:t>
            </a: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сердце и мозг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  еще не родившегося ребен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У курящих матерей чаще бывают </a:t>
            </a: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мертворождения, преждевременные род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Новорожденные имеют </a:t>
            </a: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меньше нормы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: размер головы и плечевой пояс, вес на 100 – 300 гр, рост на 2,5 с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Наблюдаются </a:t>
            </a: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различные пороки развития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, вплоть до уродст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835280" cy="167616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Курение и зарождающий организм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5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4397400" cy="3600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C:\Users\асус\Desktop\курение\images (1).jpg"/>
          <p:cNvPicPr/>
          <p:nvPr/>
        </p:nvPicPr>
        <p:blipFill>
          <a:blip r:embed="rId3"/>
          <a:stretch/>
        </p:blipFill>
        <p:spPr>
          <a:xfrm>
            <a:off x="5286240" y="674640"/>
            <a:ext cx="2886120" cy="3762360"/>
          </a:xfrm>
          <a:prstGeom prst="rect">
            <a:avLst/>
          </a:prstGeom>
          <a:ln w="0">
            <a:noFill/>
          </a:ln>
        </p:spPr>
      </p:pic>
      <p:sp>
        <p:nvSpPr>
          <p:cNvPr id="434" name="Подзаголовок 10"/>
          <p:cNvSpPr/>
          <p:nvPr/>
        </p:nvSpPr>
        <p:spPr>
          <a:xfrm>
            <a:off x="403200" y="485640"/>
            <a:ext cx="5257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Последнюю каплю увидеть смогу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В туманное утро на летнем лугу.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Еще раз скажу, ожидая ответа: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Курильщик, запомни, твой враг — сигарета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04560" y="15541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d1f1f"/>
                </a:solidFill>
                <a:latin typeface="Franklin Gothic Book"/>
              </a:rPr>
              <a:t>Он уже имеет мозг, позвоночник и  никотин в своем организм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724280" y="15541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280" y="980640"/>
            <a:ext cx="4932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Куренье – вред, куренье – яд,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Нам все об этом говорят,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А мы все курим,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Смолим, смакуем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И в ус не дуем.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А дым колечками пускаем: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Вы дышите – мы выдыхаем.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2"/>
          <a:stretch/>
        </p:blipFill>
        <p:spPr>
          <a:xfrm>
            <a:off x="1692360" y="3335400"/>
            <a:ext cx="4751280" cy="3066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C:\Users\асус\Desktop\курение\images (19).jpg"/>
          <p:cNvPicPr/>
          <p:nvPr/>
        </p:nvPicPr>
        <p:blipFill>
          <a:blip r:embed="rId3"/>
          <a:stretch/>
        </p:blipFill>
        <p:spPr>
          <a:xfrm>
            <a:off x="4716360" y="765000"/>
            <a:ext cx="4151520" cy="2490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304560" y="15541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Психологическая зависимость  -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человек тянется за сигаретой, когда находится в курящей компании, либо в состоянии стресса, нервного напряжения, для стимуляции умственной деятельности. Вырабатывается определённая привычка, ритуал курения, без которого человек не может полноценно жить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24280" y="15541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Физическая зависимость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-  требование организмом никотиновой дозы так сильно, что все внимание курящего сосредоточивается на поиске сигареты, идея курения становится столь навязчивой, что большинство других потребностей (сосредоточение на работе, утоление голода, отдых, сон и т. д.) уходят на второй план. Появляется невозможность сконцентрироваться на чём-либо, кроме сигареты, может наступить апатия, нежелание что-либо делат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3313080" cy="2519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           </a:t>
            </a: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Зависимость от табак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                </a:t>
            </a: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Дети курильщиков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"/>
          <p:cNvSpPr/>
          <p:nvPr/>
        </p:nvSpPr>
        <p:spPr>
          <a:xfrm>
            <a:off x="395280" y="1181160"/>
            <a:ext cx="54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рудное молоко матери-курильщицы может быть причиной отравления новорожденного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писаны случаи «беспричинной» смерти грудных детей, находящихся в задымленном помещении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Доказано: дети курящих женщин примерно до 11 лет отстают в физическом и умственном развитии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 курящих матерей почти всегда дети пробуют курить. Мать заранее запрограммировала своего ребенка на те же мучени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семье, где курили родители, начинают курить 67% мальчиков и 78% девочек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Люди, которые в детском возрасте подвергались воздействию табачного дыма, но сами курить не начали, все равно имеют повышенный шанс (до 60%) заболеть раком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5826240" y="3429000"/>
            <a:ext cx="331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асус\Desktop\курение\kurenie-kartinki-4.jpg"/>
          <p:cNvPicPr/>
          <p:nvPr/>
        </p:nvPicPr>
        <p:blipFill>
          <a:blip r:embed="rId2"/>
          <a:stretch/>
        </p:blipFill>
        <p:spPr>
          <a:xfrm>
            <a:off x="1116000" y="6922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323640" y="-316080"/>
            <a:ext cx="410364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Я не люблю курящих женщин,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(И запах дыма не люблю),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Могу сказать немного резче: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Приравниваю их к нулю.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Я не люблю волос пропахших,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И запах тяжкий изо рта,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Еще пугает у курящих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На снимках легких чернота.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Курилки вызывают жалость,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А, может быть, отчасти грусть…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Курить я даже не пыталась, </a:t>
            </a:r>
            <a:br>
              <a:rPr sz="2400"/>
            </a:b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Плохой привычки я боюсь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9" name="Picture 2" descr="C:\Users\асус\Desktop\курение\images (15).jpg"/>
          <p:cNvPicPr/>
          <p:nvPr/>
        </p:nvPicPr>
        <p:blipFill>
          <a:blip r:embed="rId2"/>
          <a:stretch/>
        </p:blipFill>
        <p:spPr>
          <a:xfrm>
            <a:off x="4427640" y="1413000"/>
            <a:ext cx="4356000" cy="4032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896000" y="809280"/>
            <a:ext cx="4248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Говорила дочке мама:</a:t>
            </a:r>
            <a:br>
              <a:rPr sz="2600"/>
            </a:b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«Ты бы не курила!».</a:t>
            </a:r>
            <a:br>
              <a:rPr sz="2600"/>
            </a:b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Но табачная реклама</a:t>
            </a:r>
            <a:br>
              <a:rPr sz="2600"/>
            </a:b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Дочку задурила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Изо рта «духан» смердящий,</a:t>
            </a:r>
            <a:br>
              <a:rPr sz="2600"/>
            </a:b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Зубы расшатались…</a:t>
            </a:r>
            <a:br>
              <a:rPr sz="2600"/>
            </a:b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А мальчишки некурящим-</a:t>
            </a:r>
            <a:br>
              <a:rPr sz="2600"/>
            </a:b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«хитреньким» достались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У неё пародонтоз</a:t>
            </a:r>
            <a:br>
              <a:rPr sz="2600"/>
            </a:b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Поразил две челюсти</a:t>
            </a:r>
            <a:br>
              <a:rPr sz="2600"/>
            </a:b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Поцелуй её взасос -</a:t>
            </a:r>
            <a:br>
              <a:rPr sz="2600"/>
            </a:b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Ощути-ка прелести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У неё десна «горит»,</a:t>
            </a:r>
            <a:br>
              <a:rPr sz="2600"/>
            </a:b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Боли постоянные –</a:t>
            </a:r>
            <a:br>
              <a:rPr sz="2600"/>
            </a:b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Любит тонкие курить</a:t>
            </a:r>
            <a:br>
              <a:rPr sz="2600"/>
            </a:b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«соски» окаянны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1" name="Picture 2" descr="C:\Users\асус\Desktop\курение\images (23).jpg"/>
          <p:cNvPicPr/>
          <p:nvPr/>
        </p:nvPicPr>
        <p:blipFill>
          <a:blip r:embed="rId2"/>
          <a:stretch/>
        </p:blipFill>
        <p:spPr>
          <a:xfrm>
            <a:off x="324000" y="907920"/>
            <a:ext cx="446400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394920" y="404280"/>
            <a:ext cx="8458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Не курите, господа, не курите,</a:t>
            </a:r>
            <a:br>
              <a:rPr sz="2800"/>
            </a:b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И здоровьишко своё берегите.</a:t>
            </a:r>
            <a:br>
              <a:rPr sz="2800"/>
            </a:b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В нашей жизни много дыма и так,</a:t>
            </a:r>
            <a:br>
              <a:rPr sz="2800"/>
            </a:b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А иначе ваше дело – табак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3" name="Picture 2" descr="C:\Users\асус\Desktop\курение\images (2).jpg"/>
          <p:cNvPicPr/>
          <p:nvPr/>
        </p:nvPicPr>
        <p:blipFill>
          <a:blip r:embed="rId2"/>
          <a:stretch/>
        </p:blipFill>
        <p:spPr>
          <a:xfrm>
            <a:off x="4932360" y="2276640"/>
            <a:ext cx="3741840" cy="4176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C:\Users\асус\Desktop\курение\images (10).jpg"/>
          <p:cNvPicPr/>
          <p:nvPr/>
        </p:nvPicPr>
        <p:blipFill>
          <a:blip r:embed="rId3"/>
          <a:stretch/>
        </p:blipFill>
        <p:spPr>
          <a:xfrm>
            <a:off x="468360" y="2276640"/>
            <a:ext cx="3672000" cy="417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4140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3329"/>
                </a:solidFill>
                <a:latin typeface="Franklin Gothic Book"/>
              </a:rPr>
              <a:t>Мне в детстве об этом рассказывал дед</a:t>
            </a:r>
            <a:br>
              <a:rPr sz="2000"/>
            </a:br>
            <a:r>
              <a:rPr b="1" lang="ru-RU" sz="2000" spc="-1" strike="noStrike">
                <a:solidFill>
                  <a:srgbClr val="443329"/>
                </a:solidFill>
                <a:latin typeface="Franklin Gothic Book"/>
              </a:rPr>
              <a:t>Табакокурение – истинный вред</a:t>
            </a:r>
            <a:br>
              <a:rPr sz="2000"/>
            </a:br>
            <a:r>
              <a:rPr b="1" lang="ru-RU" sz="2000" spc="-1" strike="noStrike">
                <a:solidFill>
                  <a:srgbClr val="443329"/>
                </a:solidFill>
                <a:latin typeface="Franklin Gothic Book"/>
              </a:rPr>
              <a:t>Курящий живет постоянно в дыму</a:t>
            </a:r>
            <a:br>
              <a:rPr sz="2000"/>
            </a:br>
            <a:r>
              <a:rPr b="1" lang="ru-RU" sz="2000" spc="-1" strike="noStrike">
                <a:solidFill>
                  <a:srgbClr val="443329"/>
                </a:solidFill>
                <a:latin typeface="Franklin Gothic Book"/>
              </a:rPr>
              <a:t>И что тут приятного? Я не пойму.</a:t>
            </a:r>
            <a:br>
              <a:rPr sz="2000"/>
            </a:br>
            <a:r>
              <a:rPr b="1" lang="ru-RU" sz="2000" spc="-1" strike="noStrike">
                <a:solidFill>
                  <a:srgbClr val="443329"/>
                </a:solidFill>
                <a:latin typeface="Franklin Gothic Book"/>
              </a:rPr>
              <a:t>И зубы желтеют и пахнет рука</a:t>
            </a:r>
            <a:br>
              <a:rPr sz="2000"/>
            </a:br>
            <a:r>
              <a:rPr b="1" lang="ru-RU" sz="2000" spc="-1" strike="noStrike">
                <a:solidFill>
                  <a:srgbClr val="443329"/>
                </a:solidFill>
                <a:latin typeface="Franklin Gothic Book"/>
              </a:rPr>
              <a:t>Вина этих бед на плечах табака</a:t>
            </a:r>
            <a:br>
              <a:rPr sz="2000"/>
            </a:br>
            <a:r>
              <a:rPr b="1" lang="ru-RU" sz="2000" spc="-1" strike="noStrike">
                <a:solidFill>
                  <a:srgbClr val="443329"/>
                </a:solidFill>
                <a:latin typeface="Franklin Gothic Book"/>
              </a:rPr>
              <a:t>Коль спросят меня, чем чревато курение</a:t>
            </a:r>
            <a:br>
              <a:rPr sz="2000"/>
            </a:br>
            <a:r>
              <a:rPr b="1" lang="ru-RU" sz="2000" spc="-1" strike="noStrike">
                <a:solidFill>
                  <a:srgbClr val="443329"/>
                </a:solidFill>
                <a:latin typeface="Franklin Gothic Book"/>
              </a:rPr>
              <a:t>Отвечу не думая – портится зрение</a:t>
            </a:r>
            <a:br>
              <a:rPr sz="2000"/>
            </a:b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3" descr="C:\Users\асус\Desktop\курение\images (11).jpg"/>
          <p:cNvPicPr/>
          <p:nvPr/>
        </p:nvPicPr>
        <p:blipFill>
          <a:blip r:embed="rId2"/>
          <a:stretch/>
        </p:blipFill>
        <p:spPr>
          <a:xfrm>
            <a:off x="4788000" y="260280"/>
            <a:ext cx="3456000" cy="2376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3960720" cy="2657520"/>
          </a:xfrm>
          <a:prstGeom prst="rect">
            <a:avLst/>
          </a:prstGeom>
          <a:ln w="0">
            <a:noFill/>
          </a:ln>
        </p:spPr>
      </p:pic>
      <p:sp>
        <p:nvSpPr>
          <p:cNvPr id="458" name="Подзаголовок 10"/>
          <p:cNvSpPr/>
          <p:nvPr/>
        </p:nvSpPr>
        <p:spPr>
          <a:xfrm>
            <a:off x="4535640" y="3789360"/>
            <a:ext cx="46083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443329"/>
                </a:solidFill>
                <a:latin typeface="Franklin Gothic Book"/>
              </a:rPr>
              <a:t>Табак - он повсюду, как грязь, как сорняк</a:t>
            </a:r>
            <a:br>
              <a:rPr sz="2000"/>
            </a:br>
            <a:r>
              <a:rPr b="1" lang="en-US" sz="2000" spc="-1" strike="noStrike">
                <a:solidFill>
                  <a:srgbClr val="443329"/>
                </a:solidFill>
                <a:latin typeface="Franklin Gothic Book"/>
              </a:rPr>
              <a:t>А грязь у людей вызывает столбняк</a:t>
            </a:r>
            <a:br>
              <a:rPr sz="2000"/>
            </a:br>
            <a:r>
              <a:rPr b="1" lang="en-US" sz="2000" spc="-1" strike="noStrike">
                <a:solidFill>
                  <a:srgbClr val="443329"/>
                </a:solidFill>
                <a:latin typeface="Franklin Gothic Book"/>
              </a:rPr>
              <a:t>Когда ты не куришь – ты крепок как сталь.</a:t>
            </a:r>
            <a:br>
              <a:rPr sz="2000"/>
            </a:br>
            <a:r>
              <a:rPr b="1" lang="en-US" sz="2000" spc="-1" strike="noStrike">
                <a:solidFill>
                  <a:srgbClr val="443329"/>
                </a:solidFill>
                <a:latin typeface="Franklin Gothic Book"/>
              </a:rPr>
              <a:t>В зубах с сигаретой – ты хрупкий хрусталь.</a:t>
            </a:r>
            <a:br>
              <a:rPr sz="2000"/>
            </a:br>
            <a:r>
              <a:rPr b="1" lang="en-US" sz="2000" spc="-1" strike="noStrike">
                <a:solidFill>
                  <a:srgbClr val="443329"/>
                </a:solidFill>
                <a:latin typeface="Franklin Gothic Book"/>
              </a:rPr>
              <a:t>Не важно богач ты а может быть и нищий</a:t>
            </a:r>
            <a:br>
              <a:rPr sz="2000"/>
            </a:br>
            <a:r>
              <a:rPr b="1" lang="en-US" sz="2000" spc="-1" strike="noStrike">
                <a:solidFill>
                  <a:srgbClr val="443329"/>
                </a:solidFill>
                <a:latin typeface="Franklin Gothic Book"/>
              </a:rPr>
              <a:t>Не верь, что сигара – для разума пищ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284720" y="476280"/>
            <a:ext cx="4410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Мы будем жить боряс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И смерти не боясь,</a:t>
            </a:r>
            <a:br>
              <a:rPr sz="2800"/>
            </a:b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Привычкам вредным нас не одолеть!</a:t>
            </a:r>
            <a:br>
              <a:rPr sz="2800"/>
            </a:b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Наркотики – долой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Объявим пьянству бо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И дыму ядовитых сигарет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3738600" cy="2706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C:\Users\асус\Desktop\курение\images (3).jpg"/>
          <p:cNvPicPr/>
          <p:nvPr/>
        </p:nvPicPr>
        <p:blipFill>
          <a:blip r:embed="rId3"/>
          <a:stretch/>
        </p:blipFill>
        <p:spPr>
          <a:xfrm>
            <a:off x="611280" y="404640"/>
            <a:ext cx="2881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50560" y="1125360"/>
            <a:ext cx="5041800" cy="47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ты хочешь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хранить свое здоровь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Состоятся в жизни как личность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Выглядеть молодо и привлекательно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Всегда быть в хорошей форм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Родить и вырастить здоровых детей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Не быть рабом вредной привычки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Твой выбор -  никогда не начинать курить!!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3" name="Picture 4" descr="C:\Users\асус\Desktop\курение\images (9).jpg"/>
          <p:cNvPicPr/>
          <p:nvPr/>
        </p:nvPicPr>
        <p:blipFill>
          <a:blip r:embed="rId2"/>
          <a:stretch/>
        </p:blipFill>
        <p:spPr>
          <a:xfrm>
            <a:off x="5364000" y="1413000"/>
            <a:ext cx="318312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1" descr=""/>
          <p:cNvPicPr/>
          <p:nvPr/>
        </p:nvPicPr>
        <p:blipFill>
          <a:blip r:embed="rId2"/>
          <a:stretch/>
        </p:blipFill>
        <p:spPr>
          <a:xfrm>
            <a:off x="244440" y="328680"/>
            <a:ext cx="8697960" cy="11462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C:\Users\асус\Desktop\курение\загруженное.jpg"/>
          <p:cNvPicPr/>
          <p:nvPr/>
        </p:nvPicPr>
        <p:blipFill>
          <a:blip r:embed="rId3"/>
          <a:stretch/>
        </p:blipFill>
        <p:spPr>
          <a:xfrm>
            <a:off x="2124000" y="1628640"/>
            <a:ext cx="4818240" cy="4104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асус\Desktop\курение\загруженное (2).jpg"/>
          <p:cNvPicPr/>
          <p:nvPr/>
        </p:nvPicPr>
        <p:blipFill>
          <a:blip r:embed="rId2"/>
          <a:stretch/>
        </p:blipFill>
        <p:spPr>
          <a:xfrm>
            <a:off x="1763640" y="2133720"/>
            <a:ext cx="5616720" cy="40320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0185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Порокам, что заводят в Ад,</a:t>
            </a:r>
            <a:br>
              <a:rPr sz="2800"/>
            </a:b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Мы скажем дружно «Нет!».</a:t>
            </a:r>
            <a:br>
              <a:rPr sz="2800"/>
            </a:b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Пусть расцветает счастья сад,</a:t>
            </a:r>
            <a:br>
              <a:rPr sz="2800"/>
            </a:b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Жизнь длится сотни лет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479000" cy="4524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6456240" cy="484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427280" y="1125000"/>
            <a:ext cx="448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Мне понравилась девчонка одна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И курила так изящно она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Тёмной ночью я её провожал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И к груди своей, прощаясь, прижал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Прислонился я губами к лицу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И целую, словно пепельниц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И теперь я больше с ней не знаком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3329"/>
                </a:solidFill>
                <a:latin typeface="Franklin Gothic Book"/>
              </a:rPr>
              <a:t>От меня с тех пор несёт табако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0" name="Picture 5" descr="C:\Users\асус\Desktop\курение\загруженное (4).jpg"/>
          <p:cNvPicPr/>
          <p:nvPr/>
        </p:nvPicPr>
        <p:blipFill>
          <a:blip r:embed="rId2"/>
          <a:stretch/>
        </p:blipFill>
        <p:spPr>
          <a:xfrm>
            <a:off x="611280" y="333360"/>
            <a:ext cx="36669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1785960" y="395280"/>
            <a:ext cx="5665680" cy="5927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-393840" y="189000"/>
            <a:ext cx="95378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Цыплёнок, цыплёнок, </a:t>
            </a:r>
            <a:br>
              <a:rPr sz="2800"/>
            </a:b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Брось курить, пока, </a:t>
            </a:r>
            <a:br>
              <a:rPr sz="2800"/>
            </a:br>
            <a:r>
              <a:rPr b="1" lang="en-US" sz="2800" spc="-1" strike="noStrike">
                <a:solidFill>
                  <a:srgbClr val="443329"/>
                </a:solidFill>
                <a:latin typeface="Franklin Gothic Book"/>
              </a:rPr>
              <a:t>Не стал цыплёнком табак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5364000" y="1916280"/>
            <a:ext cx="3422880" cy="4465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611280" y="1916280"/>
            <a:ext cx="331308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2268360" y="476280"/>
            <a:ext cx="45356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9:28:52Z</dcterms:created>
  <dc:creator>Малюгина</dc:creator>
  <dc:description/>
  <dc:language>en-US</dc:language>
  <cp:lastModifiedBy>Irina</cp:lastModifiedBy>
  <dcterms:modified xsi:type="dcterms:W3CDTF">2018-11-08T14:11:42Z</dcterms:modified>
  <cp:revision>21</cp:revision>
  <dc:subject/>
  <dc:title>Слайд 1</dc:title>
</cp:coreProperties>
</file>