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EED-5306-403E-BE4C-C4C713CF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459-2DA4-4742-AEA7-1F398155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A9F-870A-4D12-BBB1-2163410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DB6-15DB-4268-A88E-503D4F6D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C770-0B9E-42F7-A51B-642EF932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0BE6-9B0C-42DF-8B10-AB6BE361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26C9-BFBD-4F6F-98F6-52B102A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CD7-0C6C-4319-893F-E4121A9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1D83-DCF0-465C-8CE2-C74AC40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BE0A-385F-4486-BE40-EA688D4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86F-4F87-4782-BBC3-3B4279B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703-92C8-4389-8792-BEF3A1DB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C71-2F55-42A9-933C-30EC5B8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819C-177D-459C-8024-D5B0E6B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5E9-22A1-4D3D-A146-C6670B01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DFE-4D22-4FCB-AB29-EA9AD338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C70-D096-4389-8E78-9D77EA8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324-4206-46B1-8BF6-E4F04F82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60E-EA71-4CA1-A793-927A50B4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C66-E950-4FDB-919B-A983B6F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377-69F5-411B-8495-5AFAA83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88C-9CC1-434A-8B5C-3097D1A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A64-B0FD-4E70-AD96-401C758F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5EA-C252-4687-B45A-A37DFDB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1008000 w 9142560"/>
                <a:gd name="textAreaRight" fmla="*/ 8134560 w 9142560"/>
                <a:gd name="textAreaTop" fmla="*/ 58680 h 532080"/>
                <a:gd name="textAreaBottom" fmla="*/ 4734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5" y="21600"/>
                  </a:lnTo>
                  <a:lnTo>
                    <a:pt x="2043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FCC0-3E6E-4322-B729-4FFE7FCC4366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995400 w 9142560"/>
                <a:gd name="textAreaRight" fmla="*/ 8147160 w 9142560"/>
                <a:gd name="textAreaTop" fmla="*/ 56880 h 532080"/>
                <a:gd name="textAreaBottom" fmla="*/ 4752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8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Rectangle 10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Line 11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Line 12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Line 13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Line 14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Line 15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Line 16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CDD4-EE46-43D8-AF67-2027626A2342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280" y="494964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66"/>
                </a:solidFill>
                <a:latin typeface="Book Antiqua"/>
              </a:rPr>
              <a:t>А.П.Чехов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Picture 12" descr="Рисунок1"/>
          <p:cNvPicPr/>
          <p:nvPr/>
        </p:nvPicPr>
        <p:blipFill>
          <a:blip r:embed="rId1"/>
          <a:stretch/>
        </p:blipFill>
        <p:spPr>
          <a:xfrm>
            <a:off x="468360" y="333360"/>
            <a:ext cx="37306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Таганро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авка Чехов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5" descr="Таганрог. Бакалейная лавка П.Е. Чехова (отца А.П. Чехова)"/>
          <p:cNvPicPr/>
          <p:nvPr/>
        </p:nvPicPr>
        <p:blipFill>
          <a:blip r:embed="rId1"/>
          <a:stretch/>
        </p:blipFill>
        <p:spPr>
          <a:xfrm>
            <a:off x="5230800" y="1700280"/>
            <a:ext cx="3191040" cy="429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Таганро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733840" cy="21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аганрогск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имназ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8" descr="File13"/>
          <p:cNvPicPr/>
          <p:nvPr/>
        </p:nvPicPr>
        <p:blipFill>
          <a:blip r:embed="rId1"/>
          <a:stretch/>
        </p:blipFill>
        <p:spPr>
          <a:xfrm>
            <a:off x="3419640" y="1844640"/>
            <a:ext cx="508932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Таганро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Picture 5" descr="Памятник Чехову"/>
          <p:cNvPicPr/>
          <p:nvPr/>
        </p:nvPicPr>
        <p:blipFill>
          <a:blip r:embed="rId1"/>
          <a:stretch/>
        </p:blipFill>
        <p:spPr>
          <a:xfrm>
            <a:off x="1042920" y="1628640"/>
            <a:ext cx="3222720" cy="403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003640" y="2430360"/>
            <a:ext cx="331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мятни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.П. Чехову был открыт 29 января 1960 года, в дни празднован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00-летия со дня рождения писател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елихов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садьбу в Мелихов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Чехов купил в 1892 г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 в марте переех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уда с семь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елиховск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ериод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ворчестве и жизни писателя - это не тольк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дохновенный литературный труд, но и огромна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бщественная деятельность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5" descr="Усадебный дом А.П.Чехова в Мелихово"/>
          <p:cNvPicPr/>
          <p:nvPr/>
        </p:nvPicPr>
        <p:blipFill>
          <a:blip r:embed="rId1"/>
          <a:stretch/>
        </p:blipFill>
        <p:spPr>
          <a:xfrm>
            <a:off x="3924360" y="1700280"/>
            <a:ext cx="4626000" cy="297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елихов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остина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усадьбе Чеховы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5" descr="melihovo_14big"/>
          <p:cNvPicPr/>
          <p:nvPr/>
        </p:nvPicPr>
        <p:blipFill>
          <a:blip r:embed="rId1"/>
          <a:stretch/>
        </p:blipFill>
        <p:spPr>
          <a:xfrm>
            <a:off x="3780000" y="1844640"/>
            <a:ext cx="4830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елихов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97440" y="3068640"/>
            <a:ext cx="244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бинет писател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5" descr="melihovo_11big"/>
          <p:cNvPicPr/>
          <p:nvPr/>
        </p:nvPicPr>
        <p:blipFill>
          <a:blip r:embed="rId1"/>
          <a:stretch/>
        </p:blipFill>
        <p:spPr>
          <a:xfrm>
            <a:off x="755640" y="1844640"/>
            <a:ext cx="53989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4149360"/>
            <a:ext cx="7989840" cy="16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уд-аквариум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 словам Антона Павловича, он мог закидывать в него удочки прямо из окна своей спальни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5" descr="File54"/>
          <p:cNvPicPr/>
          <p:nvPr/>
        </p:nvPicPr>
        <p:blipFill>
          <a:blip r:embed="rId1"/>
          <a:stretch/>
        </p:blipFill>
        <p:spPr>
          <a:xfrm>
            <a:off x="3708360" y="1413000"/>
            <a:ext cx="4873680" cy="3249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елихов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Мелихов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мятник А.П.Чехову в Мелих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5" descr="melihovo_8big"/>
          <p:cNvPicPr/>
          <p:nvPr/>
        </p:nvPicPr>
        <p:blipFill>
          <a:blip r:embed="rId1"/>
          <a:stretch/>
        </p:blipFill>
        <p:spPr>
          <a:xfrm>
            <a:off x="684360" y="1557360"/>
            <a:ext cx="30366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Ял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елая дач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.П.Чехов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901г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5" descr="Белая дача А.П.Чехова. 1901г."/>
          <p:cNvPicPr/>
          <p:nvPr/>
        </p:nvPicPr>
        <p:blipFill>
          <a:blip r:embed="rId1"/>
          <a:stretch/>
        </p:blipFill>
        <p:spPr>
          <a:xfrm>
            <a:off x="3203640" y="2060640"/>
            <a:ext cx="520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544464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исьменный стол в кабинете писател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Stol"/>
          <p:cNvPicPr/>
          <p:nvPr/>
        </p:nvPicPr>
        <p:blipFill>
          <a:blip r:embed="rId1"/>
          <a:stretch/>
        </p:blipFill>
        <p:spPr>
          <a:xfrm>
            <a:off x="4643280" y="1268280"/>
            <a:ext cx="3808440" cy="3961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Ял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3887640" cy="33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ец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Чехов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Павел Егорови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(1825 - 1898 г.г.)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860400" y="2619720"/>
            <a:ext cx="1873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99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                  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900000" y="476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Семья Чеховых</a:t>
            </a:r>
            <a:br>
              <a:rPr sz="32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6" descr="Рисунок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2360" y="134136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Ял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голок чеховского са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5" descr="Дворик чеховской усадьбы. На заднем плане справа - чеховская маслина"/>
          <p:cNvPicPr/>
          <p:nvPr/>
        </p:nvPicPr>
        <p:blipFill>
          <a:blip r:embed="rId1"/>
          <a:stretch/>
        </p:blipFill>
        <p:spPr>
          <a:xfrm>
            <a:off x="5292720" y="1628640"/>
            <a:ext cx="317016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Ял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63640" y="2852640"/>
            <a:ext cx="3094200" cy="31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мятни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.П.Чехову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Ял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5" descr="Памятник А.П.Чехову в Ялте. Скульптор И.М.Мотовилов. 1953г."/>
          <p:cNvPicPr/>
          <p:nvPr/>
        </p:nvPicPr>
        <p:blipFill>
          <a:blip r:embed="rId1"/>
          <a:stretch/>
        </p:blipFill>
        <p:spPr>
          <a:xfrm>
            <a:off x="684360" y="1916280"/>
            <a:ext cx="408780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бщая характеристика «новой драмы»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826920" y="1693800"/>
            <a:ext cx="770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Чеховские драмы пронизывает атмосфера всеобщего неблагополу­чия. В них нет счастливых людей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У писателя особое ощущение драматизма жизни. Зло в его пьесах как бы измельчается, проникая в будни, растворяясь в повседневности. Возникает ощущение, что в нескладице отношений между людьми в той или иной степени повинен каждый герой в отдельности и все вместе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сеобщее неблагополучие усиливается ощущениями всеобщего одиночества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Конфликт приглушен, поэтому нет деления на положительных и отрицательных героев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3440"/>
            <a:ext cx="84582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Исторические истоки «новой драмы»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рама Чехова выражает общественное пробуждение в период наступления  нового столетия и нового общественного подъема: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довольство существующей жизнью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хватывает всю интеллигенцию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дет неуклонное нарастание эт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довольства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свободительные порывы становятс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остоянием не только отдельных личностей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о и каждого здравомыслящего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еспокойность становится фактом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овседневного существования люд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собенности поэтики «новой драмы»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ет ключевого события, судьбы героев сливаются в единую судьбу, формируется общее настроение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ет главного героя, нет деления на положительных и отрицательных, главных и второстепенных. Каждый ведет свою партию, а целое, как в хоре без солиста, рождается в созвучии множество равноправных и подголосков (полифонизм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овый подход в раскрытии человеческого характера: пафос действия сменяется пафосом раздумья. Герой показан не в борьбе за достижение целей, а в переживании противоречий бытия. Слова героев имеют скрытый душевный подтекст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) речевая индивидуализация героев стушевана. Речь их на­певна,    мелодична, поэтически напряжена, чтобы создать общее настроение драм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д) события в драмах даны как репетиция, идет накопление сил, к решительным поединкам герои еще не готов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е)  пьесы состоят из четырех актов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189080" y="1628640"/>
            <a:ext cx="273528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005440" y="1628640"/>
            <a:ext cx="302256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Структура пьес Чехов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148360" y="3933720"/>
            <a:ext cx="2881080" cy="136692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189080" y="3932280"/>
            <a:ext cx="266364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437080" y="1700280"/>
            <a:ext cx="280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Arial"/>
              </a:rPr>
              <a:t>общий характер — лирическое раздумье, развиваются настроения, стремления героев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364000" y="4087800"/>
            <a:ext cx="25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Arial"/>
              </a:rPr>
              <a:t>кульминация, действие оживленное, захватывающие событи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330200" y="4076640"/>
            <a:ext cx="27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Arial"/>
              </a:rPr>
              <a:t>действие замедляется, будничное течение  жизни, развязки не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3924360" y="2205000"/>
            <a:ext cx="1081080" cy="0"/>
          </a:xfrm>
          <a:prstGeom prst="line">
            <a:avLst/>
          </a:prstGeom>
          <a:ln w="95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497280" y="2923920"/>
            <a:ext cx="720" cy="1008720"/>
          </a:xfrm>
          <a:prstGeom prst="line">
            <a:avLst/>
          </a:prstGeom>
          <a:ln w="95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3852360" y="4653000"/>
            <a:ext cx="1295640" cy="0"/>
          </a:xfrm>
          <a:prstGeom prst="line">
            <a:avLst/>
          </a:prstGeom>
          <a:ln w="95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17"/>
          <p:cNvSpPr/>
          <p:nvPr/>
        </p:nvSpPr>
        <p:spPr>
          <a:xfrm flipV="1">
            <a:off x="2413080" y="2923920"/>
            <a:ext cx="1440" cy="936360"/>
          </a:xfrm>
          <a:prstGeom prst="line">
            <a:avLst/>
          </a:prstGeom>
          <a:ln w="95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332000" y="1700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Arial"/>
              </a:rPr>
              <a:t>медленное вступление, экспозиция к действию, идет  знакомство с героями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Семья Чеховых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3280" y="981000"/>
            <a:ext cx="381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аганрог, 1874 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дят слева направо: брат писателя Михаил, сестра Мария, отец Павел Егорович, мать Евгения Яковлевна, жена дяди Митрофана Егоровича, Людмила Павловна, их сын Георгий. Стоят: брат писателя Иван, Антон Павлович, старшие братья Николай и Александр, дядя Митрофан Егорович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6" descr="Семья Чеховых. Таганрог, 1874 г. Сидят с лева направо: брат писателя Михаил, сестра Мария, Отец Павел Егорович, мать Евгения Яковлевна, жена дяди Митрофана  Егоровича Людмила Павловна, их сын Георгий. Стоят: брат писателя Иван, Антон Павлович, старшие братья Николай и Александр, дядя Митрофан Егорович"/>
          <p:cNvPicPr/>
          <p:nvPr/>
        </p:nvPicPr>
        <p:blipFill>
          <a:blip r:embed="rId1"/>
          <a:stretch/>
        </p:blipFill>
        <p:spPr>
          <a:xfrm>
            <a:off x="539640" y="1268280"/>
            <a:ext cx="4753080" cy="3667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тарший брат Антона Чехова, литерато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Чехов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Александр Павлович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(1855 - 1913 г.г.)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5" descr="chehov_ap"/>
          <p:cNvPicPr/>
          <p:nvPr/>
        </p:nvPicPr>
        <p:blipFill>
          <a:blip r:embed="rId1"/>
          <a:stretch/>
        </p:blipFill>
        <p:spPr>
          <a:xfrm>
            <a:off x="5056200" y="1341360"/>
            <a:ext cx="3473280" cy="4811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908000" y="40464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Семья Чеховых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007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ладший бр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.П.Чехова, писател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Чехов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Михаил Павлови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(1868 - 1936 г.г.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5" descr="Чехов Михаил Павлович"/>
          <p:cNvPicPr/>
          <p:nvPr/>
        </p:nvPicPr>
        <p:blipFill>
          <a:blip r:embed="rId1"/>
          <a:stretch/>
        </p:blipFill>
        <p:spPr>
          <a:xfrm>
            <a:off x="684360" y="1341360"/>
            <a:ext cx="3489120" cy="4897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979640" y="40464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Семья Чеховых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209480" y="2997360"/>
            <a:ext cx="4636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ть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Чехов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Евгения Яковлевна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(урождённая Морозова)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    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(1835 - 1919 г.г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55640" y="2619720"/>
            <a:ext cx="13618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99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          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643280" y="134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"Мои дети любят меня каждый по-своему. И я стараюсь любить каждого из них так, как это нужно именно ему"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476360" y="476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Семья Чеховых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15" descr="Рисунок1"/>
          <p:cNvPicPr/>
          <p:nvPr/>
        </p:nvPicPr>
        <p:blipFill>
          <a:blip r:embed="rId1"/>
          <a:stretch/>
        </p:blipFill>
        <p:spPr>
          <a:xfrm>
            <a:off x="684360" y="1268280"/>
            <a:ext cx="36432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20720" y="184464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ена писател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Ольга Леонардовна Книппер-Чехов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970520" y="4004640"/>
            <a:ext cx="43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1868 -1959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10" descr="offi-38-6"/>
          <p:cNvPicPr/>
          <p:nvPr/>
        </p:nvPicPr>
        <p:blipFill>
          <a:blip r:embed="rId1"/>
          <a:srcRect l="4190" t="2884" r="1038" b="5795"/>
          <a:stretch/>
        </p:blipFill>
        <p:spPr>
          <a:xfrm>
            <a:off x="735120" y="692280"/>
            <a:ext cx="354960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Чеховские мест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Таганро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Мелихов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Ялт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Таганро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55640" y="191124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омик Чеховых      ( на ул.Полицейской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26920" y="5084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Здесь прошли детство и юность писател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9" descr="Domik"/>
          <p:cNvPicPr/>
          <p:nvPr/>
        </p:nvPicPr>
        <p:blipFill>
          <a:blip r:embed="rId1"/>
          <a:stretch/>
        </p:blipFill>
        <p:spPr>
          <a:xfrm>
            <a:off x="3635280" y="1916280"/>
            <a:ext cx="480240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1:16:40Z</dcterms:created>
  <dc:creator>ws08</dc:creator>
  <dc:description/>
  <dc:language>en-US</dc:language>
  <cp:lastModifiedBy>шеф</cp:lastModifiedBy>
  <dcterms:modified xsi:type="dcterms:W3CDTF">2010-12-06T15:25:27Z</dcterms:modified>
  <cp:revision>62</cp:revision>
  <dc:subject/>
  <dc:title>А.П.Чехов</dc:title>
</cp:coreProperties>
</file>