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6A8-A000-4554-B5BF-ED8C76D8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683-07D8-437A-8D47-B2AE6B60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788-A8BC-47F3-BAF0-850C4A75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ADF-2FF2-4F94-836F-E211CBE3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A6C-76F8-4DA1-8361-1141E99A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4EA-16D2-421F-A7C7-DAD36865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B26-6119-4F90-8FDC-FFE00FBC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42B-D70B-468A-B67F-73669A9A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D6C-FA88-4931-8CB4-78606362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331-3906-43B6-86C0-985D291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1C7-B255-4A12-896C-5BBD06E4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357-F5BC-4A4F-B0DD-186B1F53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935C-E3E3-4654-A10B-9E14D5574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642960" y="357120"/>
            <a:ext cx="8177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Есть род людей, известных под именем: люди так себе, ни то ни се, ни в городе Богдан ни в селе Селифан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.Гоголь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) Девушка принялась рассказывать, что случилось, а доктор подошел к больному, который все более и более приходил в себя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.Тургене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Я посмотрел на нее, и у меня отлегло от сердц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.Тургене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) Сначала все шло как по маслу, и наш француз вошел в Москву с поднятой головой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.Тургене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) Он только что приехал в город и присматривался, куда бы кинуть якорь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.Мильчако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) Когда тебе надо, ты мне говори, я тебе все объясню в два счет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.Носо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7) И бедный Евсей, вздохнув и прикусив язык, замолчал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.Даль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8) Лиров стоял у косяка дверей в переднюю, глядел во все глаза  на занимательную беседу прокурора с полковником о здравии его превосходительства господина губернатора и ее превосходительства супруг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714760" y="-571680"/>
            <a:ext cx="547200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Wave1">
              <a:avLst>
                <a:gd name="adj1" fmla="val 6481"/>
                <a:gd name="adj2" fmla="val 1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851440" y="4565520"/>
            <a:ext cx="3299040" cy="22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285840" y="25012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1b59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4000" y="2924280"/>
            <a:ext cx="727236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лт</a:t>
            </a: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о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желт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з</a:t>
            </a: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ас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ый              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елен</a:t>
            </a: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ь              зеле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трелка влево 7"/>
          <p:cNvSpPr/>
          <p:nvPr/>
        </p:nvSpPr>
        <p:spPr>
          <a:xfrm>
            <a:off x="3995640" y="4005360"/>
            <a:ext cx="1081080" cy="287280"/>
          </a:xfrm>
          <a:prstGeom prst="lef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лево 8"/>
          <p:cNvSpPr/>
          <p:nvPr/>
        </p:nvSpPr>
        <p:spPr>
          <a:xfrm>
            <a:off x="3276720" y="3213000"/>
            <a:ext cx="1079280" cy="28728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лево 9"/>
          <p:cNvSpPr/>
          <p:nvPr/>
        </p:nvSpPr>
        <p:spPr>
          <a:xfrm>
            <a:off x="3780000" y="4797360"/>
            <a:ext cx="1079280" cy="28728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1692360" y="404640"/>
            <a:ext cx="5562360" cy="15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ффиксальный способ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10560" y="1773360"/>
            <a:ext cx="8405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появление новых слов в результате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производящей основе суффи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851440" y="4565520"/>
            <a:ext cx="3299040" cy="2298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285840" y="25012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1b59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192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99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Calibri"/>
              </a:rPr>
              <a:t>с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урс</a:t>
            </a:r>
            <a:r>
              <a:rPr b="0" lang="ru-RU" sz="3600" spc="-1" strike="noStrike">
                <a:solidFill>
                  <a:srgbClr val="993300"/>
                </a:solidFill>
                <a:latin typeface="Calibri"/>
              </a:rPr>
              <a:t>ник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кур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600" spc="-1" strike="noStrike">
                <a:solidFill>
                  <a:srgbClr val="993300"/>
                </a:solidFill>
                <a:latin typeface="Calibri"/>
              </a:rPr>
              <a:t>ер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с</a:t>
            </a:r>
            <a:r>
              <a:rPr b="0" lang="ru-RU" sz="3600" spc="-1" strike="noStrike">
                <a:solidFill>
                  <a:srgbClr val="993300"/>
                </a:solidFill>
                <a:latin typeface="Calibri"/>
              </a:rPr>
              <a:t>иц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           н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99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Calibri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итать</a:t>
            </a:r>
            <a:r>
              <a:rPr b="0" lang="ru-RU" sz="3600" spc="-1" strike="noStrike">
                <a:solidFill>
                  <a:srgbClr val="993300"/>
                </a:solidFill>
                <a:latin typeface="Calibri"/>
              </a:rPr>
              <a:t>с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чит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Проверь!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Нет однокоренного слова «курсник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риставочный способ.  Нет однокоренного слова «сокурс»           не суффиксальный спосо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трелка влево 7"/>
          <p:cNvSpPr/>
          <p:nvPr/>
        </p:nvSpPr>
        <p:spPr>
          <a:xfrm>
            <a:off x="3348000" y="3357720"/>
            <a:ext cx="1081080" cy="287280"/>
          </a:xfrm>
          <a:prstGeom prst="lef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лево 8"/>
          <p:cNvSpPr/>
          <p:nvPr/>
        </p:nvSpPr>
        <p:spPr>
          <a:xfrm>
            <a:off x="2987640" y="2708280"/>
            <a:ext cx="1079640" cy="28728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лево 9"/>
          <p:cNvSpPr/>
          <p:nvPr/>
        </p:nvSpPr>
        <p:spPr>
          <a:xfrm>
            <a:off x="2987640" y="4005360"/>
            <a:ext cx="1079640" cy="28728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11"/>
          <p:cNvCxnSpPr/>
          <p:nvPr/>
        </p:nvCxnSpPr>
        <p:spPr>
          <a:xfrm>
            <a:off x="7740360" y="4723920"/>
            <a:ext cx="5770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Прямая со стрелкой 12"/>
          <p:cNvCxnSpPr/>
          <p:nvPr/>
        </p:nvCxnSpPr>
        <p:spPr>
          <a:xfrm>
            <a:off x="2484000" y="5661000"/>
            <a:ext cx="575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6" name="WordArt 12"/>
          <p:cNvSpPr txBox="1"/>
          <p:nvPr/>
        </p:nvSpPr>
        <p:spPr>
          <a:xfrm>
            <a:off x="2195640" y="189000"/>
            <a:ext cx="453384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ставочно-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ффиксальный способ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395640" y="1557360"/>
            <a:ext cx="7518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явление новых слов путём одноврем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соединения к основе приставки и суффи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846760" y="4559400"/>
            <a:ext cx="3297240" cy="2298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285840" y="25012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1b59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560" y="1989000"/>
            <a:ext cx="889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лыв            заплыв</a:t>
            </a: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ь            си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вал            привал</a:t>
            </a: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Проверь!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Существительное должно иметь  значение действия (существительное образовано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от глагол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не наоборот) или значение признака (существительное образовано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от прилагательног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не наоборо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7"/>
          <p:cNvSpPr/>
          <p:nvPr/>
        </p:nvSpPr>
        <p:spPr>
          <a:xfrm>
            <a:off x="2195640" y="3068640"/>
            <a:ext cx="1081080" cy="289080"/>
          </a:xfrm>
          <a:prstGeom prst="leftArrow">
            <a:avLst>
              <a:gd name="adj1" fmla="val 50000"/>
              <a:gd name="adj2" fmla="val 499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8"/>
          <p:cNvSpPr/>
          <p:nvPr/>
        </p:nvSpPr>
        <p:spPr>
          <a:xfrm>
            <a:off x="2771640" y="2276640"/>
            <a:ext cx="1079640" cy="288720"/>
          </a:xfrm>
          <a:prstGeom prst="leftArrow">
            <a:avLst>
              <a:gd name="adj1" fmla="val 50000"/>
              <a:gd name="adj2" fmla="val 500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лево 9"/>
          <p:cNvSpPr/>
          <p:nvPr/>
        </p:nvSpPr>
        <p:spPr>
          <a:xfrm>
            <a:off x="2771640" y="3860640"/>
            <a:ext cx="1079640" cy="28908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0"/>
          <p:cNvSpPr txBox="1"/>
          <p:nvPr/>
        </p:nvSpPr>
        <p:spPr>
          <a:xfrm>
            <a:off x="1979640" y="260280"/>
            <a:ext cx="54100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ссуффиксный способ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542160" y="119700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- появление новых слов без добавления аффи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851440" y="4565520"/>
            <a:ext cx="3299040" cy="2298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285840" y="25012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1b59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10" descr=""/>
          <p:cNvPicPr/>
          <p:nvPr/>
        </p:nvPicPr>
        <p:blipFill>
          <a:blip r:embed="rId2"/>
          <a:stretch/>
        </p:blipFill>
        <p:spPr>
          <a:xfrm>
            <a:off x="0" y="1579680"/>
            <a:ext cx="9174240" cy="52783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2411280" y="260280"/>
            <a:ext cx="45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ложение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95280" y="907920"/>
            <a:ext cx="7806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разование новых слов путём соединения дв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ли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1258920" y="54936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Способы словообраз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50920" y="2133720"/>
            <a:ext cx="4140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771640" y="1557360"/>
            <a:ext cx="403236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Неморфологически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50920" y="4581360"/>
            <a:ext cx="36003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Морфолого-синтакс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276720" y="3357720"/>
            <a:ext cx="33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Лексико-семан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5435640" y="4724280"/>
            <a:ext cx="3708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Лексико-синтакс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101"/>
          <p:cNvCxnSpPr/>
          <p:nvPr/>
        </p:nvCxnSpPr>
        <p:spPr>
          <a:xfrm flipH="1">
            <a:off x="2410920" y="2565000"/>
            <a:ext cx="1874160" cy="180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8" name="Прямая со стрелкой 101"/>
          <p:cNvCxnSpPr/>
          <p:nvPr/>
        </p:nvCxnSpPr>
        <p:spPr>
          <a:xfrm>
            <a:off x="4787640" y="2565360"/>
            <a:ext cx="1080" cy="720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9" name="Прямая со стрелкой 101"/>
          <p:cNvCxnSpPr/>
          <p:nvPr/>
        </p:nvCxnSpPr>
        <p:spPr>
          <a:xfrm>
            <a:off x="5940360" y="2636640"/>
            <a:ext cx="1728000" cy="1872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130" name="Рисунок 14" descr="209.gif"/>
          <p:cNvPicPr/>
          <p:nvPr/>
        </p:nvPicPr>
        <p:blipFill>
          <a:blip r:embed="rId1"/>
          <a:stretch/>
        </p:blipFill>
        <p:spPr>
          <a:xfrm>
            <a:off x="3492360" y="4835520"/>
            <a:ext cx="22669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- появление новых слов в результате изменений в значении уже существующих в русском языке с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порщик(воинское звание)        прапорщик (знаменосец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игадир (руководитель трудового коллектива)                      бригадир (воинское зва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2556000" y="260280"/>
            <a:ext cx="378144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ксико-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мантический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Стрелка влево 9"/>
          <p:cNvSpPr/>
          <p:nvPr/>
        </p:nvSpPr>
        <p:spPr>
          <a:xfrm>
            <a:off x="6300720" y="3716280"/>
            <a:ext cx="1079640" cy="28728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лево 9"/>
          <p:cNvSpPr/>
          <p:nvPr/>
        </p:nvSpPr>
        <p:spPr>
          <a:xfrm>
            <a:off x="3348000" y="5157720"/>
            <a:ext cx="1079640" cy="28728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851440" y="4565520"/>
            <a:ext cx="329904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оявление новых слов в результате перехода слов из одной части речи в другую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оловая (помещение) </a:t>
            </a:r>
            <a:r>
              <a:rPr b="1" lang="en-US" sz="2800" spc="-1" strike="noStrike">
                <a:solidFill>
                  <a:srgbClr val="993300"/>
                </a:solidFill>
                <a:latin typeface="Calibri"/>
              </a:rPr>
              <a:t>[ </a:t>
            </a:r>
            <a:r>
              <a:rPr b="1" lang="ru-RU" sz="2800" spc="-1" strike="noStrike">
                <a:solidFill>
                  <a:srgbClr val="993300"/>
                </a:solidFill>
                <a:latin typeface="Calibri"/>
              </a:rPr>
              <a:t>сущ.</a:t>
            </a:r>
            <a:r>
              <a:rPr b="1" lang="en-US" sz="2800" spc="-1" strike="noStrike">
                <a:solidFill>
                  <a:srgbClr val="993300"/>
                </a:solidFill>
                <a:latin typeface="Calibri"/>
              </a:rPr>
              <a:t>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оловая (ложка) </a:t>
            </a:r>
            <a:r>
              <a:rPr b="1" lang="en-US" sz="2800" spc="-1" strike="noStrike">
                <a:solidFill>
                  <a:srgbClr val="993300"/>
                </a:solidFill>
                <a:latin typeface="Calibri"/>
              </a:rPr>
              <a:t>[ </a:t>
            </a:r>
            <a:r>
              <a:rPr b="1" lang="ru-RU" sz="2800" spc="-1" strike="noStrike">
                <a:solidFill>
                  <a:srgbClr val="993300"/>
                </a:solidFill>
                <a:latin typeface="Calibri"/>
              </a:rPr>
              <a:t>прилаг.</a:t>
            </a:r>
            <a:r>
              <a:rPr b="1" lang="en-US" sz="2800" spc="-1" strike="noStrike">
                <a:solidFill>
                  <a:srgbClr val="993300"/>
                </a:solidFill>
                <a:latin typeface="Calibri"/>
              </a:rPr>
              <a:t>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раул! </a:t>
            </a:r>
            <a:r>
              <a:rPr b="1" lang="en-US" sz="2800" spc="-1" strike="noStrike">
                <a:solidFill>
                  <a:srgbClr val="993300"/>
                </a:solidFill>
                <a:latin typeface="Calibri"/>
              </a:rPr>
              <a:t>[ </a:t>
            </a:r>
            <a:r>
              <a:rPr b="1" lang="ru-RU" sz="2800" spc="-1" strike="noStrike">
                <a:solidFill>
                  <a:srgbClr val="993300"/>
                </a:solidFill>
                <a:latin typeface="Calibri"/>
              </a:rPr>
              <a:t>междомет.</a:t>
            </a:r>
            <a:r>
              <a:rPr b="1" lang="en-US" sz="2800" spc="-1" strike="noStrike">
                <a:solidFill>
                  <a:srgbClr val="993300"/>
                </a:solidFill>
                <a:latin typeface="Calibri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караул </a:t>
            </a:r>
            <a:r>
              <a:rPr b="1" lang="en-US" sz="2800" spc="-1" strike="noStrike">
                <a:solidFill>
                  <a:srgbClr val="993300"/>
                </a:solidFill>
                <a:latin typeface="Calibri"/>
              </a:rPr>
              <a:t>[ </a:t>
            </a:r>
            <a:r>
              <a:rPr b="1" lang="ru-RU" sz="2800" spc="-1" strike="noStrike">
                <a:solidFill>
                  <a:srgbClr val="993300"/>
                </a:solidFill>
                <a:latin typeface="Calibri"/>
              </a:rPr>
              <a:t>сущ.</a:t>
            </a:r>
            <a:r>
              <a:rPr b="1" lang="en-US" sz="2800" spc="-1" strike="noStrike">
                <a:solidFill>
                  <a:srgbClr val="993300"/>
                </a:solidFill>
                <a:latin typeface="Calibri"/>
              </a:rPr>
              <a:t>]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1332000" y="260280"/>
            <a:ext cx="62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рфолого-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интаксический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Стрелка влево 8"/>
          <p:cNvSpPr/>
          <p:nvPr/>
        </p:nvSpPr>
        <p:spPr>
          <a:xfrm>
            <a:off x="4427640" y="4365720"/>
            <a:ext cx="1079280" cy="28872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лево 8"/>
          <p:cNvSpPr/>
          <p:nvPr/>
        </p:nvSpPr>
        <p:spPr>
          <a:xfrm>
            <a:off x="5796000" y="3500280"/>
            <a:ext cx="1079640" cy="28908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846760" y="4559400"/>
            <a:ext cx="32972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явление новых слов в результате сращений сочетаний с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окачественный                  высоко + качестве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тчас                    тот +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835280" y="189000"/>
            <a:ext cx="541008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ксико-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интаксический способ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Стрелка влево 8"/>
          <p:cNvSpPr/>
          <p:nvPr/>
        </p:nvSpPr>
        <p:spPr>
          <a:xfrm>
            <a:off x="4572000" y="4005360"/>
            <a:ext cx="1079640" cy="288720"/>
          </a:xfrm>
          <a:prstGeom prst="leftArrow">
            <a:avLst>
              <a:gd name="adj1" fmla="val 50000"/>
              <a:gd name="adj2" fmla="val 500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лево 8"/>
          <p:cNvSpPr/>
          <p:nvPr/>
        </p:nvSpPr>
        <p:spPr>
          <a:xfrm>
            <a:off x="2124000" y="5157720"/>
            <a:ext cx="1079640" cy="28908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5846760" y="4559400"/>
            <a:ext cx="32972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Слово делится на ча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Ах, какое это счастье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Может каждый грамот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Делать слово из часте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т слова </a:t>
            </a:r>
            <a:r>
              <a:rPr b="1" i="1" lang="ru-RU" sz="2400" spc="-1" strike="noStrike">
                <a:solidFill>
                  <a:srgbClr val="993300"/>
                </a:solidFill>
                <a:latin typeface="Calibri"/>
              </a:rPr>
              <a:t>дом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за 2 минуты образуйте как можно больше слов, определяя при этом спосо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124000" y="404640"/>
            <a:ext cx="453888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Кто больше?"</a:t>
            </a:r>
            <a:endParaRPr b="1" lang="en-US" sz="4000" spc="1" strike="noStrike">
              <a:ln w="0">
                <a:noFill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0" name="Рисунок 17" descr="znak10.jpg"/>
          <p:cNvPicPr/>
          <p:nvPr/>
        </p:nvPicPr>
        <p:blipFill>
          <a:blip r:embed="rId1"/>
          <a:stretch/>
        </p:blipFill>
        <p:spPr>
          <a:xfrm>
            <a:off x="2916360" y="4797360"/>
            <a:ext cx="2160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68360" y="2349360"/>
          <a:ext cx="8137440" cy="3179880"/>
        </p:xfrm>
        <a:graphic>
          <a:graphicData uri="http://schemas.openxmlformats.org/drawingml/2006/table">
            <a:tbl>
              <a:tblPr/>
              <a:tblGrid>
                <a:gridCol w="1825560"/>
                <a:gridCol w="1825560"/>
                <a:gridCol w="2254320"/>
                <a:gridCol w="223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Приставо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Суффикса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Приставочно-суффикса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С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WordArt 23"/>
          <p:cNvSpPr txBox="1"/>
          <p:nvPr/>
        </p:nvSpPr>
        <p:spPr>
          <a:xfrm>
            <a:off x="1835280" y="333360"/>
            <a:ext cx="66294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Распределительный диктант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pic>
        <p:nvPicPr>
          <p:cNvPr id="153" name="Рисунок 17" descr="znak10.jpg"/>
          <p:cNvPicPr/>
          <p:nvPr/>
        </p:nvPicPr>
        <p:blipFill>
          <a:blip r:embed="rId1"/>
          <a:stretch/>
        </p:blipFill>
        <p:spPr>
          <a:xfrm>
            <a:off x="324000" y="260280"/>
            <a:ext cx="1368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1547640" y="1844640"/>
            <a:ext cx="727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Arial"/>
              </a:rPr>
              <a:t>Баловать, намерение, звон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Arial"/>
              </a:rPr>
              <a:t>жалюзи, свекла, вклю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Arial"/>
              </a:rPr>
              <a:t>простыня, пуловер, поня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Arial"/>
              </a:rPr>
              <a:t>зан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7" descr="znak10.jpg"/>
          <p:cNvPicPr/>
          <p:nvPr/>
        </p:nvPicPr>
        <p:blipFill>
          <a:blip r:embed="rId1"/>
          <a:stretch/>
        </p:blipFill>
        <p:spPr>
          <a:xfrm>
            <a:off x="6985080" y="4286160"/>
            <a:ext cx="215892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WordArt 17"/>
          <p:cNvSpPr txBox="1"/>
          <p:nvPr/>
        </p:nvSpPr>
        <p:spPr>
          <a:xfrm>
            <a:off x="2195640" y="476280"/>
            <a:ext cx="59911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фоэпическая разминка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р..сти, пирож..к, пр..коснулся,  отреж.., пр..ляг, сам..лётик, медвеж..нок, пар..ход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лес..степь, завис..ливость, ошейник, вв..рху,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мор..плават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834920" y="1052640"/>
            <a:ext cx="60804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427640" y="1052640"/>
            <a:ext cx="608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5857920" y="2276640"/>
            <a:ext cx="3571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2428920" y="2852640"/>
            <a:ext cx="3571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928960" y="1636560"/>
            <a:ext cx="3571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857760" y="1628640"/>
            <a:ext cx="50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5857920" y="1628640"/>
            <a:ext cx="42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1476360" y="2205000"/>
            <a:ext cx="608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786120" y="2205000"/>
            <a:ext cx="42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1692360" y="2852640"/>
            <a:ext cx="608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5286240" y="2852640"/>
            <a:ext cx="42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5286240" y="3429000"/>
            <a:ext cx="42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3786120" y="4076640"/>
            <a:ext cx="3571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5724360" y="981000"/>
            <a:ext cx="608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3"/>
          <p:cNvSpPr/>
          <p:nvPr/>
        </p:nvSpPr>
        <p:spPr>
          <a:xfrm>
            <a:off x="755640" y="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Georgia"/>
              </a:rPr>
              <a:t>Распределите слова по столбикам в зависимости от способа слово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17" descr="znak10.jpg"/>
          <p:cNvPicPr/>
          <p:nvPr/>
        </p:nvPicPr>
        <p:blipFill>
          <a:blip r:embed="rId1"/>
          <a:stretch/>
        </p:blipFill>
        <p:spPr>
          <a:xfrm>
            <a:off x="3708360" y="4797360"/>
            <a:ext cx="1368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3 -0.05782 L 0.29792 -0.41443 E">
                                      <p:cBhvr>
                                        <p:cTn id="11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50920" y="1989000"/>
          <a:ext cx="8893080" cy="4502160"/>
        </p:xfrm>
        <a:graphic>
          <a:graphicData uri="http://schemas.openxmlformats.org/drawingml/2006/table">
            <a:tbl>
              <a:tblPr/>
              <a:tblGrid>
                <a:gridCol w="2035080"/>
                <a:gridCol w="2571840"/>
                <a:gridCol w="2220840"/>
                <a:gridCol w="2065320"/>
              </a:tblGrid>
              <a:tr h="24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Приставо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Суффикса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Приставо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но-суффикса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С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р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ля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еж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рож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вежон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тливость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лёти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шей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рх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косну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рох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состеп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еплава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WordArt 21"/>
          <p:cNvSpPr txBox="1"/>
          <p:nvPr/>
        </p:nvSpPr>
        <p:spPr>
          <a:xfrm>
            <a:off x="2195640" y="404640"/>
            <a:ext cx="504036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Проверьте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851440" y="4565520"/>
            <a:ext cx="3299040" cy="22989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285840" y="25012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1b59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-48924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632523"/>
              </a:solidFill>
              <a:latin typeface="Mistr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57160" y="500040"/>
            <a:ext cx="742968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бота с тексто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умирает. Весна сталкивает её голой розовой и дерзкой ногой в сырые овраги, где, лёжа ничком, в виде мертвенно белых, обтаявших пластов снега, старуха дышит холодным паром, но слабо и безнадежно.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Грин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851440" y="4565520"/>
            <a:ext cx="3299040" cy="22989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324000" y="27802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1b59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-565560"/>
            <a:ext cx="8064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632523"/>
              </a:solidFill>
              <a:latin typeface="Mistr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1320" y="2854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текст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овите слова с суффиксами и определите их знач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ункцию выполняет оценочная лекси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наете ли вы, маменька, отчего мы в дворянском звании родились? А всё оттого, что милость божья к нам была. Кабы не она, и мы сидели бы теперь в избушке, да горела бы у нас не свечка, а лучинушка, а уж чайку да кофейку — об этом и думать бы не смели! Сидели бы, я бы лаптишечки ковырял, вы бы щец там каких-нибудь пустеньких поужинать собирали. (С-Щедрин «Господа Головлев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5851440" y="4565520"/>
            <a:ext cx="3299040" cy="22989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285840" y="25012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1b59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0000" y="-708480"/>
            <a:ext cx="8064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632523"/>
              </a:solidFill>
              <a:latin typeface="Mistr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499680"/>
            <a:ext cx="8001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тек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 слова с суффиксами и определите их значение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целью автор использует их в своём произвед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идела в своей комнатке, как мышонок в норке; с красными детски пухлявыми губками и нежными ручками; высматривала, как зверёк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. Тургенев. «Отцы и дет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851440" y="4565520"/>
            <a:ext cx="3299040" cy="22989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285840" y="25012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1b59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-596520"/>
            <a:ext cx="806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32523"/>
              </a:solidFill>
              <a:latin typeface="Mistr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85520" y="428760"/>
            <a:ext cx="8001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Определить лексическое значение созданных студентами окказионализм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 природа над ним пошутила… ну, ладно ушастый, так еще и бровастый!. 2) Да я перемотоблочил весь огород в поисках клада. 3) Заглянув в шкаф, она обнаружила там полнейшее безнарядье. 4) Осенью на озере безлебедье. 5) Она уже два года как мужатая. 6) Пенсионеры говорят, что в медведевщину жизнь стала лучше. 7) В этом году осень необычайно красиво листопадится. 8) Это был не гном, а гномище. 9) Молодой человек, с виду простун, шел мне навстречу. 10) В классе стояла крикот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2"/>
          <p:cNvSpPr/>
          <p:nvPr/>
        </p:nvSpPr>
        <p:spPr>
          <a:xfrm>
            <a:off x="1476360" y="54936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Monotype Corsiva"/>
              </a:rPr>
              <a:t>  </a:t>
            </a:r>
            <a:r>
              <a:rPr b="0" lang="ru-RU" sz="5400" spc="-1" strike="noStrike">
                <a:solidFill>
                  <a:srgbClr val="a50021"/>
                </a:solidFill>
                <a:latin typeface="Monotype Corsiva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Рисунок1ВАР"/>
          <p:cNvPicPr/>
          <p:nvPr/>
        </p:nvPicPr>
        <p:blipFill>
          <a:blip r:embed="rId1"/>
          <a:stretch/>
        </p:blipFill>
        <p:spPr>
          <a:xfrm>
            <a:off x="3633840" y="3571920"/>
            <a:ext cx="4767120" cy="3517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й материал, заучивание аббревиатур, упр.74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БаловАть, намЕрение, звонИ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жалюзИ, свЁкла, включИ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простынЯ, пулОвер, пОня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заня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19280" y="476280"/>
            <a:ext cx="61927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1f497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верьте себя</a:t>
            </a:r>
            <a:endParaRPr b="1" lang="en-US" sz="4000" spc="1" strike="noStrike">
              <a:ln w="0">
                <a:noFill/>
              </a:ln>
              <a:solidFill>
                <a:srgbClr val="1f497d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Рисунок 4" descr="1.gif"/>
          <p:cNvPicPr/>
          <p:nvPr/>
        </p:nvPicPr>
        <p:blipFill>
          <a:blip r:embed="rId1"/>
          <a:stretch/>
        </p:blipFill>
        <p:spPr>
          <a:xfrm>
            <a:off x="6372360" y="5084640"/>
            <a:ext cx="1517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500360" cy="41767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6"/>
          <p:cNvSpPr/>
          <p:nvPr/>
        </p:nvSpPr>
        <p:spPr>
          <a:xfrm>
            <a:off x="4572000" y="620640"/>
            <a:ext cx="3529080" cy="1295640"/>
          </a:xfrm>
          <a:prstGeom prst="cloudCallout">
            <a:avLst>
              <a:gd name="adj1" fmla="val -60796"/>
              <a:gd name="adj2" fmla="val 93013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укарямб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931640" y="3066120"/>
            <a:ext cx="409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Что такое кукарям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Удалось ли Пеппи най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овое сло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овсем новеньк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ямо с иголочки”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7" descr="znak10.jpg"/>
          <p:cNvPicPr/>
          <p:nvPr/>
        </p:nvPicPr>
        <p:blipFill>
          <a:blip r:embed="rId2"/>
          <a:stretch/>
        </p:blipFill>
        <p:spPr>
          <a:xfrm>
            <a:off x="468360" y="260280"/>
            <a:ext cx="1368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867280" y="2205000"/>
            <a:ext cx="2843280" cy="3379680"/>
          </a:xfrm>
          <a:prstGeom prst="rect">
            <a:avLst/>
          </a:prstGeom>
          <a:ln w="0">
            <a:noFill/>
          </a:ln>
        </p:spPr>
      </p:pic>
      <p:cxnSp>
        <p:nvCxnSpPr>
          <p:cNvPr id="54" name="Прямая со стрелкой 101"/>
          <p:cNvCxnSpPr/>
          <p:nvPr/>
        </p:nvCxnSpPr>
        <p:spPr>
          <a:xfrm>
            <a:off x="3635280" y="2492280"/>
            <a:ext cx="1945440" cy="9374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5" name="Прямая со стрелкой 101"/>
          <p:cNvCxnSpPr/>
          <p:nvPr/>
        </p:nvCxnSpPr>
        <p:spPr>
          <a:xfrm flipV="1">
            <a:off x="3708360" y="4075920"/>
            <a:ext cx="1728000" cy="1081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56" name="TextBox 72"/>
          <p:cNvSpPr/>
          <p:nvPr/>
        </p:nvSpPr>
        <p:spPr>
          <a:xfrm>
            <a:off x="611280" y="170028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Заимствование слов из других язы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2"/>
          <p:cNvSpPr/>
          <p:nvPr/>
        </p:nvSpPr>
        <p:spPr>
          <a:xfrm>
            <a:off x="395280" y="4076640"/>
            <a:ext cx="3927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Georgia"/>
              </a:rPr>
              <a:t>Образование новых слов с помощью словообразующих  эле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826920" y="476280"/>
            <a:ext cx="7458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3252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полнение словарного состава языка</a:t>
            </a:r>
            <a:endParaRPr b="1" lang="en-US" sz="1800" spc="1" strike="noStrike">
              <a:ln w="0">
                <a:noFill/>
              </a:ln>
              <a:solidFill>
                <a:srgbClr val="63252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Слово делится на ч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Ах, какое это счасть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Может каждый грамот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Делать слово из часте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WordArt 4" descr=""/>
          <p:cNvPicPr/>
          <p:nvPr/>
        </p:nvPicPr>
        <p:blipFill>
          <a:blip r:embed="rId1"/>
          <a:stretch/>
        </p:blipFill>
        <p:spPr>
          <a:xfrm>
            <a:off x="480960" y="281160"/>
            <a:ext cx="8212320" cy="2492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209.gif"/>
          <p:cNvPicPr/>
          <p:nvPr/>
        </p:nvPicPr>
        <p:blipFill>
          <a:blip r:embed="rId2"/>
          <a:stretch/>
        </p:blipFill>
        <p:spPr>
          <a:xfrm>
            <a:off x="324000" y="4481640"/>
            <a:ext cx="31795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1258920" y="54936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32523"/>
                </a:solidFill>
                <a:latin typeface="Monotype Corsiva"/>
              </a:rPr>
              <a:t>Способы словообраз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50920" y="2133720"/>
            <a:ext cx="4140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Морфол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788000" y="2133720"/>
            <a:ext cx="4032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Неморфологически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01"/>
          <p:cNvCxnSpPr>
            <a:endCxn id="63" idx="0"/>
          </p:cNvCxnSpPr>
          <p:nvPr/>
        </p:nvCxnSpPr>
        <p:spPr>
          <a:xfrm flipH="1">
            <a:off x="2320560" y="1268280"/>
            <a:ext cx="1334160" cy="866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6" name="Прямая со стрелкой 101"/>
          <p:cNvCxnSpPr/>
          <p:nvPr/>
        </p:nvCxnSpPr>
        <p:spPr>
          <a:xfrm>
            <a:off x="5148360" y="1268280"/>
            <a:ext cx="1945440" cy="9374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67" name="Рисунок 14" descr="209.gif"/>
          <p:cNvPicPr/>
          <p:nvPr/>
        </p:nvPicPr>
        <p:blipFill>
          <a:blip r:embed="rId1"/>
          <a:stretch/>
        </p:blipFill>
        <p:spPr>
          <a:xfrm>
            <a:off x="2411280" y="4149720"/>
            <a:ext cx="3179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258920" y="54936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Способы словообраз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700360" y="1413000"/>
            <a:ext cx="4140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Морфол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788000" y="2133720"/>
            <a:ext cx="4032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68360" y="3141720"/>
            <a:ext cx="2736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Пристав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84360" y="4941720"/>
            <a:ext cx="2952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Приставоч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суффикс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580000" y="2781360"/>
            <a:ext cx="33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Суффикс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5148360" y="393372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Бессуффик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211640" y="5950080"/>
            <a:ext cx="2736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101"/>
          <p:cNvCxnSpPr/>
          <p:nvPr/>
        </p:nvCxnSpPr>
        <p:spPr>
          <a:xfrm flipH="1">
            <a:off x="1979280" y="2060640"/>
            <a:ext cx="1008720" cy="792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7" name="Прямая со стрелкой 101"/>
          <p:cNvCxnSpPr/>
          <p:nvPr/>
        </p:nvCxnSpPr>
        <p:spPr>
          <a:xfrm>
            <a:off x="4571640" y="2637000"/>
            <a:ext cx="1081800" cy="3156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8" name="Прямая со стрелкой 101"/>
          <p:cNvCxnSpPr/>
          <p:nvPr/>
        </p:nvCxnSpPr>
        <p:spPr>
          <a:xfrm flipH="1">
            <a:off x="3058920" y="2565000"/>
            <a:ext cx="1226160" cy="2304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9" name="Прямая со стрелкой 101"/>
          <p:cNvCxnSpPr/>
          <p:nvPr/>
        </p:nvCxnSpPr>
        <p:spPr>
          <a:xfrm>
            <a:off x="6011640" y="1989000"/>
            <a:ext cx="648360" cy="866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80" name="Прямая со стрелкой 101"/>
          <p:cNvCxnSpPr/>
          <p:nvPr/>
        </p:nvCxnSpPr>
        <p:spPr>
          <a:xfrm>
            <a:off x="5365800" y="2636640"/>
            <a:ext cx="862560" cy="1152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81" name="Рисунок 14" descr="209.gif"/>
          <p:cNvPicPr/>
          <p:nvPr/>
        </p:nvPicPr>
        <p:blipFill>
          <a:blip r:embed="rId1"/>
          <a:stretch/>
        </p:blipFill>
        <p:spPr>
          <a:xfrm>
            <a:off x="6877080" y="4581360"/>
            <a:ext cx="22669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851440" y="4286160"/>
            <a:ext cx="3299040" cy="22971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85840" y="25012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1b59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99640" y="2349000"/>
            <a:ext cx="755964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пр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асный         опас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ко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кто             к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в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жать            бежать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лево 7"/>
          <p:cNvSpPr/>
          <p:nvPr/>
        </p:nvSpPr>
        <p:spPr>
          <a:xfrm flipV="1">
            <a:off x="3995640" y="2636280"/>
            <a:ext cx="792360" cy="215640"/>
          </a:xfrm>
          <a:prstGeom prst="leftArrow">
            <a:avLst>
              <a:gd name="adj1" fmla="val 50000"/>
              <a:gd name="adj2" fmla="val 500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лево 8"/>
          <p:cNvSpPr/>
          <p:nvPr/>
        </p:nvSpPr>
        <p:spPr>
          <a:xfrm flipV="1">
            <a:off x="2987640" y="3500280"/>
            <a:ext cx="792360" cy="21600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лево 9"/>
          <p:cNvSpPr/>
          <p:nvPr/>
        </p:nvSpPr>
        <p:spPr>
          <a:xfrm flipV="1">
            <a:off x="3635280" y="4292640"/>
            <a:ext cx="792360" cy="21600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2195640" y="620640"/>
            <a:ext cx="51242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ставочный способ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682920" y="1411200"/>
            <a:ext cx="8490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появление новых слов в результате присоеди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производящей основе прист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6:30:36Z</dcterms:created>
  <dc:creator>Надя</dc:creator>
  <dc:description/>
  <dc:language>en-US</dc:language>
  <cp:lastModifiedBy>Пользователь</cp:lastModifiedBy>
  <dcterms:modified xsi:type="dcterms:W3CDTF">2014-11-26T15:23:54Z</dcterms:modified>
  <cp:revision>114</cp:revision>
  <dc:subject/>
  <dc:title>Слайд 1</dc:title>
</cp:coreProperties>
</file>