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71FF-027B-4CB6-80C2-AACE239F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325-276F-4E4A-9007-F621BE4E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DF3-9AAF-485A-89A9-FD95E8D1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8D7E-9E7F-4598-AE96-E40F7E04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EB27-B333-4678-BE37-886666D4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03D-CEA1-4B69-A482-36FA5253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E63-F741-4B5F-8A3B-A404C572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CA5-A964-438F-AD49-0E2F24D2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A04-FAAC-4B2F-8E30-B7D2C4C5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2B4-BECA-4822-B82C-E46E2E91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CDC-D63D-4D23-BCFB-4A3CCAEA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F96-5913-4E43-A255-09CD3F0B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DAA4-48CC-4C39-A9CE-07ED132DE7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Как противостоять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детским манипуляция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000" y="4365720"/>
            <a:ext cx="384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одготовил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едагог-психолог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МБДОУ д/с № 4 «Солнышко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г. Пятигорс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Командин Е.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Дима\Desktop\103213953_lfIuKlpwx9o.jpg"/>
          <p:cNvPicPr/>
          <p:nvPr/>
        </p:nvPicPr>
        <p:blipFill>
          <a:blip r:embed="rId1"/>
          <a:stretch/>
        </p:blipFill>
        <p:spPr>
          <a:xfrm>
            <a:off x="1547640" y="4292640"/>
            <a:ext cx="3105360" cy="23320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" name="Picture 3" descr="C:\Users\Дима\Desktop\manipulyacii_1375603622.jpg"/>
          <p:cNvPicPr/>
          <p:nvPr/>
        </p:nvPicPr>
        <p:blipFill>
          <a:blip r:embed="rId2"/>
          <a:stretch/>
        </p:blipFill>
        <p:spPr>
          <a:xfrm>
            <a:off x="1908000" y="1844640"/>
            <a:ext cx="2376720" cy="22939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Picture 4" descr="C:\Users\Дима\Desktop\3-24086_1_6.jpg"/>
          <p:cNvPicPr/>
          <p:nvPr/>
        </p:nvPicPr>
        <p:blipFill>
          <a:blip r:embed="rId3"/>
          <a:stretch/>
        </p:blipFill>
        <p:spPr>
          <a:xfrm>
            <a:off x="5651640" y="1989000"/>
            <a:ext cx="2827080" cy="2119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650960" y="291960"/>
            <a:ext cx="6284880" cy="936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</a:rPr>
              <a:t>МАНИПУЛЯЦ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нутый угол 3"/>
          <p:cNvSpPr/>
          <p:nvPr/>
        </p:nvSpPr>
        <p:spPr>
          <a:xfrm>
            <a:off x="1476360" y="2060640"/>
            <a:ext cx="6696000" cy="2424240"/>
          </a:xfrm>
          <a:prstGeom prst="foldedCorner">
            <a:avLst>
              <a:gd name="adj" fmla="val 3545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Bookman Old Style"/>
              </a:rPr>
              <a:t>- это вид психологического воздействия, искусственное исполнение которого ведёт к скрытому возбуждению у другого человека намерений, не совпадающих с его актуально существующими желани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Стрелка вниз 4"/>
          <p:cNvSpPr/>
          <p:nvPr/>
        </p:nvSpPr>
        <p:spPr>
          <a:xfrm>
            <a:off x="4211640" y="1341360"/>
            <a:ext cx="792000" cy="792360"/>
          </a:xfrm>
          <a:prstGeom prst="downArrow">
            <a:avLst>
              <a:gd name="adj1" fmla="val 50000"/>
              <a:gd name="adj2" fmla="val 50023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Дима\Desktop\3-24086_1_6.jpg"/>
          <p:cNvPicPr/>
          <p:nvPr/>
        </p:nvPicPr>
        <p:blipFill>
          <a:blip r:embed="rId1"/>
          <a:stretch/>
        </p:blipFill>
        <p:spPr>
          <a:xfrm>
            <a:off x="2916360" y="410364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62848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Как становятся манипуляторам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35280" y="1339560"/>
            <a:ext cx="6122880" cy="1369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007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Станет ли ребёнок манипулятором или нет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зависит от воспитания.</a:t>
            </a: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Дима\Desktop\Коучинг.-Манипуляция.-237x300.jpg"/>
          <p:cNvPicPr/>
          <p:nvPr/>
        </p:nvPicPr>
        <p:blipFill>
          <a:blip r:embed="rId1"/>
          <a:stretch/>
        </p:blipFill>
        <p:spPr>
          <a:xfrm>
            <a:off x="6804000" y="3716280"/>
            <a:ext cx="1733400" cy="21956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Скругленный прямоугольник 4"/>
          <p:cNvSpPr/>
          <p:nvPr/>
        </p:nvSpPr>
        <p:spPr>
          <a:xfrm>
            <a:off x="1116000" y="3068640"/>
            <a:ext cx="5472000" cy="1623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одители часто не замечают, что буквально заставляют ребёнка прибегать к манипуляции, ведь в своё время их мама и папа так ж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оступали с ни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Users\Дима\Desktop\goroskop9.jpg"/>
          <p:cNvPicPr/>
          <p:nvPr/>
        </p:nvPicPr>
        <p:blipFill>
          <a:blip r:embed="rId2"/>
          <a:stretch/>
        </p:blipFill>
        <p:spPr>
          <a:xfrm>
            <a:off x="1908000" y="4869000"/>
            <a:ext cx="3384720" cy="18018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76360" y="333000"/>
            <a:ext cx="2875680" cy="1151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man Old Style"/>
              </a:rPr>
              <a:t>Причина манипуля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4932360" y="189000"/>
            <a:ext cx="3600360" cy="151128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man Old Style"/>
              </a:rPr>
              <a:t>НЕХВАТКА ВНИ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хема 5" descr=""/>
          <p:cNvPicPr/>
          <p:nvPr/>
        </p:nvPicPr>
        <p:blipFill>
          <a:blip r:embed="rId1"/>
          <a:stretch/>
        </p:blipFill>
        <p:spPr>
          <a:xfrm>
            <a:off x="1176480" y="1981080"/>
            <a:ext cx="7510320" cy="4151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одержимое 3" descr=""/>
          <p:cNvPicPr/>
          <p:nvPr/>
        </p:nvPicPr>
        <p:blipFill>
          <a:blip r:embed="rId1"/>
          <a:stretch/>
        </p:blipFill>
        <p:spPr>
          <a:xfrm>
            <a:off x="536400" y="225360"/>
            <a:ext cx="8467920" cy="3932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Дима\Desktop\kak-deti-manipuliruyut-roditelyami-1.jpg"/>
          <p:cNvPicPr/>
          <p:nvPr/>
        </p:nvPicPr>
        <p:blipFill>
          <a:blip r:embed="rId2"/>
          <a:stretch/>
        </p:blipFill>
        <p:spPr>
          <a:xfrm>
            <a:off x="1042920" y="4365720"/>
            <a:ext cx="3043440" cy="230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0" name="Picture 3" descr="C:\Users\Дима\Desktop\chto-delat-esli-rebenok-vami-manipuliruet.jpg"/>
          <p:cNvPicPr/>
          <p:nvPr/>
        </p:nvPicPr>
        <p:blipFill>
          <a:blip r:embed="rId3"/>
          <a:stretch/>
        </p:blipFill>
        <p:spPr>
          <a:xfrm>
            <a:off x="5867280" y="4365720"/>
            <a:ext cx="2737080" cy="2220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3" descr=""/>
          <p:cNvPicPr/>
          <p:nvPr/>
        </p:nvPicPr>
        <p:blipFill>
          <a:blip r:embed="rId1"/>
          <a:stretch/>
        </p:blipFill>
        <p:spPr>
          <a:xfrm>
            <a:off x="890640" y="317520"/>
            <a:ext cx="7808760" cy="6076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Противостояние детским манипуляци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Выноска со стрелкой вправо 4"/>
          <p:cNvSpPr/>
          <p:nvPr/>
        </p:nvSpPr>
        <p:spPr>
          <a:xfrm>
            <a:off x="1258920" y="1413000"/>
            <a:ext cx="3744720" cy="122400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81028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Bookman Old Style"/>
              </a:rPr>
              <a:t>Основа манипуля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003640" y="1341360"/>
            <a:ext cx="2664000" cy="13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Тревога потерять р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хема 7" descr=""/>
          <p:cNvPicPr/>
          <p:nvPr/>
        </p:nvPicPr>
        <p:blipFill>
          <a:blip r:embed="rId1"/>
          <a:stretch/>
        </p:blipFill>
        <p:spPr>
          <a:xfrm>
            <a:off x="1560600" y="2786040"/>
            <a:ext cx="7912080" cy="4078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09:33:10Z</dcterms:created>
  <dc:creator>Дима</dc:creator>
  <dc:description/>
  <dc:language>en-US</dc:language>
  <cp:lastModifiedBy>Дима</cp:lastModifiedBy>
  <dcterms:modified xsi:type="dcterms:W3CDTF">2014-10-18T11:23:16Z</dcterms:modified>
  <cp:revision>11</cp:revision>
  <dc:subject/>
  <dc:title>Как противостоять  детским манипуляциям?</dc:title>
</cp:coreProperties>
</file>